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52A0F-848B-4245-A5B1-2C04E6262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0"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5BC56-F18C-4D88-997C-CBB5EC94D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5"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EEE86-727B-4367-B050-7D26C3A22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7"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8"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9"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0"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1"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2"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08BC3-B124-48CE-8FA1-8B396781E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0"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2"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CDD1-D89A-4EF2-B6D6-1559926A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5"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9"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2"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7"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0"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1"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2"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3"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4"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6955BD-B9A2-4B69-85CA-98C08A5A3E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F29567-7A98-4710-85BB-EDAAE3F2A6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4FF6E1-CD87-4202-A280-3C9FD04803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4"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F12B63-0BBF-4C1C-A174-1FE07524BB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7E13AF-9EDA-466F-8A22-5CD90B1F2A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4530-2572-42A2-BDBC-9EEF7554C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3B8A99-6273-483D-91CA-CD106DE89C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9"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0"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0A6B8C-B2B3-46B4-ACA8-C3C299550F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4"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8BF816-5157-4F52-BECF-D5AF3A0DD4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8"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4BBC9D-AC05-4E0B-9F9F-2A05E8BE0F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1"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1564DA-710D-4942-844D-02E00D46ED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5"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6"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02ECD4-AF35-4E33-B0EE-FF52776E6A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9"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0"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1"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2"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3"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E99D15-3840-4663-973B-9CD0713F8E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1"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3"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68A26-C2EF-4462-A605-CB690B0B1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5"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46"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1"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2"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6"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0"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2"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3"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7"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8"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0"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1"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2"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3"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4"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5"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1D36D-2231-4012-A5D1-37393CF8C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3"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7"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6"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8"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1"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2"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4"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5"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0"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7EB4A-C154-438A-A9FE-FF169F7F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2"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3"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4"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5"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6"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7"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5"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7"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9"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0"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4"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D2A8-89A2-4A0C-A007-5C16F07D8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6"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7"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0"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2"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4"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5"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6"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7"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8"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9"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2"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CBD5-49B8-4FAE-A2F8-EA8903B9C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7"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54120-8C4A-4464-8137-0D800E324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 name="PlaceHolder 3"/>
          <p:cNvSpPr>
            <a:spLocks noGrp="1"/>
          </p:cNvSpPr>
          <p:nvPr>
            <p:ph type="dt" idx="1"/>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90120" y="6568560"/>
            <a:ext cx="4572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6D70-27B7-4DCB-9A07-34E8C85BB5D6}"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
        <p:nvSpPr>
          <p:cNvPr id="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47" name="PlaceHolder 3"/>
          <p:cNvSpPr>
            <a:spLocks noGrp="1"/>
          </p:cNvSpPr>
          <p:nvPr>
            <p:ph type="dt" idx="4"/>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Straight Connector 11"/>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Straight Connector 12"/>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Straight Connector 13"/>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4"/>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Straight Connector 15"/>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95" name="PlaceHolder 3"/>
          <p:cNvSpPr>
            <a:spLocks noGrp="1"/>
          </p:cNvSpPr>
          <p:nvPr>
            <p:ph type="dt" idx="6"/>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96" name="PlaceHolder 4"/>
          <p:cNvSpPr>
            <a:spLocks noGrp="1"/>
          </p:cNvSpPr>
          <p:nvPr>
            <p:ph type="ftr" idx="7"/>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8"/>
          </p:nvPr>
        </p:nvSpPr>
        <p:spPr>
          <a:xfrm>
            <a:off x="8790120" y="6568560"/>
            <a:ext cx="4572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8BD7-5CAA-4C5E-984F-040C3FC2C1CE}"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7"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38" name="PlaceHolder 3"/>
          <p:cNvSpPr>
            <a:spLocks noGrp="1"/>
          </p:cNvSpPr>
          <p:nvPr>
            <p:ph type="dt" idx="9"/>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139" name="PlaceHolder 4"/>
          <p:cNvSpPr>
            <a:spLocks noGrp="1"/>
          </p:cNvSpPr>
          <p:nvPr>
            <p:ph type="ftr" idx="10"/>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79"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80" name="PlaceHolder 3"/>
          <p:cNvSpPr>
            <a:spLocks noGrp="1"/>
          </p:cNvSpPr>
          <p:nvPr>
            <p:ph type="dt" idx="11"/>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181" name="PlaceHolder 4"/>
          <p:cNvSpPr>
            <a:spLocks noGrp="1"/>
          </p:cNvSpPr>
          <p:nvPr>
            <p:ph type="ftr" idx="1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22" name="PlaceHolder 3"/>
          <p:cNvSpPr>
            <a:spLocks noGrp="1"/>
          </p:cNvSpPr>
          <p:nvPr>
            <p:ph type="dt" idx="13"/>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223" name="PlaceHolder 4"/>
          <p:cNvSpPr>
            <a:spLocks noGrp="1"/>
          </p:cNvSpPr>
          <p:nvPr>
            <p:ph type="ftr" idx="14"/>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tra ER</a:t>
            </a:r>
            <a:endParaRPr b="0" lang="en-US" sz="3600" spc="-1" strike="noStrike">
              <a:solidFill>
                <a:srgbClr val="ffffff"/>
              </a:solidFill>
              <a:latin typeface="Century Gothic"/>
            </a:endParaRPr>
          </a:p>
        </p:txBody>
      </p:sp>
      <p:sp>
        <p:nvSpPr>
          <p:cNvPr id="261" name="PlaceHolder 2"/>
          <p:cNvSpPr>
            <a:spLocks noGrp="1"/>
          </p:cNvSpPr>
          <p:nvPr>
            <p:ph type="subTitle"/>
          </p:nvPr>
        </p:nvSpPr>
        <p:spPr>
          <a:xfrm>
            <a:off x="914040" y="3034800"/>
            <a:ext cx="8001000" cy="3822840"/>
          </a:xfrm>
          <a:prstGeom prst="rect">
            <a:avLst/>
          </a:prstGeom>
          <a:solidFill>
            <a:srgbClr val="e4e6de"/>
          </a:solid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Q1: Draw an ER diagram</a:t>
            </a:r>
            <a:endParaRPr b="0" lang="en-US" sz="2800" spc="-1" strike="noStrike">
              <a:solidFill>
                <a:srgbClr val="ffffff"/>
              </a:solidFill>
              <a:latin typeface="Century Gothic"/>
            </a:endParaRPr>
          </a:p>
        </p:txBody>
      </p:sp>
      <p:sp>
        <p:nvSpPr>
          <p:cNvPr id="263" name=""/>
          <p:cNvSpPr txBox="1"/>
          <p:nvPr/>
        </p:nvSpPr>
        <p:spPr>
          <a:xfrm>
            <a:off x="681120" y="2409480"/>
            <a:ext cx="7945200" cy="3670200"/>
          </a:xfrm>
          <a:prstGeom prst="rect">
            <a:avLst/>
          </a:prstGeom>
          <a:noFill/>
          <a:ln w="0">
            <a:noFill/>
          </a:ln>
        </p:spPr>
        <p:txBody>
          <a:bodyPr anchor="t">
            <a:norm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A construction company wishes to establish a database system to record information about employees. The employee data to be recorded in the database are consists of employee SINs (which are unique), first names, last names and home phone numbers. The company has three types of special employees; as well as many regular employees who do not fit into one of these categories, which are: </a:t>
            </a:r>
            <a:endParaRPr b="0" lang="en-US" sz="1800" spc="-1" strike="noStrike">
              <a:solidFill>
                <a:srgbClr val="595959"/>
              </a:solidFill>
              <a:latin typeface="Century Gothic"/>
            </a:endParaRPr>
          </a:p>
          <a:p>
            <a:pPr marL="343080" indent="-343080" algn="r">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entury Gothic"/>
              </a:rPr>
              <a:t>For insured employees</a:t>
            </a:r>
            <a:r>
              <a:rPr b="0" lang="en-US" sz="1800" spc="-1" strike="noStrike">
                <a:solidFill>
                  <a:srgbClr val="595959"/>
                </a:solidFill>
                <a:latin typeface="Century Gothic"/>
              </a:rPr>
              <a:t>; the insurance policy number, the insured amount, and the annual premium are to be recorded.</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Century Gothic"/>
            </a:endParaRPr>
          </a:p>
        </p:txBody>
      </p:sp>
      <p:sp>
        <p:nvSpPr>
          <p:cNvPr id="265" name=""/>
          <p:cNvSpPr txBox="1"/>
          <p:nvPr/>
        </p:nvSpPr>
        <p:spPr>
          <a:xfrm>
            <a:off x="681120" y="2409480"/>
            <a:ext cx="79452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entury Gothic"/>
              </a:rPr>
              <a:t>For qualified</a:t>
            </a:r>
            <a:r>
              <a:rPr b="0" lang="en-US" sz="1800" spc="-1" strike="noStrike">
                <a:solidFill>
                  <a:srgbClr val="595959"/>
                </a:solidFill>
                <a:latin typeface="Century Gothic"/>
              </a:rPr>
              <a:t>; the professional qualification and the annual institute fees are to be recorded. </a:t>
            </a:r>
            <a:endParaRPr b="0" lang="en-US" sz="18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entury Gothic"/>
              </a:rPr>
              <a:t>For managers</a:t>
            </a:r>
            <a:r>
              <a:rPr b="0" lang="en-US" sz="1800" spc="-1" strike="noStrike">
                <a:solidFill>
                  <a:srgbClr val="595959"/>
                </a:solidFill>
                <a:latin typeface="Century Gothic"/>
              </a:rPr>
              <a:t>; the number of profit shares, and the parking stall number are to be recorded. </a:t>
            </a:r>
            <a:endParaRPr b="0" lang="en-US" sz="18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In addition, they need to record data about departments; each (unique) department name, budget, and location should be recorded. Employees must work for one, and only one department, departments must have at least one employee, and may (of course) have more than one.</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Century Gothic"/>
            </a:endParaRPr>
          </a:p>
        </p:txBody>
      </p:sp>
      <p:sp>
        <p:nvSpPr>
          <p:cNvPr id="267" name=""/>
          <p:cNvSpPr txBox="1"/>
          <p:nvPr/>
        </p:nvSpPr>
        <p:spPr>
          <a:xfrm>
            <a:off x="681120" y="2409480"/>
            <a:ext cx="7945200" cy="3670200"/>
          </a:xfrm>
          <a:prstGeom prst="rect">
            <a:avLst/>
          </a:prstGeom>
          <a:noFill/>
          <a:ln w="0">
            <a:noFill/>
          </a:ln>
        </p:spPr>
        <p:txBody>
          <a:bodyPr anchor="t">
            <a:norm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Each manager normally manages one department, but on occasion a manager may be responsible for more than one department, but never less than one. A department can have only one manager, but occasionally will not have a manager. </a:t>
            </a:r>
            <a:endParaRPr b="0" lang="en-US" sz="1800" spc="-1" strike="noStrike">
              <a:solidFill>
                <a:srgbClr val="595959"/>
              </a:solidFill>
              <a:latin typeface="Century Gothic"/>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It is necessary to record the dependents of insured employees; the first name, age and relationship (e.g. child, spouse, etc.) of each dependent must be recorded. It is assumed that no two dependents of the same employee will have the same name. An insured employee must have at least one dependent, the dependents must have one and only one insured employee. </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5" descr="DFD_-_Level_0"/>
          <p:cNvPicPr/>
          <p:nvPr/>
        </p:nvPicPr>
        <p:blipFill>
          <a:blip r:embed="rId1"/>
          <a:stretch/>
        </p:blipFill>
        <p:spPr>
          <a:xfrm>
            <a:off x="816120" y="858960"/>
            <a:ext cx="762948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711360" y="1371600"/>
            <a:ext cx="7518240" cy="4952880"/>
          </a:xfrm>
          <a:prstGeom prst="rect">
            <a:avLst/>
          </a:prstGeom>
          <a:ln w="0">
            <a:noFill/>
          </a:ln>
        </p:spPr>
      </p:pic>
      <p:sp>
        <p:nvSpPr>
          <p:cNvPr id="270" name="PlaceHolder 1"/>
          <p:cNvSpPr>
            <a:spLocks noGrp="1"/>
          </p:cNvSpPr>
          <p:nvPr>
            <p:ph type="title"/>
          </p:nvPr>
        </p:nvSpPr>
        <p:spPr>
          <a:xfrm>
            <a:off x="-360" y="45720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S/G notation (chen notation)</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0:27:57Z</dcterms:created>
  <dc:creator>Nada Al-Harbi</dc:creator>
  <dc:description/>
  <dc:language>en-US</dc:language>
  <cp:lastModifiedBy>sara</cp:lastModifiedBy>
  <dcterms:modified xsi:type="dcterms:W3CDTF">2014-02-22T21:14:56Z</dcterms:modified>
  <cp:revision>30</cp:revision>
  <dc:subject/>
  <dc:title>PowerPoint Presentation</dc:title>
</cp:coreProperties>
</file>