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B19B-C1B3-4D13-906C-3E550956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C25-EDDB-414C-B0B6-CF854C9527B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C6A5-0CF3-409A-BB41-75A5E86AE440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9516-4877-4E44-9B8B-D9E570BEB959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AF3-DBE9-4EE8-88CC-81B9C7FE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D1C-62A7-48D5-BAC9-BF54C2D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8C4-63A6-457D-B24B-0F967755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9E8-77D8-4E81-A775-D43FDC99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CB14-9623-4E4C-BFAB-17A5D3E5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D8B1-F44A-4C1D-A1B8-CCF51E21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32DA-1CBC-416B-9B45-37C3DB64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55C8-CA96-4DDE-9447-6F19B6E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71F9-59FD-4E9A-9D77-6F44162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545B-9380-495D-997B-C9E508E6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1553-D6E5-4448-8CE5-5EAD722F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280-056C-4F84-941A-AD30359A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2BE5-4734-433B-8EB1-6E5F6DB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A94D-0B10-4D77-B939-C01E006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60B7-A153-4651-858F-832D5B1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1837-7539-40F9-94CF-B0A27648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96A3-9176-4BDF-9D30-42158F39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D868-ECDF-4506-97E8-AFAC6570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755C-7CAF-4B62-ABB4-1DC1015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D8E8-7192-4351-BF92-CEB36C95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FE12-6431-41E2-8394-03C297C7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557F-ACF2-47EC-A239-7A4D6166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04D-119B-4C58-BD2F-15C836D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5E5F-215E-45B9-B77E-E136BDD3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DDEB-F457-4A89-B8A1-C0FEE0C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A0A4-42BC-4D23-AD18-81EF864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DC28-E9E8-4356-A42E-5003BF35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26F8-CE44-4EBD-B99A-42EA015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0F69-3807-4AAF-9566-8D09E10F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1E64-38B3-4C9B-8E33-F7592F40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A05F-351E-4FA7-A054-3D97EFBD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0563-BC23-41BE-8D73-24AA9F6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5559-7B4F-4C3E-AD13-AB00A6B0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084-877D-4A4A-A10A-C70D3E1F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910E-2718-4879-BB9D-E0EFE2C1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6FEE-800A-4E21-B955-A81ADB7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1B84-3750-400D-9951-882370B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29DB-8DD7-4C60-95BC-73A0B77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63A6-4CA2-4DC2-A533-76A12C2F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42BD-0852-4ECA-9C3F-18030C0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7C45-0C62-426D-838A-2186A81D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15BE-3E4E-4CD7-B83D-757D534F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CC042-D772-44F7-8B6D-E9C115B0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2485-B347-4F68-A69D-5196FF60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108-9B9D-48DE-8CD1-0D9CA5E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ECEE-6BEB-429B-B7D5-7AB2D39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753C-F9AA-45BD-8943-CF07D150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6856-1983-46A3-AA91-5E42941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4013-273B-41CB-BC5B-2E06E8DB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3DAFD-EBA6-4C67-A7A3-646FA473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5AAF-E07E-4657-A3E5-2B7B8ABD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09B3-406E-45F4-83F9-DA94228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1F72-4692-4372-B4D9-5319A1B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02AFC-EDC2-45FF-940E-420A0DD9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A577-1FAF-4610-BF6F-B4B7AFEC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E25-DE41-4EDD-9A90-3823737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6D88-5C55-42BC-A37B-FBAC3A5B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DAA-144B-41ED-87EC-EA19129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FAF-EC2B-493D-827F-F4C3BBED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174-1887-49D8-A342-76072D7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42F8-9302-436B-80E6-E32269462A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1E77-F743-454F-9F75-6211F82B11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4CBD-847F-49CE-B0E8-8E0D9D3BC6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250D-34CD-41E9-8CCC-A7016A8287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901-D71C-4374-A862-8E13ACAE78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Eigenvalues and Eigenvectors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igenvalues and Eigenvecto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vect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 of matr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is an eigenvalue of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f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alues and eigenvectors are only defined for square matrices (i.e.,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ectors are not unique (e.g., if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, so is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k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Zero vector is a trivial solution to the eigenvalue equation for any number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 is not considered as an eigenvecto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he linear transformation implied by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nnot change the direction of the eigenvector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but change only their magnitud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331160" y="190512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(assume non-zero x)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240" y="3189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 summarize the computational approach for determin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igenpairs (</a:t>
            </a:r>
            <a:r>
              <a:rPr b="0" lang="en-US" sz="20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) (eigenvalues and eigen vector) a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wo-step procedu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1" name="Picture 5" descr="PPT429"/>
          <p:cNvPicPr/>
          <p:nvPr/>
        </p:nvPicPr>
        <p:blipFill>
          <a:blip r:embed="rId1"/>
          <a:stretch/>
        </p:blipFill>
        <p:spPr>
          <a:xfrm>
            <a:off x="838080" y="990720"/>
            <a:ext cx="6782040" cy="939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PPT42A"/>
          <p:cNvPicPr/>
          <p:nvPr/>
        </p:nvPicPr>
        <p:blipFill>
          <a:blip r:embed="rId2"/>
          <a:stretch/>
        </p:blipFill>
        <p:spPr>
          <a:xfrm>
            <a:off x="914400" y="1981080"/>
            <a:ext cx="6400800" cy="1252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30492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pai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4" name="Picture 8" descr="PPT42C"/>
          <p:cNvPicPr/>
          <p:nvPr/>
        </p:nvPicPr>
        <p:blipFill>
          <a:blip r:embed="rId3"/>
          <a:stretch/>
        </p:blipFill>
        <p:spPr>
          <a:xfrm>
            <a:off x="4668840" y="3224160"/>
            <a:ext cx="1295280" cy="662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80880" y="3962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Find the eigenvalues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6" name="Picture 10" descr="PPT42D"/>
          <p:cNvPicPr/>
          <p:nvPr/>
        </p:nvPicPr>
        <p:blipFill>
          <a:blip r:embed="rId4"/>
          <a:stretch/>
        </p:blipFill>
        <p:spPr>
          <a:xfrm>
            <a:off x="4334040" y="3886200"/>
            <a:ext cx="4572000" cy="101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PPT42E"/>
          <p:cNvPicPr/>
          <p:nvPr/>
        </p:nvPicPr>
        <p:blipFill>
          <a:blip r:embed="rId5"/>
          <a:stretch/>
        </p:blipFill>
        <p:spPr>
          <a:xfrm>
            <a:off x="228600" y="5181480"/>
            <a:ext cx="86868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eigenvalues are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3086280" y="343080"/>
          <a:ext cx="205740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343080"/>
                    <a:ext cx="20574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7"/>
          <p:cNvSpPr/>
          <p:nvPr/>
        </p:nvSpPr>
        <p:spPr>
          <a:xfrm>
            <a:off x="228600" y="762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o find corresponding eigenvectors we solv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572000" y="835200"/>
            <a:ext cx="289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(A - </a:t>
            </a:r>
            <a:r>
              <a:rPr b="0" i="1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)x = 0  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i = 1,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4" name="Picture 9" descr="PPT430"/>
          <p:cNvPicPr/>
          <p:nvPr/>
        </p:nvPicPr>
        <p:blipFill>
          <a:blip r:embed="rId3"/>
          <a:stretch/>
        </p:blipFill>
        <p:spPr>
          <a:xfrm>
            <a:off x="228600" y="1219320"/>
            <a:ext cx="8381880" cy="2361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PPT431"/>
          <p:cNvPicPr/>
          <p:nvPr/>
        </p:nvPicPr>
        <p:blipFill>
          <a:blip r:embed="rId4"/>
          <a:stretch/>
        </p:blipFill>
        <p:spPr>
          <a:xfrm>
            <a:off x="304920" y="3505320"/>
            <a:ext cx="7467480" cy="23619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457200" y="5943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Note: rref means row reduced echelon form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mputing </a:t>
            </a:r>
            <a:r>
              <a:rPr b="0" lang="el-GR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 and v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o find the eigenvalue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of a matrix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find the roots o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haracteristic polynomial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2438280" cy="585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1981080" y="3886200"/>
            <a:ext cx="1981440" cy="1216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532800" y="4267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5943600" cy="917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0"/>
          <p:cNvSpPr/>
          <p:nvPr/>
        </p:nvSpPr>
        <p:spPr>
          <a:xfrm>
            <a:off x="7620120" y="4572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7260120" y="389736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858000" y="5234040"/>
                <a:ext cx="17524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7"/>
          <p:cNvSpPr/>
          <p:nvPr/>
        </p:nvSpPr>
        <p:spPr>
          <a:xfrm>
            <a:off x="328680" y="609480"/>
            <a:ext cx="71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values and eigen 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7302600" y="419040"/>
                <a:ext cx="1135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TextBox 5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 characteristic polynomial is                              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220968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7"/>
          <p:cNvSpPr/>
          <p:nvPr/>
        </p:nvSpPr>
        <p:spPr>
          <a:xfrm>
            <a:off x="79200" y="6858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3" name="Picture 8" descr="PPT438"/>
          <p:cNvPicPr/>
          <p:nvPr/>
        </p:nvPicPr>
        <p:blipFill>
          <a:blip r:embed="rId1"/>
          <a:stretch/>
        </p:blipFill>
        <p:spPr>
          <a:xfrm>
            <a:off x="2895480" y="1600200"/>
            <a:ext cx="2514600" cy="12747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1776240" y="781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d the eigenvalues and corresponding eigen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8680" y="2971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characteristic polynomial i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6" name="Picture 11" descr="PPT439"/>
          <p:cNvPicPr/>
          <p:nvPr/>
        </p:nvPicPr>
        <p:blipFill>
          <a:blip r:embed="rId2"/>
          <a:stretch/>
        </p:blipFill>
        <p:spPr>
          <a:xfrm>
            <a:off x="4610160" y="3048120"/>
            <a:ext cx="2209680" cy="447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2"/>
          <p:cNvSpPr/>
          <p:nvPr/>
        </p:nvSpPr>
        <p:spPr>
          <a:xfrm>
            <a:off x="380880" y="362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ts fa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8" name="Picture 13" descr="PPT43A"/>
          <p:cNvPicPr/>
          <p:nvPr/>
        </p:nvPicPr>
        <p:blipFill>
          <a:blip r:embed="rId3"/>
          <a:stretch/>
        </p:blipFill>
        <p:spPr>
          <a:xfrm>
            <a:off x="4168800" y="3537000"/>
            <a:ext cx="2286000" cy="423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4"/>
          <p:cNvSpPr/>
          <p:nvPr/>
        </p:nvSpPr>
        <p:spPr>
          <a:xfrm>
            <a:off x="576360" y="408456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 the eigenvalues are 1, 2, and 3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70" name="Picture 15" descr="PPT43B"/>
          <p:cNvPicPr/>
          <p:nvPr/>
        </p:nvPicPr>
        <p:blipFill>
          <a:blip r:embed="rId4"/>
          <a:stretch/>
        </p:blipFill>
        <p:spPr>
          <a:xfrm>
            <a:off x="3581280" y="4892760"/>
            <a:ext cx="1524240" cy="1185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PPT43C"/>
          <p:cNvPicPr/>
          <p:nvPr/>
        </p:nvPicPr>
        <p:blipFill>
          <a:blip r:embed="rId5"/>
          <a:stretch/>
        </p:blipFill>
        <p:spPr>
          <a:xfrm>
            <a:off x="5307120" y="4933800"/>
            <a:ext cx="1371600" cy="1176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PPT43D"/>
          <p:cNvPicPr/>
          <p:nvPr/>
        </p:nvPicPr>
        <p:blipFill>
          <a:blip r:embed="rId6"/>
          <a:stretch/>
        </p:blipFill>
        <p:spPr>
          <a:xfrm>
            <a:off x="6818400" y="4979880"/>
            <a:ext cx="1371600" cy="1130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8"/>
          <p:cNvSpPr/>
          <p:nvPr/>
        </p:nvSpPr>
        <p:spPr>
          <a:xfrm>
            <a:off x="101520" y="50292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rresponding eigenve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User</cp:lastModifiedBy>
  <cp:lastPrinted>2016-05-03T08:20:37Z</cp:lastPrinted>
  <dcterms:modified xsi:type="dcterms:W3CDTF">2016-05-03T09:04:36Z</dcterms:modified>
  <cp:revision>331</cp:revision>
  <dc:subject/>
  <dc:title>PowerPoint Presentation</dc:title>
</cp:coreProperties>
</file>