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3DEA-432D-4FAF-9510-B5292886D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B806-D9A4-4AD7-936C-B27046F89DB1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00DB-C03F-40A8-BD22-51F4734AACBC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4137-48A0-4FB0-A8A9-548522FA81A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9AD-422C-4420-91D4-9DC23F78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9A7-5E2D-4D4D-A504-9F6787DB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506-E80D-4A7D-972E-324F8E70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CAF-0DFB-4D2F-B50E-494D9CC9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D776-C08F-48C4-A0B1-AD32D710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1E0F-B707-4232-9B19-08DC714C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6E61-0C86-4DA8-BFB1-9A74F9E8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50F7-42C4-4A1A-8340-426FDB40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2D2A-2249-4267-A042-6D9F733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5B8B-8C8C-48D2-A43C-9E04C46D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545C-E308-463F-889D-FFDB00E4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2C0-B522-4F6A-A2C7-68B27281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D439-54C4-4EBD-9FC7-DF999DA7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B6D4-587A-4EB9-9782-D56C882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56A4-A7DA-48D6-801E-2EA3F169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1D42-1CCF-4F92-AF2D-B0AC8691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0ED4-4E76-42DC-931E-38E914DC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5D99-416D-4F6C-9AEC-88875B0B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8CD1-4A08-42A3-8A53-9B913A11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8448-A25E-4266-BCC9-D2E81692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40E3-799C-467C-991D-B93D6272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9E79-9DCD-4539-9D58-D834228C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1F0-8FCB-40F5-A90D-8CBCE29A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47A5-F48B-42D2-9AC2-8BF5F9A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D91F-D81A-4B9A-A35B-6D26F800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AF84-5A9D-4EC0-A80F-87E1162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4C45-813B-466B-8976-C5CE129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82DA9-4DE2-4D09-A440-277A4159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1976-559E-417D-B769-82D979FD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F290-AC70-4D8D-9BA4-1CED4380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290A-089E-48B0-8F20-0AA7FBF1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6B7A8-4F02-40BB-9252-596F13F7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9C018-A118-4172-B443-BB417094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A76-56B3-477E-9411-54F0C1DD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A027-D5C6-456D-9B53-005D5AA4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7F309-34F4-4F25-8413-06CEA3D9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3628-1C1C-49F4-9ED5-D13A6ED5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4CA0-74A9-4286-91AE-63D8890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2411B-15CF-4831-BE04-0E57D14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4F3E-9D42-46A9-B821-61BF827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B7E8E-FDA3-4556-A661-0EDA219E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0165-3C2C-4391-9E85-899C4D83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4A8E-4E2A-4344-B47B-B373D6CD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54741-1C90-4D4C-9E6C-3DA05002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FC3-2164-44BD-A076-6803379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8533-F732-426E-997A-8EF24DE0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7C4D-15FE-437E-96F6-1483A81A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D0715-0B7E-4EC4-A5C8-DB4D57B8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AE60-5B76-49CE-9A84-C74E6A23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10142-8470-47A2-8C4E-377FDE59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4223-1062-4A7F-A066-55DFE43B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919E-3BD0-4C57-931D-1FC673D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EF9C-B9A4-48ED-92AE-517A9216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1005-4EFC-4FA7-A086-BD52458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E5E1-3B17-41B9-9CDA-CB4D562C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162-602A-45B8-859E-97E9BD04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29069-2E01-4FE1-9F97-29469F65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888-1D17-450E-AED3-9A79A7B5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51C-2114-48C8-8615-4151362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1C4-C7F7-4E6B-BFA0-1445A01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3B25-702F-44E4-BCA2-5BC74AC7ED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EDDF-B7BA-43B4-970A-3E980592A2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D641-71F7-42E4-9A46-1D2F763A59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83CB-441C-4CD2-84A5-9EEA74153E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3BC5-EFA2-4B93-A023-59B8148F5D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Eigenvalues and Eigenvectors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igenvalues and Eigenvecto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vect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an eigenvector of matr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d 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is an eigenvalue of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f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x=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x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igenvalues and eigenvectors are only defined for square matrices (i.e.,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igenvectors are not unique (e.g., if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λ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an eigenvector, so is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k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Zero vector is a trivial solution to the eigenvalue equation for any number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nd is not considered as an eigenvecto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nterpretation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he linear transformation implied by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nnot change the direction of the eigenvectors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but change only their magnitud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331160" y="190512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(assume non-zero x)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240" y="31896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e summarize the computational approach for determinin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igenpairs (</a:t>
            </a:r>
            <a:r>
              <a:rPr b="0" lang="en-US" sz="2000" spc="-1" strike="noStrike">
                <a:solidFill>
                  <a:srgbClr val="292934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) (eigenvalues and eigen vector) as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wo-step procedur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1" name="Picture 5" descr="PPT429"/>
          <p:cNvPicPr/>
          <p:nvPr/>
        </p:nvPicPr>
        <p:blipFill>
          <a:blip r:embed="rId1"/>
          <a:stretch/>
        </p:blipFill>
        <p:spPr>
          <a:xfrm>
            <a:off x="838080" y="990720"/>
            <a:ext cx="6782040" cy="939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PPT42A"/>
          <p:cNvPicPr/>
          <p:nvPr/>
        </p:nvPicPr>
        <p:blipFill>
          <a:blip r:embed="rId2"/>
          <a:stretch/>
        </p:blipFill>
        <p:spPr>
          <a:xfrm>
            <a:off x="914400" y="1981080"/>
            <a:ext cx="6400800" cy="1252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304920" y="3352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Find eigenpai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4" name="Picture 8" descr="PPT42C"/>
          <p:cNvPicPr/>
          <p:nvPr/>
        </p:nvPicPr>
        <p:blipFill>
          <a:blip r:embed="rId3"/>
          <a:stretch/>
        </p:blipFill>
        <p:spPr>
          <a:xfrm>
            <a:off x="4668840" y="3224160"/>
            <a:ext cx="1295280" cy="662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380880" y="3962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tep I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Find the eigenvalues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6" name="Picture 10" descr="PPT42D"/>
          <p:cNvPicPr/>
          <p:nvPr/>
        </p:nvPicPr>
        <p:blipFill>
          <a:blip r:embed="rId4"/>
          <a:stretch/>
        </p:blipFill>
        <p:spPr>
          <a:xfrm>
            <a:off x="4334040" y="3886200"/>
            <a:ext cx="4572000" cy="101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PPT42E"/>
          <p:cNvPicPr/>
          <p:nvPr/>
        </p:nvPicPr>
        <p:blipFill>
          <a:blip r:embed="rId5"/>
          <a:stretch/>
        </p:blipFill>
        <p:spPr>
          <a:xfrm>
            <a:off x="228600" y="5181480"/>
            <a:ext cx="86868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eigenvalues are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3086280" y="343080"/>
          <a:ext cx="205740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343080"/>
                    <a:ext cx="20574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7"/>
          <p:cNvSpPr/>
          <p:nvPr/>
        </p:nvSpPr>
        <p:spPr>
          <a:xfrm>
            <a:off x="228600" y="762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tep II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o find corresponding eigenvectors we solv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572000" y="835200"/>
            <a:ext cx="2895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(A - </a:t>
            </a:r>
            <a:r>
              <a:rPr b="0" i="1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)x = 0   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 i = 1,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44" name="Picture 9" descr="PPT430"/>
          <p:cNvPicPr/>
          <p:nvPr/>
        </p:nvPicPr>
        <p:blipFill>
          <a:blip r:embed="rId3"/>
          <a:stretch/>
        </p:blipFill>
        <p:spPr>
          <a:xfrm>
            <a:off x="228600" y="1219320"/>
            <a:ext cx="8381880" cy="2361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PPT431"/>
          <p:cNvPicPr/>
          <p:nvPr/>
        </p:nvPicPr>
        <p:blipFill>
          <a:blip r:embed="rId4"/>
          <a:stretch/>
        </p:blipFill>
        <p:spPr>
          <a:xfrm>
            <a:off x="304920" y="3505320"/>
            <a:ext cx="7467480" cy="23619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"/>
          <p:cNvSpPr/>
          <p:nvPr/>
        </p:nvSpPr>
        <p:spPr>
          <a:xfrm>
            <a:off x="457200" y="5943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Note: rref means row reduced echelon form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mputing </a:t>
            </a:r>
            <a:r>
              <a:rPr b="0" lang="el-GR" sz="4000" spc="-1" strike="noStrike">
                <a:solidFill>
                  <a:srgbClr val="d2533c"/>
                </a:solidFill>
                <a:latin typeface="Arial"/>
                <a:ea typeface="Times New Roman"/>
              </a:rPr>
              <a:t>λ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  <a:ea typeface="Times New Roman"/>
              </a:rPr>
              <a:t> and v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o find the eigenvalues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of a matrix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find the roots of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haracteristic polynomial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733920" y="2819520"/>
            <a:ext cx="2438280" cy="585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1981080" y="3886200"/>
            <a:ext cx="1981440" cy="1216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532800" y="4267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380880" y="5257800"/>
            <a:ext cx="5943600" cy="9176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0"/>
          <p:cNvSpPr/>
          <p:nvPr/>
        </p:nvSpPr>
        <p:spPr>
          <a:xfrm>
            <a:off x="7620120" y="4572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7260120" y="389736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x=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858000" y="5234040"/>
                <a:ext cx="17524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7"/>
          <p:cNvSpPr/>
          <p:nvPr/>
        </p:nvSpPr>
        <p:spPr>
          <a:xfrm>
            <a:off x="328680" y="609480"/>
            <a:ext cx="71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Find eigenvalues and eigen vecto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7302600" y="419040"/>
                <a:ext cx="1135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TextBox 5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The characteristic polynomial is                               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220968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7"/>
          <p:cNvSpPr/>
          <p:nvPr/>
        </p:nvSpPr>
        <p:spPr>
          <a:xfrm>
            <a:off x="79200" y="6858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3" name="Picture 8" descr="PPT438"/>
          <p:cNvPicPr/>
          <p:nvPr/>
        </p:nvPicPr>
        <p:blipFill>
          <a:blip r:embed="rId1"/>
          <a:stretch/>
        </p:blipFill>
        <p:spPr>
          <a:xfrm>
            <a:off x="2895480" y="1600200"/>
            <a:ext cx="2514600" cy="12747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9"/>
          <p:cNvSpPr/>
          <p:nvPr/>
        </p:nvSpPr>
        <p:spPr>
          <a:xfrm>
            <a:off x="1776240" y="781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d the eigenvalues and corresponding eigenvecto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8680" y="2971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characteristic polynomial i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6" name="Picture 11" descr="PPT439"/>
          <p:cNvPicPr/>
          <p:nvPr/>
        </p:nvPicPr>
        <p:blipFill>
          <a:blip r:embed="rId2"/>
          <a:stretch/>
        </p:blipFill>
        <p:spPr>
          <a:xfrm>
            <a:off x="4610160" y="3048120"/>
            <a:ext cx="2209680" cy="447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2"/>
          <p:cNvSpPr/>
          <p:nvPr/>
        </p:nvSpPr>
        <p:spPr>
          <a:xfrm>
            <a:off x="380880" y="362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ts factors ar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8" name="Picture 13" descr="PPT43A"/>
          <p:cNvPicPr/>
          <p:nvPr/>
        </p:nvPicPr>
        <p:blipFill>
          <a:blip r:embed="rId3"/>
          <a:stretch/>
        </p:blipFill>
        <p:spPr>
          <a:xfrm>
            <a:off x="4168800" y="3537000"/>
            <a:ext cx="2286000" cy="423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4"/>
          <p:cNvSpPr/>
          <p:nvPr/>
        </p:nvSpPr>
        <p:spPr>
          <a:xfrm>
            <a:off x="576360" y="408456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 the eigenvalues are 1, 2, and 3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70" name="Picture 15" descr="PPT43B"/>
          <p:cNvPicPr/>
          <p:nvPr/>
        </p:nvPicPr>
        <p:blipFill>
          <a:blip r:embed="rId4"/>
          <a:stretch/>
        </p:blipFill>
        <p:spPr>
          <a:xfrm>
            <a:off x="3581280" y="4892760"/>
            <a:ext cx="1524240" cy="1185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PPT43C"/>
          <p:cNvPicPr/>
          <p:nvPr/>
        </p:nvPicPr>
        <p:blipFill>
          <a:blip r:embed="rId5"/>
          <a:stretch/>
        </p:blipFill>
        <p:spPr>
          <a:xfrm>
            <a:off x="5307120" y="4933800"/>
            <a:ext cx="1371600" cy="1176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PPT43D"/>
          <p:cNvPicPr/>
          <p:nvPr/>
        </p:nvPicPr>
        <p:blipFill>
          <a:blip r:embed="rId6"/>
          <a:stretch/>
        </p:blipFill>
        <p:spPr>
          <a:xfrm>
            <a:off x="6818400" y="4979880"/>
            <a:ext cx="1371600" cy="11304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8"/>
          <p:cNvSpPr/>
          <p:nvPr/>
        </p:nvSpPr>
        <p:spPr>
          <a:xfrm>
            <a:off x="101520" y="50292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rresponding eigenvectors ar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6-05-03T08:20:37Z</cp:lastPrinted>
  <dcterms:modified xsi:type="dcterms:W3CDTF">2016-05-03T09:04:36Z</dcterms:modified>
  <cp:revision>331</cp:revision>
  <dc:subject/>
  <dc:title>PowerPoint Presentation</dc:title>
</cp:coreProperties>
</file>