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3DA-16BF-412F-8F2D-099165FD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D6F-3CB5-4469-A858-82FC927E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D46-8E17-4739-A7DF-64EA1C0E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673-06B9-4A68-A2B6-0F9A5066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4FD0-1B2F-4537-A56D-4B81F021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B413-C71A-47DF-8B9E-09E29290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BE3E-8DA4-44E5-8CD7-A798D7D6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2EBD-89EA-47F4-9018-7778755C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1CA0-92B9-4D1A-811B-6291F3FF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A2EA-50AC-459C-8937-2BBD7734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BF51-1C21-47F0-902B-CC823E05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333-5891-4EA2-9C7B-D19886FE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1CB6-8DD6-42DC-956D-51815B02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13EA-65E0-4D08-B382-72984D24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4405-FE0F-4814-A0C2-FAA497E4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0CD5-F8C0-42BC-8907-FF01C0BE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A2A8-1C4F-4D75-8FF2-F5601849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B408-116A-4EB0-B46E-3B81B353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3C3E-CB03-4666-AF04-0CC3C451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A0C6-EC76-4E94-A1E1-16847DB0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42D3-81E7-47B0-9430-4159ADA0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29BD7-65BB-4287-9651-A1EAD915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873-5482-43CB-B49F-4D7278C6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8399-082A-41F7-A9E6-C2F89625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613BE-CE08-421D-B264-5FDEFD65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C4FF-93E4-4DCD-AE40-E9666390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2F3A-5846-41B1-AEEC-FED48C7D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B83F6-ACDB-41AF-ADC0-CE452C4B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75CC-43BD-4A82-B09A-7BF40AE2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7293-3C18-40AC-88D5-03D3354D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585-DDD4-46A3-B1A4-F26D3541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255-3FF1-4CF9-9D6B-A89D8F17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424-A3A5-43D2-8CFA-A77587A5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A81-8EE7-4BFA-B06E-B897250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55D-08C0-43E5-929E-36D8AF5F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E52-CE22-439E-9AD5-F759C22E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2DEB-2CD4-4B26-AADF-2F87B57214BA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6B31-D755-4563-B02E-E1AF09A99A02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BDDF-9102-49A1-925C-3D0DABEAE6B6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f5897"/>
                </a:solidFill>
                <a:latin typeface="Palatino Linotype"/>
              </a:rPr>
              <a:t>الدوافع والحوافز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3" name="Picture 4" descr="incentive"/>
          <p:cNvPicPr/>
          <p:nvPr/>
        </p:nvPicPr>
        <p:blipFill>
          <a:blip r:embed="rId1"/>
          <a:stretch/>
        </p:blipFill>
        <p:spPr>
          <a:xfrm>
            <a:off x="826920" y="2349360"/>
            <a:ext cx="7274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هي سلسلة من الاستجابات ، تبدأ بالحاجات التي يشعر بها الفرد ، وينتج عنها رغبات ، مما يؤدي إلى احدث السلوك لتحقيق الرضا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5" descr="A_leader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فرق بين الدوافع والحواف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8" name="Picture 4" descr="007-work_so-tired"/>
          <p:cNvPicPr/>
          <p:nvPr/>
        </p:nvPicPr>
        <p:blipFill>
          <a:blip r:embed="rId1"/>
          <a:stretch/>
        </p:blipFill>
        <p:spPr>
          <a:xfrm>
            <a:off x="1042920" y="1773360"/>
            <a:ext cx="6120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نواع الدواف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أولية والدوافع الثانو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فردية والدوافع الإجتماع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شعورية والدوافع اللاشعور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1" name="Picture 4" descr="20110922-work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f5897"/>
                </a:solidFill>
                <a:latin typeface="Palatino Linotype"/>
              </a:rPr>
              <a:t>نظريات الدوافع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أولا : نظرية تدرج الحالات (ابراهام ماسلو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4" descr="c5ohx765kr3qeak7c1cg"/>
          <p:cNvPicPr/>
          <p:nvPr/>
        </p:nvPicPr>
        <p:blipFill>
          <a:blip r:embed="rId1"/>
          <a:stretch/>
        </p:blipFill>
        <p:spPr>
          <a:xfrm>
            <a:off x="1233360" y="1628640"/>
            <a:ext cx="720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ثانياً: نظرية عوامل الوقاية وعوامل الدفع (هيرزبرج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وقائية : وتتمثل في / الأمن الوظيفي ، ظروف العمل ، سياسات الشركة ، الأجور ، نوعية الإشراف طبيعة العلاقات ، مكانة العمل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دافعة : وتتمثل في/ الإنجاز ، الاعتراف، طابع التحدي في العمل، المسؤولية ، النمو ، التقدم والتعلم ، عمل ذو معنى تا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ثالثاً: نظرية </a:t>
            </a:r>
            <a:r>
              <a:rPr b="0" lang="en-US" sz="2800" spc="-1" strike="noStrike">
                <a:solidFill>
                  <a:srgbClr val="2f5897"/>
                </a:solidFill>
                <a:latin typeface="Palatino Linotype"/>
              </a:rPr>
              <a:t>X,Y,Z</a:t>
            </a:r>
            <a:br>
              <a:rPr sz="2800"/>
            </a:b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(ماكيجروجر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989000"/>
          <a:ext cx="8458200" cy="4572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حب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ره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مارسة الرقابة الذات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هناك ضرورة للرقابة ال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سعى الفرد إلى تحمل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د يتجنب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الذ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عن طريق الآخر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موحات عالية ودوافع للإبتك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ديه طموح قل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ع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ادية أو الإقتصا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رغب في الإثراء الوظي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خصص الدقيق في الوظي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team_work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وافز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ا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عنو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فر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جماع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إيجا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سل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صنفي الحوافز التالية حسب أنواعها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خصم من الراتب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زيادة الأجو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موظ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قسم و إدار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خطاب شك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4" name="Picture 4" descr="تنسيق1"/>
          <p:cNvPicPr/>
          <p:nvPr/>
        </p:nvPicPr>
        <p:blipFill>
          <a:blip r:embed="rId1"/>
          <a:stretch/>
        </p:blipFill>
        <p:spPr>
          <a:xfrm>
            <a:off x="0" y="1916280"/>
            <a:ext cx="45147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58:10Z</dcterms:created>
  <dc:creator/>
  <dc:description/>
  <dc:language>en-US</dc:language>
  <cp:lastModifiedBy/>
  <dcterms:modified xsi:type="dcterms:W3CDTF">2017-10-25T03:45:22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