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B90-9E68-400C-BD3C-BE2163DE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2E3-15B0-4B40-896C-568D4E4C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70A-5F34-4D78-A630-A5DF8EFB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F71-D676-4D9C-90AD-633C2378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D92B-A9CF-46F1-B196-32C7BDBD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38C1-4EEE-4186-9BD7-13399899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2954-AC73-4A62-86D9-9E10F66E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2EBE-88C0-44BC-B3F5-57843722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D945-F4E2-4CA7-94BD-B12B573D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D78B-E992-4EF5-A517-F4A5828C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04B3-8583-42E3-8A09-339A82CC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7F7-9F9B-434F-8705-090583C2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C5A8-8C40-4F93-9779-410BE753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C264-F247-489B-9213-9F30C4C3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14AB-1785-4BC1-896E-2237FAC9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C0E7-E1A8-496E-9116-5D2D6B08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18FA-4DDD-44C9-9219-B60C19C4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36D0-1990-4A16-B925-9EF47D8B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1106-45E8-4B0A-B674-A048232A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67974-9F3E-4491-8284-26ABFCDA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7BC59-8208-4531-911B-9F7B91192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5BEB-11CC-48B7-B451-3FBFB987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A01-48C0-4E75-ACF0-1BC33CDC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D6B4-E023-4DC4-9204-FD28820A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23B33-D85A-4C50-8F1E-2080D591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E066-FED7-41BA-ACFE-381C688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268F2-6EB1-4CC0-823B-1DE773EA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1024-40D7-4723-AC22-3A0EFBA8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F4D86-0A04-49CE-864A-6DC6B6CF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C974-79D2-496F-A6E2-ABC22932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9723-E3E1-4C39-A180-BA8E58BE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4C9-D285-4DD7-B7B5-F6DFF3F9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BA8-406F-42DE-BA86-9F5E947F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DCD-0C78-4B3E-8FE4-4484186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A35-D183-41F2-9CBF-3675B1DB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4E2-B16F-4DBD-8667-A5745784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BEC9-E22C-47DB-8AA2-8A1B55B36AAC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2E34-8AE3-4831-8BC5-E577D07ABC66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081B-3496-4863-BE9B-C04886C8990A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6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8" name="Picture 4" descr="007-work_so-tired"/>
          <p:cNvPicPr/>
          <p:nvPr/>
        </p:nvPicPr>
        <p:blipFill>
          <a:blip r:embed="rId1"/>
          <a:stretch/>
        </p:blipFill>
        <p:spPr>
          <a:xfrm>
            <a:off x="1042920" y="1773360"/>
            <a:ext cx="6120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1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4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وقائية : وتتمثل في / الأمن الوظيفي ، ظروف العمل ، سياسات الشركة ، الأجور ، نوعية الإشراف طبيعة العلاقات ، مكانة العمل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دافعة : وتتمثل في/ الإنجاز ، الاعتراف، طابع التحدي في العمل، المسؤولية ، النمو ، التقدم والتعلم ، عمل ذو معنى تا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4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7-10-25T03:45:22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