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357B-2E38-4642-83B8-C0AF5D4FF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C599-1AE0-4124-A389-C0C17116A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110AD-4B00-4EAD-A544-3CC2E51C1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09A8-9D03-479B-80C7-76A7E7447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6D67C-92E1-439B-B75A-94413EEC3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63101-3336-4355-891D-0583A4A9C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22EF8-1704-4BD7-ADB3-8E2D5C045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70D1C-C972-4A35-8E5D-53B14DFFD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8671F-2BDA-437E-876B-9A68E4E4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C9FF7-9124-4A51-94A1-780EEE593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C1FF6-3B23-4518-9BB3-E55E26CD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E952-4F35-4744-84DA-6528A17F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30EE6-27D3-4C74-B39E-5179B7A18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A0DB8-D216-4392-80AC-765998266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B96C4-C3F7-4F1F-B8F8-7AF69B890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D0C8F-C2E9-47CC-BA90-02F521964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75D9D-1F7B-4721-B519-608876F59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0277-876A-4466-B9EC-F7ED4FEC3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EE85-10CD-471E-9ACF-B2654CC0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5ED8-9A0B-4EBD-923D-AC40C40B9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D730-914B-4FF1-9F25-22B1D874F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C730-3C93-477B-9457-9CC41D8B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346D-553D-4F81-B2E4-20334F87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464C-E79A-4353-AA52-7A36B4941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97B0-69B0-4809-A77F-0A07EAF75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8770-859F-4EED-B8BF-4642F556FB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ELEMENTS </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Writing an Effective Essa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vided by UTPB West Texas Literacy Center, an HSI funded program. HSI is a federally funded program granted by the Department of Education Title V progra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Ana Miller, M.A., Reading Specialis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tion to an Essay-</a:t>
            </a:r>
            <a:br>
              <a:rPr sz="3800"/>
            </a:br>
            <a:r>
              <a:rPr b="0" lang="en-US" sz="3800" spc="-1" strike="noStrike">
                <a:solidFill>
                  <a:srgbClr val="ffffff"/>
                </a:solidFill>
                <a:latin typeface="Arial"/>
              </a:rPr>
              <a:t>Introductory Paragraph</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an essay</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der’s first contact with the topic from your perspective – First impres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nfluence on the reader’s desire to keep read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 begins to evaluate the essay, based on the introd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tention Getters for Introductory Paragraphs</a:t>
            </a:r>
            <a:endParaRPr b="0" lang="en-US" sz="3800" spc="-1" strike="noStrike">
              <a:solidFill>
                <a:srgbClr val="ffffff"/>
              </a:solidFill>
              <a:latin typeface="Arial"/>
            </a:endParaRPr>
          </a:p>
        </p:txBody>
      </p:sp>
      <p:sp>
        <p:nvSpPr>
          <p:cNvPr id="11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 some </a:t>
            </a:r>
            <a:r>
              <a:rPr b="1" lang="en-US" sz="1700" spc="-1" strike="noStrike">
                <a:solidFill>
                  <a:srgbClr val="000000"/>
                </a:solidFill>
                <a:latin typeface="Arial"/>
              </a:rPr>
              <a:t>interesting background</a:t>
            </a:r>
            <a:r>
              <a:rPr b="0" lang="en-US" sz="1700" spc="-1" strike="noStrike">
                <a:solidFill>
                  <a:srgbClr val="000000"/>
                </a:solidFill>
                <a:latin typeface="Arial"/>
              </a:rPr>
              <a:t> about the topic in the form of a general statemen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a thought-provoking </a:t>
            </a:r>
            <a:r>
              <a:rPr b="1" lang="en-US" sz="1700" spc="-1" strike="noStrike">
                <a:solidFill>
                  <a:srgbClr val="000000"/>
                </a:solidFill>
                <a:latin typeface="Arial"/>
              </a:rPr>
              <a:t>quotation</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k a </a:t>
            </a:r>
            <a:r>
              <a:rPr b="1" lang="en-US" sz="1700" spc="-1" strike="noStrike">
                <a:solidFill>
                  <a:srgbClr val="000000"/>
                </a:solidFill>
                <a:latin typeface="Arial"/>
              </a:rPr>
              <a:t>question</a:t>
            </a:r>
            <a:r>
              <a:rPr b="0" lang="en-US" sz="1700" spc="-1" strike="noStrike">
                <a:solidFill>
                  <a:srgbClr val="000000"/>
                </a:solidFill>
                <a:latin typeface="Arial"/>
              </a:rPr>
              <a:t> about your topic</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a </a:t>
            </a:r>
            <a:r>
              <a:rPr b="1" lang="en-US" sz="1700" spc="-1" strike="noStrike">
                <a:solidFill>
                  <a:srgbClr val="000000"/>
                </a:solidFill>
                <a:latin typeface="Arial"/>
              </a:rPr>
              <a:t>surprising fact</a:t>
            </a:r>
            <a:r>
              <a:rPr b="0" lang="en-US" sz="1700" spc="-1" strike="noStrike">
                <a:solidFill>
                  <a:srgbClr val="000000"/>
                </a:solidFill>
                <a:latin typeface="Arial"/>
              </a:rPr>
              <a:t> or a </a:t>
            </a:r>
            <a:r>
              <a:rPr b="1" lang="en-US" sz="1700" spc="-1" strike="noStrike">
                <a:solidFill>
                  <a:srgbClr val="000000"/>
                </a:solidFill>
                <a:latin typeface="Arial"/>
              </a:rPr>
              <a:t>puzzling statement</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s</a:t>
            </a:r>
            <a:endParaRPr b="0" lang="en-US" sz="18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day’s children become tomorrow’s leaders.</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dolescence is not a stage of life, it is a disease!”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r. S. Rosner</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don’t children want to be controlled by adults?</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enagers join gangs, because they need the support of a famil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tention Getters for Introductory Paragraphs</a:t>
            </a:r>
            <a:endParaRPr b="0" lang="en-US" sz="3800" spc="-1" strike="noStrike">
              <a:solidFill>
                <a:srgbClr val="ffffff"/>
              </a:solidFill>
              <a:latin typeface="Arial"/>
            </a:endParaRPr>
          </a:p>
        </p:txBody>
      </p:sp>
      <p:sp>
        <p:nvSpPr>
          <p:cNvPr id="116"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 common misconcep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robl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n analog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how the topic is related to the reader’s experience</a:t>
            </a:r>
            <a:endParaRPr b="0" lang="en-US" sz="2000" spc="-1" strike="noStrike">
              <a:solidFill>
                <a:srgbClr val="000000"/>
              </a:solidFill>
              <a:latin typeface="Arial"/>
            </a:endParaRPr>
          </a:p>
        </p:txBody>
      </p:sp>
      <p:sp>
        <p:nvSpPr>
          <p:cNvPr id="117"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don’t learn bad habits from adult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knows what a problem juvenile delinquency has become in our society.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re just like animal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know how difficult it is to raise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ory Paragraph</a:t>
            </a: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bridge to connect the attention getting sentence(s) to your thesis statemen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ay to make a bridge is to explain why the topic is important. For example:</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the behavior of children is one of society’s most important tasks.</a:t>
            </a:r>
            <a:endParaRPr b="0" lang="en-US" sz="24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e introductory paragraph with the most important idea of the essay-THE THES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ory Paragraph</a:t>
            </a: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our children</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1.Most people knows what a social problem juvenile delinquency has become.  2. Without proper control, children will run wild and create a danger to themselves and everyone around them. 3. Controlling children’s behavior  is one of the most important tasks in today’s society. 4. By using discipline techniques, parents, teachers, and police are the main agents responsible for controlling children. </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tention Getter-Stating problem</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tention Getter-General Statement</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ridge or transition sentenc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sis sent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of an Essay</a:t>
            </a: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paragraphs that develop the idea expressed in the thesis statement.</a:t>
            </a:r>
            <a:endParaRPr b="0" lang="en-US" sz="28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list of main ideas that support the thesis statement. Each main idea becomes the main idea sentence for a body paragraph.</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main ideas in logical order (time, place, importance)</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out each body paragraph by listing major details that support each main idea</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the details within each paragraph in a logical way. Each body paragraph may end with a concluding sen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 Outline</a:t>
            </a:r>
            <a:endParaRPr b="0" lang="en-US" sz="4200" spc="-1" strike="noStrike">
              <a:solidFill>
                <a:srgbClr val="ffffff"/>
              </a:solidFill>
              <a:latin typeface="Arial"/>
            </a:endParaRPr>
          </a:p>
        </p:txBody>
      </p:sp>
      <p:sp>
        <p:nvSpPr>
          <p:cNvPr id="125" name="PlaceHolder 2"/>
          <p:cNvSpPr>
            <a:spLocks noGrp="1"/>
          </p:cNvSpPr>
          <p:nvPr>
            <p:ph/>
          </p:nvPr>
        </p:nvSpPr>
        <p:spPr>
          <a:xfrm>
            <a:off x="533160" y="1447920"/>
            <a:ext cx="7924680" cy="441936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is Statement</a:t>
            </a:r>
            <a:endParaRPr b="0" lang="en-US" sz="14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discipline  techniques, parents, teachers, and police are the main agents responsible for controlling our children</a:t>
            </a:r>
            <a:r>
              <a:rPr b="0" lang="en-US" sz="900" spc="-1" strike="noStrike">
                <a:solidFill>
                  <a:srgbClr val="000000"/>
                </a:solidFill>
                <a:latin typeface="Arial"/>
              </a:rPr>
              <a:t>.</a:t>
            </a:r>
            <a:endParaRPr b="0" lang="en-US" sz="9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 Paragraph 1</a:t>
            </a:r>
            <a:endParaRPr b="0" lang="en-US" sz="1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dea Sentence 1:  There are a variety of techniques available to parents who are willing to take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ility of disciplining their childre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Give reward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Punish bad behavi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Be consistent and reasonable</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 Paragraph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Main idea sentence 2: </a:t>
            </a:r>
            <a:r>
              <a:rPr b="0" lang="en-US" sz="1200" spc="-1" strike="noStrike">
                <a:solidFill>
                  <a:srgbClr val="000000"/>
                </a:solidFill>
                <a:latin typeface="Arial"/>
              </a:rPr>
              <a:t>	</a:t>
            </a:r>
            <a:r>
              <a:rPr b="0" lang="en-US" sz="1200" spc="-1" strike="noStrike">
                <a:solidFill>
                  <a:srgbClr val="000000"/>
                </a:solidFill>
                <a:latin typeface="Arial"/>
              </a:rPr>
              <a:t>Teachers are also important agents of discipli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Direct commun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onverbal commun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Grades</a:t>
            </a:r>
            <a:endParaRPr b="0" lang="en-US" sz="1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 paragraph 3</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200" spc="-1" strike="noStrike">
                <a:solidFill>
                  <a:srgbClr val="000000"/>
                </a:solidFill>
                <a:latin typeface="Arial"/>
              </a:rPr>
              <a:t>Main Idea Sentence 3:  If criminal behavior is involved, police will take the responsibility to control children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ugh the legal syste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Various forms of punish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dvising parents of the children’s behavi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Setting and enforcing curfews</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stage</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lanning and arranging your main ideas and major details, begin writing your body paragraph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paragraphs depends on the topic’s complexity, inclusiveness, and your purpose for writing.</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a </a:t>
            </a:r>
            <a:r>
              <a:rPr b="0" lang="en-US" sz="2400" spc="-1" strike="noStrike" u="sng">
                <a:solidFill>
                  <a:srgbClr val="000000"/>
                </a:solidFill>
                <a:uFillTx/>
                <a:latin typeface="Arial"/>
              </a:rPr>
              <a:t>short</a:t>
            </a:r>
            <a:r>
              <a:rPr b="0" lang="en-US" sz="2400" spc="-1" strike="noStrike">
                <a:solidFill>
                  <a:srgbClr val="000000"/>
                </a:solidFill>
                <a:latin typeface="Arial"/>
              </a:rPr>
              <a:t> essay contains </a:t>
            </a:r>
            <a:r>
              <a:rPr b="0" lang="en-US" sz="2400" spc="-1" strike="noStrike" u="sng">
                <a:solidFill>
                  <a:srgbClr val="000000"/>
                </a:solidFill>
                <a:uFillTx/>
                <a:latin typeface="Arial"/>
              </a:rPr>
              <a:t>3 to 5</a:t>
            </a:r>
            <a:r>
              <a:rPr b="0" lang="en-US" sz="2400" spc="-1" strike="noStrike">
                <a:solidFill>
                  <a:srgbClr val="000000"/>
                </a:solidFill>
                <a:latin typeface="Arial"/>
              </a:rPr>
              <a:t> body   paragraphs, plus an introductory and a conclud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agraph</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use signal words to make smooth transitions between sentences and paragraph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ignal/Transition Words</a:t>
            </a: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amples</a:t>
            </a:r>
            <a:r>
              <a:rPr b="0" lang="en-US" sz="2800" spc="-1" strike="noStrike">
                <a:solidFill>
                  <a:srgbClr val="000000"/>
                </a:solidFill>
                <a:latin typeface="Arial"/>
              </a:rPr>
              <a:t>: For example, for instance, to illustrat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organization or chronological order</a:t>
            </a:r>
            <a:r>
              <a:rPr b="0" lang="en-US" sz="2800" spc="-1" strike="noStrike">
                <a:solidFill>
                  <a:srgbClr val="000000"/>
                </a:solidFill>
                <a:latin typeface="Arial"/>
              </a:rPr>
              <a:t>: The six steps are…, next, finally first, secondly, thir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additional points</a:t>
            </a:r>
            <a:r>
              <a:rPr b="0" lang="en-US" sz="2800" spc="-1" strike="noStrike">
                <a:solidFill>
                  <a:srgbClr val="000000"/>
                </a:solidFill>
                <a:latin typeface="Arial"/>
              </a:rPr>
              <a:t>: Furthermore, in addition, also, moreover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opposing ideas</a:t>
            </a:r>
            <a:r>
              <a:rPr b="0" lang="en-US" sz="2800" spc="-1" strike="noStrike">
                <a:solidFill>
                  <a:srgbClr val="000000"/>
                </a:solidFill>
                <a:latin typeface="Arial"/>
              </a:rPr>
              <a:t>: On the other hand, in contrast, although, however</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similar ideas</a:t>
            </a:r>
            <a:r>
              <a:rPr b="0" lang="en-US" sz="2800" spc="-1" strike="noStrike">
                <a:solidFill>
                  <a:srgbClr val="000000"/>
                </a:solidFill>
                <a:latin typeface="Arial"/>
              </a:rPr>
              <a:t>: Likewise, similarly, in comparis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ignal/Transition Words</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ceptions</a:t>
            </a:r>
            <a:r>
              <a:rPr b="0" lang="en-US" sz="2800" spc="-1" strike="noStrike">
                <a:solidFill>
                  <a:srgbClr val="000000"/>
                </a:solidFill>
                <a:latin typeface="Arial"/>
              </a:rPr>
              <a:t>: However, nevertheless, but, yet, stil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mphasis</a:t>
            </a:r>
            <a:r>
              <a:rPr b="0" lang="en-US" sz="2800" spc="-1" strike="noStrike">
                <a:solidFill>
                  <a:srgbClr val="000000"/>
                </a:solidFill>
                <a:latin typeface="Arial"/>
              </a:rPr>
              <a:t>: Above all, finally, more importantl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understanding</a:t>
            </a:r>
            <a:r>
              <a:rPr b="0" lang="en-US" sz="2800" spc="-1" strike="noStrike">
                <a:solidFill>
                  <a:srgbClr val="000000"/>
                </a:solidFill>
                <a:latin typeface="Arial"/>
              </a:rPr>
              <a:t>: In other words, in essence, briefl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summarizing</a:t>
            </a:r>
            <a:r>
              <a:rPr b="0" lang="en-US" sz="2800" spc="-1" strike="noStrike">
                <a:solidFill>
                  <a:srgbClr val="000000"/>
                </a:solidFill>
                <a:latin typeface="Arial"/>
              </a:rPr>
              <a:t>: In conclusion, to sum up, for these reasons, in a nutshel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ams</a:t>
            </a:r>
            <a:r>
              <a:rPr b="0" lang="en-US" sz="2800" spc="-1" strike="noStrike">
                <a:solidFill>
                  <a:srgbClr val="000000"/>
                </a:solidFill>
                <a:latin typeface="Arial"/>
              </a:rPr>
              <a:t>: Remember this, this is important, this could be on the te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an Essay?</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ed piece of writing that focuses on a single top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a general idea or thesi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is </a:t>
            </a:r>
            <a:r>
              <a:rPr b="0" lang="en-US" sz="2400" spc="-1" strike="noStrike">
                <a:solidFill>
                  <a:srgbClr val="000000"/>
                </a:solidFill>
                <a:latin typeface="Arial"/>
              </a:rPr>
              <a:t>develops from all the main ideas in the supporting paragraph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s that develop the thesis are the </a:t>
            </a:r>
            <a:r>
              <a:rPr b="1" lang="en-US" sz="2400" spc="-1" strike="noStrike">
                <a:solidFill>
                  <a:srgbClr val="000000"/>
                </a:solidFill>
                <a:latin typeface="Arial"/>
              </a:rPr>
              <a:t>body</a:t>
            </a:r>
            <a:r>
              <a:rPr b="0" lang="en-US" sz="2400" spc="-1" strike="noStrike">
                <a:solidFill>
                  <a:srgbClr val="000000"/>
                </a:solidFill>
                <a:latin typeface="Arial"/>
              </a:rPr>
              <a:t> of the essay</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s with an </a:t>
            </a:r>
            <a:r>
              <a:rPr b="1"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 with a </a:t>
            </a:r>
            <a:r>
              <a:rPr b="1" lang="en-US" sz="2400" spc="-1" strike="noStrike">
                <a:solidFill>
                  <a:srgbClr val="000000"/>
                </a:solidFill>
                <a:latin typeface="Arial"/>
              </a:rPr>
              <a:t>concluding</a:t>
            </a:r>
            <a:r>
              <a:rPr b="0" lang="en-US" sz="2400" spc="-1" strike="noStrike">
                <a:solidFill>
                  <a:srgbClr val="000000"/>
                </a:solidFill>
                <a:latin typeface="Arial"/>
              </a:rPr>
              <a:t> paragrap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Body Paragraph</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There are a variety of techniques available to parents who are willing to take the responsibility of disciplining their children. 2)Most of these methods involve a combination of rewards and punishments. 3)Rewarded behaviors will be repeated by children; therefore, rewards should be given for behaviors that are acceptable. 4)Unacceptable behavior should be punished in some way. 5)Try to make the punishment fit the seriousness of the behavior. 6)Be reasonable; but be consistent, too. 7)Consistency and fairness are the key elements when it comes to rewarding and punishing childr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Paragraph Analysis</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1" lang="en-US" sz="2800" spc="-1" strike="noStrike">
                <a:solidFill>
                  <a:srgbClr val="000000"/>
                </a:solidFill>
                <a:latin typeface="Arial"/>
              </a:rPr>
              <a:t>Main</a:t>
            </a:r>
            <a:r>
              <a:rPr b="0" lang="en-US" sz="2800" spc="-1" strike="noStrike">
                <a:solidFill>
                  <a:srgbClr val="000000"/>
                </a:solidFill>
                <a:latin typeface="Arial"/>
              </a:rPr>
              <a:t> </a:t>
            </a:r>
            <a:r>
              <a:rPr b="1" lang="en-US" sz="2800" spc="-1" strike="noStrike">
                <a:solidFill>
                  <a:srgbClr val="000000"/>
                </a:solidFill>
                <a:latin typeface="Arial"/>
              </a:rPr>
              <a:t>idea</a:t>
            </a:r>
            <a:r>
              <a:rPr b="0" lang="en-US" sz="2800" spc="-1" strike="noStrike">
                <a:solidFill>
                  <a:srgbClr val="000000"/>
                </a:solidFill>
                <a:latin typeface="Arial"/>
              </a:rPr>
              <a:t> sentenc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Major</a:t>
            </a:r>
            <a:r>
              <a:rPr b="0" lang="en-US" sz="2800" spc="-1" strike="noStrike">
                <a:solidFill>
                  <a:srgbClr val="000000"/>
                </a:solidFill>
                <a:latin typeface="Arial"/>
              </a:rPr>
              <a:t> </a:t>
            </a:r>
            <a:r>
              <a:rPr b="1" lang="en-US" sz="2800" spc="-1" strike="noStrike">
                <a:solidFill>
                  <a:srgbClr val="000000"/>
                </a:solidFill>
                <a:latin typeface="Arial"/>
              </a:rPr>
              <a:t>detail, </a:t>
            </a:r>
            <a:r>
              <a:rPr b="0" lang="en-US" sz="2800" spc="-1" strike="noStrike">
                <a:solidFill>
                  <a:srgbClr val="000000"/>
                </a:solidFill>
                <a:latin typeface="Arial"/>
              </a:rPr>
              <a:t>classifies discipline into two major categories – reward and punishm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5- </a:t>
            </a:r>
            <a:r>
              <a:rPr b="1" lang="en-US" sz="2800" spc="-1" strike="noStrike">
                <a:solidFill>
                  <a:srgbClr val="000000"/>
                </a:solidFill>
                <a:latin typeface="Arial"/>
              </a:rPr>
              <a:t>Minor details</a:t>
            </a:r>
            <a:r>
              <a:rPr b="0" lang="en-US" sz="2800" spc="-1" strike="noStrike">
                <a:solidFill>
                  <a:srgbClr val="000000"/>
                </a:solidFill>
                <a:latin typeface="Arial"/>
              </a:rPr>
              <a:t> that elaborate about the two major categories of discipline. The signal word </a:t>
            </a:r>
            <a:r>
              <a:rPr b="0" i="1" lang="en-US" sz="2800" spc="-1" strike="noStrike">
                <a:solidFill>
                  <a:srgbClr val="000000"/>
                </a:solidFill>
                <a:latin typeface="Arial"/>
              </a:rPr>
              <a:t>therefore</a:t>
            </a:r>
            <a:r>
              <a:rPr b="0" lang="en-US" sz="2800" spc="-1" strike="noStrike">
                <a:solidFill>
                  <a:srgbClr val="000000"/>
                </a:solidFill>
                <a:latin typeface="Arial"/>
              </a:rPr>
              <a:t> is used to clarify relationships and make transitions between ide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1" lang="en-US" sz="2800" spc="-1" strike="noStrike">
                <a:solidFill>
                  <a:srgbClr val="000000"/>
                </a:solidFill>
                <a:latin typeface="Arial"/>
              </a:rPr>
              <a:t>Major detail, </a:t>
            </a:r>
            <a:r>
              <a:rPr b="0" lang="en-US" sz="2800" spc="-1" strike="noStrike">
                <a:solidFill>
                  <a:srgbClr val="000000"/>
                </a:solidFill>
                <a:latin typeface="Arial"/>
              </a:rPr>
              <a:t>states a major rule of discipline – be consistent and reasonabl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Concluding sen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Paragraph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content of the essa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agraph should be unique, including different facts and opinions, as appropriat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y paragraph, should be unified around a main idea and arranged coherent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 of an Essay</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leave the reader with a positive impression, a sense of completeness, and the inclination to think about the top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 short, single paragraph</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t>
            </a:r>
            <a:r>
              <a:rPr b="1" lang="en-US" sz="2800" spc="-1" strike="noStrike">
                <a:solidFill>
                  <a:srgbClr val="000000"/>
                </a:solidFill>
                <a:latin typeface="Arial"/>
              </a:rPr>
              <a:t>not </a:t>
            </a:r>
            <a:r>
              <a:rPr b="0" lang="en-US" sz="2800" spc="-1" strike="noStrike">
                <a:solidFill>
                  <a:srgbClr val="000000"/>
                </a:solidFill>
                <a:latin typeface="Arial"/>
              </a:rPr>
              <a:t>give more information about the topic – that should be done in the body of the e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ollow logically from the body of the es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ding Paragraph</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 restatement of the thesi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ignal words, such as in conclusion, in summary, or in closing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your thesis statement in different word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ome thought-provoking comments about your topic stating your opinion, judgment, or recommend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luding Paragraph - Example</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With proper discipline at home and at school, children can be controlled. 2) Parents and teachers can do the job before police action is necessary. 3)Maybe many children are out of control because not enough people take the responsibility seriously. 4)In conclusion, controlling children is one of the most important social responsibilities for adul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luding Paragraph - Example</a:t>
            </a: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rtial restatement of the thesis stat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 conclusion that clarifies the thesi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n opinion about the nature of society which may motivate some readers to read more about this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 concluding remark about the importance of th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vision and Editing Process</a:t>
            </a:r>
            <a:endParaRPr b="0" lang="en-US" sz="38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reviewing and rewriting to make your ideas more logical, understandable, and interesting to your reader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crossing out some material, adding other information, and rearranging materi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in aspects of the Revision Proces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through reading</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through collabo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vising and Editing through Reading</a:t>
            </a:r>
            <a:endParaRPr b="0" lang="en-US" sz="3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ead to revise, keep in mind</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urpose for writing</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udienc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1" lang="en-US" sz="2800" spc="-1" strike="noStrike">
                <a:solidFill>
                  <a:srgbClr val="000000"/>
                </a:solidFill>
                <a:latin typeface="Arial"/>
              </a:rPr>
              <a:t>carefully</a:t>
            </a:r>
            <a:r>
              <a:rPr b="0" lang="en-US" sz="2800" spc="-1" strike="noStrike">
                <a:solidFill>
                  <a:srgbClr val="000000"/>
                </a:solidFill>
                <a:latin typeface="Arial"/>
              </a:rPr>
              <a:t> read </a:t>
            </a:r>
            <a:r>
              <a:rPr b="1" lang="en-US" sz="2800" spc="-1" strike="noStrike">
                <a:solidFill>
                  <a:srgbClr val="000000"/>
                </a:solidFill>
                <a:latin typeface="Arial"/>
              </a:rPr>
              <a:t>multiple</a:t>
            </a:r>
            <a:r>
              <a:rPr b="0" lang="en-US" sz="2800" spc="-1" strike="noStrike">
                <a:solidFill>
                  <a:srgbClr val="000000"/>
                </a:solidFill>
                <a:latin typeface="Arial"/>
              </a:rPr>
              <a:t> times – with each rereading you will probably find ways to improve your es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vising and Editing through Collaboration</a:t>
            </a: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of finding out what other readers think about your essa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come aware of problems that you have not notice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get suggestions for improving organization, clarity of ideas; including grammar, punctuation, spelling and usag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DRAFT – SHOULD BE NEAT AND AS ERROR FREE AS POSS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Write an Essay?</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an essay helps you express your ideas more clearly and effectively</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you to convey much information in a small amount of spac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be entertaining by recounting interesting stories about ourselves and other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quired part of almost all college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use and Effect Essays</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 only the causes, only the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causes and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s of cause and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uses               Effect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it happen?       The resul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asons? The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blem – Solution Essay</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careful analysis, planning, and organization</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personal, social, psychological, economic, political, or other type of problem?</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y goal or objective?</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ossible solution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advantages or disadvantages of each solution? Use a chart to keep track of your analysi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olution is best and why?  </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I know my solution will work? Has it been tried? How can it be implemented and evalua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erences</a:t>
            </a:r>
            <a:endParaRPr b="0" lang="en-US" sz="42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nick, J.&amp; Lester, L. (2003). </a:t>
            </a:r>
            <a:r>
              <a:rPr b="0" i="1" lang="en-US" sz="3200" spc="-1" strike="noStrike">
                <a:solidFill>
                  <a:srgbClr val="000000"/>
                </a:solidFill>
                <a:latin typeface="Arial"/>
              </a:rPr>
              <a:t>Text and thought an integrated approach to college reading and writing. </a:t>
            </a:r>
            <a:r>
              <a:rPr b="0" lang="en-US" sz="3200" spc="-1" strike="noStrike">
                <a:solidFill>
                  <a:srgbClr val="000000"/>
                </a:solidFill>
                <a:latin typeface="Arial"/>
              </a:rPr>
              <a:t>NY: Long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cognizing General and Specific</a:t>
            </a:r>
            <a:endParaRPr b="0" lang="en-US" sz="3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Big and Inclusiv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Smaller and more exact or preci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1. Mammal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 Human Being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 </a:t>
            </a:r>
            <a:r>
              <a:rPr b="0" lang="en-US" sz="2800" spc="-1" strike="noStrike">
                <a:solidFill>
                  <a:srgbClr val="000000"/>
                </a:solidFill>
                <a:latin typeface="Arial"/>
              </a:rPr>
              <a:t>	</a:t>
            </a:r>
            <a:r>
              <a:rPr b="0" lang="en-US" sz="2800" spc="-1" strike="noStrike">
                <a:solidFill>
                  <a:srgbClr val="000000"/>
                </a:solidFill>
                <a:latin typeface="Arial"/>
              </a:rPr>
              <a:t>      3. Femal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 Mary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following chart compares the elements of paragraphs and essays</a:t>
            </a:r>
            <a:endParaRPr b="0" lang="en-US" sz="3800" spc="-1" strike="noStrike">
              <a:solidFill>
                <a:srgbClr val="ffffff"/>
              </a:solidFill>
              <a:latin typeface="Arial"/>
            </a:endParaRPr>
          </a:p>
        </p:txBody>
      </p:sp>
      <p:sp>
        <p:nvSpPr>
          <p:cNvPr id="10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aragraph</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main ide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ory sentenc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supporting detail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ing sentence</a:t>
            </a:r>
            <a:endParaRPr b="0" lang="en-US" sz="2800" spc="-1" strike="noStrike">
              <a:solidFill>
                <a:srgbClr val="000000"/>
              </a:solidFill>
              <a:latin typeface="Arial"/>
            </a:endParaRPr>
          </a:p>
        </p:txBody>
      </p:sp>
      <p:sp>
        <p:nvSpPr>
          <p:cNvPr id="101"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sa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a thesi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ory paragraph</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supporting body paragraph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ing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are writing about and supporting throughout your essa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main idea of a paragraph, it’s a generalization and includes all paragraphs in your ess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in the essay that states the thesi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expressed in the first paragraph, as part of the introduct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just righ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o general or it will not provide adequate direction for the essay</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o specific or it will be difficult to develop into a series of related paragra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Examples</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Controlling our childr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General Thesis: Children must be disciplined.</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specific thesis: Teachers have a role in the discipline of children.</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e thesis: By using disciplinary techniques, parents, teachers, and police are the main agents for controlling children</a:t>
            </a:r>
            <a:endParaRPr b="0" lang="en-US" sz="24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ree groups to discuss, general enough to allow for the development of several main ideas and specific enough to give the essay structure and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Example</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disciplinary techniques, parents, teachers, and police are the main agents responsible for controlling children.</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1: There are a variety of techniques available to parents who are willing to take responsibility for disciplining their children</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2: Teachers are also important agents of discipline for children in today’s society.</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3: If criminal behavior is involved, police take the responsibility to control children through the legal system. </a:t>
            </a:r>
            <a:endParaRPr b="0" lang="en-US" sz="20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 PRECISE THESIS STATEMENT IS THE KEY STEP IN DEVELOPING AN EFFECTIVE ESS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21:34:46Z</dcterms:created>
  <dc:creator>Information Resources</dc:creator>
  <dc:description/>
  <dc:language>en-US</dc:language>
  <cp:lastModifiedBy>dosh aljhni</cp:lastModifiedBy>
  <dcterms:modified xsi:type="dcterms:W3CDTF">2014-03-11T13:16:25Z</dcterms:modified>
  <cp:revision>15</cp:revision>
  <dc:subject/>
  <dc:title>ELEMENTS </dc:title>
</cp:coreProperties>
</file>