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D690D-2E7A-45DB-AB8B-120B047A9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FCABD-7094-4DA3-ACA9-19FFFC46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02962-B56A-4669-8413-DB7BBDAE3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3399B-93E9-437C-8684-F1B4962A2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B4050-3953-40DB-89A5-3E5D5763D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015C2-866F-416D-992A-A0A319FA2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8CEE0-7B25-4E70-89AA-3F54F7686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6D1BD-DBBD-43F3-9893-9EAADE4EB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1DFD1-F57C-4CEE-958F-26E1ABB00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7FFB8-CFF0-4165-B91A-DC25B53B6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9C4C6-8090-4E26-AAF5-9B48CAE8B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ABCC-CAE3-4DD7-918D-EF43F2A75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1001B-B301-443A-B5C5-7CC0874D5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059D7-FF67-4525-8DDC-CE8F47F82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8D05E-5F8E-4398-8B3A-9A8983BAE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3AEF1-163D-4AFF-8A6D-06357C5FF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129AC-F4A1-4933-B6CF-7EEAC08F3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5BE4F-A2F7-42EF-B4A8-7C821C77BA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541A4-CFF3-484F-AE32-1D83A3B9A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ECBFB-0047-4A03-B245-5A3C0D6E8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D7F1E-95AC-464C-8739-4C2E10369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50C77-D15D-4715-9319-1F65F71A6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2EF7-9728-40A6-9604-AF301791F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D1DBD-F87E-4F2E-8E25-18024A814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F08E8-6B49-47D4-9FD2-31769AA3E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3B5B4-79CB-4B58-B99B-11FF0D06F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49B312-8745-4C18-9968-B0CC5344F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EDDE0-6696-400A-A426-5F5A5933D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BA815-14D4-448E-BEC9-8C7A7C9AE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E18AD-6978-4A23-9930-B40752C79B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DD7A9A-4CFC-4D17-A726-8B41C6FBEB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67F52-0328-4AD6-AE83-A49943E90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24390-1E34-48CA-A883-408B15E2E8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0891F-6FF0-4CB9-B1F4-5A36AB1AF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F07D9-BC42-427E-A0EE-96C958DF1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21593-2411-4E5D-A9FD-DFF710FE5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75B1F-3CBC-45F9-89F6-46C67524B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5AECB2-979F-4C2A-ADDC-50DD1E1AC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4E55B-E70C-4A1B-BF7A-59413929A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4E5B5-E080-4E53-8014-A85CD5A54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E9A68-DC88-486D-9D89-7E5E51B51B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9C94E9-76AB-4165-A628-4C7C24026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005D2D-7AC8-419C-ADC1-29C276DA90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4CCD3E-D885-47A4-875A-4E3410D98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745C-9FAD-4791-A85D-40963304B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42750-F077-4A14-991B-C0CC733DB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96708-0F22-4FF0-A322-283CAEE7D3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A8530-43FE-40AF-8AB5-60720D318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712AB-B686-460F-B5A6-2213998A0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F1967-1903-46E2-A725-401ED42C9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DF9F5-63F5-44F3-BBD4-1FEA856A6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6849A-EDB8-4D6B-961B-0CBA4FE72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00578-5CE8-4B3D-9526-015BB93BA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3A0A4-53EF-4013-B228-6AA5F2288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F21EAF-E8F4-48E3-90FC-74932BCAAB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7EE3-4D21-4C4B-BC4C-D606E0926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5CE24D-0F07-4E8D-9283-A8AE59A342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24E428-BFB9-4626-AB51-1AAA8987D6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8230C-0654-4503-BFD5-A70D9338A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F16D5-E249-45B6-9CAC-7D1D9E1246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2A205A-F4C5-43C7-BBDF-43687815D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29FF7-01A9-4B3F-B453-BB8B0155D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388FAC-DEF5-4DCD-BE1C-37552CB147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BE9E0-8AF6-4FB3-A050-7A151317A3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B88C3-797D-464C-83AA-B7BB3AC2F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6DFE0-5501-4F5B-AA44-AD083D181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C425-03E8-4033-AEC1-785C9F965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3B6922-B8EE-4149-BF1E-9FEE6029F1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850616-5CF5-4D20-93BC-78840577BE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283428-8516-45C8-8BF7-447F831C4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A1C364-DDE1-450B-B7F2-077095252A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BBACD0-3559-4A26-9B04-DA02D7B1A3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9D131-F5E8-4804-87D2-81AD50E74F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5F23B1-0AF0-42AC-90D6-2755013DB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1B392-7B2A-4BFA-8D3F-6A534A7A1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64D7B-4034-4EE1-A112-528E34E41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B67D34-FBA9-4A3E-8E7C-90C0BC1BED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2DE4-1288-4ED5-BC2E-82EEB6DA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C0FC6-389F-4977-A053-E8D828BB2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A7EEF-AA1E-4D92-AE8B-31547A2F8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88711-9217-416F-BB26-2E5DEAB5E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A56451-2C98-428A-851F-C74FD41985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EEC407-1530-45B4-AEB1-7BB2AE522C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E2D518-2CC1-4AFC-8FA5-6EEEA86712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B80C1-075D-448B-B695-84614FBA2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B28C00-3052-48C6-9E75-D2A456F44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B97787-B230-4BC3-9117-1522E1099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0977D-6B5D-4096-9701-F629E89991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2752-CBD5-46F5-B8E3-EFE732D6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245E89-59A9-4ACD-9FF8-4174F7933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ECF24-F68D-41CA-94C6-A952CFD418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F7651-E2AB-438B-943F-7A8FB20FE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8FCCE-5CEB-4E87-8817-14FF11F4C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4CD3C-C1CB-46CD-B4A4-F6D45DD78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2F3BA4-13FE-468B-AE41-8A94712867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2675F0-53F4-4779-B83D-40E10A53414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27B1-6021-40D1-AC08-DBA8CA46C21D}"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84A1-F991-453E-A727-8B0D194155E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A4A1-B79F-422C-AFD8-56752F3D57B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A193-6958-4A2B-B2EE-699DFA51C72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A903-DAAD-40AF-8D5D-FE2886B182A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8D98-80D8-4B5D-90CC-6EC89B4703B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C695-2535-45BD-84CF-823AA01D8E2A}"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7A62-53C7-40E8-8B41-BCAB763651C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sumanasinc.com/webcontent/animations/content/ELISA.html" TargetMode="External"/><Relationship Id="rId2" Type="http://schemas.openxmlformats.org/officeDocument/2006/relationships/hyperlink" Target="http://www.biology.ualberta.ca/facilities/multimedia/uploads/procedures/elisa-sound.swf"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LISA</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143000" y="5124600"/>
            <a:ext cx="6934320" cy="5904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Enzyme Linked Immunosorbent Assay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ntibody Production-cont</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o obtain antibody that is specific for a single antigen, antibody-secreting lymphocytes are isolated from the animal and immortalized by fusing them with a cancer cell line. The fused cells are called hybridomas, and will continually grow and secrete antibody in culture. Single hybridoma cells are isolated by dilution cloning to generate cell clones that all produce the same antibody; these antibodies are called </a:t>
            </a:r>
            <a:r>
              <a:rPr b="0" i="1" lang="en-GB" sz="3200" spc="-1" strike="noStrike">
                <a:solidFill>
                  <a:srgbClr val="000000"/>
                </a:solidFill>
                <a:latin typeface="Gill Sans MT"/>
              </a:rPr>
              <a:t>monoclonal antibodi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C:\Documents and Settings\nashwao\Desktop\ELISA\image009.gif"/>
          <p:cNvPicPr/>
          <p:nvPr/>
        </p:nvPicPr>
        <p:blipFill>
          <a:blip r:embed="rId1"/>
          <a:stretch/>
        </p:blipFill>
        <p:spPr>
          <a:xfrm>
            <a:off x="1143000" y="533520"/>
            <a:ext cx="662940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LISA technique</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8000"/>
          </a:bodyPr>
          <a:p>
            <a:pPr marL="267120" indent="-267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r>
              <a:rPr b="0" lang="en-GB" sz="3200" spc="-1" strike="noStrike">
                <a:solidFill>
                  <a:srgbClr val="000000"/>
                </a:solidFill>
                <a:latin typeface="Gill Sans MT"/>
              </a:rPr>
              <a:t>Is a biochemical technique used mainly in immunology to detect the presence of an antibody or an antigen in a sample.</a:t>
            </a:r>
            <a:endParaRPr b="0" lang="en-US" sz="32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technique is divided into </a:t>
            </a:r>
            <a:endParaRPr b="0" lang="en-US" sz="32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Competitive ELISA  </a:t>
            </a:r>
            <a:endParaRPr b="0" lang="en-US" sz="32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Sandwich ELISA (also called direct ELISA)</a:t>
            </a:r>
            <a:endParaRPr b="0" lang="en-US" sz="3200" spc="-1" strike="noStrike">
              <a:solidFill>
                <a:srgbClr val="000000"/>
              </a:solidFill>
              <a:latin typeface="Gill Sans MT"/>
            </a:endParaRPr>
          </a:p>
          <a:p>
            <a:pPr marL="267120" indent="-2671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en-US" sz="3200" spc="-1" strike="noStrike">
                <a:solidFill>
                  <a:srgbClr val="000000"/>
                </a:solidFill>
                <a:latin typeface="Gill Sans MT"/>
              </a:rPr>
              <a:t>- </a:t>
            </a:r>
            <a:r>
              <a:rPr b="0" lang="en-US" sz="3200" spc="-1" strike="noStrike">
                <a:solidFill>
                  <a:srgbClr val="000000"/>
                </a:solidFill>
                <a:latin typeface="Gill Sans MT"/>
              </a:rPr>
              <a:t>Indirect ELISA</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etitive ELISA</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labelled antigen competes for primary antibody binding sites with the sample antigen (unlabeled). The more antigen in the sample, the less labelled antigen is retained in the well and the weaker the signa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4" descr="histamine_fig2"/>
          <p:cNvPicPr/>
          <p:nvPr/>
        </p:nvPicPr>
        <p:blipFill>
          <a:blip r:embed="rId1"/>
          <a:stretch/>
        </p:blipFill>
        <p:spPr>
          <a:xfrm>
            <a:off x="990720" y="762120"/>
            <a:ext cx="678168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ELISA plate is coated with Antibody to detect specific antige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79" name="Picture 5" descr="C:\Documents and Settings\nashwao\Desktop\ELISA\ELISA.png"/>
          <p:cNvPicPr/>
          <p:nvPr/>
        </p:nvPicPr>
        <p:blipFill>
          <a:blip r:embed="rId1"/>
          <a:stretch/>
        </p:blipFill>
        <p:spPr>
          <a:xfrm>
            <a:off x="2438280" y="2438280"/>
            <a:ext cx="419112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epare a surface to which a known quantity of capture antibody is bound.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Block any non specific binding sites on the surface</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pply the antigen-containing sample to the plate. </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Cont</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Wash the plate, so that unbound antigen is removed. </a:t>
            </a:r>
            <a:endParaRPr b="0" lang="en-US" sz="3000" spc="-1" strike="noStrike">
              <a:solidFill>
                <a:srgbClr val="000000"/>
              </a:solidFill>
              <a:latin typeface="Gill Sans MT"/>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Apply enzyme linked primary antibodies as detection antibodies which also bind specifically to the antigen. </a:t>
            </a:r>
            <a:endParaRPr b="0" lang="en-US" sz="3000" spc="-1" strike="noStrike">
              <a:solidFill>
                <a:srgbClr val="000000"/>
              </a:solidFill>
              <a:latin typeface="Gill Sans MT"/>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Wash the plate, so that the unbound antibody-enzyme conjugates are removed. </a:t>
            </a:r>
            <a:endParaRPr b="0" lang="en-US" sz="30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Cont</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pply a chemical which is converted by the enzyme into a coloured product.</a:t>
            </a:r>
            <a:endParaRPr b="0" lang="en-US" sz="3200" spc="-1" strike="noStrike">
              <a:solidFill>
                <a:srgbClr val="000000"/>
              </a:solidFill>
              <a:latin typeface="Gill Sans MT"/>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easure the absorbency of the plate wells to determine the presence and quantity of antigen</a:t>
            </a:r>
            <a:endParaRPr b="0" lang="en-US" sz="32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andwich ELISA</a:t>
            </a:r>
            <a:endParaRPr b="0" lang="en-US" sz="3200" spc="-1" strike="noStrike">
              <a:solidFill>
                <a:srgbClr val="464653"/>
              </a:solidFill>
              <a:latin typeface="Bookman Old Style"/>
            </a:endParaRPr>
          </a:p>
        </p:txBody>
      </p:sp>
      <p:pic>
        <p:nvPicPr>
          <p:cNvPr id="387" name="Picture 4" descr="elisa[1]"/>
          <p:cNvPicPr/>
          <p:nvPr/>
        </p:nvPicPr>
        <p:blipFill>
          <a:blip r:embed="rId1"/>
          <a:stretch/>
        </p:blipFill>
        <p:spPr>
          <a:xfrm>
            <a:off x="979560" y="1219320"/>
            <a:ext cx="7184880" cy="49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efinition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55" name=""/>
          <p:cNvSpPr txBox="1"/>
          <p:nvPr/>
        </p:nvSpPr>
        <p:spPr>
          <a:xfrm>
            <a:off x="456840" y="1600200"/>
            <a:ext cx="8534520" cy="502920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Gill Sans MT"/>
              </a:rPr>
              <a:t>Antibodies</a:t>
            </a:r>
            <a:r>
              <a:rPr b="0" lang="en-GB" sz="3200" spc="-1" strike="noStrike">
                <a:solidFill>
                  <a:srgbClr val="000000"/>
                </a:solidFill>
                <a:latin typeface="Gill Sans MT"/>
              </a:rPr>
              <a:t> (also known as </a:t>
            </a:r>
            <a:r>
              <a:rPr b="1" lang="en-GB" sz="3200" spc="-1" strike="noStrike">
                <a:solidFill>
                  <a:srgbClr val="000000"/>
                </a:solidFill>
                <a:latin typeface="Gill Sans MT"/>
              </a:rPr>
              <a:t>immunoglobulins </a:t>
            </a:r>
            <a:r>
              <a:rPr b="0" lang="en-GB" sz="3200" spc="-1" strike="noStrike">
                <a:solidFill>
                  <a:srgbClr val="000000"/>
                </a:solidFill>
                <a:latin typeface="Gill Sans MT"/>
              </a:rPr>
              <a:t>abbreviated </a:t>
            </a:r>
            <a:r>
              <a:rPr b="1" lang="en-GB" sz="3200" spc="-1" strike="noStrike">
                <a:solidFill>
                  <a:srgbClr val="000000"/>
                </a:solidFill>
                <a:latin typeface="Gill Sans MT"/>
              </a:rPr>
              <a:t>Ig</a:t>
            </a:r>
            <a:r>
              <a:rPr b="0" lang="en-GB" sz="3200" spc="-1" strike="noStrike">
                <a:solidFill>
                  <a:srgbClr val="000000"/>
                </a:solidFill>
                <a:latin typeface="Gill Sans MT"/>
              </a:rPr>
              <a:t>) are gamma globulin proteins that are found in blood and are used by the immune system to identify and neutralize foreign objects, such as bacteria and viruses. </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6" name="Picture 4" descr="C:\Documents and Settings\nashwao\Desktop\ELISA\antibody.gif"/>
          <p:cNvPicPr/>
          <p:nvPr/>
        </p:nvPicPr>
        <p:blipFill>
          <a:blip r:embed="rId1"/>
          <a:stretch/>
        </p:blipFill>
        <p:spPr>
          <a:xfrm>
            <a:off x="6019920" y="5067360"/>
            <a:ext cx="2361960" cy="179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protein antigen to be tested for is added to each well of </a:t>
            </a:r>
            <a:r>
              <a:rPr b="0" lang="en-US" sz="3200" spc="-1" strike="noStrike">
                <a:solidFill>
                  <a:srgbClr val="000000"/>
                </a:solidFill>
                <a:latin typeface="Gill Sans MT"/>
              </a:rPr>
              <a:t>ELISA </a:t>
            </a:r>
            <a:r>
              <a:rPr b="0" lang="en-GB" sz="3200" spc="-1" strike="noStrike">
                <a:solidFill>
                  <a:srgbClr val="000000"/>
                </a:solidFill>
                <a:latin typeface="Gill Sans MT"/>
              </a:rPr>
              <a:t>plate, where it is given time to adhere to the plastic through charge interactions</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solution of non-reacting protein is added to block any plastic surface in the well that remains uncoated by the protein antige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Cont</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fontScale="97000"/>
          </a:bodyPr>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n the serum is added, which contains a mixture of the serum antibodies, of unknown concentration, some of which may bind specifically to the test antigen that is coating the well. </a:t>
            </a:r>
            <a:endParaRPr b="0" lang="en-US" sz="3200" spc="-1" strike="noStrike">
              <a:solidFill>
                <a:srgbClr val="000000"/>
              </a:solidFill>
              <a:latin typeface="Gill Sans MT"/>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64600" indent="-2646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fterwards, a secondary antibody is added, which will bind to the antibody bound to the test antigen in the well. This secondary antibody often has an enzyme attached to it</a:t>
            </a:r>
            <a:endParaRPr b="0" lang="en-US" sz="3200" spc="-1" strike="noStrike">
              <a:solidFill>
                <a:srgbClr val="000000"/>
              </a:solidFill>
              <a:latin typeface="Gill Sans MT"/>
            </a:endParaRPr>
          </a:p>
          <a:p>
            <a:pPr marL="264600" indent="-26460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Cont</a:t>
            </a:r>
            <a:endParaRPr b="0" lang="en-US" sz="32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A substrate for this enzyme is then added. Often, this substrate changes colour upon reaction with the enzyme. The colour change shows that secondary antibody has bound to primary antibody, which strongly implies that the donor has had an immune reaction to the test antigen.</a:t>
            </a:r>
            <a:endParaRPr b="0" lang="en-US" sz="3000" spc="-1" strike="noStrike">
              <a:solidFill>
                <a:srgbClr val="000000"/>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Gill Sans MT"/>
              </a:rPr>
              <a:t>The higher the concentration of the primary antibody that was present in the serum, the stronger the colour change. Often a spectrometer is used to give quantitative values for colour strength</a:t>
            </a:r>
            <a:endParaRPr b="0" lang="en-US" sz="3000" spc="-1" strike="noStrike">
              <a:solidFill>
                <a:srgbClr val="000000"/>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rect ELISA</a:t>
            </a:r>
            <a:endParaRPr b="0" lang="en-US" sz="3200" spc="-1" strike="noStrike">
              <a:solidFill>
                <a:srgbClr val="464653"/>
              </a:solidFill>
              <a:latin typeface="Bookman Old Style"/>
            </a:endParaRPr>
          </a:p>
        </p:txBody>
      </p:sp>
      <p:pic>
        <p:nvPicPr>
          <p:cNvPr id="395" name="Picture 4" descr="elisa3[1]"/>
          <p:cNvPicPr/>
          <p:nvPr/>
        </p:nvPicPr>
        <p:blipFill>
          <a:blip r:embed="rId1"/>
          <a:stretch/>
        </p:blipFill>
        <p:spPr>
          <a:xfrm>
            <a:off x="2494080" y="1596960"/>
            <a:ext cx="4155840" cy="418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n example of an ELISA experiment</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fore starting the work read kit instruction carefully</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The 96 well plate is labeled carefully and the first wells are used to draw the standard curve</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98" name="Picture 4" descr="C:\Documents and Settings\nashwao\Desktop\ELISA\images.jpg"/>
          <p:cNvPicPr/>
          <p:nvPr/>
        </p:nvPicPr>
        <p:blipFill>
          <a:blip r:embed="rId1"/>
          <a:stretch/>
        </p:blipFill>
        <p:spPr>
          <a:xfrm>
            <a:off x="2971800" y="4419720"/>
            <a:ext cx="2590920" cy="177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An example of an ELISA experiment-Cont</a:t>
            </a:r>
            <a:endParaRPr b="0" lang="en-US" sz="29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ample is added to plate in duplicate or triplicate and then the mean result is calculated</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quality control sample which is provided with the kit is treated as the test sampl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fter reading the results the standard curve is drawn were the concentration is blotted on  the X-axis and the absorbance on the Y-axis</a:t>
            </a:r>
            <a:endParaRPr b="0" lang="en-US" sz="32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cxnSp>
        <p:nvCxnSpPr>
          <p:cNvPr id="403" name="Straight Arrow Connector 9"/>
          <p:cNvCxnSpPr/>
          <p:nvPr/>
        </p:nvCxnSpPr>
        <p:spPr>
          <a:xfrm flipV="1">
            <a:off x="2971800" y="3885480"/>
            <a:ext cx="2160" cy="1857960"/>
          </a:xfrm>
          <a:prstGeom prst="straightConnector1">
            <a:avLst/>
          </a:prstGeom>
          <a:ln w="9360">
            <a:solidFill>
              <a:srgbClr val="000000"/>
            </a:solidFill>
            <a:miter/>
            <a:tailEnd len="med" type="arrow" w="med"/>
          </a:ln>
        </p:spPr>
      </p:cxnSp>
      <p:cxnSp>
        <p:nvCxnSpPr>
          <p:cNvPr id="404" name="Straight Arrow Connector 5"/>
          <p:cNvCxnSpPr/>
          <p:nvPr/>
        </p:nvCxnSpPr>
        <p:spPr>
          <a:xfrm>
            <a:off x="2971440" y="5715000"/>
            <a:ext cx="3501000" cy="2160"/>
          </a:xfrm>
          <a:prstGeom prst="straightConnector1">
            <a:avLst/>
          </a:prstGeom>
          <a:ln w="9360">
            <a:solidFill>
              <a:srgbClr val="000000"/>
            </a:solidFill>
            <a:miter/>
            <a:tailEnd len="med" type="arrow" w="med"/>
          </a:ln>
        </p:spPr>
      </p:cxnSp>
      <p:sp>
        <p:nvSpPr>
          <p:cNvPr id="405" name="TextBox 17"/>
          <p:cNvSpPr/>
          <p:nvPr/>
        </p:nvSpPr>
        <p:spPr>
          <a:xfrm>
            <a:off x="3651840" y="5791320"/>
            <a:ext cx="24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centration ng/ml</a:t>
            </a:r>
            <a:endParaRPr b="0" lang="en-US" sz="1800" spc="-1" strike="noStrike">
              <a:solidFill>
                <a:srgbClr val="000000"/>
              </a:solidFill>
              <a:latin typeface="Arial"/>
            </a:endParaRPr>
          </a:p>
        </p:txBody>
      </p:sp>
      <p:sp>
        <p:nvSpPr>
          <p:cNvPr id="406" name="TextBox 16"/>
          <p:cNvSpPr/>
          <p:nvPr/>
        </p:nvSpPr>
        <p:spPr>
          <a:xfrm>
            <a:off x="1571760" y="4357800"/>
            <a:ext cx="139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bsorption  n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cont</a:t>
            </a:r>
            <a:endParaRPr b="0" lang="en-US" sz="3200" spc="-1" strike="noStrike">
              <a:solidFill>
                <a:srgbClr val="464653"/>
              </a:solidFill>
              <a:latin typeface="Bookman Old Style"/>
            </a:endParaRPr>
          </a:p>
        </p:txBody>
      </p:sp>
      <p:sp>
        <p:nvSpPr>
          <p:cNvPr id="40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tandards concentrations is specified on the x-axis and the reading of each standard is specified on the y-axis and the standard curve is draw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9" name="Picture 2" descr="C:\Documents and Settings\nashwao\Desktop\ELISA\maxline_28_8.jpg"/>
          <p:cNvPicPr/>
          <p:nvPr/>
        </p:nvPicPr>
        <p:blipFill>
          <a:blip r:embed="rId1"/>
          <a:stretch/>
        </p:blipFill>
        <p:spPr>
          <a:xfrm>
            <a:off x="2514600" y="3505320"/>
            <a:ext cx="4114800" cy="255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cont</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standard curve is used to determine the unknown concentration of each sample by finding the opposite concentration to the absorbance</a:t>
            </a:r>
            <a:endParaRPr b="0" lang="en-US" sz="3200" spc="-1" strike="noStrike">
              <a:solidFill>
                <a:srgbClr val="000000"/>
              </a:solidFill>
              <a:latin typeface="Gill Sans MT"/>
            </a:endParaRPr>
          </a:p>
        </p:txBody>
      </p:sp>
      <p:sp>
        <p:nvSpPr>
          <p:cNvPr id="412" name="Straight Connector 14"/>
          <p:cNvSpPr/>
          <p:nvPr/>
        </p:nvSpPr>
        <p:spPr>
          <a:xfrm flipV="1">
            <a:off x="2714760" y="4285800"/>
            <a:ext cx="1857240" cy="135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3" name="Straight Arrow Connector 4"/>
          <p:cNvCxnSpPr/>
          <p:nvPr/>
        </p:nvCxnSpPr>
        <p:spPr>
          <a:xfrm>
            <a:off x="2786040" y="5643720"/>
            <a:ext cx="2858400" cy="2160"/>
          </a:xfrm>
          <a:prstGeom prst="straightConnector1">
            <a:avLst/>
          </a:prstGeom>
          <a:ln w="9360">
            <a:solidFill>
              <a:srgbClr val="000000"/>
            </a:solidFill>
            <a:miter/>
            <a:tailEnd len="med" type="arrow" w="med"/>
          </a:ln>
        </p:spPr>
      </p:cxnSp>
      <p:cxnSp>
        <p:nvCxnSpPr>
          <p:cNvPr id="414" name="Straight Arrow Connector 6"/>
          <p:cNvCxnSpPr/>
          <p:nvPr/>
        </p:nvCxnSpPr>
        <p:spPr>
          <a:xfrm flipV="1">
            <a:off x="2714760" y="3857040"/>
            <a:ext cx="2160" cy="1786680"/>
          </a:xfrm>
          <a:prstGeom prst="straightConnector1">
            <a:avLst/>
          </a:prstGeom>
          <a:ln w="9360">
            <a:solidFill>
              <a:srgbClr val="000000"/>
            </a:solidFill>
            <a:miter/>
            <a:tailEnd len="med" type="arrow" w="med"/>
          </a:ln>
        </p:spPr>
      </p:cxnSp>
      <p:sp>
        <p:nvSpPr>
          <p:cNvPr id="415" name="TextBox 17"/>
          <p:cNvSpPr/>
          <p:nvPr/>
        </p:nvSpPr>
        <p:spPr>
          <a:xfrm>
            <a:off x="3275640" y="5715000"/>
            <a:ext cx="24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centration ng/ml</a:t>
            </a:r>
            <a:endParaRPr b="0" lang="en-US" sz="1800" spc="-1" strike="noStrike">
              <a:solidFill>
                <a:srgbClr val="000000"/>
              </a:solidFill>
              <a:latin typeface="Arial"/>
            </a:endParaRPr>
          </a:p>
        </p:txBody>
      </p:sp>
      <p:sp>
        <p:nvSpPr>
          <p:cNvPr id="416" name="TextBox 16"/>
          <p:cNvSpPr/>
          <p:nvPr/>
        </p:nvSpPr>
        <p:spPr>
          <a:xfrm>
            <a:off x="1214280" y="4286160"/>
            <a:ext cx="139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bsorption  nm</a:t>
            </a:r>
            <a:endParaRPr b="0" lang="en-US" sz="1800" spc="-1" strike="noStrike">
              <a:solidFill>
                <a:srgbClr val="000000"/>
              </a:solidFill>
              <a:latin typeface="Arial"/>
            </a:endParaRPr>
          </a:p>
        </p:txBody>
      </p:sp>
      <p:sp>
        <p:nvSpPr>
          <p:cNvPr id="417" name="Straight Connector 9"/>
          <p:cNvSpPr/>
          <p:nvPr/>
        </p:nvSpPr>
        <p:spPr>
          <a:xfrm>
            <a:off x="2786040" y="4429080"/>
            <a:ext cx="35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Straight Connector 16"/>
          <p:cNvSpPr/>
          <p:nvPr/>
        </p:nvSpPr>
        <p:spPr>
          <a:xfrm>
            <a:off x="3286080" y="4429080"/>
            <a:ext cx="428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traight Connector 19"/>
          <p:cNvSpPr/>
          <p:nvPr/>
        </p:nvSpPr>
        <p:spPr>
          <a:xfrm>
            <a:off x="3857760" y="442908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Straight Connector 23"/>
          <p:cNvSpPr/>
          <p:nvPr/>
        </p:nvSpPr>
        <p:spPr>
          <a:xfrm flipH="1">
            <a:off x="4355640" y="5357880"/>
            <a:ext cx="18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traight Connector 26"/>
          <p:cNvSpPr/>
          <p:nvPr/>
        </p:nvSpPr>
        <p:spPr>
          <a:xfrm flipH="1">
            <a:off x="4355640" y="500220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traight Connector 21"/>
          <p:cNvSpPr/>
          <p:nvPr/>
        </p:nvSpPr>
        <p:spPr>
          <a:xfrm flipH="1">
            <a:off x="4357800" y="4500720"/>
            <a:ext cx="1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cont</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quality control sample concentration is determined from the standard curve and if the result is in the range given by the kit manufacturer the results could be accepted</a:t>
            </a: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finitions- cont</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ill Sans MT"/>
              </a:rPr>
              <a:t>Antigens</a:t>
            </a:r>
            <a:endParaRPr b="0" lang="en-US" sz="3200" spc="-1" strike="noStrike">
              <a:solidFill>
                <a:srgbClr val="000000"/>
              </a:solidFill>
              <a:latin typeface="Gill Sans MT"/>
            </a:endParaRPr>
          </a:p>
          <a:p>
            <a:pPr marL="253440" indent="-253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substance that when introduced into the body </a:t>
            </a:r>
            <a:br>
              <a:rPr sz="3200"/>
            </a:br>
            <a:r>
              <a:rPr b="0" lang="en-GB" sz="3200" spc="-1" strike="noStrike">
                <a:solidFill>
                  <a:srgbClr val="000000"/>
                </a:solidFill>
                <a:latin typeface="Gill Sans MT"/>
              </a:rPr>
              <a:t>stimulates the production of an antibody</a:t>
            </a:r>
            <a:endParaRPr b="0" lang="en-US" sz="3200" spc="-1" strike="noStrike">
              <a:solidFill>
                <a:srgbClr val="000000"/>
              </a:solidFill>
              <a:latin typeface="Gill Sans MT"/>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ill Sans MT"/>
              </a:rPr>
              <a:t>Immunoassay</a:t>
            </a:r>
            <a:endParaRPr b="0" lang="en-US" sz="3200" spc="-1" strike="noStrike">
              <a:solidFill>
                <a:srgbClr val="000000"/>
              </a:solidFill>
              <a:latin typeface="Gill Sans MT"/>
            </a:endParaRPr>
          </a:p>
          <a:p>
            <a:pPr marL="253440" indent="-2534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laboratory technique that makes use of the binding between an antigen and its homologous antibody in order to identify and quantify the specific antigen or antibody in a sample</a:t>
            </a:r>
            <a:endParaRPr b="0" lang="en-US" sz="3200" spc="-1" strike="noStrike">
              <a:solidFill>
                <a:srgbClr val="000000"/>
              </a:solidFill>
              <a:latin typeface="Gill Sans MT"/>
            </a:endParaRPr>
          </a:p>
          <a:p>
            <a:pPr marL="253440" indent="-253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Useful sites</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edumedia-sciences.com/en/a543-direct-enzyme-linked-immunosorbent-assay-elis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ELIS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1"/>
              </a:rPr>
              <a:t>http://www.sumanasinc.com/webcontent/animations/content/ELISA.htm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2"/>
              </a:rPr>
              <a:t>http://www.biology.ualberta.ca/facilities/multimedia/uploads/procedures/elisa-sound.swf</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C:\Documents and Settings\nashwao\Desktop\ELISA\antigen_antibody 1.gif"/>
          <p:cNvPicPr/>
          <p:nvPr/>
        </p:nvPicPr>
        <p:blipFill>
          <a:blip r:embed="rId1"/>
          <a:stretch/>
        </p:blipFill>
        <p:spPr>
          <a:xfrm>
            <a:off x="1295280" y="838080"/>
            <a:ext cx="6782040" cy="563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finitions- cont</a:t>
            </a:r>
            <a:endParaRPr b="0" lang="en-US" sz="32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Gill Sans MT"/>
              </a:rPr>
              <a:t>Analyte</a:t>
            </a:r>
            <a:endParaRPr b="0" lang="en-US" sz="3200" spc="-1" strike="noStrike">
              <a:solidFill>
                <a:srgbClr val="000000"/>
              </a:solidFill>
              <a:latin typeface="Gill Sans MT"/>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sample being analyzed and in immunoasssays the analyte is either Antibody or Antigen</a:t>
            </a:r>
            <a:endParaRPr b="0" lang="en-US" sz="32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ntigen</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present naturally in the body  like hormones</a:t>
            </a:r>
            <a:endParaRPr b="0" lang="en-US" sz="3200" spc="-1" strike="noStrike">
              <a:solidFill>
                <a:srgbClr val="000000"/>
              </a:solidFill>
              <a:latin typeface="Gill Sans MT"/>
            </a:endParaRPr>
          </a:p>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7240" indent="-2372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manufactured in special disease status for example human chorionic gonadotrophin hormone (HCG) which is normally produced by cells of the placenta in pregnancy is found in the body in some types of cancer</a:t>
            </a:r>
            <a:endParaRPr b="0" lang="en-US" sz="3200" spc="-1" strike="noStrike">
              <a:solidFill>
                <a:srgbClr val="000000"/>
              </a:solidFill>
              <a:latin typeface="Gill Sans MT"/>
            </a:endParaRPr>
          </a:p>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not present in the body in normal condition like drug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fontScale="90000"/>
          </a:bodyPr>
          <a:p>
            <a:pPr marL="245520" indent="-2455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The Antibody:</a:t>
            </a:r>
            <a:r>
              <a:rPr b="0" lang="en-GB" sz="3200" spc="-1" strike="noStrike">
                <a:solidFill>
                  <a:srgbClr val="000000"/>
                </a:solidFill>
                <a:latin typeface="Gill Sans MT"/>
              </a:rPr>
              <a:t> An immunoglobulin, a specialized immune protein, produced because of the introduction of an antigen into the body, and which possesses the remarkable ability to combine with the very antigen that triggered its production (specific affinity)</a:t>
            </a:r>
            <a:endParaRPr b="0" lang="en-US" sz="3200" spc="-1" strike="noStrike">
              <a:solidFill>
                <a:srgbClr val="000000"/>
              </a:solidFill>
              <a:latin typeface="Gill Sans MT"/>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45520" indent="-2455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ntibody recognises and bind to the antigenic determinant region of the antige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C:\Documents and Settings\nashwao\My Documents\My Pictures\image004.jpg"/>
          <p:cNvPicPr/>
          <p:nvPr/>
        </p:nvPicPr>
        <p:blipFill>
          <a:blip r:embed="rId1"/>
          <a:stretch/>
        </p:blipFill>
        <p:spPr>
          <a:xfrm>
            <a:off x="1905120" y="609480"/>
            <a:ext cx="5486400" cy="586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ntibody Production</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2000"/>
          </a:bodyPr>
          <a:p>
            <a:pPr marL="250920" indent="-2509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pecific antibodies are produced by injecting an antigen into a mammal, such as a mouse, rat or rabbit for small quantities of antibody, or goat, sheep, or horse for large quantities of antibody. Blood isolated from these animals contains </a:t>
            </a:r>
            <a:r>
              <a:rPr b="0" i="1" lang="en-GB" sz="3200" spc="-1" strike="noStrike">
                <a:solidFill>
                  <a:srgbClr val="000000"/>
                </a:solidFill>
                <a:latin typeface="Gill Sans MT"/>
              </a:rPr>
              <a:t>polyclonal antibodies</a:t>
            </a:r>
            <a:r>
              <a:rPr b="0" lang="en-GB" sz="3200" spc="-1" strike="noStrike">
                <a:solidFill>
                  <a:srgbClr val="000000"/>
                </a:solidFill>
                <a:latin typeface="Gill Sans MT"/>
              </a:rPr>
              <a:t>—multiple antibodies that bind to the same antigen—in the serum, which can now be called antiserum.</a:t>
            </a:r>
            <a:r>
              <a:rPr b="0" lang="en-GB" sz="3200" spc="-1" strike="noStrike" baseline="30000">
                <a:solidFill>
                  <a:srgbClr val="000000"/>
                </a:solidFill>
                <a:latin typeface="Gill Sans MT"/>
              </a:rPr>
              <a:t> </a:t>
            </a:r>
            <a:endParaRPr b="0" lang="en-US" sz="3200" spc="-1" strike="noStrike">
              <a:solidFill>
                <a:srgbClr val="000000"/>
              </a:solidFill>
              <a:latin typeface="Gill Sans MT"/>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6-01-25T12:23:04Z</dcterms:modified>
  <cp:revision>28</cp:revision>
  <dc:subject/>
  <dc:title>ELI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