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5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5748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539280" cy="6173640"/>
            <a:chOff x="0" y="0"/>
            <a:chExt cx="953928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899400" cy="6173640"/>
            </a:xfrm>
            <a:custGeom>
              <a:avLst/>
              <a:gdLst/>
              <a:ahLst/>
              <a:rect l="l" t="t" r="r" b="b"/>
              <a:pathLst>
                <a:path w="4346" h="3889">
                  <a:moveTo>
                    <a:pt x="4345" y="3418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819" y="3888"/>
                  </a:lnTo>
                  <a:lnTo>
                    <a:pt x="4345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36840" y="0"/>
              <a:ext cx="6060960" cy="5116680"/>
            </a:xfrm>
            <a:custGeom>
              <a:avLst/>
              <a:gdLst/>
              <a:ahLst/>
              <a:rect l="l" t="t" r="r" b="b"/>
              <a:pathLst>
                <a:path w="3818" h="3223">
                  <a:moveTo>
                    <a:pt x="416" y="0"/>
                  </a:moveTo>
                  <a:lnTo>
                    <a:pt x="3817" y="3036"/>
                  </a:lnTo>
                  <a:lnTo>
                    <a:pt x="3609" y="3222"/>
                  </a:lnTo>
                  <a:lnTo>
                    <a:pt x="0" y="0"/>
                  </a:lnTo>
                  <a:lnTo>
                    <a:pt x="416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05280" y="0"/>
              <a:ext cx="5106960" cy="4057560"/>
            </a:xfrm>
            <a:custGeom>
              <a:avLst/>
              <a:gdLst/>
              <a:ahLst/>
              <a:rect l="l" t="t" r="r" b="b"/>
              <a:pathLst>
                <a:path w="3217" h="2556">
                  <a:moveTo>
                    <a:pt x="709" y="0"/>
                  </a:moveTo>
                  <a:lnTo>
                    <a:pt x="3216" y="2238"/>
                  </a:lnTo>
                  <a:lnTo>
                    <a:pt x="2861" y="2555"/>
                  </a:lnTo>
                  <a:lnTo>
                    <a:pt x="0" y="0"/>
                  </a:lnTo>
                  <a:lnTo>
                    <a:pt x="709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56160" y="0"/>
              <a:ext cx="4083120" cy="3367080"/>
            </a:xfrm>
            <a:custGeom>
              <a:avLst/>
              <a:gdLst/>
              <a:ahLst/>
              <a:rect l="l" t="t" r="r" b="b"/>
              <a:pathLst>
                <a:path w="2572" h="2121">
                  <a:moveTo>
                    <a:pt x="0" y="0"/>
                  </a:moveTo>
                  <a:lnTo>
                    <a:pt x="2375" y="2120"/>
                  </a:lnTo>
                  <a:lnTo>
                    <a:pt x="2571" y="1945"/>
                  </a:lnTo>
                  <a:lnTo>
                    <a:pt x="392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LERGIC REACTIONS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 th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NTAL OFFIC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rticar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als (hiv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oth elevated patches surrounded by erythematous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uritus (itch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10287000" cy="660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941560" y="0"/>
            <a:ext cx="44038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gioedem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inflammatory edema invol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n, subcutaneous tissue, underlying muscle &amp; mucous membr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urs in response to aller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ritical in the laryn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10287000" cy="660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edisposing Factors in Allergic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 history of all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predisposition to all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topic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 with multiple aller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ug that is utiliz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rugs that Cause Allergic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Up to 70% of Allergic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icil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proba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azide Diure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ther Substances Causing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din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cc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ul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par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icyla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onam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ia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Anesthe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om from  stinging ins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tibiotic  Allerg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Highest inc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icillins (anaphylactic reaction may prove fatal in 1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onam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tions to erythromycins rarely se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algesic  Allerg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idence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ergy to narcotics is 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"Allergy" is most often a side effect such as nausea, vomiting, drowsiness, dysphoria, or constip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lergic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erg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defined as a hypersensitive state aquired through exposure to a particular allergen, reexposure to which produces a heightened capacity to re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tianxiety Drug Allergy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rbiturates -most common but occur less than aspirin and penicil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tions -hives, urticaria, blood dyscrasia (agranulocytosis / thrombocytope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ergy occurs more frequently with a history of asthma, urticaria, and angio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ocal Anesthetic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tions occur most frequently with E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rvatives also cause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ster  Drug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a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oxy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zoca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tra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ed compou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aine Penicillin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ainam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mide  Allerg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ide type anesthetic are essentially free of allergic reaction whe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n in their pure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true allergy to amide type anesthetic is extremely rare, patients have demonstrated allergic reaction to the contents of the dental cart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gredient      -     Fun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esthetic Agent - Conduction block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soconstri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- Decrease absorp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local anesthe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dium Metabisulfi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Preservative fo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soconstri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thylparab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Preservative to increas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lf life; bacteriost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Chloride  - Isotonicity of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ile Wa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ilu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raben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rvative found in man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drug i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ergic reactions to topical anesthetic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those of contact stomatitis; erythema, edema, ulcerations - almost exclusively a dermatologic type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10287000" cy="660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10287000" cy="660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nical Op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 type of “allergic”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te different drugs for those which cause the allergic re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patient evaluated by allergist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agement of Allergic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severe allergic reactions are immed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number of organ oystems may be invol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ovas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ir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trointest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lergic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ergic reactions range from mild, delayed reactions occuring as long as 48 hours after exposure, to immediate life-threatening reactions that occur within seconds after expo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agement of Allergic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ized anaphylaxis involves all of the previously mentioned system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hypotension occurs, it is termed Anaphylactic Sh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ffected Area   -    Manifest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k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ticaria-Wheal &amp; Fl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uritis, angioedema, eryt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spirat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Dyspnea,wheezing,flushing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yanosis,perspiration,tachycardi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anxiety,use of access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cles of respi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ffected Area    -    Manifest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astrointesti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Abdominal cramp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usea, vomiting, diarrhe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ontin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ardiovascula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Pallor, light-headednes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lpitations, tachycardi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ension, dysrhythmia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s of consciousness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equence of Rea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Skin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Smooth muscle spa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GI, GU, and bronchi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Respiratory dist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Cardiovascular collap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ype of Rea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ck Onset==&gt; Rapid Progression==&gt;  Intense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ayed Onset==&gt; Slow Progression==&gt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Severe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rugs Used in Allergic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6168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pinephr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Alpha and Beta adrenergic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s as a physiologic antagonist to the events that occur during an allergic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pinephr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tions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nchodi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heart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terial const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taneous, mucosal, and splanchn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soconst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erses rhinitis and urtic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pinephr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isks of repeated u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ssive elevation of blood pres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ac rhythm abnorma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tihistam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adryl (chlorpheniramine) most often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-1 bloc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ibits action of histamine released during reaction to aller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assification of Allergic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ype   Mechanism    Time     Example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phylacti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sec/min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gio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I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ytotoxi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--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usion r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II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un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6-8hrs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um sick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V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 mediat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48 hrs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mat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rticosteroid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cortisone used most 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blilizes cell membranes against actions of histamines, bradykinins, and prostagland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lements adrenal steroid output during st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reatment of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mediate Skin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pinephrine 0.3 mg IM or S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.3ml of a 1:1000 Solu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histam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phenhydramine (Benadryl) 50 mg I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reatment of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mediate Skin Reactions 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ain medical consul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e patient for at least one h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cribe oral antihistam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adryl 50 mg PO Q6H for 3-4 d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reatment of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layed Skin Reactions 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histam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phenhydramine (Benadryl)  50 mg 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cribe oral form Q6H for 3-4 d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nge medical consul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reatment of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spiratory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ronchial Const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inate dental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t patient up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 6 L/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pinephrine aerosol or 0.3 mg IM or S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.3 ml  of a 1:1000 solu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reatment of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spiratory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ronchial Constriction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e for at least 1 h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histamines - Benadryl 50 mg 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ain medical consula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cribe oral antihistam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Q6H for 3-4 days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reatment of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spiratory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ryngeal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t patient up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pinephrine 0.3 mg IM or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 ai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on med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reatment of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spiratory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ryngeal Edema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6 L/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cothyroidot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itional drug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phenhydramine 50m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amp;/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cortisone 100 m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eneralized Anaphylaxis</a:t>
            </a:r>
            <a:br>
              <a:rPr sz="4400"/>
            </a:br>
            <a:r>
              <a:rPr b="0" lang="en-US" sz="4400" spc="-1" strike="noStrike" u="sng">
                <a:solidFill>
                  <a:srgbClr val="fafd00"/>
                </a:solidFill>
                <a:uFillTx/>
                <a:latin typeface="Times New Roman"/>
              </a:rPr>
              <a:t>with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Signs of Allergy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patient in a supine po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Life Support  (AB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er epinephrine 0.3 mg IM or S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.3 ml of a 1:1000 solu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on medical assistance - call 9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eneralized Anaphylaxis</a:t>
            </a:r>
            <a:br>
              <a:rPr sz="4400"/>
            </a:br>
            <a:r>
              <a:rPr b="0" lang="en-US" sz="4400" spc="-1" strike="noStrike" u="sng">
                <a:solidFill>
                  <a:srgbClr val="fafd00"/>
                </a:solidFill>
                <a:uFillTx/>
                <a:latin typeface="Times New Roman"/>
              </a:rPr>
              <a:t>with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Signs of Allerg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tor vital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itional drug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histam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ticostero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at epinephrine Q5min p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st Common in Dental Offic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ype 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ediate Localized or Generalized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phylaxis - The Type I allergic reaction is subdivided into several forms based upon th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ype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Dermat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eneralized Anaphylaxis</a:t>
            </a:r>
            <a:br>
              <a:rPr sz="4400"/>
            </a:br>
            <a:r>
              <a:rPr b="0" lang="en-US" sz="4400" spc="-1" strike="noStrike" u="sng">
                <a:solidFill>
                  <a:srgbClr val="fafd00"/>
                </a:solidFill>
                <a:uFillTx/>
                <a:latin typeface="Times New Roman"/>
              </a:rPr>
              <a:t>without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Signs of Allerg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patient in a supine 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Life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tor vital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on medical assistance p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eneralized Anaphylaxis</a:t>
            </a:r>
            <a:br>
              <a:rPr sz="4400"/>
            </a:br>
            <a:r>
              <a:rPr b="0" lang="en-US" sz="4400" spc="-1" strike="noStrike" u="sng">
                <a:solidFill>
                  <a:srgbClr val="fafd00"/>
                </a:solidFill>
                <a:uFillTx/>
                <a:latin typeface="Times New Roman"/>
              </a:rPr>
              <a:t>without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Signs of Allerg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possible causes of unconscious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c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dose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gly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Adrenal Insu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evention of Allergic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- a thorough, complete history of any previous allergic response or tendenc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i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starting treatment will avoid most emer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ther Means of Preven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al consul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al office skin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not foolproof and not advis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ake Home Less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positive responses to an allergy history are true until exact nature is determin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s reporting allergies should be critically evaluated -refer for allergy testing if history, reaction, or management are susp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prepared to manage difficulties! Alway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ype I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mediate Hypersensitivit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ized (Systemic) 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ized 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tic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nchial Asth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 All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tige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bstance that elicits an allergic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tibody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bstance in blood or tissue that responds and reacts with the ant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different in structure than the antig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p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al hypersensitivity state, subjec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heredity (asthma, hay fever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3T08:36:21Z</dcterms:created>
  <dc:creator>Ben Connaughton</dc:creator>
  <dc:description/>
  <dc:language>en-US</dc:language>
  <cp:lastModifiedBy>Microsoft Office User</cp:lastModifiedBy>
  <cp:lastPrinted>2009-04-22T19:24:48Z</cp:lastPrinted>
  <dcterms:modified xsi:type="dcterms:W3CDTF">1999-06-16T20:24:05Z</dcterms:modified>
  <cp:revision>12</cp:revision>
  <dc:subject/>
  <dc:title>Allergic Reactions in the Dental Office</dc:title>
</cp:coreProperties>
</file>