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3A9-5DAC-400D-A079-39C8A1DC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4E9-4C0D-4E95-8BC8-5FB50DDC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C78-C084-436C-A0AD-49C65276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86D-09D6-4393-AD58-51ECCCD1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FBC-A146-44CA-8392-78D7AC56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9EA-32A4-4F21-8D7E-9FCDA397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0BB-70E7-4DE5-A1FF-F2D46564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E69-9FB8-4335-93DC-B3DAA7CD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0B4-2B5C-4C86-92A8-548B2F67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E15-5AA4-4A26-8809-5C7AE2EE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1D1-1045-4141-A4EA-674810AA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FCF-891A-441C-BF69-2B2FF0E1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4115-0F14-4DF2-8D27-6EA6084D4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6:59:09Z</dcterms:created>
  <dc:creator>.</dc:creator>
  <dc:description/>
  <dc:language>en-US</dc:language>
  <cp:lastModifiedBy>NARAYANAN</cp:lastModifiedBy>
  <dcterms:modified xsi:type="dcterms:W3CDTF">2005-06-21T12:35:40Z</dcterms:modified>
  <cp:revision>2</cp:revision>
  <dc:subject/>
  <dc:title>No Slide Title</dc:title>
</cp:coreProperties>
</file>