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DAB-184D-4875-B48E-08543D02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68A-D407-48CD-AA6D-8041423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33D-6D48-4F43-AC99-76BE9A01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772-B8F3-4928-B0D4-E034B25D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55B-7193-4B91-8A43-ADF7D10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04E-C6F7-4ED0-8782-9BDCB76A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C81-AE75-49F3-8EF1-134AC3D6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574-6CB8-4B26-9AAD-20E7436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7F5-14A5-406E-AE44-3E5CF50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D60-FC45-4458-8C28-FE13078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41B-3CC4-4759-A644-1912263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59D-5A30-475A-AFBA-EF8E3CE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D32E-5076-4419-9D44-EABAA3D2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59:09Z</dcterms:created>
  <dc:creator>.</dc:creator>
  <dc:description/>
  <dc:language>en-US</dc:language>
  <cp:lastModifiedBy>NARAYANAN</cp:lastModifiedBy>
  <dcterms:modified xsi:type="dcterms:W3CDTF">2005-06-21T12:35:40Z</dcterms:modified>
  <cp:revision>2</cp:revision>
  <dc:subject/>
  <dc:title>No Slide Title</dc:title>
</cp:coreProperties>
</file>