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81A-39E6-43EA-AAC6-464B3051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AD1-16F9-4540-9779-2D78638C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996-F9BA-4F3E-8962-CD97C4B7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B05-9163-4B19-BA65-8AB60C32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E0D-A4D5-406D-84CB-DF2272DD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F25-AE8A-465E-BAA0-C3587B5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253-12D7-4D99-822D-894BA104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E1F-2308-49EB-8911-5B7EE065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FE3-3C94-476C-880A-EC2E8DC0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16C-EFFF-4A1E-9B38-BFC20A3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5F6-6F54-4737-BA25-34C721A3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052-B498-4E44-8F40-8773ED06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1BE6-B539-422B-849D-D7ECE5079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0:03:56Z</dcterms:created>
  <dc:creator>.</dc:creator>
  <dc:description/>
  <dc:language>en-US</dc:language>
  <cp:lastModifiedBy>.</cp:lastModifiedBy>
  <dcterms:modified xsi:type="dcterms:W3CDTF">2001-11-05T20:05:48Z</dcterms:modified>
  <cp:revision>1</cp:revision>
  <dc:subject/>
  <dc:title>No Slide Title</dc:title>
</cp:coreProperties>
</file>