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media/image59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9F1E-EE63-407A-9E37-D63F4C660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2BD0-16BD-4E4F-99CB-3733645A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0E41-3168-4FF2-9BB5-3DED9CFDC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9C17-AB60-4DCD-9FB7-5C607E975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E3A9-8130-4D8F-AFEF-2DE43A16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6027-A41C-4F40-AB2A-276B57B7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178B-F82A-490A-ADC3-4866B862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6BF9-E77F-4218-A5EA-5FD7046D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0362-FE17-4C9C-987B-9AD25C5D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9D6B-116D-4225-8F59-F3DBD55F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A94D-AE07-4895-9F1E-E660D6B3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79A6-A231-49A3-8DDB-08444085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6494-2982-4127-8EC5-D3CECBC7C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0:03:56Z</dcterms:created>
  <dc:creator>.</dc:creator>
  <dc:description/>
  <dc:language>en-US</dc:language>
  <cp:lastModifiedBy>.</cp:lastModifiedBy>
  <dcterms:modified xsi:type="dcterms:W3CDTF">2001-11-05T20:05:48Z</dcterms:modified>
  <cp:revision>1</cp:revision>
  <dc:subject/>
  <dc:title>No Slide Title</dc:title>
</cp:coreProperties>
</file>