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2BE-D7B9-4921-BD23-F9B7C0AF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B06A-8515-42FE-9B18-66260AF5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423E-B3F3-4B1A-A44F-C87EDAA7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4592-57D1-4321-BFFF-962DF3C4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70EE-BBE8-4D05-8674-7EE2A2E4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98E-C2B7-498B-9940-7AFE7887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A28-49C3-46C4-BB73-D789E62C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118-1747-4D13-AE3E-6671AF0B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3DB0-DA5C-46C0-A90F-A13EAB9A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53C3-9B78-4C77-B201-8D098E8E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BCC-3343-44C2-BCB1-2EF4A86E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A8D-DDD3-4F7E-86DF-3F526847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8F15-CC80-4489-B2FB-73F6E5DAC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flipH="1" rot="10800000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05:35Z</dcterms:created>
  <dc:creator>.</dc:creator>
  <dc:description/>
  <dc:language>en-US</dc:language>
  <cp:lastModifiedBy>.</cp:lastModifiedBy>
  <dcterms:modified xsi:type="dcterms:W3CDTF">2001-11-05T20:00:56Z</dcterms:modified>
  <cp:revision>2</cp:revision>
  <dc:subject/>
  <dc:title>No Slide Title</dc:title>
</cp:coreProperties>
</file>