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F1D-E374-4CBD-9A83-D4334D98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7EF-F7BA-427A-B9CE-561A729D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DEE-7947-4027-B659-989D9DC9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19E-B7A8-40B6-AAB6-9A3487D2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023-456C-4224-9877-BD8A25B0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DAD-E118-4D12-9D0F-54AB4163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D8B-A5CF-489F-AE55-E29DE8DB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BD4-E13A-43DC-AEDD-08C11FB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CBA-DA71-4D2E-BFC1-09524B87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0CC-3383-4A5C-9365-BA35654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6BB-61ED-45D9-AD77-7A2A2FF1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D25-31C8-49C8-9090-1015FAF8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28C-D8C7-466C-A7F1-76576C2C4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flipH="1" rot="10800000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05:35Z</dcterms:created>
  <dc:creator>.</dc:creator>
  <dc:description/>
  <dc:language>en-US</dc:language>
  <cp:lastModifiedBy>.</cp:lastModifiedBy>
  <dcterms:modified xsi:type="dcterms:W3CDTF">2001-11-05T20:00:56Z</dcterms:modified>
  <cp:revision>2</cp:revision>
  <dc:subject/>
  <dc:title>No Slide Title</dc:title>
</cp:coreProperties>
</file>