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9EC9-98DA-4AC7-82D3-DFFFD00DB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FC96-C41D-4DC8-BAD3-786581F2F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C168-D311-4D2E-B418-F1E720125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1F1A-E7D6-4BA8-8E7D-0F72AD970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EA53-206C-4A66-87A6-A60EA8543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1D31-4210-4D0B-90CF-12D95BB63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2BA6-763C-421E-B051-1C250676F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EE8E-7038-4BAA-8425-E6B3FD199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512A-7060-4ED2-A408-2523FEAD9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7809-FA31-4EA7-99F7-E3DA8BB2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193D-C204-4D6B-80B7-158BDD8B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90F4-3481-47EB-BF7E-0B59C778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F9015-6465-40AF-BF9C-72C4D43E9A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 flipH="1" rot="10800000">
            <a:off x="9144000" y="4495680"/>
            <a:ext cx="139680" cy="921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124080" y="609480"/>
            <a:ext cx="3429000" cy="23623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85800" y="3657600"/>
            <a:ext cx="3657600" cy="2590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181480" y="3733920"/>
            <a:ext cx="3429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4038480" cy="2895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267080" y="3733920"/>
            <a:ext cx="40388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410080" y="609480"/>
            <a:ext cx="3048120" cy="2362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914400" y="533520"/>
            <a:ext cx="3124080" cy="2438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895480" y="3733920"/>
            <a:ext cx="3429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3886200" cy="2666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029200" y="304920"/>
            <a:ext cx="3657600" cy="26668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33520" y="3581280"/>
            <a:ext cx="3581280" cy="2667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4952880" y="3581280"/>
            <a:ext cx="37339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038480" cy="2895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28600" y="3505320"/>
            <a:ext cx="3962520" cy="28954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4724280" y="3581280"/>
            <a:ext cx="3632400" cy="28195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4648320" y="304920"/>
            <a:ext cx="38098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9T16:55:10Z</dcterms:created>
  <dc:creator>.</dc:creator>
  <dc:description/>
  <dc:language>en-US</dc:language>
  <cp:lastModifiedBy>.</cp:lastModifiedBy>
  <dcterms:modified xsi:type="dcterms:W3CDTF">2001-10-29T16:56:51Z</dcterms:modified>
  <cp:revision>1</cp:revision>
  <dc:subject/>
  <dc:title>No Slide Title</dc:title>
</cp:coreProperties>
</file>