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C43-7B42-492F-AD2E-40C19009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4A4-E865-4164-9D7F-7B0CD4B9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5EA-E7C9-4C27-9C6D-9D6F8321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713-CC7D-44C6-9AE2-C1569548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DD6-D9DE-4C03-9AF4-AB8E88EE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AE9-4605-4ED7-8182-811826C3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793-2D22-42FE-9116-DDA679B7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7F7-AF66-4E61-845F-B59A7AC4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7BD-A80F-434C-9E84-3A7B113B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009-77D7-4525-B9AD-D4D228C4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898-CB22-465F-B74A-72A5E64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5B2-1B8F-4A13-A36A-8786FEF6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8F2E-5A4D-4786-9621-5A35741CE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flipH="1" rot="10800000">
            <a:off x="9144000" y="4495680"/>
            <a:ext cx="139680" cy="9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81480" y="37339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03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88620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358128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3733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24280" y="3581280"/>
            <a:ext cx="363240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648320" y="304920"/>
            <a:ext cx="3809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6:55:10Z</dcterms:created>
  <dc:creator>.</dc:creator>
  <dc:description/>
  <dc:language>en-US</dc:language>
  <cp:lastModifiedBy>.</cp:lastModifiedBy>
  <dcterms:modified xsi:type="dcterms:W3CDTF">2001-10-29T16:56:51Z</dcterms:modified>
  <cp:revision>1</cp:revision>
  <dc:subject/>
  <dc:title>No Slide Title</dc:title>
</cp:coreProperties>
</file>