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7C28-61D6-4DC6-B3EF-C28AF70D2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F930-EF25-4A58-93FB-8D68F219A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BC3D-4A0B-415C-9E62-89DC44088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1848-B8AC-4811-8ED8-6BCEB0828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77A2-07C8-4136-8B42-6E78E0C84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58B2-B97F-49AE-B150-FC0C0ADD3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F76D-04ED-4DD6-8CC4-BF035C74F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B2D5-3C01-4BAF-B8CD-EA54DE14C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BD91-DED2-40FC-BE42-F9064AE7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03DD-CCCB-4A26-806C-2A2182E4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3C9C-FD19-4A51-B20F-94926617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26F9-9DCD-4775-9B47-15029AAC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EC5B6-95CD-4E1B-9DE1-36C4A5136C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6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579096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9T16:41:16Z</dcterms:created>
  <dc:creator>.</dc:creator>
  <dc:description/>
  <dc:language>en-US</dc:language>
  <cp:lastModifiedBy>.</cp:lastModifiedBy>
  <dcterms:modified xsi:type="dcterms:W3CDTF">2001-10-29T16:47:13Z</dcterms:modified>
  <cp:revision>1</cp:revision>
  <dc:subject/>
  <dc:title>No Slide Title</dc:title>
</cp:coreProperties>
</file>