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FB0-18B8-4B06-969A-E51D23AC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F33-98BD-4CDA-8A40-3714BCBD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35F-FA90-4299-8888-B671B4FB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5F2-4BCA-4942-80EA-503DCE41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559-3C27-4BDE-B5A6-135D842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601-15FD-4BDB-818B-0452869B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A42-E932-415F-BCB6-D567D3C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B52-14CD-4D0C-9675-E7F13C1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3F5-6599-4EA8-8999-28FA948E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6B2-EFCC-4494-B432-44ACDBC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94A-71F3-47AB-916F-4B47AEE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AA4-2187-4CB0-A969-E3C7B843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0B3-8221-4128-8F74-99BB5E3D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79096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41:16Z</dcterms:created>
  <dc:creator>.</dc:creator>
  <dc:description/>
  <dc:language>en-US</dc:language>
  <cp:lastModifiedBy>.</cp:lastModifiedBy>
  <dcterms:modified xsi:type="dcterms:W3CDTF">2001-10-29T16:47:13Z</dcterms:modified>
  <cp:revision>1</cp:revision>
  <dc:subject/>
  <dc:title>No Slide Title</dc:title>
</cp:coreProperties>
</file>