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EE0-F3EB-441C-AA84-5DD3F5DA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D92-A2E2-43A3-9672-11DA4C1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77C-82AE-49E4-98CD-15B8E378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C00-101F-4012-8514-32BA18E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7AF-0E28-46DE-B730-BF8915CD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0D2-9460-4DC3-91B6-0225914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6CFD-D2DF-4BB5-A569-327B9B6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B1B-60FB-4E38-9E7E-CB51A6E7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8EB-DA34-4A9A-AAE6-F0B8304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A8C3-9564-4774-8CAE-C19812A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781-F1A3-43B0-B608-59A35F9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14F-8B1D-42F2-ACDD-10C56D5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8058-B346-4D84-9645-833BA08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A068-EBC3-4B18-8CFC-1F1C47F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A93-289A-4849-823A-980A210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3D31-093D-4890-AE7C-F6620CB4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DA0C-64F6-46CA-9FE8-FF439434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7FB-880E-4789-A731-4BFB49F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12F-723C-45D1-A632-C3EA5A7B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AF2-E1E9-4C54-BF46-90985FFE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35C-7D4E-4A5C-8412-0D26C6AC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71D-338E-46AC-AEEC-16C76F7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5C-106E-4B08-A227-0395733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876-8AB8-4399-9ADB-6B64B49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7A2-D71C-48C1-8E3F-527157300BD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1F2-3EAC-4582-8429-40C50B573F5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21304"/>
                </a:solidFill>
                <a:latin typeface="Arial"/>
              </a:rPr>
              <a:t> Endocrine System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many bod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ts control by releasing special chemical substances into the blood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 other endocrine glands or bod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s its name from the fact that various glands release hormones directly into the blood, which in turn transports the hormones to target tissues via 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4572000"/>
            <a:ext cx="1912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thyroid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, pea-shaped glands, located in the neck near the 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4 - number can 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 the level of calcium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thyroid hormone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of calcium in 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alcemia can result if parathyroids are removed or destr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1379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ndocrine </a:t>
            </a: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ey gland located in the folds of the duod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oth endocrine and exocrin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several key digestive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lets of Langerh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tissues in which the endocrine functions of the pancrea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3 types of ce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t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cretes an important horm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1295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e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sential for controlling blood glucose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lood glucose levels fall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glucagon in the bloo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ge of glucagon stimulates the liver to release glucose stores (from glycogen and additional storag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glucagon stimulates the liver to manufacture gluco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ne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ndocrine Sys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a Cell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ul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tagonistic to glucagon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ate at which various body cells take up glucose.  Thus, insulin lowers the blood glucose leve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is rapidly broken down by the liver and must be secreted consta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Cells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odu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atostati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nhibits both glucagon and insul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mall glands that sit atop both kidney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as 2 divisions, each with different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Medul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retes the  catecholamine hormon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pinephr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losely related to the sympathetic component of the autonomic nervous syst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1941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Cortex secretes 3 classes of hormones, all steroid horm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ticocorticoids mineralocortic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ogenic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80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t a ti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uticocorticoi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for 95% of adrenal cortex hormon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of glucose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response to stress, injury, or serious infection - like the hormones from the adrenal medu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95480" y="4876920"/>
            <a:ext cx="14986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ocortico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to regulate the concentration of potassium and sodium in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adrenal cortex hormone resul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hing’s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s &amp; Symptoms of Cushing’s Dise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lood suga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ual body fa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mood sw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- if there is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mineralocorticoid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ous electolyte imbalance will occur due to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assium excretion by the kidney, which results in hypokal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can also be retained by the kidney, resulting in hyponatrem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srhythm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results from a tumor - TX?  Removal of tumo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nads and Ov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ocrine glands associated with huma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ovaries produce 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gonads produce sp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ve endocrin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 the abdominal cavity adjacent to the ute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e control of LH and FSH from the anterior pituitary they manuf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ester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several functions, including sexual development and preparation of the uterus for implantation of the eg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 the scro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sper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 testostero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es male growth and masculi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by anterior pituitary hormones FSH and L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crine glands - transport their hormones to target tissues via 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Emerg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omm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unus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352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Emerg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most common diseases in Nor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in secretion by the Bet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cells of the islets of Langerhans in the panc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cations of Diabe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s to heart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1897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physiology of Diabe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(dextrose) is a simple sugar required by the body to produc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s, or carbohydrates, are 1 of 3 major food sources used by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2 major food sourc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ugars in the human diet are complex and must be broken down into simple sugars:  glucose, galactose and fructose - before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down of sugars is carried out by enzymes in the gastro intestina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mple sugars, these are absorbed from the GE system into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95% enter the body as gluc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converted into energy, glucose must first be transmitted through the cell membrane.  BUT - the glucose molecule is large and doesn’t readily diffuse through the cell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 must pass into the cell by binding to a special carrier protein on the cell’s surfa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ated diffu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use energ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rier protein binds with the glucose and carries it into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e at which glucose can enter the cell is dependent upon insulin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in serves as the messenger - travels via blood to target t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s with specific insulin receptors on the surface of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several glands located in various parts of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uitary g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small gland located on a stalk hanging from the base of the brain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ster Gland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unction  is to control other g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many horm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ion is controlled by the hypothalamus in the base of the b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24080" y="3681360"/>
            <a:ext cx="2309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tuitary Gland is divided into 2 areas, which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ea has separate types of hormone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1447560"/>
            <a:ext cx="38098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segment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ior Pituit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oxytocin and antidiuretic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rior Pituit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thyroid-stimulating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enocorticotropi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icle-stimulating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ven mo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teinizing horm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o over these one at a tim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toc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natural form of pitoc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gravid ut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“let down” of milk from the br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sopressin) causes the kidney to reta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23623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810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regulates other end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a factor in endocrinological emer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the thyroid gland to release its hormones, thu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bolic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80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ituita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horm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of fats as an energy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the adrenal cortex to release its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SH &amp; 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maturation &amp; release of eggs from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flipH="1" rot="10800000">
            <a:off x="4572000" y="548604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in the anterior neck just below the laryny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obes, located on either side of the trachea, connected by a narrow band of tissu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thm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inside the gland co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8098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lloid are the thyroid horm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roxi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iodothyroni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imulated (by TSH or by cold), these are released into the circulatory system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etaboli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” cells within the thyroid produce the horm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n released, lowers the amount of calcium in the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levels of thyroid hormo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yroidism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xed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xedema symp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al bl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y skin and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X: replacement of thyroid horm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thyroid hormone release cau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erthyroidis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es’ dis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symp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omnia,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l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hyperthyroidis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opthal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ging of the eyeballs (picture Barbara Bu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evere cases - a medical emergency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rotoxic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81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18:58Z</dcterms:created>
  <dc:creator>Sandra D. Hartley</dc:creator>
  <dc:description/>
  <dc:language>en-US</dc:language>
  <cp:lastModifiedBy>Sandra D. Hartley</cp:lastModifiedBy>
  <dcterms:modified xsi:type="dcterms:W3CDTF">1999-10-11T16:39:40Z</dcterms:modified>
  <cp:revision>42</cp:revision>
  <dc:subject/>
  <dc:title>The Endocrine System</dc:title>
</cp:coreProperties>
</file>