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5A1-C01D-4434-9269-9AD66A6F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0EC-0CC7-48A4-93C6-DD149EA0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782-7908-4FE6-9580-89F259CF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BF5-FCE8-4B18-A540-B19127C9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CF6C-B03E-42AA-BA5A-A066A54C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DD0D-3696-4CD7-992A-C0D1F47D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2355-A202-4479-886D-BAFE3E18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A693-86BE-4539-9B3B-CEA153AF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125C-4C68-4EA8-806B-83A48D53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10F3-3CD1-4CB6-9E32-BC5ECEA2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1241-7985-459B-A435-54F924DD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105-8450-464C-B269-5E2F78F3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705C-FFF4-4E86-B69D-01D9380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DBE0-B61D-48F2-B447-E4268B47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852F-8FBF-43CB-AE40-C1EAA0F4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F20B-7449-4DC5-96CE-2503DB45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76A2-8B75-4560-BF00-A0D916FD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A5A-5F23-4E70-AF8A-9EB63CC1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E15-8B87-4735-90EA-32FD593D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BCE-0857-4004-A42D-6A643BB8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234-DF18-430B-89AD-9DE95B59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D0C-A50B-45A4-A090-C2A28381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3DE-6655-4770-93C7-6B20F7FC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409-7D19-4FA8-982D-4C295E4D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F9A7-9592-4889-85A4-CAC22AD7427D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EE32-12A8-43ED-9A6C-A76F20200D89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221304"/>
                </a:solidFill>
                <a:latin typeface="Arial"/>
              </a:rPr>
              <a:t> Endocrine System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many body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ts control by releasing special chemical substances into the blood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 other endocrine glands or bod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s its name from the fact that various glands release hormones directly into the blood, which in turn transports the hormones to target tissues via 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91120" y="4572000"/>
            <a:ext cx="1912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thyroid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, pea-shaped glands, located in the neck near the thy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4 - number can v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e the level of calcium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thyroid hormone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vel of calcium in bl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calcemia can result if parathyroids are removed or destro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1379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Endocrine </a:t>
            </a: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ey gland located in the folds of the duode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both endocrine and exocrin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es several key digestive enz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lets of Langerh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tissues in which the endocrine functions of the pancreas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3 types of cel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pha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ta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ta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cretes an important horm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1295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pha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ce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e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ssential for controlling blood glucose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blood glucose levels fall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mount of glucagon in the bloo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ge of glucagon stimulates the liver to release glucose stores (from glycogen and additional storage si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glucagon stimulates the liver to manufacture glucos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neogen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Endocrine Syst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a Cell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ul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tagonistic to glucagon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li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ate at which various body cells take up glucose.  Thus, insulin lowers the blood glucose leve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lin is rapidly broken down by the liver and must be secreted consta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Cells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rodu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atostatin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nhibits both glucagon and insul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renal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mall glands that sit atop both kidney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as 2 divisions, each with different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renal Medul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retes the  catecholamine hormon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repinephr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pinephr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losely related to the sympathetic component of the autonomic nervous syst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19414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renal Cortex secretes 3 classes of hormones, all steroid horm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ticocorticoids mineralocortic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ogenic h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809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at a ti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uticocorticoi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s for 95% of adrenal cortex hormon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vel of glucose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response to stress, injury, or serious infection - like the hormones from the adrenal medu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95480" y="4876920"/>
            <a:ext cx="14986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ocortico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to regulate the concentration of potassium and sodium in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adrenal cortex hormone resul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hing’s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s &amp; Symptoms of Cushing’s Dise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lood suga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ual body fat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mood sw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- if there is 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mineralocorticoids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ous electolyte imbalance will occur due to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assium excretion by the kidney, which results in hypokal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dium can also be retained by the kidney, resulting in hyponatrem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srhythm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results from a tumor - TX?  Removal of tumo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114800" y="5105520"/>
            <a:ext cx="13716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nads and Ov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ocrine glands associated with human re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ovaries produce 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 gonads produce sp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ave endocrine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ar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 the abdominal cavity adjacent to the ute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the control of LH and FSH from the anterior pituitary they manufa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r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ste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ester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several functions, including sexual development and preparation of the uterus for implantation of the eg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 the scro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sper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e testosteron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otes male growth and masculi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by anterior pituitary hormones FSH and L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ocrine glands - transport their hormones to target tissues via 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crine Emergenc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omm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unus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yrotoxic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3352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crine Emergenc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most common diseases in North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ulin secretion by the Bet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cells of the islets of Langerhans in the panc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ications of Diabe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es to heart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i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10280" y="4419720"/>
            <a:ext cx="1897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physiology of Diabe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se 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(dextrose) is a simple sugar required by the body to produc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s, or carbohydrates, are 1 of 3 major food sources used by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her 2 major food sourc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ugars in the human diet are complex and must be broken down into simple sugars:  glucose, galactose and fructose - before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down of sugars is carried out by enzymes in the gastro intestina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mple sugars, these are absorbed from the GE system into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95% enter the body as gluc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converted into energy, glucose must first be transmitted through the cell membrane.  BUT - the glucose molecule is large and doesn’t readily diffuse through the cell membr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cose must pass into the cell by binding to a special carrier protein on the cell’s surfa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ilitated diffus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use energ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rrier protein binds with the glucose and carries it into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te at which glucose can enter the cell is dependent upon insulin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in serves as the messenger - travels via blood to target t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s with specific insulin receptors on the surface of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38102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several glands located in various parts of 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0516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uitary g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small gland located on a stalk hanging from the base of the brain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ster Gland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unction  is to control other g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many horm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ion is controlled by the hypothalamus in the base of the b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24080" y="3681360"/>
            <a:ext cx="23097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tuitary Gland is divided into 2 areas, which d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all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rea has separate types of hormone pro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28840" y="1447560"/>
            <a:ext cx="38098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wo segment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ior Pituita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oxytocin and antidiuretic hormon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rior Pituita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thyroid-stimulating hormon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hormon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enocorticotropin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icle-stimulating hormon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29000" y="502920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ven mo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teinizing hormo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a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go over these one at a tim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toc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natural form of pitoc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gravid ut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“let down” of milk from the bre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asopressin) causes the kidney to reta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236232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38102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regulates other endocrine g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a factor in endocrinological emer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ates the thyroid gland to release its hormones, thu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abolic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8840" y="1371240"/>
            <a:ext cx="380988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ituitar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hormo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of fats as an energy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ates the adrenal cortex to release its h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SH &amp; 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ates maturation &amp; release of eggs from o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flipH="1" rot="10800000">
            <a:off x="4572000" y="548604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102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yroid 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s in the anterior neck just below the laryny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obes, located on either side of the trachea, connected by a narrow band of tissue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thm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s inside the gland co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8840" y="1294920"/>
            <a:ext cx="38098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colloid are the thyroid horm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roxi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iodothyronin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timulated (by TSH or by cold), these are released into the circulatory system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etabolic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” cells within the thyroid produce the horm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lciton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129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to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n released, lowers the amount of calcium in the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levels of thyroid hormon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yroidism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xed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xedema symp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al blo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 in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y skin and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X: replacement of thyroid horm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0040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Arial"/>
              </a:rPr>
              <a:t>The Endocrine System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8102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thyroid hormone release caus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erthyroidism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es’ dis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sympto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omnia,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n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lo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hyperthyroidis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opthal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ging of the eyeballs (picture Barbara Bu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evere cases - a medical emergency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rotoxic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81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5:18:58Z</dcterms:created>
  <dc:creator>Sandra D. Hartley</dc:creator>
  <dc:description/>
  <dc:language>en-US</dc:language>
  <cp:lastModifiedBy>Sandra D. Hartley</cp:lastModifiedBy>
  <dcterms:modified xsi:type="dcterms:W3CDTF">1999-10-11T16:39:40Z</dcterms:modified>
  <cp:revision>42</cp:revision>
  <dc:subject/>
  <dc:title>The Endocrine System</dc:title>
</cp:coreProperties>
</file>