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935160" y="-360"/>
            <a:ext cx="3009960" cy="46044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68200" y="692280"/>
            <a:ext cx="460980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757720"/>
            <a:ext cx="3009960" cy="4604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935160" y="8757720"/>
            <a:ext cx="3009960" cy="4604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EC49754-9B9A-4255-B128-5ECCE25E4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8560" y="692280"/>
            <a:ext cx="4609800" cy="3457440"/>
          </a:xfrm>
          <a:prstGeom prst="rect">
            <a:avLst/>
          </a:prstGeom>
          <a:ln w="0">
            <a:noFill/>
          </a:ln>
        </p:spPr>
      </p:sp>
      <p:sp>
        <p:nvSpPr>
          <p:cNvPr id="184"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oassay involves use of a biological organism to test for chemical toxicity. Perhaps the oldest and most commonly known example is the canary in the coal mine. Canaries are more sensitive than humans to methane gas so they were used to provide an advanced warning of when methane was building up to dangerous levels in the mines.  Another sort of bioassay is used to test the effects of compounds being considered for use in drugs or skin care products. Before a chemical compound receives FDA approval as an ingredient in products for human use, it must be thoroughly tested on laboratory animals.  For environmental testing, bioassays provide an integrated picture of overall toxicity of an effluent or a sample of water, sediment, or soil from a contaminated site. Fathead minnows, various aquatic invertebrates, earthworms, protozoans, and seeds all are used for bioassays of aquatic samples (see Keddy et al., 1995, for an extensive review). The idea behind these bioassays is that the test organism will react in a predictable way to various types of environmental contaminants. Several studies have compared the sensitivies of various types of seeds to common pollutants (for example, Wang and Williams, 1988; Wang, 1987; Wang, 1986).</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68560" y="692280"/>
            <a:ext cx="4609800" cy="3457440"/>
          </a:xfrm>
          <a:prstGeom prst="rect">
            <a:avLst/>
          </a:prstGeom>
          <a:ln w="0">
            <a:noFill/>
          </a:ln>
        </p:spPr>
      </p:sp>
      <p:sp>
        <p:nvSpPr>
          <p:cNvPr id="186"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were the various chemicals that were found to be in the streams but as of yet I don’t believe they’ve actually made conclusions as to the true impacts to humans and wild lif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68560" y="692280"/>
            <a:ext cx="4609800" cy="3457440"/>
          </a:xfrm>
          <a:prstGeom prst="rect">
            <a:avLst/>
          </a:prstGeom>
          <a:ln w="0">
            <a:noFill/>
          </a:ln>
        </p:spPr>
      </p:sp>
      <p:sp>
        <p:nvSpPr>
          <p:cNvPr id="188"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impact from exposure to high doses of chemicals over an extended period of time.  The tadpole on the right was exposed to the well known drug prozac.  The next slide is one of the most horrible examples of extreme abnormalities I think you’ll ever se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8560" y="692280"/>
            <a:ext cx="4609800" cy="3457440"/>
          </a:xfrm>
          <a:prstGeom prst="rect">
            <a:avLst/>
          </a:prstGeom>
          <a:ln w="0">
            <a:noFill/>
          </a:ln>
        </p:spPr>
      </p:sp>
      <p:sp>
        <p:nvSpPr>
          <p:cNvPr id="190"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ve been limited studies on the affects of endocrine disruptors and how they will impact WWTP.  This slide shows the types of treatment that appear to be effective for removing nonylphenol ethoxylates.  (refer to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68560" y="692280"/>
            <a:ext cx="4609800" cy="3457440"/>
          </a:xfrm>
          <a:prstGeom prst="rect">
            <a:avLst/>
          </a:prstGeom>
          <a:ln w="0">
            <a:noFill/>
          </a:ln>
        </p:spPr>
      </p:sp>
      <p:sp>
        <p:nvSpPr>
          <p:cNvPr id="192"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other study of WWTPs in Europe samples were taken from 6 separate treatment plants and analyzed for various forms of estrogen.  You can see the results he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68560" y="692280"/>
            <a:ext cx="4609800" cy="3457440"/>
          </a:xfrm>
          <a:prstGeom prst="rect">
            <a:avLst/>
          </a:prstGeom>
          <a:ln w="0">
            <a:noFill/>
          </a:ln>
        </p:spPr>
      </p:sp>
      <p:sp>
        <p:nvSpPr>
          <p:cNvPr id="194"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hird chart shows removal levels of antibiotic drugs from the Ohio River based the three types of filters, sand, sand and brewers yeast and sand and activated charcoal—I don’t think the results are surprising when the activated charcoal is added.  It would have the best resul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8560" y="692280"/>
            <a:ext cx="4609800" cy="3457440"/>
          </a:xfrm>
          <a:prstGeom prst="rect">
            <a:avLst/>
          </a:prstGeom>
          <a:ln w="0">
            <a:noFill/>
          </a:ln>
        </p:spPr>
      </p:sp>
      <p:sp>
        <p:nvSpPr>
          <p:cNvPr id="196"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 of the information that’s been collected so far for the best available treatments.  Activated carbon for the__________(read off the chemicals) and coagulation/sedimentation for Dioxin since the dioxin appears to cling to sediment pieces and falls to the bottom of rivers, lakes and stream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8560" y="692280"/>
            <a:ext cx="4609800" cy="3457440"/>
          </a:xfrm>
          <a:prstGeom prst="rect">
            <a:avLst/>
          </a:prstGeom>
          <a:ln w="0">
            <a:noFill/>
          </a:ln>
        </p:spPr>
      </p:sp>
      <p:sp>
        <p:nvSpPr>
          <p:cNvPr id="198"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we be looking for in the future as Pretreatment regulators and wastewater plant personnel?  Definitely EPA will be coming out with new regulations and guidance. Some of it may not impact us for the next 10 or 20 years but we need to plan for more, and extended wastewater treatment technologies.  It’s also possible that water treatment plants are going have to take part of the burden and add much more extensive treatmen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68560" y="692280"/>
            <a:ext cx="4609800" cy="3457440"/>
          </a:xfrm>
          <a:prstGeom prst="rect">
            <a:avLst/>
          </a:prstGeom>
          <a:ln w="0">
            <a:noFill/>
          </a:ln>
        </p:spPr>
      </p:sp>
      <p:sp>
        <p:nvSpPr>
          <p:cNvPr id="200"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we be doing right 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more BMPs at sites, analyzing for toxic pollutants at non-categorical facilities, working with our water treatment plants to engage them in conversations about source contro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8560" y="692280"/>
            <a:ext cx="4609800" cy="3457440"/>
          </a:xfrm>
          <a:prstGeom prst="rect">
            <a:avLst/>
          </a:prstGeom>
          <a:ln w="0">
            <a:noFill/>
          </a:ln>
        </p:spPr>
      </p:sp>
      <p:sp>
        <p:nvSpPr>
          <p:cNvPr id="172"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endocrine disruptors?  This includes normal human steroid hormones, synthetic mimics of hormones, pesticides, sufactants, plsticizers, veterinary drugs, disinfectants and fire retardants.  Today more than 61 million prescriptions for anti-depressants are being prescribed by U.S. doctors.  Because anti-depressants are for chronic conditions patients are taking them for months and years at a time making them more likely to build-up in WWTPs.  Researchers are working on several fronts to determine how big this problem might be and on the short and long term what ecological effects there are on wild lif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8560" y="692280"/>
            <a:ext cx="4609800" cy="3457440"/>
          </a:xfrm>
          <a:prstGeom prst="rect">
            <a:avLst/>
          </a:prstGeom>
          <a:ln w="0">
            <a:noFill/>
          </a:ln>
        </p:spPr>
      </p:sp>
      <p:sp>
        <p:nvSpPr>
          <p:cNvPr id="202"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t forget what the role of the Pretreatment staff is—We will have to start looking at the various chemicals to determine how to best protect our own systems.  If we start now we can get a jump on some of the problems we’re going to be faced with in the future.  I believe it’s going to take a lot of working with a large group of stake holders to achieve the basic requirements of Industrial Pretreatment.  (Read the four bullets and close)  The e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68560" y="692280"/>
            <a:ext cx="4609800" cy="3457440"/>
          </a:xfrm>
          <a:prstGeom prst="rect">
            <a:avLst/>
          </a:prstGeom>
          <a:ln w="0">
            <a:noFill/>
          </a:ln>
        </p:spPr>
      </p:sp>
      <p:sp>
        <p:nvSpPr>
          <p:cNvPr id="174"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 has been tasked with addressing the emerging pollutant issue and of special concern is the hormone disrupting chemicals.  Private companies, special work groups and agencies have come together to discuss the current studies and to determine what more needs to be done.  EPA has sponsored some of these work shops and laboratory tests.  One thing that has been confirmed is that certain chemicals are definitely causing problems in humans and wildlife.  To what degree we do not yet know…….which is why we need more definitive infor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68560" y="692280"/>
            <a:ext cx="4609800" cy="3457440"/>
          </a:xfrm>
          <a:prstGeom prst="rect">
            <a:avLst/>
          </a:prstGeom>
          <a:ln w="0">
            <a:noFill/>
          </a:ln>
        </p:spPr>
      </p:sp>
      <p:sp>
        <p:nvSpPr>
          <p:cNvPr id="176"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hort list of chemicals that we know have some affect on the hormonal system.  For these particular chemicals there are some tests developed which indicate they will cause endocrine disruption—at this point only in wildlif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8560" y="692280"/>
            <a:ext cx="4609800" cy="3457440"/>
          </a:xfrm>
          <a:prstGeom prst="rect">
            <a:avLst/>
          </a:prstGeom>
          <a:ln w="0">
            <a:noFill/>
          </a:ln>
        </p:spPr>
      </p:sp>
      <p:sp>
        <p:nvSpPr>
          <p:cNvPr id="178"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an NRDC law suit EPA is under the gun to develop plans for identifying chemicals of concern, test methods which will indicate risk impacts.  They are hopefully releasing their initial plan by June of this ye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68560" y="692280"/>
            <a:ext cx="4609800" cy="3457440"/>
          </a:xfrm>
          <a:prstGeom prst="rect">
            <a:avLst/>
          </a:prstGeom>
          <a:ln w="0">
            <a:noFill/>
          </a:ln>
        </p:spPr>
      </p:sp>
      <p:sp>
        <p:nvSpPr>
          <p:cNvPr id="180"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document released in August 2001 they show some research done on chemicals that are endocrine disrupting.  The research is based on low-dose reproductive inhibition and dose-response rel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68560" y="692280"/>
            <a:ext cx="4609800" cy="3457440"/>
          </a:xfrm>
          <a:prstGeom prst="rect">
            <a:avLst/>
          </a:prstGeom>
          <a:ln w="0">
            <a:noFill/>
          </a:ln>
        </p:spPr>
      </p:sp>
      <p:sp>
        <p:nvSpPr>
          <p:cNvPr id="182"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key things EPA must do is develop laboratory methods for determining risk assessment for these chemicals.  In Pretreatment we are used to applying a limit to a business usually based on water quality, biosolids, or BAT.  With endocrine disruptors the research is focusing on developing limitations based on biomarkers for individual chemicals.  In other words exposure to the chemicals in varying doses until there is a change in the development of the target animal. Some examples include for instance in fish, a decrease or cessation of egg production, imposex (hermaphrodites), egg yoke protein which should be only produced by female fish will be produced by male fish after exposure to estrogen.  Biomarkers research includes dose levels, time exposure, etc.  It is not believed that all of the identified chemicals will cause a problem simply because an animal or human is exposed to it.  We are trying to learn more of the “degree” of exposure before impact occu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2DA99-12B6-44D9-8779-A6F1A7634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7BB30-4B6E-4A2A-9ED2-EDD771068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601B7-00C0-416B-AD60-C7F9FF5E4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20FA7-19FC-4034-B7B8-3F5D67AC5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4BEEE8B-1DA2-4A9C-BF31-95D159CCC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91687AC-FD15-48CE-8D06-29130A741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2C00EF1-D770-4F22-8F55-93FF4406A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1726FD5-7018-4017-AB87-9FD8BB3BA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F4DF28-621C-4A76-87FD-9AB4C8904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A87AB63-8102-4064-A2D2-AB7BAF383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FCB56D-982E-42B4-9EE4-8A1100DD5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CDCA2-84FA-4813-B302-D84C471FF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ECFC60-B9BB-4BBA-9DAB-D11A04B62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409D47-9589-4D8B-8887-EE046DEA4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1A75B9F-3E77-4B8F-9421-3F7B84C70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6808F66-2CC2-48D6-818E-C27C8A20F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6A29E25-22CF-46E9-A218-3517F5B4C0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A94AC-7201-4F08-B8A8-64DA111F1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A4EBA-6508-4D24-A2DA-452720402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B5C52-96D0-4271-9690-1100E9506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36B72-EC8B-4D74-B42E-32A131A03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6C3AC-924E-494C-A683-A84A070D2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A6A72-BF8D-4710-A3C1-39A5503DA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FFB9C-FB30-411D-A712-0A5085FB1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3566-55FC-4FBD-8FF5-D13672485C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21B3-9C54-4943-983E-9647D27498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hyperlink" Target="http://users.rcn.com/jkimball.ma.ultranet/BiologyPages/E/Endocrines.gif" TargetMode="External"/><Relationship Id="rId2" Type="http://schemas.openxmlformats.org/officeDocument/2006/relationships/hyperlink" Target="http://users.rcn.com/jkimball.ma.ultranet/BiologyPages/P/Pituitary.html#TSH" TargetMode="External"/><Relationship Id="rId3" Type="http://schemas.openxmlformats.org/officeDocument/2006/relationships/hyperlink" Target="http://users.rcn.com/jkimball.ma.ultranet/BiologyPages/P/Pituitary.html#FSH" TargetMode="External"/><Relationship Id="rId4" Type="http://schemas.openxmlformats.org/officeDocument/2006/relationships/hyperlink" Target="http://users.rcn.com/jkimball.ma.ultranet/BiologyPages/P/Pituitary.html#LH" TargetMode="External"/><Relationship Id="rId5" Type="http://schemas.openxmlformats.org/officeDocument/2006/relationships/hyperlink" Target="http://users.rcn.com/jkimball.ma.ultranet/BiologyPages/P/Pituitary.html#LH" TargetMode="External"/><Relationship Id="rId6" Type="http://schemas.openxmlformats.org/officeDocument/2006/relationships/hyperlink" Target="http://users.rcn.com/jkimball.ma.ultranet/BiologyPages/P/Pituitary.html#PRL" TargetMode="External"/><Relationship Id="rId7" Type="http://schemas.openxmlformats.org/officeDocument/2006/relationships/hyperlink" Target="http://users.rcn.com/jkimball.ma.ultranet/BiologyPages/P/Pituitary.html#GH" TargetMode="External"/><Relationship Id="rId8" Type="http://schemas.openxmlformats.org/officeDocument/2006/relationships/hyperlink" Target="http://users.rcn.com/jkimball.ma.ultranet/BiologyPages/P/Pituitary.html#acth" TargetMode="External"/><Relationship Id="rId9" Type="http://schemas.openxmlformats.org/officeDocument/2006/relationships/hyperlink" Target="http://users.rcn.com/jkimball.ma.ultranet/BiologyPages/P/Pituitary.html#acth" TargetMode="External"/><Relationship Id="rId10" Type="http://schemas.openxmlformats.org/officeDocument/2006/relationships/hyperlink" Target="http://users.rcn.com/jkimball.ma.ultranet/BiologyPages/P/Pituitary.html#ADH" TargetMode="External"/><Relationship Id="rId11" Type="http://schemas.openxmlformats.org/officeDocument/2006/relationships/hyperlink" Target="http://users.rcn.com/jkimball.ma.ultranet/BiologyPages/P/Pituitary.html#ADH" TargetMode="External"/><Relationship Id="rId12" Type="http://schemas.openxmlformats.org/officeDocument/2006/relationships/hyperlink" Target="http://users.rcn.com/jkimball.ma.ultranet/BiologyPages/P/Pituitary.html#oxytocin" TargetMode="External"/><Relationship Id="rId13" Type="http://schemas.openxmlformats.org/officeDocument/2006/relationships/hyperlink" Target="http://users.rcn.com/jkimball.ma.ultranet/BiologyPages/H/Hypothalamus.html#trh" TargetMode="External"/><Relationship Id="rId14" Type="http://schemas.openxmlformats.org/officeDocument/2006/relationships/hyperlink" Target="http://users.rcn.com/jkimball.ma.ultranet/BiologyPages/H/Hypothalamus.html#trh" TargetMode="External"/><Relationship Id="rId15" Type="http://schemas.openxmlformats.org/officeDocument/2006/relationships/hyperlink" Target="http://users.rcn.com/jkimball.ma.ultranet/BiologyPages/H/Hypothalamus.html#GnRH" TargetMode="External"/><Relationship Id="rId16" Type="http://schemas.openxmlformats.org/officeDocument/2006/relationships/hyperlink" Target="http://users.rcn.com/jkimball.ma.ultranet/BiologyPages/H/Hypothalamus.html#GnRH" TargetMode="External"/><Relationship Id="rId17" Type="http://schemas.openxmlformats.org/officeDocument/2006/relationships/hyperlink" Target="http://users.rcn.com/jkimball.ma.ultranet/BiologyPages/H/Hypothalamus.html#GHRH" TargetMode="External"/><Relationship Id="rId18" Type="http://schemas.openxmlformats.org/officeDocument/2006/relationships/hyperlink" Target="http://users.rcn.com/jkimball.ma.ultranet/BiologyPages/H/Hypothalamus.html#CRH" TargetMode="External"/><Relationship Id="rId19" Type="http://schemas.openxmlformats.org/officeDocument/2006/relationships/hyperlink" Target="http://users.rcn.com/jkimball.ma.ultranet/BiologyPages/H/Hypothalamus.html#CRH" TargetMode="External"/><Relationship Id="rId20" Type="http://schemas.openxmlformats.org/officeDocument/2006/relationships/hyperlink" Target="http://users.rcn.com/jkimball.ma.ultranet/BiologyPages/H/Hypothalamus.html#somatostatin" TargetMode="External"/><Relationship Id="rId21" Type="http://schemas.openxmlformats.org/officeDocument/2006/relationships/hyperlink" Target="http://users.rcn.com/jkimball.ma.ultranet/BiologyPages/H/Hypothalamus.html#dopamine" TargetMode="External"/><Relationship Id="rId22" Type="http://schemas.openxmlformats.org/officeDocument/2006/relationships/hyperlink" Target="http://users.rcn.com/jkimball.ma.ultranet/BiologyPages/P/Pineal.html" TargetMode="External"/><Relationship Id="rId23" Type="http://schemas.openxmlformats.org/officeDocument/2006/relationships/hyperlink" Target="http://users.rcn.com/jkimball.ma.ultranet/BiologyPages/T/Thyroid.html#thyroid" TargetMode="External"/><Relationship Id="rId24" Type="http://schemas.openxmlformats.org/officeDocument/2006/relationships/hyperlink" Target="http://users.rcn.com/jkimball.ma.ultranet/BiologyPages/T/Thyroid.html#calcitonin" TargetMode="External"/><Relationship Id="rId25" Type="http://schemas.openxmlformats.org/officeDocument/2006/relationships/hyperlink" Target="http://users.rcn.com/jkimball.ma.ultranet/BiologyPages/T/Thyroid.html#parathyroid" TargetMode="External"/><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Bell MT"/>
              </a:rPr>
              <a:t>Endocrine Disruptors in Wastewater</a:t>
            </a:r>
            <a:endParaRPr b="0" lang="en-US" sz="54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Bell MT"/>
              </a:rPr>
              <a:t>Can They Hurt Our POTWs?</a:t>
            </a:r>
            <a:endParaRPr b="0" lang="en-US" sz="32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By Mary E. Gardn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Laboratory Analyses</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assay-screening will help the wastewater industry determine the endocrine-disrupting potency of effluents. It will assess the cumulative effects of these compounds without having to quantify unknown chemicals individual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course these tests methods are still to be develop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Stream Contamination</a:t>
            </a:r>
            <a:r>
              <a:rPr b="0" lang="en-US" sz="4400" spc="-1" strike="noStrike">
                <a:solidFill>
                  <a:srgbClr val="ffff66"/>
                </a:solidFill>
                <a:latin typeface="Bell MT"/>
              </a:rPr>
              <a:t>	</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99 and 2000 USGS collected and analyzed samples from 139 streams in 30 states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developed analytical protocols and sample collection methods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analyzed for 95 different toxic chemicals</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ying to determine the extent of toxic chemicals that are in the environment and then to determine the impact to humans and wild life</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ir results showed: 1 or more chemicals in 80% of the streams, more than 2 in 75%, 50% had 7 or more and 34% had 10 or more usually in very low concentrations (&lt;1ppb)</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Stream Contamination</a:t>
            </a:r>
            <a:r>
              <a:rPr b="0" lang="en-US" sz="4400" spc="-1" strike="noStrike">
                <a:solidFill>
                  <a:srgbClr val="e3e3ff"/>
                </a:solidFill>
                <a:latin typeface="Arial"/>
              </a:rPr>
              <a:t> </a:t>
            </a:r>
            <a:r>
              <a:rPr b="0" lang="en-US" sz="2400" spc="-1" strike="noStrike">
                <a:solidFill>
                  <a:srgbClr val="ffff66"/>
                </a:solidFill>
                <a:latin typeface="Arial"/>
              </a:rPr>
              <a:t>con’t.</a:t>
            </a:r>
            <a:endParaRPr b="0" lang="en-US" sz="2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ly detected “chemical groups”-</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teroids, nonprescription drugs, inspect repellent</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Arial"/>
              </a:rPr>
              <a:t>within these groups detergents, steroids a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lasticizers had the highest concentration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ost frequently detected chemicals wer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oprostanol (fecal steroid); cholesterol (pla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nd animal steroi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N-diethyltoluamide (insect repell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affeine (stimulant), triclosan (antimicrobia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tardant); 4-nonylphenol (nonionic deterg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taboli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Tadpole Development</a:t>
            </a: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tadpoles after 57 days of development in the lab. The one on the right, which has yet to sprout limbs, was exposed to (at unknown levels) fluoxetine, also known as Prozac. </a:t>
            </a:r>
            <a:endParaRPr b="0" lang="en-US" sz="3200" spc="-1" strike="noStrike">
              <a:solidFill>
                <a:srgbClr val="ffffff"/>
              </a:solidFill>
              <a:latin typeface="Arial"/>
            </a:endParaRPr>
          </a:p>
        </p:txBody>
      </p:sp>
      <p:pic>
        <p:nvPicPr>
          <p:cNvPr id="156" name="" descr="Two tapdpoles after 57 days of development in the lab. The one on the right, which has yet to sprout limbs, was exposed to fluoxetine, also known as Prozac."/>
          <p:cNvPicPr/>
          <p:nvPr/>
        </p:nvPicPr>
        <p:blipFill>
          <a:blip r:embed="rId1"/>
          <a:stretch/>
        </p:blipFill>
        <p:spPr>
          <a:xfrm>
            <a:off x="2590920" y="3809880"/>
            <a:ext cx="3581280" cy="221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Treatability Study</a:t>
            </a:r>
            <a:endParaRPr b="0" lang="en-US" sz="4400" spc="-1" strike="noStrike">
              <a:solidFill>
                <a:srgbClr val="e3e3ff"/>
              </a:solidFill>
              <a:latin typeface="Arial"/>
            </a:endParaRPr>
          </a:p>
        </p:txBody>
      </p:sp>
      <p:sp>
        <p:nvSpPr>
          <p:cNvPr id="158" name="PlaceHolder 2"/>
          <p:cNvSpPr>
            <a:spLocks noGrp="1"/>
          </p:cNvSpPr>
          <p:nvPr>
            <p:ph/>
          </p:nvPr>
        </p:nvSpPr>
        <p:spPr>
          <a:xfrm>
            <a:off x="457200" y="990360"/>
            <a:ext cx="8229600" cy="5105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Nonylphenol ethoxylate surfactant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Widely used in variety of way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End up in WWTP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luent from two Canadian WWTP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t A has activated sludge, nitification, tertiary treatment and UV disinfectan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t B has non-nitrifying activated sludge and chlorine disinfectio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t A removed 97% Plant B removed 8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Potential Effects on  WWTPs</a:t>
            </a:r>
            <a:br>
              <a:rPr sz="4400"/>
            </a:br>
            <a:r>
              <a:rPr b="0" lang="en-US" sz="2400" spc="-1" strike="noStrike">
                <a:solidFill>
                  <a:srgbClr val="e3e3ff"/>
                </a:solidFill>
                <a:latin typeface="Arial"/>
              </a:rPr>
              <a:t>Removals of Estrogens in Treatment Plans</a:t>
            </a:r>
            <a:endParaRPr b="0" lang="en-US" sz="2400" spc="-1" strike="noStrike">
              <a:solidFill>
                <a:srgbClr val="e3e3ff"/>
              </a:solidFill>
              <a:latin typeface="Arial"/>
            </a:endParaRPr>
          </a:p>
        </p:txBody>
      </p:sp>
      <p:graphicFrame>
        <p:nvGraphicFramePr>
          <p:cNvPr id="160" name=""/>
          <p:cNvGraphicFramePr/>
          <p:nvPr/>
        </p:nvGraphicFramePr>
        <p:xfrm>
          <a:off x="457200" y="1600200"/>
          <a:ext cx="8229600" cy="4495680"/>
        </p:xfrm>
        <a:graphic>
          <a:graphicData uri="http://schemas.openxmlformats.org/drawingml/2006/table">
            <a:tbl>
              <a:tblPr/>
              <a:tblGrid>
                <a:gridCol w="2057400"/>
                <a:gridCol w="2057400"/>
                <a:gridCol w="2057400"/>
                <a:gridCol w="2057400"/>
              </a:tblGrid>
              <a:tr h="642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ry, Proces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Beta Estradio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thinylestradio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zil, trickling filt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zil, Activated Slud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9.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rmany, Activated Slud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aly, Activated Slud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aly and Denmark, activated sludg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dat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Removals of Antibiotic Drugs in the Ohio River</a:t>
            </a:r>
            <a:endParaRPr b="0" lang="en-US" sz="4400" spc="-1" strike="noStrike">
              <a:solidFill>
                <a:srgbClr val="e3e3ff"/>
              </a:solidFill>
              <a:latin typeface="Arial"/>
            </a:endParaRPr>
          </a:p>
        </p:txBody>
      </p:sp>
      <p:graphicFrame>
        <p:nvGraphicFramePr>
          <p:cNvPr id="162" name=""/>
          <p:cNvGraphicFramePr/>
          <p:nvPr/>
        </p:nvGraphicFramePr>
        <p:xfrm>
          <a:off x="457200" y="1600200"/>
          <a:ext cx="8229600" cy="4743360"/>
        </p:xfrm>
        <a:graphic>
          <a:graphicData uri="http://schemas.openxmlformats.org/drawingml/2006/table">
            <a:tbl>
              <a:tblPr/>
              <a:tblGrid>
                <a:gridCol w="2743200"/>
                <a:gridCol w="2743200"/>
                <a:gridCol w="2743200"/>
              </a:tblGrid>
              <a:tr h="112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 Medi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Reductio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d</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mova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d and Brewer’s Yeas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 20%, 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d and Activated Charcoal</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7%, 96%, 9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Treatment of Choice</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ated carbon—methoxychlor, endosulfan, DDT, Diethyl Phthalate, Di-(2ethylhexyl) Phthalate, PCBs, Alkylphenols and Alkylphenol Ethoxyla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agulation/sedimentation—Dioxi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What’s on the Horizon?</a:t>
            </a:r>
            <a:r>
              <a:rPr b="0" lang="en-US" sz="4400" spc="-1" strike="noStrike">
                <a:solidFill>
                  <a:srgbClr val="ffff66"/>
                </a:solidFill>
                <a:latin typeface="Bell MT"/>
              </a:rPr>
              <a:t>	</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ility of new regs to control the discharge of endocrine disrupto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ility of regulations for water treatment pla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20 year planning for new WWTP</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of the possible compounds are already listed on the EPAs National Toxic Ru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Planning for the Future</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emphasis on source control which will fall on Pretreatment’s should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ser look at TTO list; incorporating into permits for non-categorical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a holistic approach should we be working with drinking water pla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etically water treatment plants are sources of proble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What are Endocrine Disruptors?</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icals or natural by-products in the environment that mimic hormones in the body and can have potential impact on wildlife and hum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Industrial Pretreatment Purpose</a:t>
            </a: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 Pass Through (water quality and  Biosoli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 Worker Health and Safety (collection systems and POT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 Plant Operatio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sure NPDES Compli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33" name=""/>
          <p:cNvGraphicFramePr/>
          <p:nvPr/>
        </p:nvGraphicFramePr>
        <p:xfrm>
          <a:off x="1676520" y="228600"/>
          <a:ext cx="6933960" cy="7556400"/>
        </p:xfrm>
        <a:graphic>
          <a:graphicData uri="http://schemas.openxmlformats.org/drawingml/2006/table">
            <a:tbl>
              <a:tblPr/>
              <a:tblGrid>
                <a:gridCol w="3024000"/>
                <a:gridCol w="1568520"/>
                <a:gridCol w="2341440"/>
              </a:tblGrid>
              <a:tr h="36828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Hormon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tructure </a:t>
                      </a:r>
                      <a:r>
                        <a:rPr b="1" lang="en-US" sz="1200" spc="-1" strike="noStrike" baseline="30000">
                          <a:solidFill>
                            <a:srgbClr val="ffffff"/>
                          </a:solidFill>
                          <a:latin typeface="Times New Roman"/>
                          <a:ea typeface="Times New Roman"/>
                        </a:rPr>
                        <a:t>(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Principal Source</a:t>
                      </a:r>
                      <a:br>
                        <a:rPr sz="1200"/>
                      </a:br>
                      <a:r>
                        <a:rPr b="0" lang="en-US" sz="1200" spc="-1" strike="noStrike" u="sng">
                          <a:solidFill>
                            <a:srgbClr val="00ffcc"/>
                          </a:solidFill>
                          <a:uFillTx/>
                          <a:latin typeface="Times New Roman"/>
                          <a:ea typeface="Times New Roman"/>
                          <a:hlinkClick r:id="rId1"/>
                        </a:rPr>
                        <a:t>Link to diagram showing_x000b_locations of the endocrine glands</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2"/>
                        </a:rPr>
                        <a:t>Thyroid-stimulating hormone</a:t>
                      </a:r>
                      <a:r>
                        <a:rPr b="0" lang="en-US" sz="1200" spc="-1" strike="noStrike" u="sng">
                          <a:solidFill>
                            <a:srgbClr val="ffffff"/>
                          </a:solidFill>
                          <a:uFillTx/>
                          <a:latin typeface="Times New Roman"/>
                          <a:ea typeface="Times New Roman"/>
                        </a:rPr>
                        <a:t> (TS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rotein (2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row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nterior lobe of pituitary</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3"/>
                        </a:rPr>
                        <a:t>Follicle-stimulating hormone</a:t>
                      </a:r>
                      <a:r>
                        <a:rPr b="0" lang="en-US" sz="1200" spc="-1" strike="noStrike" u="sng">
                          <a:solidFill>
                            <a:srgbClr val="ffffff"/>
                          </a:solidFill>
                          <a:uFillTx/>
                          <a:latin typeface="Times New Roman"/>
                          <a:ea typeface="Times New Roman"/>
                        </a:rPr>
                        <a:t> (FS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rotein (2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4"/>
                        </a:rPr>
                        <a:t>Luteinizing</a:t>
                      </a:r>
                      <a:r>
                        <a:rPr b="0" lang="en-US" sz="1200" spc="-1" strike="noStrike" u="sng">
                          <a:solidFill>
                            <a:srgbClr val="00ffcc"/>
                          </a:solidFill>
                          <a:uFillTx/>
                          <a:latin typeface="Times New Roman"/>
                          <a:ea typeface="Times New Roman"/>
                          <a:hlinkClick r:id="rId5"/>
                        </a:rPr>
                        <a:t> hormone</a:t>
                      </a:r>
                      <a:r>
                        <a:rPr b="0" lang="en-US" sz="1200" spc="-1" strike="noStrike">
                          <a:solidFill>
                            <a:srgbClr val="ffffff"/>
                          </a:solidFill>
                          <a:latin typeface="Times New Roman"/>
                          <a:ea typeface="Times New Roman"/>
                        </a:rPr>
                        <a:t> (L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rotein (2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6"/>
                        </a:rPr>
                        <a:t>Prolactin</a:t>
                      </a:r>
                      <a:r>
                        <a:rPr b="0" lang="en-US" sz="1200" spc="-1" strike="noStrike">
                          <a:solidFill>
                            <a:srgbClr val="ffffff"/>
                          </a:solidFill>
                          <a:latin typeface="Times New Roman"/>
                          <a:ea typeface="Times New Roman"/>
                        </a:rPr>
                        <a:t> (PR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rotein (19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7"/>
                        </a:rPr>
                        <a:t>Growth hormone</a:t>
                      </a:r>
                      <a:r>
                        <a:rPr b="0" lang="en-US" sz="1200" spc="-1" strike="noStrike" u="sng">
                          <a:solidFill>
                            <a:srgbClr val="ffffff"/>
                          </a:solidFill>
                          <a:uFillTx/>
                          <a:latin typeface="Times New Roman"/>
                          <a:ea typeface="Times New Roman"/>
                        </a:rPr>
                        <a:t> (G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rotein (19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8"/>
                        </a:rPr>
                        <a:t>Adrenocorticotropic</a:t>
                      </a:r>
                      <a:r>
                        <a:rPr b="0" lang="en-US" sz="1200" spc="-1" strike="noStrike" u="sng">
                          <a:solidFill>
                            <a:srgbClr val="00ffcc"/>
                          </a:solidFill>
                          <a:uFillTx/>
                          <a:latin typeface="Times New Roman"/>
                          <a:ea typeface="Times New Roman"/>
                          <a:hlinkClick r:id="rId9"/>
                        </a:rPr>
                        <a:t> hormone</a:t>
                      </a:r>
                      <a:r>
                        <a:rPr b="0" lang="en-US" sz="1200" spc="-1" strike="noStrike">
                          <a:solidFill>
                            <a:srgbClr val="ffffff"/>
                          </a:solidFill>
                          <a:latin typeface="Times New Roman"/>
                          <a:ea typeface="Times New Roman"/>
                        </a:rPr>
                        <a:t> (ACT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 (3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10"/>
                        </a:rPr>
                        <a:t>Antidiuretic</a:t>
                      </a:r>
                      <a:r>
                        <a:rPr b="0" lang="en-US" sz="1200" spc="-1" strike="noStrike" u="sng">
                          <a:solidFill>
                            <a:srgbClr val="00ffcc"/>
                          </a:solidFill>
                          <a:uFillTx/>
                          <a:latin typeface="Times New Roman"/>
                          <a:ea typeface="Times New Roman"/>
                          <a:hlinkClick r:id="rId11"/>
                        </a:rPr>
                        <a:t> hormone</a:t>
                      </a:r>
                      <a:r>
                        <a:rPr b="0" lang="en-US" sz="1200" spc="-1" strike="noStrike">
                          <a:solidFill>
                            <a:srgbClr val="ffffff"/>
                          </a:solidFill>
                          <a:latin typeface="Times New Roman"/>
                          <a:ea typeface="Times New Roman"/>
                        </a:rPr>
                        <a:t> (ADH)(vasopressin)</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 (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osterior lobe of pituitary</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12"/>
                        </a:rPr>
                        <a:t>Oxytocin</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 (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13"/>
                        </a:rPr>
                        <a:t>Thyrotropin</a:t>
                      </a:r>
                      <a:r>
                        <a:rPr b="0" lang="en-US" sz="1200" spc="-1" strike="noStrike" u="sng">
                          <a:solidFill>
                            <a:srgbClr val="00ffcc"/>
                          </a:solidFill>
                          <a:uFillTx/>
                          <a:latin typeface="Times New Roman"/>
                          <a:ea typeface="Times New Roman"/>
                          <a:hlinkClick r:id="rId14"/>
                        </a:rPr>
                        <a:t>-releasing hormone</a:t>
                      </a:r>
                      <a:r>
                        <a:rPr b="0" lang="en-US" sz="1200" spc="-1" strike="noStrike">
                          <a:solidFill>
                            <a:srgbClr val="ffffff"/>
                          </a:solidFill>
                          <a:latin typeface="Times New Roman"/>
                          <a:ea typeface="Times New Roman"/>
                        </a:rPr>
                        <a:t> (TR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 (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row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Hypothalamus</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15"/>
                        </a:rPr>
                        <a:t>Gonadotropin</a:t>
                      </a:r>
                      <a:r>
                        <a:rPr b="0" lang="en-US" sz="1200" spc="-1" strike="noStrike" u="sng">
                          <a:solidFill>
                            <a:srgbClr val="00ffcc"/>
                          </a:solidFill>
                          <a:uFillTx/>
                          <a:latin typeface="Times New Roman"/>
                          <a:ea typeface="Times New Roman"/>
                          <a:hlinkClick r:id="rId16"/>
                        </a:rPr>
                        <a:t>-releasing hormone</a:t>
                      </a:r>
                      <a:r>
                        <a:rPr b="0" lang="en-US" sz="1200" spc="-1" strike="noStrike">
                          <a:solidFill>
                            <a:srgbClr val="ffffff"/>
                          </a:solidFill>
                          <a:latin typeface="Times New Roman"/>
                          <a:ea typeface="Times New Roman"/>
                        </a:rPr>
                        <a:t> (GnR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 (1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17"/>
                        </a:rPr>
                        <a:t>Growth hormone-releasing hormone</a:t>
                      </a:r>
                      <a:r>
                        <a:rPr b="0" lang="en-US" sz="1200" spc="-1" strike="noStrike" u="sng">
                          <a:solidFill>
                            <a:srgbClr val="ffffff"/>
                          </a:solidFill>
                          <a:uFillTx/>
                          <a:latin typeface="Times New Roman"/>
                          <a:ea typeface="Times New Roman"/>
                        </a:rPr>
                        <a:t> (GHR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s (4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18"/>
                        </a:rPr>
                        <a:t>Corticotropin</a:t>
                      </a:r>
                      <a:r>
                        <a:rPr b="0" lang="en-US" sz="1200" spc="-1" strike="noStrike" u="sng">
                          <a:solidFill>
                            <a:srgbClr val="00ffcc"/>
                          </a:solidFill>
                          <a:uFillTx/>
                          <a:latin typeface="Times New Roman"/>
                          <a:ea typeface="Times New Roman"/>
                          <a:hlinkClick r:id="rId19"/>
                        </a:rPr>
                        <a:t>-releasing hormone</a:t>
                      </a:r>
                      <a:r>
                        <a:rPr b="0" lang="en-US" sz="1200" spc="-1" strike="noStrike">
                          <a:solidFill>
                            <a:srgbClr val="ffffff"/>
                          </a:solidFill>
                          <a:latin typeface="Times New Roman"/>
                          <a:ea typeface="Times New Roman"/>
                        </a:rPr>
                        <a:t> (CR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 (4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20"/>
                        </a:rPr>
                        <a:t>Somatostatin</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s (14, 2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21"/>
                        </a:rPr>
                        <a:t>Dopamin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yrosine derivativ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22"/>
                        </a:rPr>
                        <a:t>Melatonin</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ryptophan derivativ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ineal glan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30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23"/>
                        </a:rPr>
                        <a:t>Thyroxine</a:t>
                      </a:r>
                      <a:r>
                        <a:rPr b="0" lang="en-US" sz="1200" spc="-1" strike="noStrike">
                          <a:solidFill>
                            <a:srgbClr val="ffffff"/>
                          </a:solidFill>
                          <a:latin typeface="Times New Roman"/>
                          <a:ea typeface="Times New Roman"/>
                        </a:rPr>
                        <a:t> (T</a:t>
                      </a:r>
                      <a:r>
                        <a:rPr b="0" lang="en-US" sz="1200" spc="-1" strike="noStrike" baseline="-30000">
                          <a:solidFill>
                            <a:srgbClr val="ffffff"/>
                          </a:solidFill>
                          <a:latin typeface="Times New Roman"/>
                          <a:ea typeface="Times New Roman"/>
                        </a:rPr>
                        <a:t>4</a:t>
                      </a:r>
                      <a:r>
                        <a:rPr b="0" lang="en-US" sz="1200" spc="-1" strike="noStrike">
                          <a:solidFill>
                            <a:srgbClr val="ffffff"/>
                          </a:solidFill>
                          <a:latin typeface="Times New Roman"/>
                          <a:ea typeface="Times New Roman"/>
                        </a:rPr>
                        <a:t>)</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yrosine derivativ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hyroid Glan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24"/>
                        </a:rPr>
                        <a:t>Calcitonin</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eptide (3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Times New Roman"/>
                          <a:ea typeface="Times New Roman"/>
                          <a:hlinkClick r:id="rId25"/>
                        </a:rPr>
                        <a:t>Parathyroid hormone</a:t>
                      </a:r>
                      <a:r>
                        <a:rPr b="0" lang="en-US" sz="1200" spc="-1" strike="noStrike" u="sng">
                          <a:solidFill>
                            <a:srgbClr val="ffffff"/>
                          </a:solidFill>
                          <a:uFillTx/>
                          <a:latin typeface="Times New Roman"/>
                          <a:ea typeface="Times New Roman"/>
                        </a:rPr>
                        <a:t> (PTH)</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rotein (84)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arathyroid glands</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Glucocorticoids (e.g., cortiso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teroids</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drenal cortex</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Mineralocorticoids (e.g., aldosteron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teroids</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ndrogens (e.g., testosteron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teroids</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drenaline (epinephrin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yrosine derivativ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drenal medulla</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Noradrenaline (norepinephrin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yrosine derivativ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Estrogens (e.g., estradio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teroi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Ovarian follicle</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558800" y="380880"/>
            <a:ext cx="6213600" cy="548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Studies, Roundtables and Discussions</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 has sponsored and funded various studies and workshops to address the toxics and endocrine disruptor issues.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verified that certain chemicals will cause endocrine disruption problem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Current List of Identified Endocrine Disrupting Chemicals</a:t>
            </a:r>
            <a:endParaRPr b="0" lang="en-US" sz="4400" spc="-1" strike="noStrike">
              <a:solidFill>
                <a:srgbClr val="e3e3ff"/>
              </a:solidFill>
              <a:latin typeface="Arial"/>
            </a:endParaRPr>
          </a:p>
        </p:txBody>
      </p:sp>
      <p:sp>
        <p:nvSpPr>
          <p:cNvPr id="138"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 B-estradio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2 (normal female hormon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hynylestradiol (birth control pill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tants such as pnonylphenol and nonylphenol ethoxyl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EPA Milestone Plan</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 under NRDC law suit so they are  crunched to do the following:</a:t>
            </a:r>
            <a:endParaRPr b="0" lang="en-US" sz="32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ease of list of research priority chemical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test method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 regulations and guidelin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al their approach to establishing the “hit” list—time lines, etc.  (planned for June 2004)</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ffff66"/>
                </a:solidFill>
                <a:latin typeface="Bell MT"/>
              </a:rPr>
              <a:t>EPA Final Report Peer Review</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
          <p:cNvSpPr/>
          <p:nvPr/>
        </p:nvSpPr>
        <p:spPr>
          <a:xfrm>
            <a:off x="1295280" y="1752480"/>
            <a:ext cx="6477120" cy="3933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 sponsored the National Toxicology Program and the National Institute of Environmental Health Sciences to peer review reported low-dose reproductive and developmental effects and dose-response relations for endocrine disrupting chemicals report.  The final report was released on August 20, 2001.  </a:t>
            </a:r>
            <a:r>
              <a:rPr b="0" lang="en-US" sz="1800" spc="-1" strike="noStrike">
                <a:solidFill>
                  <a:srgbClr val="ffffff"/>
                </a:solidFill>
                <a:latin typeface="Arial"/>
              </a:rPr>
              <a:t>(EPA document 625R00015)</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46" name=""/>
          <p:cNvSpPr/>
          <p:nvPr/>
        </p:nvSpPr>
        <p:spPr>
          <a:xfrm>
            <a:off x="304920" y="338040"/>
            <a:ext cx="883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Bell MT"/>
              </a:rPr>
              <a:t>EPA Must Develop Laboratory Analytical Methods</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47" name=""/>
          <p:cNvSpPr/>
          <p:nvPr/>
        </p:nvSpPr>
        <p:spPr>
          <a:xfrm>
            <a:off x="1143000" y="2209680"/>
            <a:ext cx="77724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Testing—levels of a specific compoun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markers—molecules, biochemical pathways or cellular processes in experimental animals that change in response to contaminated habitats and are indicative of the expos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4T17:03:17Z</dcterms:created>
  <dc:creator>NoName</dc:creator>
  <dc:description/>
  <dc:language>en-US</dc:language>
  <cp:lastModifiedBy>NoName</cp:lastModifiedBy>
  <dcterms:modified xsi:type="dcterms:W3CDTF">2004-05-06T19:40:33Z</dcterms:modified>
  <cp:revision>25</cp:revision>
  <dc:subject/>
  <dc:title>Endocrin Disruptors in Wastewat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