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cashreg.wav" ContentType="audio/x-wav"/>
  <Override PartName="/ppt/media/image13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5.png" ContentType="image/png"/>
  <Override PartName="/ppt/media/glass.wav" ContentType="audio/x-wav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9922-431E-46A7-8545-DB5DD3DCF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DFC2-F98F-4828-A6EA-4E25DBD4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988A-3759-4102-B1F1-0EAFB2957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8FB3-28B7-4F25-BA94-EE3EF9A33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82B2-773E-4AF8-91C6-3DB1EE20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EC9F-3199-4345-B4FE-15546D22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F41B-4D6B-463F-83EA-EC71897F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35F8-0F33-4147-9AAA-3974E914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30EC-328A-4EEB-B3DF-3D212EC3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EAD6-5F10-42CF-8E21-07E33B1C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10A4-6664-4928-8156-48A93431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D1BE-70E7-4C9B-B0BF-E4E2BAE9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EC88-56BE-404F-92EF-06A08DE96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Endocrine Physiology</a:t>
            </a:r>
            <a:br>
              <a:rPr sz="5400"/>
            </a:b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lecture 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27432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le Buchanan Hales, Ph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artment of Physiology &amp; Biophy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_h2" descr=""/>
          <p:cNvPicPr/>
          <p:nvPr/>
        </p:nvPicPr>
        <p:blipFill>
          <a:blip r:embed="rId1"/>
          <a:stretch/>
        </p:blipFill>
        <p:spPr>
          <a:xfrm>
            <a:off x="3200400" y="4191120"/>
            <a:ext cx="312120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37160" cy="65530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81480" y="609480"/>
            <a:ext cx="327672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eedback control of growth hormon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gulation of Growth Hormone Secre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H secretion controlled primarily by hypothalamic GHRH stimulation and somatostatin inhibi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transmitters involved in control of GH secretion– via regulation of GHRH and somatosta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transmitter systems that stimulate GHRH and/or inhibit somatosta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cholamines acting vi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adrenergic recep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pamine acting via D1 or D2 recep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itatory amino acids acting via both NMDA and non-NMDA recep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gulation of Growth Hormone Secre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drenergic receptors stimulate somatostatin release and inhibit G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drenergic receptors inhibit hypothalamic release of GHRH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gulation of Growth Hormone Secre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central mechanisms that control GH secretion include an ultra-short feedback loop exerted by both somatostatin and GHRH on their own secre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gulation of Growth Hormone Secre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rowth hormone vs.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etabolic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protein and energy intake are adequate, it is appropriate to convert amino acids to protein and stimulate growth. hence GH and insulin promote anabolic reactions during protein intak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carbohydrate intake, GH antagonizes insulin effects-- blocks glucose uptake to preven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ypoglycem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if there is too much insulin, all the glucose would be taken up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re is adequate glucose as during absorptive phase, and glucose uptake is required, then GH secretion is inhibited so it won't counter act insulin a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fasting, GH antagonizes insulin action and helps mediate glucose sparing, ie stimulates gluconeogene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general, during anabolic or absorptive phase, GH facilitates insulin action,  to promote growt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fasting or post-absorptive phase, GH opposes insulin action, to promote catabolism or glucose spa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rowth hormone vs.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etabolic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48160" y="609480"/>
            <a:ext cx="2895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rowth hormone and metabolic st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61516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nical assessment of G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erum samples not useful due to pulsatile pattern of rel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ocative tests necess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H measurement after 90 min exerc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H measurement immediately after onset of sl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ve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H measurement after insulin-induced hypoglyc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ucose suppresses GH levels 30-90 min after administration– patients with GH excess do not supp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ment of IGF-1 to assess GH ex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romegaly and Gigant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ed by eosinophilic adenomas of somatotro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ss GH leads to development of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igant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hypersecretion is present during early life– a rare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metrical enlargement of body resulting in true giant with overgrowth of long bones, connective tissue and visceral org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ss GH leads to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cromega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hypersecretion occurs after body growth has stopp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ongation of long bones not possible so there is over growth of cancellous bones– protruding jaw, thickening of phalanges, and over growth of visceral or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Anterior pituit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rior pituit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nected to the hypothalamus by hypothalmoanterior pituitary portal vessel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nterior pituitary produces six peptide hormon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lactin, growth hormone (GH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yroid stimulating hormone (TSH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nocorticotropic hormone (ACTH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icle-stimulating hormone (FSH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teinizing hormone (LH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11949" t="8437" r="10929" b="7206"/>
          <a:stretch/>
        </p:blipFill>
        <p:spPr>
          <a:xfrm>
            <a:off x="3124080" y="1981080"/>
            <a:ext cx="5410440" cy="4572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80880" y="2133720"/>
            <a:ext cx="25909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cromega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before presentation;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at ad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vey Cushing’s first reported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romeg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igant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11197" t="14523" r="0" b="35010"/>
          <a:stretch/>
        </p:blipFill>
        <p:spPr>
          <a:xfrm>
            <a:off x="1371600" y="914400"/>
            <a:ext cx="7086600" cy="5213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295280" y="60958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cal twins, 22 years old, excess GH secr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ACTH: adrenocorticotropic hormone: synthesis and regulation of secre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d in corticotro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H is produced in the anterior pituitary by proteolytic processing of Prepro-opiomelanocortin (POMC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neuropeptide products includ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otropin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endorphin,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elanocyte-stimulating hormon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SH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H is a key regulator of the stress respon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H 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1960" t="24493" r="2021" b="22247"/>
          <a:stretch/>
        </p:blipFill>
        <p:spPr>
          <a:xfrm>
            <a:off x="228600" y="1447920"/>
            <a:ext cx="8534520" cy="3657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9880" y="3048120"/>
            <a:ext cx="1371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49640" y="5222880"/>
            <a:ext cx="737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ing and cleavage of pro-opiomelanocortin (POM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9920" y="29718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H is made up of 39 amino ac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es adrenal cortex and synthesis of adrenocorticoster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SH resides in first 13 AA of AC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SH stimulates melanocytes and can darken sk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production of ACTH may accompany increased pigmentation due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ddison’s Dise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ease in which patients lack cortisol from zona fasiculata, and thus lacks negative feedback that suppresses ACTH 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overproduction of AC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in color will dar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FK had Addison’s disease and was treated with cortisol in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ndorph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ed as a result of ACTH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ds to opiate recep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 in “runner’s high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le in anterior pituitary not completely underst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many endogenous opioids such as enkephal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elanocyte-stimulating hormone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(MSH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H peptides derived by proteolytic cleavage of POM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SH has antipyretic and anti-inflammatory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inhibits CRH and LHRH secr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MSH receptors ident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inhibit feeding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H has MSH-like activ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– MSH has NO ACTH like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6726" r="0" b="0"/>
          <a:stretch/>
        </p:blipFill>
        <p:spPr>
          <a:xfrm>
            <a:off x="228600" y="0"/>
            <a:ext cx="62388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00800" y="289512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egulation of ACTH secre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gulation of ACTH secre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mulation of rel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H and A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oglyc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H and ADH both synthesized in hypothalam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H (a.k.a. vasopressin) is released by posterior pituitary and reaches anterior pituitary via inferior hypophyseal arte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nterior pituitary cells and horm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2280" y="1295280"/>
          <a:ext cx="8839440" cy="5110200"/>
        </p:xfrm>
        <a:graphic>
          <a:graphicData uri="http://schemas.openxmlformats.org/drawingml/2006/table">
            <a:tbl>
              <a:tblPr/>
              <a:tblGrid>
                <a:gridCol w="2605320"/>
                <a:gridCol w="1814400"/>
                <a:gridCol w="1905120"/>
                <a:gridCol w="2514600"/>
              </a:tblGrid>
              <a:tr h="98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ll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tuitary popu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u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rg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ticotrop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-2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H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lipotrop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renal gl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ipocy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anocy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yrotrop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yroid gl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nadotrop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1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H, F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na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matotrop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-5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 tissues, li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ctotrop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1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a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nads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ciency of vasopressin (ADH) in hereditar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abetes insipid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ccompanied by decreased ACTH re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sopressin potentiates CRH at both hypothalamic and pituitary lev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vasopressinergic neurons also contain CRH resulting in co-release of two peptides into portal bl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gulation of ACTH secre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C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cadian pattern of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st levels of cortisol are in early AM following ACTH rel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s on sleep-wake cycle, jet-lag can result in alteration of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ses the circadian pattern of growth hormone secre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5520" y="609480"/>
            <a:ext cx="266724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gulation of AC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1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C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s on adrenal cort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mulates growth of cortex (trophic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mulates steroid hormone 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ck of negative feedback from cortisol results in aberrantly high ACTH, elevated levels of other adrenal corticosteroids– adrenal andr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renogenital syndrome: masculization of female fe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lycoprotein hormones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H, FSH, TSH and hC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b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ubunit encoded by different g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unit is identical for all horm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unit are unique and provide biological specif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lycoprotein hormon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8610480" cy="2681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143000" y="220968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ycoprotein hormones contain two subunits, a comm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unit and a distinc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bunit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H, LH, FSH and hC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onadotrophs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s in anterior pituitary that produce LH and F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hesis and secretion stimulated by GnRH– major effect on L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SH secretion controlled by inhib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lsitile secretion of GnRH and inhibin cause distinct patterns of LH and FSH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H/F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lsatile pattern of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H pulses are biphasic (every 1 minute, then large pulse at 1 hou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SH pulses are unipha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urnal– LH/FSH more pronounced during pub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yclic in females– ovarian cycle with LH surge at time of ov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les are not cyclic, but constant pulses of LH cause pulses of testosterone to be produ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ulsitile secretion of GnRH and L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38080" y="1155600"/>
            <a:ext cx="780120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gulation of LH/F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ative feed-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ibin produced by testes and ovaries Decreases FS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ubunit expre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osterone from Leydig cells– synthesis stimulated by LH, feedsback to inhibit GnRH production from hypothalamus and down-regulates GnRH recep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esterone– suppresses ovulation, basis for oral contraceptives.  Works at both the level of pituitary and hypothalam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nterior pituitary horm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1554120"/>
            <a:ext cx="914400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pamine, endorphin, and prolactin inhibit GnRH releas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actin inhibition affords post-partum contraceptive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production of prolactin via pituitary tumor can cause amenorrhea– shuts off Gn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ed with bromocryptine (dopamine agon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gical removal of pituitary tum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gulation of LH/F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 feed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radiol at high plasma concentrations in late follicular phase of ovarian cycle stimulates GnRH and LH surge– triggers ov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gulation of LH/F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590724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638680" y="609480"/>
            <a:ext cx="327672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gulation of gonadotropin secre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yrotrophs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e of TSH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tern of secretion is relatively stea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H secretion stimulated by TR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back control by T3 (thyroid horm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81120" y="320004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Feedback control of thyroid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4518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Grave’s dise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hyroidism caused by circulating antibodies to the TSH receptor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d with diffuse goit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antibodies bind to TSH receptor and mimic the action of TSH itself leads to persistent stimulation of thyroid and elevated levels of thyroid hormon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acotrop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e of production of prolac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ctogenesis (milk synthesis) requires prolac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nically inhib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anterior pituitary hormones, the onl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factoral control, balance favors inhib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pamine inhibits prolac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lactin releasing hormone is T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ytocin also stimulates prolactin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radiol enhances prolactin 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rolact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mulates breast development and lactogen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involved in development of Leydig cells in pre-pubertal m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munomodulatory effects– stimulates T cell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lactin receptors in thym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linical assessment of PR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 basal serum PRL measurement sufficient to determine ex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L deficiency not a usual clinical conc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L is only anterior pituitary with predominant negative control by hypothalamus– often elevated by lesions that interfere with portal blood f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vated by primary PRL adenomas of pituit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osterior pituitary hormones: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DH (AVP) and Oxytocin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hypothalamic hormon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are synthesized in the cell bodies of hypothalamic neu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H: supraoptic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xytocin: paraventricular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are synthesized as preprohormones and processed into nonapeptides (nine amino acid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released from the termini in response to an action potential which travels from the axon body in the hypothalam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Feedback regulation of hypothalmus/pituit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ominent feature of each of the hormonal sequences initiated by the hypothalamic releasing hormones i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egative feedba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erted upon the hypothalamic-pituitary system by the hormones whose production are stimulated in the sequen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ypothalamus and posterior pituita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0309"/>
          <a:stretch/>
        </p:blipFill>
        <p:spPr>
          <a:xfrm>
            <a:off x="2441520" y="1371600"/>
            <a:ext cx="5100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tructures of ADH and oxytoc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520560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In uterus during partur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In mammary gland during lac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xytocin: stimulates myoepithelial contra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xytocin: milk ejection from lactating mammary gl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ckling is major stimulus for releas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receptors in nipple connect with nerve fibers to the spine, then impulses are relayed through brain to PVN where cholinergic synapses fire on oxytocin neurons and stimulate release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xytocin: uterine contra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lexes originating in the cervical, vaginal and uterus stimulate oxytocin synthesis and release via neural input to hypothala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s in plasma at time of ovulation, parturition, and coi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rogen increases synthesis and lowers threshold for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19320" y="1414440"/>
            <a:ext cx="7010280" cy="54435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xytocin secretion is stimulated  by nur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ypothalamus-pituitary ax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0" r="43502" b="17679"/>
          <a:stretch/>
        </p:blipFill>
        <p:spPr>
          <a:xfrm>
            <a:off x="3048120" y="1219320"/>
            <a:ext cx="34192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eedback contro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822960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81120" y="320004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eedback control of thyroid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5180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4120" y="297144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eedback leads to  restoration of homeost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7768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23:16:47Z</dcterms:created>
  <dc:creator>Dale Buchanan Hales, PhD</dc:creator>
  <dc:description/>
  <dc:language>en-US</dc:language>
  <cp:lastModifiedBy>Dale Buchanan Hales, PhD</cp:lastModifiedBy>
  <dcterms:modified xsi:type="dcterms:W3CDTF">2003-04-13T23:16:54Z</dcterms:modified>
  <cp:revision>1</cp:revision>
  <dc:subject/>
  <dc:title>Endocrine Physiology lecture 3</dc:title>
</cp:coreProperties>
</file>