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ashreg.wav" ContentType="audio/x-wav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BBB-607B-4D4B-B21A-ECBB875F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F06-7BE4-46E2-8EBB-96A378AA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201-66A4-4C72-963B-483AC68E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655-1B4C-4B25-B798-01A43EFB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20D-6103-495B-8A9A-D190A58B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653-F3A0-4EB9-9242-B42C12AF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2DE-31BF-488B-A572-CA154262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D2D-DAC3-4429-A6B3-DBBEB029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683-C9D7-4827-9D03-B27B5DF5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F32-0674-469B-A7CF-AC9534E4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2F8-03E3-4E7A-BE75-C378912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DC7-84F7-425E-8823-6F926973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582-8EE1-4524-BFE6-5B2BD36FE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ndocrine Physiology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lecture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743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e Buchanan Hales, P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Physiology &amp; Bio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_h2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121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3716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edback control of growth hormo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tion of Growth Hormone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H secretion controlled primarily by hypothalamic GHRH stimulation and somatostatin inhib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s involved in control of GH secretion– via regulation of GHRH and somatost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systems that stimulate GHRH and/or inhibit somatost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cholamines acting v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adrenergic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amine acting via D1 or D2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atory amino acids acting via both NMDA and non-NMDA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tion of Growth Hormone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drenergic receptors stimulate somatostatin release and inhibit G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drenergic receptors inhibit hypothalamic release of GHR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tion of Growth Hormone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central mechanisms that control GH secretion include an ultra-short feedback loop exerted by both somatostatin and GHRH on their own se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tion of Growth Hormone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owth hormone vs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abolic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rotein and energy intake are adequate, it is appropriate to convert amino acids to protein and stimulate growth. hence GH and insulin promote anabolic reactions during protein in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carbohydrate intake, GH antagonizes insulin effects-- blocks glucose uptake to prev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ypoglycem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if there is too much insulin, all the glucose would be taken u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dequate glucose as during absorptive phase, and glucose uptake is required, then GH secretion is inhibited so it won't counter act insulin a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fasting, GH antagonizes insulin action and helps mediate glucose sparing, ie stimulates gluconeogen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during anabolic or absorptive phase, GH facilitates insulin action,  to promote grow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fasting or post-absorptive phase, GH opposes insulin action, to promote catabolism or glucose spa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owth hormone vs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abolic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48160" y="609480"/>
            <a:ext cx="2895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owth hormone and metabolic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61516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nical assessment of 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erum samples not useful due to pulsatile pattern of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ocative tests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H measurement after 90 min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H measurement immediately after onset of 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H measurement after insulin-induced hypogly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suppresses GH levels 30-90 min after administration– patients with GH excess do not sup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IGF-1 to assess GH ex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romegaly and Gigan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by eosinophilic adenomas of somatotro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 GH leads to development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igant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hypersecretion is present during early life– a rar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al enlargement of body resulting in true giant with overgrowth of long bones, connective tissue and visceral org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 GH leads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cromega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hypersecretion occurs after body growth has stop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ongation of long bones not possible so there is over growth of cancellous bones– protruding jaw, thickening of phalanges, and over growth of visceral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pituit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nected to the hypothalamus by hypothalmoanterior pituitary portal vesse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terior pituitary produces six peptide horm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actin, growth hormone (G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yroid stimulating hormone (TS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ocorticotropic hormone (ACT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icle-stimulating hormone (FS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teinizing hormone (LH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1949" t="8437" r="10929" b="7206"/>
          <a:stretch/>
        </p:blipFill>
        <p:spPr>
          <a:xfrm>
            <a:off x="3124080" y="1981080"/>
            <a:ext cx="541044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2133720"/>
            <a:ext cx="2590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romega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before presentation;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at 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vey Cushing’s first reported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romeg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igan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1197" t="14523" r="0" b="35010"/>
          <a:stretch/>
        </p:blipFill>
        <p:spPr>
          <a:xfrm>
            <a:off x="1371600" y="914400"/>
            <a:ext cx="7086600" cy="5213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60958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cal twins, 22 years old, excess GH se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ACTH: adrenocorticotropic hormone: synthesis and regulation of secre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in corticotro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H is produced in the anterior pituitary by proteolytic processing of Prepro-opiomelanocortin (POMC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neuropeptide products incl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otropi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ndorphin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elanocyte-stimulating hormon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SH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H is a key regulator of the stress respon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H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960" t="24493" r="2021" b="22247"/>
          <a:stretch/>
        </p:blipFill>
        <p:spPr>
          <a:xfrm>
            <a:off x="228600" y="1447920"/>
            <a:ext cx="8534520" cy="3657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9880" y="3048120"/>
            <a:ext cx="1371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49640" y="522288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and cleavage of pro-opiomelanocortin (POM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920" y="29718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H is made up of 39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adrenal cortex and synthesis of adrenocortico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H resides in first 13 AA of AC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H stimulates melanocytes and can darken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production of ACTH may accompany increased pigmentation du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ison’s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 in which patients lack cortisol from zona fasiculata, and thus lacks negative feedback that suppresses ACTH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overproduction of AC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 color will dar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FK had Addison’s disease and was treated with cortisol in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dorph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d as a result of ACTH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to opiate re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“runner’s high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 in anterior pituitary not completely 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many endogenous opioids such as enkephal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elanocyte-stimulating hormo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MS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H peptides derived by proteolytic cleavage of POM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H has antipyretic and anti-inflammato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inhibits CRH and LHRH se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MSH receptors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inhibit feeding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H has MSH-like ac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– MSH has NO ACTH lik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6726" r="0" b="0"/>
          <a:stretch/>
        </p:blipFill>
        <p:spPr>
          <a:xfrm>
            <a:off x="228600" y="0"/>
            <a:ext cx="6238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00800" y="2895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gulation of ACTH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ACTH secre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ion of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H and 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gly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H and ADH both synthesized in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 (a.k.a. vasopressin) is released by posterior pituitary and reaches anterior pituitary via inferior hypophyseal arte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nterior pituitary cells and horm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295280"/>
          <a:ext cx="8839440" cy="5110200"/>
        </p:xfrm>
        <a:graphic>
          <a:graphicData uri="http://schemas.openxmlformats.org/drawingml/2006/table">
            <a:tbl>
              <a:tblPr/>
              <a:tblGrid>
                <a:gridCol w="2605320"/>
                <a:gridCol w="1814400"/>
                <a:gridCol w="1905120"/>
                <a:gridCol w="251460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tuitary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H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lipotrop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renal 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ipocy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anocy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yr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yroid 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H, F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tissues, 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ct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s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ciency of vasopressin (ADH) in heredit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abetes insipid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ccompanied by decreased ACTH re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sopressin potentiates CRH at both hypothalamic and pituitary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asopressinergic neurons also contain CRH resulting in co-release of two peptides into portal bl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ACTH secre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adian pattern of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 levels of cortisol are in early AM following ACTH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on sleep-wake cycle, jet-lag can result in alteration of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ses the circadian pattern of growth hormone se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5520" y="60948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AC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1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s on adrenal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es growth of cortex (trophic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es steroid hormone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negative feedback from cortisol results in aberrantly high ACTH, elevated levels of other adrenal corticosteroids– adrenal andr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nogenital syndrome: masculization of female fe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lycoprotein hormon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, FSH, TSH and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unit encoded by different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unit is identical for all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unit are unique and provide biological specif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lycoprotein horm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8610480" cy="268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430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protein hormones contain two subunits, a comm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 and a distin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unit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H, LH, FSH and hC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onadotroph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in anterior pituitary that produce LH and F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and secretion stimulated by GnRH– major effect on L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H secretion controlled by inhib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itile secretion of GnRH and inhibin cause distinct patterns of LH and FSH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H/F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tile pattern of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 pulses are biphasic (every 1 minute, then large pulse at 1 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H pulses are uniph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urnal– LH/FSH more pronounced during pub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ic in females– ovarian cycle with LH surge at time of ov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s are not cyclic, but constant pulses of LH cause pulses of testosterone to be pro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lsitile secretion of GnRH and L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1155600"/>
            <a:ext cx="78012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LH/F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fee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n produced by testes and ovaries Decreases FS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ubunit exp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osterone from Leydig cells– synthesis stimulated by LH, feedsback to inhibit GnRH production from hypothalamus and down-regulates GnRH rece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esterone– suppresses ovulation, basis for oral contraceptives.  Works at both the level of pituitary and hypothalam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terior pituitary 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554120"/>
            <a:ext cx="91440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amine, endorphin, and prolactin inhibit GnRH relea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actin inhibition affords post-partum contraceptiv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production of prolactin via pituitary tumor can cause amenorrhea– shuts off G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ed with bromocryptine (dopamine ago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gical removal of pituitary tu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LH/F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adiol at high plasma concentrations in late follicular phase of ovarian cycle stimulates GnRH and LH surge– triggers ov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LH/F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59072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38680" y="609480"/>
            <a:ext cx="32767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gonadotropin secre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yrotroph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of TSH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 of secretion is relatively ste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H secretion stimulated by T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control by T3 (thyroid horm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1120" y="32000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eedback control of thyroid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518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Grave’s dis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hyroidism caused by circulating antibodies to the TSH recepto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diffuse goi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antibodies bind to TSH receptor and mimic the action of TSH itself leads to persistent stimulation of thyroid and elevated levels of thyroid horm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cotro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 of production of prolac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ogenesis (milk synthesis) requires prolac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ically in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anterior pituitary hormones, the onl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factoral control, balance favors inhib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amine inhibits prolac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actin releasing hormone is T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ytocin also stimulates prolactin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diol enhances prolact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lact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tes breast development and lact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involved in development of Leydig cells in pre-pubertal 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omodulatory effects– stimulates T cel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actin receptors in thy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nical assessment of PR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basal serum PRL measurement sufficient to determine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L deficiency not a usual clinical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L is only anterior pituitary with predominant negative control by hypothalamus– often elevated by lesions that interfere with portal blood f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by primary PRL adenomas of pitui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erior pituitary hormone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H (AVP) and Oxytocin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hypothalamic horm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re synthesized in the cell bodies of hypothalamic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H: supraoptic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tocin: paraventricular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are synthesized as preprohormones and processed into nonapeptides (nine amino aci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eleased from the termini in response to an action potential which travels from the axon body in the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Feedback regulation of hypothalmus/pitui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minent feature of each of the hormonal sequences initiated by the hypothalamic releasing hormones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gative feed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erted upon the hypothalamic-pituitary system by the hormones whose production are stimulated in the sequ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ypothalamus and posterior pitu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309"/>
          <a:stretch/>
        </p:blipFill>
        <p:spPr>
          <a:xfrm>
            <a:off x="2441520" y="1371600"/>
            <a:ext cx="510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uctures of ADH and oxytoc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056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In uterus during partu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In mammary gland during lac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ytocin: stimulates myoepithelial cont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ytocin: milk ejection from lactating mammary g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ckling is major stimulus for relea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receptors in nipple connect with nerve fibers to the spine, then impulses are relayed through brain to PVN where cholinergic synapses fire on oxytocin neurons and stimulate releas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ytocin: uterine cont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xes originating in the cervical, vaginal and uterus stimulate oxytocin synthesis and release via neural input to 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in plasma at time of ovulation, parturition, and coi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ogen increases synthesis and lowers threshold for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19320" y="1414440"/>
            <a:ext cx="7010280" cy="5443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ytocin secretion is stimulated  by nur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ypothalamus-pituitary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43502" b="17679"/>
          <a:stretch/>
        </p:blipFill>
        <p:spPr>
          <a:xfrm>
            <a:off x="3048120" y="1219320"/>
            <a:ext cx="341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edback contro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81120" y="32000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edback control of thyroid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18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4120" y="29714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edback leads to  restoration of homeost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776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23:16:47Z</dcterms:created>
  <dc:creator>Dale Buchanan Hales, PhD</dc:creator>
  <dc:description/>
  <dc:language>en-US</dc:language>
  <cp:lastModifiedBy>Dale Buchanan Hales, PhD</cp:lastModifiedBy>
  <dcterms:modified xsi:type="dcterms:W3CDTF">2003-04-13T23:16:54Z</dcterms:modified>
  <cp:revision>1</cp:revision>
  <dc:subject/>
  <dc:title>Endocrine Physiology lecture 3</dc:title>
</cp:coreProperties>
</file>