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55A-450B-49C0-9B97-8C9AA2B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F39-AAD8-4F75-AB27-1301120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A88-C77F-4431-9CF0-3BDB9240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BF9-3FC2-47F8-9814-B0CF562D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AD7-10FA-4DB9-BCBF-4BACC16D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A93-C308-4B62-9DDD-44C68862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DAB4-3F06-4ECE-9545-A6311C3E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8908-BCEB-49F4-9DF1-4B084648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8476-C9D5-448F-ACDB-DD551AF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917F-06DB-4D7F-9056-02C0468E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746C-E27D-446F-931E-71E5E6A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166-C31C-4732-B3A3-708473C9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3744-EC16-435E-8B7D-81A83F2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9A7-D7A8-46A6-8139-017ED5C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A80-A321-4AEA-958A-9CB5165E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E1E-9700-4D71-A325-682FEA12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28BC-E027-4A13-8375-C3B323E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1D8-A72A-4936-9739-1796D3C8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9EB-6171-41DC-AA3F-FCD8508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278-C6B0-4A37-A040-E09841A4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F1A-0AAC-46A5-987C-D4B23ED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2B0-D5CF-48DB-B0C3-BB2164A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872-CA53-4DE8-B74B-6769BE4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799-B2B3-4579-A933-B8AB141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8905-1DF9-436C-9B70-474F4EAA1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0CC-62C1-4E91-9BB0-6810EC37F8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Endocrinolog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L. Cowan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is B. Quinn, Jr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08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Endocrine organ in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d in production, storage, and release of thyroid horm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influenc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axis (TR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uitary function (T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rbid diseases (Cirrhosis, Grav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al factors (iodine inta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(cont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s basal metabolic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s cardiac contrac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the gain of catechol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bowel mo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s speed of muscle con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s cholesterol 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d for proper fetal neural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Physiolog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take of Iodine by thy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Iodine to Thyroglob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MIT / DIT in follicular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absorption of MIT / 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MIT / 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se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dow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release of Io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odine uptak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62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port protein controls serum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tiport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d by 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ibited by Perchl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38908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IT / DIT form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id Peroxidase (T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cal membran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zes Iodine organification to Tyrosine residues of Thyroglob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zed by methim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dine coupled to Thyroglobu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iodotyrosine (Tg + on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iodotyrosine (Tg + two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hormones secreted into follicula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retion of 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d by 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ytosis of colloid on apic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ing of MIT &amp; DIT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zed by T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+ DI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5200" indent="-40140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T + DIT 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lysis of Thyroglobu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inhibited by Lit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45820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of circulating hormone i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.5%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%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Hormone load is influenced by serum binding proteins (TBP, Albumin,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id Binding Globulin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in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thyretin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is based on the free component of thyroid 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mone Binding Factor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strogen states (pregnancy, OCP, HRT, Tamoxi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r disease (ea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T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rogens or anabolic ster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r disease (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Site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osemide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convulsants (Phenytoin, Carbamazep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Principles of Endocri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na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rmone Degred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1360" y="1828800"/>
            <a:ext cx="7699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verted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tive)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’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onverted to 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active)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nverted to 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active)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deiod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active but measured by serum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18148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Hormone Contro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7386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 by Hypothala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is pulsatile, circa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regulat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s through portal venous system to adenohypoph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es TSH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Adenohypophysis Thyrotro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egulated by T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regulate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s through portal venous system to cavernous sinus,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several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dine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end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thyroid g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SH Respon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Lab Evalu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globulin, Thyroglobulin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hlora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mulatio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AIU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ntillation counter measures radioactivity 6 &amp; 24 hours after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mini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ake varies greatly by iodin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genous diet (normal uptake 10% vs. 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iodarone, Contrast study, Topical beta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elevated RA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v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go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low RA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roiditis (Subacute, Active Hashimoto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mone ingestion (Thyrotoxicosis factitia, Hamburger Thyrotoxic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s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ake in Graves’ (Jod-Basedow ef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topic thyroid carcinoma (Struma ovar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odine sta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5232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e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active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514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olff-Chaikof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doses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rease hormone synthesis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oses cause cessation of hormone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ffect is countered by the Iodide leak from normal thyroid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autoimmune thyroiditis may fail to adapt and bec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27760" y="2481120"/>
            <a:ext cx="343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d-Based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tion of the Wolff-Chaikoff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iodine loads in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y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yroid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d in several diseas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ves’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nodular go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erchlora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4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on inhibits th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port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individuals show no leak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organification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IT / 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organification defects show loss of RA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diagnosis of Pendred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06960" y="2114640"/>
            <a:ext cx="340380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mptoms – fatigability, coldness, weight gain, constipation, low vo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gns – Cool skin, dry skin, swelling of face/hands/legs, slow reflexes, myxede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ewborn – Retardation, short stature, swelling of face/hands, possible deafn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Hypothyroidis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mary – Thyroid gland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– Pituitary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tiary – Hypothalamic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ipheral re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733920" cy="3463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006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 is determined by 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igh TSH (Primary, check for antibo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TSH (Secondary or Tertiary, TRH stimulation test, M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8769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othyroxine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ue to longer hal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560" indent="-42300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prevents bone loss, cardiomyopathy, myx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ashimoto’s</a:t>
            </a:r>
            <a:br>
              <a:rPr sz="44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(Chronic, Lymphocytic)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of 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antibodies to TPO, T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presents in females 30-50 y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tender and asympto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T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TPO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-TBG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with Levothyrox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965" t="4617" r="9691" b="28618"/>
          <a:stretch/>
        </p:blipFill>
        <p:spPr>
          <a:xfrm>
            <a:off x="4952880" y="3781440"/>
            <a:ext cx="371808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oi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emic go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dietary deficiency of Io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SH stimulates gland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results in cret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iter in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imoto’s thry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acute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Iodide (Amiodarone, Kelp, Lith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ma, Mali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/ Familial hormone synthesis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s – Palpitations, nervousness, fatigue, diarrhea, sweating, heat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s – Thyroid enlargement (?), tre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wo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-TSH-R Ab, Anti-TPO Ab, Anti-TBG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I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thyroi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6946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Gr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odular Go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ubacute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Hashimoto’s Thyroid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rotoxicosis factitia, struma ovarii, thyroid metastasis, TSH-secreting tumor, ham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v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cause of hyperthyroid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anti-TSH receptor anti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ptoms of hyperthyroi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exopthalmos and go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SH, normal/high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ti-TSH Ab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clinical finding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demonstrate increased 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– Propothyouracil, Methimazole, Propranol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– Subtotal Thyroidect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– RAI ablation [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/g) x weight / %RAIU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physeal-Pituitary Ax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of Neural – Hormon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emporal release of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for stress reaction of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279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3416400"/>
            <a:ext cx="66294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8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acute Thyroiditis</a:t>
            </a:r>
            <a:br>
              <a:rPr sz="4400"/>
            </a:b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(DeQuervain’s, Granulomatou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te viral infection of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with viral prodrome, thyroid tenderness, and hyperthyroid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SH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E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nti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P, N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nison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othyroxin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429" t="5134" r="3200" b="26375"/>
          <a:stretch/>
        </p:blipFill>
        <p:spPr>
          <a:xfrm>
            <a:off x="4648320" y="3809880"/>
            <a:ext cx="4038480" cy="26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acute Thyroiditis</a:t>
            </a:r>
            <a:br>
              <a:rPr sz="44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(DeQuervain’s, Granulomatou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56272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uthyroid Sic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from inactivation of 5’-Deiodinase, resulting in conversion of F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occurs in critically ill patients, but may occur with DM, malnutrition, iodine loads, or medications (Amiodarone, PTU, glucocortico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bove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primary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4336920"/>
            <a:ext cx="409896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yroid Sto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e Iodin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e 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– tachycardia, hyperpyrexia, thyrotoxicosis 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s (Low TSH, High T4, FT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anolol IV vs. Verapamil 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ylthiouracil, Methimaz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Iod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etamenophen, cooling blan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smapheresis (r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(r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20000"/>
                </a:solidFill>
                <a:latin typeface="Times New Roman"/>
              </a:rPr>
              <a:t>Calcium Regulation</a:t>
            </a:r>
            <a:endParaRPr b="0" lang="en-US" sz="6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581280"/>
            <a:ext cx="77724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20000"/>
                </a:solidFill>
                <a:latin typeface="Times New Roman"/>
              </a:rPr>
              <a:t>Parathyro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alci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muscle contraction, intracellular messenger systems, cardiac re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in free and boun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in (40% total calc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 and Citrate (10% total calc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ion of iCa++ media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thyroid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follicular C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athyroid Horm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Parathyroid Chief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d in response to low i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renal conversion of 25-(OH)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1,25-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which increases intesti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stimulates re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and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ulates osteoclastic resorption of 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alcitoni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d by Parafollicular C cells of Thyroid in response to increased i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 osteoclastic resorption of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ren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essential hormone.  Patients with total thyroidectomy maintain normal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monitoring treatment of Medullary Thyroi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treatment of Pagets’, Osteopo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Vitamin 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– Vitami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 light mediated cholesterol metabolism –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verted to 25(OH)-D by the 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OH)-D is converted to 1,25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 by the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ion of Oste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42300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GI absorption of dietary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PA  Basic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H, TRH, CRH, GnRH, Dopamine, Somatost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from Hypoph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, Oxyt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nohypoph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from Rathke’s p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H, LH, FSH, TSH, GH, P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ocalcem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magnes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iopat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to 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tic dis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sphospho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bnorm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amin D de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kets (VDR or Renal hyroxylase abnormal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of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phosphate states (Crush injury, Tumor lysi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od Transfusion (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calcem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parathyroid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 Syndr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ign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oral Hypercal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HrP (Lung Canc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clastic activity (Myeloma, Lymph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matous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production of 1,25 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-In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az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k-Alk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tamin A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ypercalcem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es (Osteitis fibrosa cystica, osteoporosis, ric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nes (Renal st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ans (Constipation, peptic ulc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ans (Lethargy, depression, conf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cal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M’s (Ev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sphosphonates (Pamidron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itonin (for severe ca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ine diur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ucocorticoids (for malignant/granulomatous disea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oid thiazide diur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vs. Double adenoma – simple ex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Gland hyperplasia – total parathyroid with autotransplant vs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½ gland ex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mary Hyperparathyroidis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gns &amp; Sympto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vated serum calciu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evated P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litary Adenoma (80-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uble Adenomas (2-4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iple Gland Hyperplasia (10-30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rathyroid Carcinoma (0.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N syndromes (10% of MGH have ME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ultiple Endocrine Neoplas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tuitary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creatic endocrine tu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thyroid neoplasia (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ullary thyroid cancer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ochromocytoma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thyroid neoplasia (10-4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ullary thyroid cancer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ochromocytoma 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mas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athyroidectom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 NIH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um Ca++ &gt; 12 mg/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percalciuria &gt; 400 mg/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ic sympt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phrolithi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teitis fibrosa cy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romuscular dis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tical bone loss with DEXA Z score &lt;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creatinine clea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ebral osteop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tamin D defic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menopa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eoperative Localiz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llium / Pertechne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ubtraction of Tc 99 which concentrates only in thyroid from background Thallium which is absorbed by thyroid and parathyr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yroid pathology reduces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etium 99m 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rbed by thyroid and abnormal parathyr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washout from thyroid leaves residual parathyroid signals in la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Photon Emission Computed Tom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three dimensional representation to allow for ectopic loc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ommon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-36360"/>
            <a:ext cx="693396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raoperative Hormone Assay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, S., Leight, G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2-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operative PTH assays found highly sensitive for remaining disease (98.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of false positives were in multiple gland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cidence of MGH was low in this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er, C., Ritchie, J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9-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operative PTH assays work well in solitary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land disease often gives false results due to “adenoma effect” of the dominant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ends bilateral exploration with any evidence of multiple gland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05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ley, Byron J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d and Neck Surgery – Otolaryng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Lippincott Williams &amp; Wilkins.  Baltimore, MD. 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span, Francis S.; Strewler, Gordon J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&amp; Clinical Endocri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Appleton &amp; Lange.  Stamford, Connecticut. 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s, W.T.; Spetzler, R.F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or Atlas of Microneurosurgery.  Thi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New York, New York. 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er, Frank H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IBA Collection of Medical Illustrations – Volume 4, Endocrine System and Selected Metabolic Dise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Ciba Pharmaceutical Company.  New York, New York.  19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lph, Gregory W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rgery of the Thyroid and Parathyroid Gl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aunders.  Philadelphia, PA. 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retzki, P. E. et. al. “Management of Primary Hyperparathyroidism Caused by Multiple Gland Disease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rld Journal of 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1991;  15: 693-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ou, Francois. et. al.  “Correlation of parathyroid scanning and anatomy in 261 unselected patients with sporadic primary hyperparathyroidism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999; 126: 1123-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, J. Mark. et. al. “Pre-operative Sestamibi-Technetium Subtraction Scintigraphy in Primary Hyperparathyroidism: Experience with 156 Consecutive Patients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nical Radi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2001; 56: 556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ger, A. et. al. “Heterogeneous Gland Size in Sporadic Multiple Gland Parathyroid Hyperplasia.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urnal of the American College of 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1999; 188: 382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, Sanford; Leight, George.  “Initial experience with intraoperative PTH determinations in the surgical management of 130 consecutive cases of primary hyperparathyroidism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126:1132-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er, Collin; Ritchie, James.  “Retrospective analysis of sequential changes in serum intact parathyroid hormone levels during conventional parathyroid exploration”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39-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utti, Steven. et. al. “Kinetic analysis of the rapid intraoperative parathyroid hormone assay in patients during operation for hyperparathyroidism.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99; 126: 1145-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ituitary Diseas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aniopharyngi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S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ical, post-Sheehan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ehand’s synd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ac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0000"/>
                </a:solidFill>
                <a:latin typeface="Times New Roman"/>
              </a:rPr>
              <a:t>Thyroid</a:t>
            </a:r>
            <a:endParaRPr b="0" lang="en-US" sz="7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21:44:54Z</dcterms:created>
  <dc:creator>Alan Cowan</dc:creator>
  <dc:description/>
  <dc:language>en-US</dc:language>
  <cp:lastModifiedBy>WHO</cp:lastModifiedBy>
  <dcterms:modified xsi:type="dcterms:W3CDTF">2003-12-14T17:00:27Z</dcterms:modified>
  <cp:revision>43</cp:revision>
  <dc:subject/>
  <dc:title>Endocrinology</dc:title>
</cp:coreProperties>
</file>