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6A69-768D-4256-8746-21BA7D970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E552-B3F3-45FC-8F4B-F531F39A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4433-5069-4A74-A006-0E3BEFCCB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F14E-28E8-424C-8304-E89359B48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0F83-2A23-46D6-9357-1948EF438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FF73-6B02-42C1-AF9E-B8E5C831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73C7-18F5-481A-B717-8B89D57E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E2DC-CA32-4356-8EB6-2BC9CABF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E619-7131-48C2-B14B-96C83334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10825-84D0-4A1B-8D7D-6605EBB2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C427-90B7-494B-9B76-4E60562F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CBFD-B181-4419-994D-69AD62DD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ED31-7296-47AC-A9D0-B49E2E52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088A-B568-4D50-896B-93BF2CF8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8C04-D306-4D2F-9DEF-79BE04F2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D7FA-F958-4B8A-85D3-4095EF291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79D7-F856-429B-992C-8C4BAEAA3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6793-683A-4241-A2A5-DA9D698C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B46D-3C28-4372-9C11-6A30BCA5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B29D-8E4E-4A93-913B-DBF3AF04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2A3E-061D-45C3-A02D-15792AEE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BDD1-8F15-489F-9544-199502B2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8A64-FA98-41E3-B07C-0A74D6F6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56BE-740A-4F7D-A494-96F9140D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B8FD-7E11-42B4-8779-5D8BF8D397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FA16-66F7-4360-ADAE-7615A21E04D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Endocrinology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an L. Cowan, 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ncis B. Quinn, Jr, 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vember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089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hyroid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st Endocrine organ in the 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olved in production, storage, and release of thyroid horm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 influenced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ral axis (TR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tuitary function (TS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rbid diseases (Cirrhosis, Grave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vironmental factors (iodine intak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hyroid (cont)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tes basal metabolic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s cardiac contract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s the gain of catecholam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s bowel mot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s speed of muscle cont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reases cholesterol (LD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d for proper fetal neural grow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hyroid Physiology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take of Iodine by thyr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pling of Iodine to Thyroglobul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age of MIT / DIT in follicular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-absorption of MIT / 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tion of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MIT / 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ease of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o se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kdown of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release of Iod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Iodine uptak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11624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ymport protein controls serum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pt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tiport pot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mulated by T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ibited by Perchlo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721400" y="1828800"/>
            <a:ext cx="3890880" cy="33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MIT / DIT forma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yroid Peroxidase (TP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ical membran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alyzes Iodine organification to Tyrosine residues of Thyroglobu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agonized by methimaz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dine coupled to Thyroglobu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oiodotyrosine (Tg + one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iodotyrosine (Tg + two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-hormones secreted into follicular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Secretion of Thyroid Hormon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-4320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mulated by T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2000" indent="-4320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ocytosis of colloid on apical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2000" indent="-4320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pling of MIT &amp; DIT resid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5200" indent="-40140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alyzed by T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5200" indent="-40140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T + DIT =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5200" indent="-40140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T + DIT  =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2000" indent="-4320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drolysis of Thyroglobu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2000" indent="-4320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ease of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2000" indent="-4320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ease inhibited by Lith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hyroid Hormon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458200" cy="319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hyroid Hormon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880560" indent="-42300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jority of circulating hormone is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6680" indent="-45396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8.5%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6680" indent="-45396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%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0560" indent="-42300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Hormone load is influenced by serum binding proteins (TBP, Albumin, ?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6680" indent="-4539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yroid Binding Globulin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6680" indent="-4539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bumin 1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6680" indent="-4539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thyretin 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0560" indent="-42300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ion is based on the free component of thyroid horm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Hormone Binding Factor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TB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estrogen states (pregnancy, OCP, HRT, Tamoxif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ver disease (ear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reased TB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rogens or anabolic stero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ver disease (l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 Site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SAID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rosemide 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ticonvulsants (Phenytoin, Carbamazepi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Principles of Endocri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ral 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pheral 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yr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thyr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re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na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trointest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Hormone Degreda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1360" y="1828800"/>
            <a:ext cx="76993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onverted to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ctive)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’ deiodin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converted to r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nactive)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deiodin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onverted to r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nactive)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deiodin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inactive but measured by serum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828800" y="3809880"/>
            <a:ext cx="5181480" cy="247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hyroid Hormone Control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819520" y="1905120"/>
            <a:ext cx="3738600" cy="45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RH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ed by Hypothalam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ease is pulsatile, circadi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regulated b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vels through portal venous system to adenohypoph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mulates TSH 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SH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d by Adenohypophysis Thyrotro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regulated by TR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regulated b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vels through portal venous system to cavernous sinus,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mulates several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odine upt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oid endocyt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th of thyroid gl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SH Respons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629400" cy="449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hyroid Lab Evalua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I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yroglobulin, Thyroglobulin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chlorate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mulation T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RAIU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ntillation counter measures radioactivity 6 &amp; 24 hours after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dminist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take varies greatly by iodine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0560" indent="-42300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genous diet (normal uptake 10% vs. 9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0560" indent="-42300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iodarone, Contrast study, Topical betad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ptomatic elevated RA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0560" indent="-42300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ve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0560" indent="-42300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xic goi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ptomatic low RA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0560" indent="-42300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yroiditis (Subacute, Active Hashimoto’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0560" indent="-42300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rmone ingestion (Thyrotoxicosis factitia, Hamburger Thyrotoxicos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0560" indent="-42300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ess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take in Graves’ (Jod-Basedow effec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0560" indent="-42300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ctopic thyroid carcinoma (Struma ovar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Iodine stat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352320" y="1904760"/>
            <a:ext cx="4800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 Thyro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active Thyro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eractive Thyro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251460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olff-Chaikoff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ing doses of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crease hormone synthesis initi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doses cause cessation of hormone 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effect is countered by the Iodide leak from normal thyroid tiss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s with autoimmune thyroiditis may fail to adapt and becom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yp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yro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027760" y="2481120"/>
            <a:ext cx="3430440" cy="26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Jod-Basedow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erration of the Wolff-Chaikoff 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iodine loads induc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yp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yroid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served in several disease pro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ves’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nodular go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Perchlorat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34484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on inhibits the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ansport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 individuals show no leak of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Cl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ue to organification of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IT / 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s with organification defects show loss of RAI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in diagnosis of Pendred syndr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106960" y="2114640"/>
            <a:ext cx="3403800" cy="311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Hypothyroid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ymptoms – fatigability, coldness, weight gain, constipation, low voi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igns – Cool skin, dry skin, swelling of face/hands/legs, slow reflexes, myxedem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Newborn – Retardation, short stature, swelling of face/hands, possible deafne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ypes of Hypothyroidis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mary – Thyroid gland fail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ary – Pituitary fail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rtiary – Hypothalamic fail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ipheral resis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181480" y="1752480"/>
            <a:ext cx="3733920" cy="34639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Hypothyroid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0060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se is determined by ge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F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High TSH (Primary, check for antibod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F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Low TSH (Secondary or Tertiary, TRH stimulation test, MR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48769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455400" indent="-4554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0560" indent="-42300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othyroxine 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due to longer hal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0560" indent="-42300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ment prevents bone loss, cardiomyopathy, myxed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Hashimoto’s</a:t>
            </a:r>
            <a:br>
              <a:rPr sz="4400"/>
            </a:b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(Chronic, Lymphocytic)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common cause of hypothyroid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 of antibodies to TPO, TB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ly presents in females 30-50 y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non-tender and asymptoma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T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i-TPO 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i-TBG 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 with Levothyrox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2965" t="4617" r="9691" b="28618"/>
          <a:stretch/>
        </p:blipFill>
        <p:spPr>
          <a:xfrm>
            <a:off x="4952880" y="3781440"/>
            <a:ext cx="3718080" cy="26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Goit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emic go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d by dietary deficiency of Iod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TSH stimulates gland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results in creti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iter in developed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imoto’s thryoid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acute thyroid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ca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ss Iodide (Amiodarone, Kelp, Lithiu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enoma, Maligna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/ Familial hormone synthesis de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3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Hyperthyroid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8487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ptoms – Palpitations, nervousness, fatigue, diarrhea, sweating, heat intole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s – Thyroid enlargement (?), trem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 wo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T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I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La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ti-TSH-R Ab, Anti-TPO Ab, Anti-TBG 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T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RI, 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Hyperthyroid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69464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Ca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Gr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eno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nodular Go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Subacute Thyroid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Hashimoto’s Thyroid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re Ca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yrotoxicosis factitia, struma ovarii, thyroid metastasis, TSH-secreting tumor, hambu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Grav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common cause of hyperthyroid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 of anti-TSH receptor antibo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mptoms of hyperthyroid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nical exopthalmos and goi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TSH, normal/high F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ti-TSH Ab (Option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 clinical findings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y demonstrate increased up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cal – Propothyouracil, Methimazole, Propranol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gical – Subtotal Thyroidecto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ation – RAI ablation [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3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/g) x weight / %RAIU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5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Hypophyseal-Pituitary Axi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e of Neural – Hormonal inte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s temporal release of horm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onsible for stress reaction of horm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924680" cy="2798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371600" y="3416400"/>
            <a:ext cx="6629400" cy="344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078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Subacute Thyroiditis</a:t>
            </a:r>
            <a:br>
              <a:rPr sz="4400"/>
            </a:br>
            <a:r>
              <a:rPr b="0" lang="en-US" sz="2800" spc="-1" strike="noStrike">
                <a:solidFill>
                  <a:srgbClr val="420000"/>
                </a:solidFill>
                <a:latin typeface="Times New Roman"/>
              </a:rPr>
              <a:t>(DeQuervain’s, Granulomatous)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ute viral infection of thyroid g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s with viral prodrome, thyroid tenderness, and hyperthyroid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 TSH,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E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antibo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AP, N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nisone (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othyroxine (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5429" t="5134" r="3200" b="26375"/>
          <a:stretch/>
        </p:blipFill>
        <p:spPr>
          <a:xfrm>
            <a:off x="4648320" y="3809880"/>
            <a:ext cx="4038480" cy="265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Subacute Thyroiditis</a:t>
            </a:r>
            <a:br>
              <a:rPr sz="4400"/>
            </a:b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(DeQuervain’s, Granulomatous)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5562720" cy="456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Euthyroid Sick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 from inactivation of 5’-Deiodinase, resulting in conversion of F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ly occurs in critically ill patients, but may occur with DM, malnutrition, iodine loads, or medications (Amiodarone, PTU, glucocorticoi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above med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 primary ill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t help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724280" y="4336920"/>
            <a:ext cx="4098960" cy="213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hyroid Stor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g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active Iodin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re Ill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nical – tachycardia, hyperpyrexia, thyrotoxicosis sympt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bs (Low TSH, High T4, FT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ranolol IV vs. Verapamil 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ylthiouracil, Methimaz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dium Iod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etamenophen, cooling blan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smapheresis (r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gical (r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20000"/>
                </a:solidFill>
                <a:latin typeface="Times New Roman"/>
              </a:rPr>
              <a:t>Calcium Regulation</a:t>
            </a:r>
            <a:endParaRPr b="0" lang="en-US" sz="6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3581280"/>
            <a:ext cx="777240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20000"/>
                </a:solidFill>
                <a:latin typeface="Times New Roman"/>
              </a:rPr>
              <a:t>Parathyroi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alciu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d for muscle contraction, intracellular messenger systems, cardiac repolar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s in free and bound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bumin (40% total calciu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sphate and Citrate (10% total calciu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ntration of iCa++ mediat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thyroid g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follicular C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n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Parathyroid Hormon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d by Parathyroid Chief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reted in response to low i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mulates renal conversion of 25-(OH)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1,25-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 which increases intestinal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bsor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ly stimulates renal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bsorption and 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mulates osteoclastic resorption of b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alcitoni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d by Parafollicular C cells of Thyroid in response to increased i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ibit osteoclastic resorption of b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renal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cr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essential hormone.  Patients with total thyroidectomy maintain normal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cent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in monitoring treatment of Medullary Thyroid can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treatment of Pagets’, Osteopor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Vitamin D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0560" indent="-42300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 – Vitamin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0560" indent="-42300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V light mediated cholesterol metabolism –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abo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0560" indent="-42300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converted to 25(OH)-D by the 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0560" indent="-42300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(OH)-D is converted to 1,25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D by the Kid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0560" indent="-42300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mulation of Osteobla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0560" indent="-42300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s GI absorption of dietary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HPA  Basic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ph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Ventr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H, TRH, CRH, GnRH, Dopamine, Somatosta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rohypoph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ived from Hypoph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H, Oxytoc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enohypoph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ived from Rathke’s pou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H, LH, FSH, TSH, GH, P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Hypocalcemia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reased P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g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ypomagnes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iopath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stance to P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tic disor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sphospho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tamin D abnorm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tamin D de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ckets (VDR or Renal hyroxylase abnormalit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 of Calc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yperphosphate states (Crush injury, Tumor lysi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od Transfusion (Citr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Hypercalcemia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yperparathyroid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mary, Secondary, Terti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N Syndro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ligna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umoral Hypercalcem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THrP (Lung Canc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steoclastic activity (Myeloma, Lymphom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ulomatous Dis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production of 1,25 (OH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ug-Indu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az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th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lk-Alk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tamin A,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nal 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Hypercalcemia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s &amp; Sympt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nes (Osteitis fibrosa cystica, osteoporosis, ricke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nes (Renal st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ans (Constipation, peptic ulc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ans (Lethargy, depression, confus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cal Trea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M’s (Evis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sphosphonates (Pamidron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itonin (for severe cas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ine diur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ucocorticoids (for malignant/granulomatous diseas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oid thiazide diure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gical Trea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ngle vs. Double adenoma – simple exc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Gland hyperplasia – total parathyroid with autotransplant vs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½ gland exc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Primary Hyperparathyroidis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igns &amp; Symptom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levated serum calciu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levated PT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i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olitary Adenoma (80-85%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ouble Adenomas (2-4%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uliple Gland Hyperplasia (10-30%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arathyroid Carcinoma (0.5%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EN syndromes (10% of MGH have MEN 1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Multiple Endocrine Neoplasia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tuitary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ncreatic endocrine tum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thyroid neoplasia (9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 2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ullary thyroid cancer (10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eochromocytoma (5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thyroid neoplasia (10-4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 2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ullary thyroid cancer (10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eochromocytoma (5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uromas (10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Parathyroidectomy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90 NIH Guide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um Ca++ &gt; 12 mg/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ypercalciuria &gt; 400 mg/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ic symptom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phrolithia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steitis fibrosa cys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uromuscular dis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tical bone loss with DEXA Z score &lt; 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uced creatinine clea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 &lt; 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consid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tebral osteope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tamin D defic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imenopa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Preoperative Localiza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llium / Pertechne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subtraction of Tc 99 which concentrates only in thyroid from background Thallium which is absorbed by thyroid and parathyr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sensitivity and specif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yroid pathology reduces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etium 99m Sestami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sorbed by thyroid and abnormal parathyr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rly washout from thyroid leaves residual parathyroid signals in later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sensitivity and specif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Photon Emission Computed Tom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three dimensional representation to allow for ectopic loc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commonly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219320" y="-36360"/>
            <a:ext cx="6933960" cy="68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Intraoperative Hormone Assay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rner, S., Leight, G.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rg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999; 126: 1132-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aoperative PTH assays found highly sensitive for remaining disease (98.4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of false positives were in multiple gland dis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ncidence of MGH was low in this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er, C., Ritchie, J.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rg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999; 126: 1139-4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aoperative PTH assays work well in solitary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gland disease often gives false results due to “adenoma effect” of the dominant g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mends bilateral exploration with any evidence of multiple gland dis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50529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Bibliography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iley, Byron J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d and Neck Surgery – Otolaryngolo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Lippincott Williams &amp; Wilkins.  Baltimore, MD.  200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nspan, Francis S.; Strewler, Gordon J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sic &amp; Clinical Endocrinolo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Appleton &amp; Lange.  Stamford, Connecticut.  199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os, W.T.; Spetzler, R.F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lor Atlas of Microneurosurgery.  Thie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New York, New York. 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ter, Frank H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IBA Collection of Medical Illustrations – Volume 4, Endocrine System and Selected Metabolic Disea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Ciba Pharmaceutical Company.  New York, New York.  197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lph, Gregory W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rgery of the Thyroid and Parathyroid Gl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Saunders.  Philadelphia, PA.  200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Bibliography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retzki, P. E. et. al. “Management of Primary Hyperparathyroidism Caused by Multiple Gland Disease”.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rld Journal of Surg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1991;  15: 693-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tou, Francois. et. al.  “Correlation of parathyroid scanning and anatomy in 261 unselected patients with sporadic primary hyperparathyroidism”.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rg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1999; 126: 1123-3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nes, J. Mark. et. al. “Pre-operative Sestamibi-Technetium Subtraction Scintigraphy in Primary Hyperparathyroidism: Experience with 156 Consecutive Patients”.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inical Radiolo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2001; 56: 556-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ger, A. et. al. “Heterogeneous Gland Size in Sporadic Multiple Gland Parathyroid Hyperplasia.”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urnal of the American College of Surg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1999; 188: 382-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Bibliography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rner, Sanford; Leight, George.  “Initial experience with intraoperative PTH determinations in the surgical management of 130 consecutive cases of primary hyperparathyroidism”.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rg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999;126:1132-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er, Collin; Ritchie, James.  “Retrospective analysis of sequential changes in serum intact parathyroid hormone levels during conventional parathyroid exploration”.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rg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999; 126: 1139-4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utti, Steven. et. al. “Kinetic analysis of the rapid intraoperative parathyroid hormone assay in patients during operation for hyperparathyroidism.”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rg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999; 126: 1145-5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Pituitary Diseas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Tum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aniopharyngi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st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S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gical, post-Sheehand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morrh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eehand’s syndr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er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lac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u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2286000"/>
            <a:ext cx="777240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20000"/>
                </a:solidFill>
                <a:latin typeface="Times New Roman"/>
              </a:rPr>
              <a:t>Thyroid</a:t>
            </a:r>
            <a:endParaRPr b="0" lang="en-US" sz="72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21:44:54Z</dcterms:created>
  <dc:creator>Alan Cowan</dc:creator>
  <dc:description/>
  <dc:language>en-US</dc:language>
  <cp:lastModifiedBy>WHO</cp:lastModifiedBy>
  <dcterms:modified xsi:type="dcterms:W3CDTF">2003-12-14T17:00:27Z</dcterms:modified>
  <cp:revision>43</cp:revision>
  <dc:subject/>
  <dc:title>Endocrinology</dc:title>
</cp:coreProperties>
</file>