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E6C1-B1F1-4A3E-906B-D4F1509E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3820-FDB8-49EC-B981-02462440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09F3-3239-4B21-B951-DA27D17F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BBA9-902D-462B-9CC9-AC581429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FD39-597C-46BF-BD6E-82FD1BEA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BC33-5D61-445D-B27E-D3108E73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4BE3-7579-4CB4-BC9E-A4182CC4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D8FA-BD2F-433D-9C3B-E0A5EE68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A5CD-D3FF-4112-9518-0F012FD5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6F16-99C8-4650-9396-69AD74C5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6241-CB67-474E-838A-9A850CE7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4C27-8501-488C-9779-C4485BF0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0FE9-3EE7-489B-8A2C-DC26CB7ED1E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Endometriosis</a:t>
            </a: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3" descr="225454_10151365386858401_1263832687_n.jpg"/>
          <p:cNvPicPr/>
          <p:nvPr/>
        </p:nvPicPr>
        <p:blipFill>
          <a:blip r:embed="rId1"/>
          <a:stretch/>
        </p:blipFill>
        <p:spPr>
          <a:xfrm>
            <a:off x="135000" y="1174680"/>
            <a:ext cx="4513320" cy="5451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Dr Sabah Mohamed AbdelK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Assistant professor of community health, KS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"/>
              </a:rPr>
              <a:t>Family and community medicine assoc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"/>
              </a:rPr>
              <a:t>Saudi endometriosis awareness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2T07:28:58Z</dcterms:created>
  <dc:creator>sabah</dc:creator>
  <dc:description/>
  <dc:language>en-US</dc:language>
  <cp:lastModifiedBy>sabah</cp:lastModifiedBy>
  <dcterms:modified xsi:type="dcterms:W3CDTF">2017-03-12T07:36:32Z</dcterms:modified>
  <cp:revision>1</cp:revision>
  <dc:subject/>
  <dc:title>Endometriosis  </dc:title>
</cp:coreProperties>
</file>