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1AE8-781D-4370-918D-A167BDC42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7D2F-1E77-44C9-9334-BE564405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A4CB-6541-4918-90CF-28273B4BE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5ED0-605B-40E5-8E4B-BD6538ED9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F950-5B75-46D3-9E35-A3628830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D753-0CA7-4C39-899D-9812CEFA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F4E7-7F14-4412-B474-AFD7FB7C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A6E7-F6D2-4B63-9813-EA7379B6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1ED7-3491-406D-8DA8-0B8F14B8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F6BD-7876-4BE4-BD37-C184BD3B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3313-0D97-48B2-B1F5-53D918E5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AA6F-9B2C-4C8A-9442-547AF683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A7D5-5162-4872-86C1-CCF23A29645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Endometriosis</a:t>
            </a: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ontent Placeholder 3" descr="225454_10151365386858401_1263832687_n.jpg"/>
          <p:cNvPicPr/>
          <p:nvPr/>
        </p:nvPicPr>
        <p:blipFill>
          <a:blip r:embed="rId1"/>
          <a:stretch/>
        </p:blipFill>
        <p:spPr>
          <a:xfrm>
            <a:off x="135000" y="1174680"/>
            <a:ext cx="4513320" cy="5451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Dr Sabah Mohamed AbdelK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"/>
              </a:rPr>
              <a:t>Assistant professor of community health, KS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"/>
              </a:rPr>
              <a:t>Family and community medicine associ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mic"/>
              </a:rPr>
              <a:t>Saudi endometriosis awareness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2T07:28:58Z</dcterms:created>
  <dc:creator>sabah</dc:creator>
  <dc:description/>
  <dc:language>en-US</dc:language>
  <cp:lastModifiedBy>sabah</cp:lastModifiedBy>
  <dcterms:modified xsi:type="dcterms:W3CDTF">2017-03-12T07:36:32Z</dcterms:modified>
  <cp:revision>1</cp:revision>
  <dc:subject/>
  <dc:title>Endometriosis  </dc:title>
</cp:coreProperties>
</file>