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92D-2715-449C-A237-A1ABC35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8CD-9612-4BB9-8AB5-7154E51B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A6C-24F1-4B25-8B2E-ABF71B4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65C-B132-450F-B5D2-017B58E1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6EE-8EE0-4881-B02A-DFE31AB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A12-A140-4568-9595-7D31D68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45C-38FE-4484-9C5F-0D5628E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5B5-50CB-4909-8824-93C43B79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2F0-52F4-484C-BD20-1E3B9E9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3E4-3231-49E5-A937-1F44B0B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24A-7DE5-4E3A-A97D-84148A2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DCB-6C33-47E5-9F9D-1D4F260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3A6-9755-48F3-84A7-F00D5DCE861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lycolysis.co.uk/phosphoglucoisomerase.php" TargetMode="External"/><Relationship Id="rId2" Type="http://schemas.openxmlformats.org/officeDocument/2006/relationships/hyperlink" Target="http://glycolysis.co.uk/phosphofructokinase.php" TargetMode="External"/><Relationship Id="rId3" Type="http://schemas.openxmlformats.org/officeDocument/2006/relationships/hyperlink" Target="http://glycolysis.co.uk/atp.php" TargetMode="External"/><Relationship Id="rId4" Type="http://schemas.openxmlformats.org/officeDocument/2006/relationships/hyperlink" Target="http://glycolysis.co.uk/adp.php" TargetMode="External"/><Relationship Id="rId5" Type="http://schemas.openxmlformats.org/officeDocument/2006/relationships/hyperlink" Target="http://glycolysis.co.uk/phosphofructokinase.php" TargetMode="External"/><Relationship Id="rId6" Type="http://schemas.openxmlformats.org/officeDocument/2006/relationships/hyperlink" Target="http://glycolysis.co.uk/atp.php" TargetMode="External"/><Relationship Id="rId7" Type="http://schemas.openxmlformats.org/officeDocument/2006/relationships/hyperlink" Target="http://glycolysis.co.uk/adp.php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lycolysis.co.uk/aldolase.php" TargetMode="External"/><Relationship Id="rId2" Type="http://schemas.openxmlformats.org/officeDocument/2006/relationships/hyperlink" Target="http://glycolysis.co.uk/triose-phosphate-isomerase.php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ycolysis.co.uk/glyceraldehyde-3-phosphate-dehydrogenase.php" TargetMode="External"/><Relationship Id="rId2" Type="http://schemas.openxmlformats.org/officeDocument/2006/relationships/hyperlink" Target="http://dehydrogenase.org/NAD/" TargetMode="External"/><Relationship Id="rId3" Type="http://schemas.openxmlformats.org/officeDocument/2006/relationships/hyperlink" Target="http://dehydrogenase.org/NAD/" TargetMode="External"/><Relationship Id="rId4" Type="http://schemas.openxmlformats.org/officeDocument/2006/relationships/hyperlink" Target="http://dehydrogenase.org/NAD/" TargetMode="External"/><Relationship Id="rId5" Type="http://schemas.openxmlformats.org/officeDocument/2006/relationships/hyperlink" Target="http://glycolysis.co.uk/phosphoglycerate-kinase.php" TargetMode="External"/><Relationship Id="rId6" Type="http://schemas.openxmlformats.org/officeDocument/2006/relationships/hyperlink" Target="http://glycolysis.co.uk/adp.php" TargetMode="External"/><Relationship Id="rId7" Type="http://schemas.openxmlformats.org/officeDocument/2006/relationships/hyperlink" Target="http://glycolysis.co.uk/atp.php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lycolysis.co.uk/phosphoglycerate-mutase.php" TargetMode="External"/><Relationship Id="rId2" Type="http://schemas.openxmlformats.org/officeDocument/2006/relationships/hyperlink" Target="http://glycolysis.co.uk/enolase.php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lycolysis.co.uk/glucose/" TargetMode="External"/><Relationship Id="rId2" Type="http://schemas.openxmlformats.org/officeDocument/2006/relationships/hyperlink" Target="http://glycolysis.co.uk/adp.php" TargetMode="External"/><Relationship Id="rId3" Type="http://schemas.openxmlformats.org/officeDocument/2006/relationships/hyperlink" Target="http://dehydrogenase.org/NAD/" TargetMode="External"/><Relationship Id="rId4" Type="http://schemas.openxmlformats.org/officeDocument/2006/relationships/hyperlink" Target="http://dehydrogenase.org/NAD/" TargetMode="External"/><Relationship Id="rId5" Type="http://schemas.openxmlformats.org/officeDocument/2006/relationships/hyperlink" Target="http://glycolysis.co.uk/pyruvate/" TargetMode="External"/><Relationship Id="rId6" Type="http://schemas.openxmlformats.org/officeDocument/2006/relationships/hyperlink" Target="http://glycolysis.co.uk/atp.php" TargetMode="External"/><Relationship Id="rId7" Type="http://schemas.openxmlformats.org/officeDocument/2006/relationships/hyperlink" Target="http://dehydrogenase.org/NAD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lycolysis.co.uk/atp.php" TargetMode="External"/><Relationship Id="rId2" Type="http://schemas.openxmlformats.org/officeDocument/2006/relationships/hyperlink" Target="http://glycolysis.co.uk/adp.php" TargetMode="External"/><Relationship Id="rId3" Type="http://schemas.openxmlformats.org/officeDocument/2006/relationships/hyperlink" Target="http://glycolysis.co.uk/adp.php" TargetMode="External"/><Relationship Id="rId4" Type="http://schemas.openxmlformats.org/officeDocument/2006/relationships/hyperlink" Target="http://glycolysis.co.uk/atp.php" TargetMode="External"/><Relationship Id="rId5" Type="http://schemas.openxmlformats.org/officeDocument/2006/relationships/hyperlink" Target="http://dehydrogenase.org/NAD/" TargetMode="External"/><Relationship Id="rId6" Type="http://schemas.openxmlformats.org/officeDocument/2006/relationships/hyperlink" Target="http://dehydrogenase.org/NAD/" TargetMode="External"/><Relationship Id="rId7" Type="http://schemas.openxmlformats.org/officeDocument/2006/relationships/hyperlink" Target="http://dehydrogenase.org/NAD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7621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ion of Metabolis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مستطيل 1"/>
          <p:cNvSpPr/>
          <p:nvPr/>
        </p:nvSpPr>
        <p:spPr>
          <a:xfrm>
            <a:off x="533520" y="609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2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merization of glucose-6-phosph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hosphoglucoisomer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Glucose-6-phosphate &lt;=&gt; D-Fructose-6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1.7 kJ/mo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مستطيل 2"/>
          <p:cNvSpPr/>
          <p:nvPr/>
        </p:nvSpPr>
        <p:spPr>
          <a:xfrm>
            <a:off x="457200" y="2743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3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phosphorylation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hosphofructo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6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&gt; D-Fructose-1,6-bis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5 kJ/mo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مستطيل 3"/>
          <p:cNvSpPr/>
          <p:nvPr/>
        </p:nvSpPr>
        <p:spPr>
          <a:xfrm>
            <a:off x="304920" y="491976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3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phosphorylation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hosphofructo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6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&gt; D-Fructose-1,6-bis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5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مستطيل 1"/>
          <p:cNvSpPr/>
          <p:nvPr/>
        </p:nvSpPr>
        <p:spPr>
          <a:xfrm>
            <a:off x="38088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4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vage to two Triose phosphates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ldol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1,6-bisphosphate &lt;=&gt; Dihydroxyacetone phosphate + D-glyceroaldehyde-3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28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مستطيل 2"/>
          <p:cNvSpPr/>
          <p:nvPr/>
        </p:nvSpPr>
        <p:spPr>
          <a:xfrm>
            <a:off x="304920" y="26668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5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merization of dihydroxyacetone phosph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riose phosphate isomer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hydroxyacetone phosphate &lt;=&gt; D-glyceroaldehyde-3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7.6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مستطيل 1"/>
          <p:cNvSpPr/>
          <p:nvPr/>
        </p:nvSpPr>
        <p:spPr>
          <a:xfrm>
            <a:off x="60948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lycolysis: Energy generation ph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مستطيل 2"/>
          <p:cNvSpPr/>
          <p:nvPr/>
        </p:nvSpPr>
        <p:spPr>
          <a:xfrm>
            <a:off x="304920" y="1371600"/>
            <a:ext cx="8839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6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of 1,3-Bis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lyceraldehyde-3-phosphate dehydroge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glyceroaldehyde-3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AD</a:t>
            </a:r>
            <a:r>
              <a:rPr b="1" lang="en-US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3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&gt; 1,3-Bis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NAD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6.3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مستطيل 3"/>
          <p:cNvSpPr/>
          <p:nvPr/>
        </p:nvSpPr>
        <p:spPr>
          <a:xfrm>
            <a:off x="304920" y="3886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7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ate-level phosphorylation, 3-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hosphoglycerate 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3-Bis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&gt; 3-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ATP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8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مستطيل 1"/>
          <p:cNvSpPr/>
          <p:nvPr/>
        </p:nvSpPr>
        <p:spPr>
          <a:xfrm>
            <a:off x="457200" y="6858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8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ate transfer to 2-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hosphoglycerate mut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Phosphoglycerate &lt;=&gt; 2-Phosphoglycer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4.4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مستطيل 2"/>
          <p:cNvSpPr/>
          <p:nvPr/>
        </p:nvSpPr>
        <p:spPr>
          <a:xfrm>
            <a:off x="380880" y="29718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9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sis of Phosphoenolpyruv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nol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Phosphoglycerate &lt;=&gt; Phosphoenolpyruvat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1.7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مستطيل 3"/>
          <p:cNvSpPr/>
          <p:nvPr/>
        </p:nvSpPr>
        <p:spPr>
          <a:xfrm>
            <a:off x="380880" y="46483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10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ate-level phosphorylation. Pyruvate synthesis catalysed by Pyruvate kina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enolpyruvate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ADP -&gt; Pyruvate + ATP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31.4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pload.wikimedia.org/wikipedia/commons/thumb/0/0b/Citric_acid_cycle_with_aconitate_2.svg/500px-Citric_acid_cycle_with_aconitate_2.svg.png"/>
          <p:cNvPicPr/>
          <p:nvPr/>
        </p:nvPicPr>
        <p:blipFill>
          <a:blip r:embed="rId1"/>
          <a:stretch/>
        </p:blipFill>
        <p:spPr>
          <a:xfrm>
            <a:off x="609480" y="304920"/>
            <a:ext cx="76867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g: Energy of palmitoyl ~Co A ox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ycles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/2 -1 =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cetyl ~Co A 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/2 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7 NADH, each provide 3 ATP when oxidized in the ETC            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7X3=2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vide 2 ATP when oxidized in the ETC            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7x 2=1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cetyl ~Co A , each provides 12 ATP when converted to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y the TCA cycle                     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8x12=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96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 total energy yield of oxidation of palmitoyl ~Co A </a:t>
            </a:r>
            <a:r>
              <a:rPr b="0" lang="ar-EG" sz="2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3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96080" cy="4384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42080" y="5745240"/>
            <a:ext cx="769140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* Biomolecules are constructed from a small set of building 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248520" y="3124080"/>
            <a:ext cx="2666880" cy="1067400"/>
          </a:xfrm>
          <a:prstGeom prst="rect">
            <a:avLst/>
          </a:prstGeom>
          <a:noFill/>
          <a:ln w="9360">
            <a:solidFill>
              <a:srgbClr val="e78a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8a3d"/>
                </a:solidFill>
                <a:latin typeface="Times New Roman"/>
              </a:rPr>
              <a:t>* NADPH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8a3d"/>
                </a:solidFill>
                <a:latin typeface="Times New Roman"/>
              </a:rPr>
              <a:t>is major electron donor in reductive biosynthesi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42520" y="3278160"/>
            <a:ext cx="2068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A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universa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cy of energ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990720" y="380880"/>
            <a:ext cx="7010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synthetic and degradative pathways are almost always distin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495680" y="1676520"/>
            <a:ext cx="4635000" cy="4147560"/>
            <a:chOff x="4495680" y="1676520"/>
            <a:chExt cx="4635000" cy="4147560"/>
          </a:xfrm>
        </p:grpSpPr>
        <p:graphicFrame>
          <p:nvGraphicFramePr>
            <p:cNvPr id="49" name="Object 3"/>
            <p:cNvGraphicFramePr/>
            <p:nvPr/>
          </p:nvGraphicFramePr>
          <p:xfrm>
            <a:off x="4495680" y="1866960"/>
            <a:ext cx="2276640" cy="342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1866960"/>
                      <a:ext cx="227664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Text Box 4"/>
            <p:cNvSpPr/>
            <p:nvPr/>
          </p:nvSpPr>
          <p:spPr>
            <a:xfrm>
              <a:off x="5331600" y="1676520"/>
              <a:ext cx="288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Glycoly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Pentose phosphate pathwa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Fatty acids synth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5623200" y="2805120"/>
              <a:ext cx="3507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TCA cycle, Oxidative phosphoryl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-oxidation of Fatty acid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Ketone body form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5406480" y="5181480"/>
              <a:ext cx="179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Gluconeogen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Urea synth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700200" y="2438280"/>
            <a:ext cx="372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betw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ompart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chieved by a number of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to carry metabol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s acr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Compartmentalization of the Major Pathway 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of Metabolis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86520" y="5867280"/>
            <a:ext cx="65451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Synthesis and degradation pathways almost always separated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                  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Compartmentaliz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762120" y="63244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elationship of macromolecules metabol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0808"/>
          <p:cNvPicPr/>
          <p:nvPr/>
        </p:nvPicPr>
        <p:blipFill>
          <a:blip r:embed="rId1"/>
          <a:stretch/>
        </p:blipFill>
        <p:spPr>
          <a:xfrm>
            <a:off x="1447920" y="1438200"/>
            <a:ext cx="56386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bodies are an integrated system not only in case of metabolism pathways but also of organs, each with its own requirements for nourishment and energy u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pite of this, our tissues share a common circula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 is a 10-step pathway which converts glucose to 2 pyruvate molecules. The overall Glycolysis step can be written as a net equation: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luc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D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&gt;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yruv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DH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5334120" cy="413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886200" y="2727360"/>
            <a:ext cx="5508720" cy="4130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4267080" y="0"/>
            <a:ext cx="190512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7086600" y="1752480"/>
            <a:ext cx="1905120" cy="1143000"/>
          </a:xfrm>
          <a:prstGeom prst="cloudCallout">
            <a:avLst>
              <a:gd name="adj1" fmla="val -79750"/>
              <a:gd name="adj2" fmla="val 6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lycolysis consists from two main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nergy investment. During this step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nergy generation. During this step 4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and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AD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6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24:41Z</dcterms:created>
  <dc:creator> DR.AFAF</dc:creator>
  <dc:description/>
  <dc:language>en-US</dc:language>
  <cp:lastModifiedBy>Administrator</cp:lastModifiedBy>
  <dcterms:modified xsi:type="dcterms:W3CDTF">2011-05-10T10:37:38Z</dcterms:modified>
  <cp:revision>26</cp:revision>
  <dc:subject/>
  <dc:title>Integration and Regulation of Fuel Metabolism</dc:title>
</cp:coreProperties>
</file>