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404-A1D1-46E2-9F8F-94AF455E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62A-CE73-40C7-9E7C-22C43DF3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AF0-6755-471F-A946-485DA803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757-B0AE-4D9D-99AF-FF656F8F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3AB-4099-4AC4-9BB3-BA54F65D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B45-93D1-4B14-A027-D31ACDB1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689-50D6-4757-9E52-58B285C7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777-A6AF-4BF8-9B18-48C1A4A2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BCF-F2CD-4070-A248-52DA2D15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3E9-C453-45BD-B67B-3C6B533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C78-CEAF-4158-9B75-2D2F9CAB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1AB-B2D3-4BEE-95B5-C4BA838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D86-E2E9-422F-9ECA-6A1B426680A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lycolysis.co.uk/phosphoglucoisomerase.php" TargetMode="External"/><Relationship Id="rId2" Type="http://schemas.openxmlformats.org/officeDocument/2006/relationships/hyperlink" Target="http://glycolysis.co.uk/phosphofructokinase.php" TargetMode="External"/><Relationship Id="rId3" Type="http://schemas.openxmlformats.org/officeDocument/2006/relationships/hyperlink" Target="http://glycolysis.co.uk/atp.php" TargetMode="External"/><Relationship Id="rId4" Type="http://schemas.openxmlformats.org/officeDocument/2006/relationships/hyperlink" Target="http://glycolysis.co.uk/adp.php" TargetMode="External"/><Relationship Id="rId5" Type="http://schemas.openxmlformats.org/officeDocument/2006/relationships/hyperlink" Target="http://glycolysis.co.uk/phosphofructokinase.php" TargetMode="External"/><Relationship Id="rId6" Type="http://schemas.openxmlformats.org/officeDocument/2006/relationships/hyperlink" Target="http://glycolysis.co.uk/atp.php" TargetMode="External"/><Relationship Id="rId7" Type="http://schemas.openxmlformats.org/officeDocument/2006/relationships/hyperlink" Target="http://glycolysis.co.uk/adp.php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lycolysis.co.uk/aldolase.php" TargetMode="External"/><Relationship Id="rId2" Type="http://schemas.openxmlformats.org/officeDocument/2006/relationships/hyperlink" Target="http://glycolysis.co.uk/triose-phosphate-isomerase.php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lycolysis.co.uk/glyceraldehyde-3-phosphate-dehydrogenase.php" TargetMode="External"/><Relationship Id="rId2" Type="http://schemas.openxmlformats.org/officeDocument/2006/relationships/hyperlink" Target="http://dehydrogenase.org/NAD/" TargetMode="External"/><Relationship Id="rId3" Type="http://schemas.openxmlformats.org/officeDocument/2006/relationships/hyperlink" Target="http://dehydrogenase.org/NAD/" TargetMode="External"/><Relationship Id="rId4" Type="http://schemas.openxmlformats.org/officeDocument/2006/relationships/hyperlink" Target="http://dehydrogenase.org/NAD/" TargetMode="External"/><Relationship Id="rId5" Type="http://schemas.openxmlformats.org/officeDocument/2006/relationships/hyperlink" Target="http://glycolysis.co.uk/phosphoglycerate-kinase.php" TargetMode="External"/><Relationship Id="rId6" Type="http://schemas.openxmlformats.org/officeDocument/2006/relationships/hyperlink" Target="http://glycolysis.co.uk/adp.php" TargetMode="External"/><Relationship Id="rId7" Type="http://schemas.openxmlformats.org/officeDocument/2006/relationships/hyperlink" Target="http://glycolysis.co.uk/atp.php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lycolysis.co.uk/phosphoglycerate-mutase.php" TargetMode="External"/><Relationship Id="rId2" Type="http://schemas.openxmlformats.org/officeDocument/2006/relationships/hyperlink" Target="http://glycolysis.co.uk/enolase.php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lycolysis.co.uk/glucose/" TargetMode="External"/><Relationship Id="rId2" Type="http://schemas.openxmlformats.org/officeDocument/2006/relationships/hyperlink" Target="http://glycolysis.co.uk/adp.php" TargetMode="External"/><Relationship Id="rId3" Type="http://schemas.openxmlformats.org/officeDocument/2006/relationships/hyperlink" Target="http://dehydrogenase.org/NAD/" TargetMode="External"/><Relationship Id="rId4" Type="http://schemas.openxmlformats.org/officeDocument/2006/relationships/hyperlink" Target="http://dehydrogenase.org/NAD/" TargetMode="External"/><Relationship Id="rId5" Type="http://schemas.openxmlformats.org/officeDocument/2006/relationships/hyperlink" Target="http://glycolysis.co.uk/pyruvate/" TargetMode="External"/><Relationship Id="rId6" Type="http://schemas.openxmlformats.org/officeDocument/2006/relationships/hyperlink" Target="http://glycolysis.co.uk/atp.php" TargetMode="External"/><Relationship Id="rId7" Type="http://schemas.openxmlformats.org/officeDocument/2006/relationships/hyperlink" Target="http://dehydrogenase.org/NAD/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lycolysis.co.uk/atp.php" TargetMode="External"/><Relationship Id="rId2" Type="http://schemas.openxmlformats.org/officeDocument/2006/relationships/hyperlink" Target="http://glycolysis.co.uk/adp.php" TargetMode="External"/><Relationship Id="rId3" Type="http://schemas.openxmlformats.org/officeDocument/2006/relationships/hyperlink" Target="http://glycolysis.co.uk/adp.php" TargetMode="External"/><Relationship Id="rId4" Type="http://schemas.openxmlformats.org/officeDocument/2006/relationships/hyperlink" Target="http://glycolysis.co.uk/atp.php" TargetMode="External"/><Relationship Id="rId5" Type="http://schemas.openxmlformats.org/officeDocument/2006/relationships/hyperlink" Target="http://dehydrogenase.org/NAD/" TargetMode="External"/><Relationship Id="rId6" Type="http://schemas.openxmlformats.org/officeDocument/2006/relationships/hyperlink" Target="http://dehydrogenase.org/NAD/" TargetMode="External"/><Relationship Id="rId7" Type="http://schemas.openxmlformats.org/officeDocument/2006/relationships/hyperlink" Target="http://dehydrogenase.org/NAD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50292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7621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ion of Metabolis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مستطيل 1"/>
          <p:cNvSpPr/>
          <p:nvPr/>
        </p:nvSpPr>
        <p:spPr>
          <a:xfrm>
            <a:off x="533520" y="609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2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merization of glucose-6-phosph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hosphoglucoisomer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Glucose-6-phosphate &lt;=&gt; D-Fructose-6-phosphate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1.7 kJ/mo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مستطيل 2"/>
          <p:cNvSpPr/>
          <p:nvPr/>
        </p:nvSpPr>
        <p:spPr>
          <a:xfrm>
            <a:off x="457200" y="2743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3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phosphorylation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hosphofructokin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Fructose-6-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&gt; D-Fructose-1,6-bis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-18.5 kJ/mo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مستطيل 3"/>
          <p:cNvSpPr/>
          <p:nvPr/>
        </p:nvSpPr>
        <p:spPr>
          <a:xfrm>
            <a:off x="304920" y="491976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3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phosphorylation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Phosphofructokin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Fructose-6-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&gt; D-Fructose-1,6-bis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-18.5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مستطيل 1"/>
          <p:cNvSpPr/>
          <p:nvPr/>
        </p:nvSpPr>
        <p:spPr>
          <a:xfrm>
            <a:off x="380880" y="5335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4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vage to two Triose phosphates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ldol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Fructose-1,6-bisphosphate &lt;=&gt; Dihydroxyacetone phosphate + D-glyceroaldehyde-3-phosphate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28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مستطيل 2"/>
          <p:cNvSpPr/>
          <p:nvPr/>
        </p:nvSpPr>
        <p:spPr>
          <a:xfrm>
            <a:off x="304920" y="26668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5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merization of dihydroxyacetone phosph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riose phosphate isomer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hydroxyacetone phosphate &lt;=&gt; D-glyceroaldehyde-3-phosphate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7.6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مستطيل 1"/>
          <p:cNvSpPr/>
          <p:nvPr/>
        </p:nvSpPr>
        <p:spPr>
          <a:xfrm>
            <a:off x="609480" y="380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lycolysis: Energy generation pha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مستطيل 2"/>
          <p:cNvSpPr/>
          <p:nvPr/>
        </p:nvSpPr>
        <p:spPr>
          <a:xfrm>
            <a:off x="304920" y="1371600"/>
            <a:ext cx="88390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6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of 1,3-Bisphosphoglycer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lyceraldehyde-3-phosphate dehydrogen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glyceroaldehyde-3-phosph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NAD</a:t>
            </a:r>
            <a:r>
              <a:rPr b="1" lang="en-US" sz="2400" spc="-1" strike="noStrike" u="sng" baseline="30000">
                <a:solidFill>
                  <a:srgbClr val="009999"/>
                </a:solidFill>
                <a:uFillTx/>
                <a:latin typeface="Times New Roman"/>
                <a:hlinkClick r:id="rId3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=&gt; 1,3-Bisphosphoglycer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NAD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6.3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مستطيل 3"/>
          <p:cNvSpPr/>
          <p:nvPr/>
        </p:nvSpPr>
        <p:spPr>
          <a:xfrm>
            <a:off x="304920" y="3886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7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rate-level phosphorylation, 3-Phosphoglycer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Phosphoglycerate kin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3-Bisphosphoglycer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=&gt; 3-Phosphoglycerate +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ATP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-18.8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مستطيل 1"/>
          <p:cNvSpPr/>
          <p:nvPr/>
        </p:nvSpPr>
        <p:spPr>
          <a:xfrm>
            <a:off x="457200" y="6858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8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sphate transfer to 2-Phosphoglycer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hosphoglycerate mut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Phosphoglycerate &lt;=&gt; 2-Phosphoglycerate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4.4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مستطيل 2"/>
          <p:cNvSpPr/>
          <p:nvPr/>
        </p:nvSpPr>
        <p:spPr>
          <a:xfrm>
            <a:off x="380880" y="29718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9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hesis of Phosphoenolpyruvate catalysed by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Enol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Phosphoglycerate &lt;=&gt; Phosphoenolpyruvat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+1.7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مستطيل 3"/>
          <p:cNvSpPr/>
          <p:nvPr/>
        </p:nvSpPr>
        <p:spPr>
          <a:xfrm>
            <a:off x="380880" y="46483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ycolysis step 10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rate-level phosphorylation. Pyruvate synthesis catalysed by Pyruvate kinas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sphoenolpyruvate +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ADP -&gt; Pyruvate + ATP</a:t>
            </a:r>
            <a:br>
              <a:rPr sz="2400"/>
            </a:br>
            <a:r>
              <a:rPr b="1" lang="el-GR" sz="2400" spc="-1" strike="noStrike">
                <a:solidFill>
                  <a:srgbClr val="0000cc"/>
                </a:solidFill>
                <a:latin typeface="Times New Roman"/>
              </a:rPr>
              <a:t>δ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-31.4 kJ/mo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upload.wikimedia.org/wikipedia/commons/thumb/0/0b/Citric_acid_cycle_with_aconitate_2.svg/500px-Citric_acid_cycle_with_aconitate_2.svg.png"/>
          <p:cNvPicPr/>
          <p:nvPr/>
        </p:nvPicPr>
        <p:blipFill>
          <a:blip r:embed="rId1"/>
          <a:stretch/>
        </p:blipFill>
        <p:spPr>
          <a:xfrm>
            <a:off x="609480" y="304920"/>
            <a:ext cx="768672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g: Energy of palmitoyl ~Co A ox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ycles=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/2 -1 =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acetyl ~Co A =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/2 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7 NADH, each provide 3 ATP when oxidized in the ETC            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7X3=2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FA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vide 2 ATP when oxidized in the ETC             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7x 2=14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cetyl ~Co A , each provides 12 ATP when converted to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by the TCA cycle                     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8x12=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96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o total energy yield of oxidation of palmitoyl ~Co A </a:t>
            </a:r>
            <a:r>
              <a:rPr b="0" lang="ar-EG" sz="2800" spc="-1" strike="noStrike">
                <a:solidFill>
                  <a:srgbClr val="cc0000"/>
                </a:solidFill>
                <a:latin typeface="Arial"/>
              </a:rPr>
              <a:t>=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31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696080" cy="4384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42080" y="5745240"/>
            <a:ext cx="7691400" cy="398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* Biomolecules are constructed from a small set of building block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248520" y="3124080"/>
            <a:ext cx="2666880" cy="1067400"/>
          </a:xfrm>
          <a:prstGeom prst="rect">
            <a:avLst/>
          </a:prstGeom>
          <a:noFill/>
          <a:ln w="9360">
            <a:solidFill>
              <a:srgbClr val="e78a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8a3d"/>
                </a:solidFill>
                <a:latin typeface="Times New Roman"/>
              </a:rPr>
              <a:t>* NADPH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8a3d"/>
                </a:solidFill>
                <a:latin typeface="Times New Roman"/>
              </a:rPr>
              <a:t>is major electron donor in reductive biosynthesi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42520" y="3278160"/>
            <a:ext cx="2068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AT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universal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cy of energ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990720" y="380880"/>
            <a:ext cx="7010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synthetic and degradative pathways are almost always distinc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495680" y="1676520"/>
            <a:ext cx="4635000" cy="4147560"/>
            <a:chOff x="4495680" y="1676520"/>
            <a:chExt cx="4635000" cy="4147560"/>
          </a:xfrm>
        </p:grpSpPr>
        <p:graphicFrame>
          <p:nvGraphicFramePr>
            <p:cNvPr id="49" name="Object 3"/>
            <p:cNvGraphicFramePr/>
            <p:nvPr/>
          </p:nvGraphicFramePr>
          <p:xfrm>
            <a:off x="4495680" y="1866960"/>
            <a:ext cx="2276640" cy="342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1866960"/>
                      <a:ext cx="2276640" cy="342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Text Box 4"/>
            <p:cNvSpPr/>
            <p:nvPr/>
          </p:nvSpPr>
          <p:spPr>
            <a:xfrm>
              <a:off x="5331600" y="1676520"/>
              <a:ext cx="2884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Glycolysi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Pentose phosphate pathwa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Fatty acids synthesi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5623200" y="2805120"/>
              <a:ext cx="3507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imes New Roman"/>
                  <a:ea typeface="Arial"/>
                </a:rPr>
                <a:t>TCA cycle, Oxidative phosphorylati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</a:t>
              </a:r>
              <a:r>
                <a:rPr b="1" lang="en-US" sz="1600" spc="-1" strike="noStrike">
                  <a:solidFill>
                    <a:srgbClr val="00cc00"/>
                  </a:solidFill>
                  <a:latin typeface="Times New Roman"/>
                  <a:ea typeface="Arial"/>
                </a:rPr>
                <a:t>-oxidation of Fatty acid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imes New Roman"/>
                  <a:ea typeface="Arial"/>
                </a:rPr>
                <a:t>Ketone body formati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6"/>
            <p:cNvSpPr/>
            <p:nvPr/>
          </p:nvSpPr>
          <p:spPr>
            <a:xfrm>
              <a:off x="5406480" y="5181480"/>
              <a:ext cx="179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Gluconeogenesi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Urea synthesi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7"/>
          <p:cNvSpPr/>
          <p:nvPr/>
        </p:nvSpPr>
        <p:spPr>
          <a:xfrm>
            <a:off x="700200" y="2438280"/>
            <a:ext cx="372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s betwe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ompart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chieved by a number of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s to carry metabol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s acro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Arial"/>
              </a:rPr>
              <a:t>Compartmentalization of the Major Pathway 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Arial"/>
              </a:rPr>
              <a:t>of Metabolis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86520" y="5867280"/>
            <a:ext cx="65451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Synthesis and degradation pathways almost always separated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                     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Compartmentaliz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762120" y="63244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relationship of macromolecules metabolis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0808"/>
          <p:cNvPicPr/>
          <p:nvPr/>
        </p:nvPicPr>
        <p:blipFill>
          <a:blip r:embed="rId1"/>
          <a:stretch/>
        </p:blipFill>
        <p:spPr>
          <a:xfrm>
            <a:off x="1447920" y="1438200"/>
            <a:ext cx="56386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bodies are an integrated system not only in case of metabolism pathways but also of organs, each with its own requirements for nourishment and energy u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pite of this, our tissues share a common circula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colysis, an overal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 is a 10-step pathway which converts glucose to 2 pyruvate molecules. The overall Glycolysis step can be written as a net equation: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luc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AD</a:t>
            </a:r>
            <a:r>
              <a:rPr b="0" lang="en-US" sz="32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&gt;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yruv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DH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304920"/>
            <a:ext cx="5334120" cy="413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3886200" y="2727360"/>
            <a:ext cx="5508720" cy="4130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>
            <a:off x="4267080" y="0"/>
            <a:ext cx="190512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7086600" y="1752480"/>
            <a:ext cx="1905120" cy="1143000"/>
          </a:xfrm>
          <a:prstGeom prst="cloudCallout">
            <a:avLst>
              <a:gd name="adj1" fmla="val -79750"/>
              <a:gd name="adj2" fmla="val 6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ge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lycolysis consists from two main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 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nergy investment. During this step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nverted to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 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nergy generation. During this step 4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D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nverted to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 and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AD</a:t>
            </a:r>
            <a:r>
              <a:rPr b="0" lang="en-US" sz="3200" spc="-1" strike="noStrike" u="sng" baseline="30000">
                <a:solidFill>
                  <a:srgbClr val="009999"/>
                </a:solidFill>
                <a:uFillTx/>
                <a:latin typeface="Arial"/>
                <a:hlinkClick r:id="rId6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nverted to 2x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4876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24:41Z</dcterms:created>
  <dc:creator> DR.AFAF</dc:creator>
  <dc:description/>
  <dc:language>en-US</dc:language>
  <cp:lastModifiedBy>Administrator</cp:lastModifiedBy>
  <dcterms:modified xsi:type="dcterms:W3CDTF">2011-05-10T10:37:38Z</dcterms:modified>
  <cp:revision>26</cp:revision>
  <dc:subject/>
  <dc:title>Integration and Regulation of Fuel Metabolism</dc:title>
</cp:coreProperties>
</file>