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C13615-B2BE-4B75-A972-9F0B35F91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8D3FA310-93AC-49A2-AE80-35ADE4844A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F8B1BD54-9F78-4E2D-91BA-98F6430AE4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9"/>
          </p:nvPr>
        </p:nvSpPr>
        <p:spPr/>
        <p:txBody>
          <a:bodyPr/>
          <a:p>
            <a:fld id="{30456295-AEAA-4A14-9601-A3808FB75F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9"/>
          </p:nvPr>
        </p:nvSpPr>
        <p:spPr/>
        <p:txBody>
          <a:bodyPr/>
          <a:p>
            <a:fld id="{5AE902EA-EE02-4AF2-8A4A-F45D348EDC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4E8659D1-FEE6-4794-BCC3-AB189FAE67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301BE9E6-A702-4A66-99BF-0F43FB76C4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83830561-851A-4D53-8623-B16483AA2D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34D6E923-F8D2-43B7-BA2B-B0767D4F51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9"/>
          </p:nvPr>
        </p:nvSpPr>
        <p:spPr/>
        <p:txBody>
          <a:bodyPr/>
          <a:p>
            <a:fld id="{34D505E4-93E6-47BF-B3C6-6457A8DAD3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9"/>
          </p:nvPr>
        </p:nvSpPr>
        <p:spPr/>
        <p:txBody>
          <a:bodyPr/>
          <a:p>
            <a:fld id="{B47EB9BE-83D8-4A83-BE38-CC1294F172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E14BC7D-5BC4-43FB-8AC8-A1199C79CF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A4B9B33F-FE22-4BF7-87C0-A5213441E5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05F5887B-537C-43B0-9328-092E21D31B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84E19E0C-A6E3-4861-B397-646937C7C7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4A56A0E7-D66A-4B59-BF4C-2A543291021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0"/>
          </p:nvPr>
        </p:nvSpPr>
        <p:spPr/>
        <p:txBody>
          <a:bodyPr/>
          <a:p>
            <a:fld id="{EFD8D503-8799-4C88-B660-34B344B834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0"/>
          </p:nvPr>
        </p:nvSpPr>
        <p:spPr/>
        <p:txBody>
          <a:bodyPr/>
          <a:p>
            <a:fld id="{10C95837-839E-4FF0-BEBA-3EE561CF5E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ED2FE3FB-53AF-4562-8423-5B466600CE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E84AC269-1424-455C-84CB-8F3E0D8F05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7E285E2C-3DEA-4504-826E-E7C1A305003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3F7BD4F4-4E8B-4D2F-9977-7A02713C46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0"/>
          </p:nvPr>
        </p:nvSpPr>
        <p:spPr/>
        <p:txBody>
          <a:bodyPr/>
          <a:p>
            <a:fld id="{827F9053-C1EF-4056-AFF7-FAD0826DD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C1524E96-DC9B-4FE4-833D-DC98A3C392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0"/>
          </p:nvPr>
        </p:nvSpPr>
        <p:spPr/>
        <p:txBody>
          <a:bodyPr/>
          <a:p>
            <a:fld id="{74A30E46-7844-465C-A32E-27FBD11C9A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F8ED07D-E9AD-4AE8-9B07-AE195DD4657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54FE8909-CBAA-4F6B-875E-216FACE2F36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83554FB6-6D97-462B-B9BF-97D919E742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56DC6E49-42CB-4D17-B16B-7DC65646FF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1"/>
          </p:nvPr>
        </p:nvSpPr>
        <p:spPr/>
        <p:txBody>
          <a:bodyPr/>
          <a:p>
            <a:fld id="{D9FBDE3C-ADF5-4218-818C-BD9A40287BA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1"/>
          </p:nvPr>
        </p:nvSpPr>
        <p:spPr/>
        <p:txBody>
          <a:bodyPr/>
          <a:p>
            <a:fld id="{6A01B5E1-A02C-46F1-8835-49EC8B83A76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9611539B-FDF7-4187-B3BF-40D543E710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8DDF0516-46DB-48DF-9A74-1D72A53074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931946E8-F921-451F-8A07-9F57BD1C8A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F2E1B0-2137-4193-89BC-29B7707A77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38ED5279-A99F-451D-958E-D5AF05A6E8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1"/>
          </p:nvPr>
        </p:nvSpPr>
        <p:spPr/>
        <p:txBody>
          <a:bodyPr/>
          <a:p>
            <a:fld id="{C41018DE-1235-4289-A7D9-6CCD2643E94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1"/>
          </p:nvPr>
        </p:nvSpPr>
        <p:spPr/>
        <p:txBody>
          <a:bodyPr/>
          <a:p>
            <a:fld id="{C8072A0D-A981-4CCC-B3CB-256E15E2A5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599025B-6CFD-4BAE-9425-AED563072C4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8FD5DD29-CF99-4EB0-B6AD-D61AB8E15C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3266E2AC-2486-464E-BC76-62341D768B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31663CF4-F243-4BDB-BFCA-744D17C8EE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2"/>
          </p:nvPr>
        </p:nvSpPr>
        <p:spPr/>
        <p:txBody>
          <a:bodyPr/>
          <a:p>
            <a:fld id="{E021D69C-4FF1-448E-88E5-8081D18B88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2"/>
          </p:nvPr>
        </p:nvSpPr>
        <p:spPr/>
        <p:txBody>
          <a:bodyPr/>
          <a:p>
            <a:fld id="{9B23B859-FC2E-401A-B2C4-06D6D552EF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E8DC9AEE-ED57-44ED-ACC2-E18E1308DC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06A1C13F-F212-4B74-843E-363E76DA89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9A7C0642-67BB-4A26-A787-F7F51CCED4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384CA734-CA41-452D-B574-923ED2DA4B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4B42CC95-9C6E-4179-9A9C-D9BCEED958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2"/>
          </p:nvPr>
        </p:nvSpPr>
        <p:spPr/>
        <p:txBody>
          <a:bodyPr/>
          <a:p>
            <a:fld id="{DAEB36F3-1255-49D1-A300-0769BA7ABD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2"/>
          </p:nvPr>
        </p:nvSpPr>
        <p:spPr/>
        <p:txBody>
          <a:bodyPr/>
          <a:p>
            <a:fld id="{1F1683A5-6906-4600-B747-B1510840EB0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2C8C041-ADB4-46D1-B79B-B6D90BFC25C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F9DE836C-7C10-4516-9466-CEB2E94C238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F1A0D62B-AFEC-4134-96D1-68507CA41C5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CCD64821-C735-4B05-AED7-FFE737B9995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3"/>
          </p:nvPr>
        </p:nvSpPr>
        <p:spPr/>
        <p:txBody>
          <a:bodyPr/>
          <a:p>
            <a:fld id="{20F6521A-628A-4FE8-ADF0-EE5E6B5F17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D52D541F-42B5-474C-BCE8-648E0DB6857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3"/>
          </p:nvPr>
        </p:nvSpPr>
        <p:spPr/>
        <p:txBody>
          <a:bodyPr/>
          <a:p>
            <a:fld id="{B8601154-4FD4-4002-B367-6215B785B32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D22835BC-AC5F-401F-AF5D-DC957252C1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A0BE32D4-B2B5-45F9-9B2E-9FD1E8E18AA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C1A6A69C-BF8F-4523-A6DB-E9A6D9073C5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13F3D907-F427-4D3A-87CD-52E6AC1593A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3"/>
          </p:nvPr>
        </p:nvSpPr>
        <p:spPr/>
        <p:txBody>
          <a:bodyPr/>
          <a:p>
            <a:fld id="{9081EDEE-F149-470A-8709-5F5749957A3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3"/>
          </p:nvPr>
        </p:nvSpPr>
        <p:spPr/>
        <p:txBody>
          <a:bodyPr/>
          <a:p>
            <a:fld id="{C3FBF635-C24A-4E8E-9A5C-D8638A08D0F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36F768-469F-4918-9D5B-885C671C1FD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004F2E24-EA05-4747-8984-D788C4FE95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389DC72C-5FBB-4961-A1F1-EAF941243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ADE424C8-C11F-40C3-9627-A638A81D62B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C21A4C6A-FCC1-4684-B72F-1B4FDE3B132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4"/>
          </p:nvPr>
        </p:nvSpPr>
        <p:spPr/>
        <p:txBody>
          <a:bodyPr/>
          <a:p>
            <a:fld id="{3D90FE42-3D28-49A1-8A4E-E187A255EB7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4"/>
          </p:nvPr>
        </p:nvSpPr>
        <p:spPr/>
        <p:txBody>
          <a:bodyPr/>
          <a:p>
            <a:fld id="{C20180E2-5101-4C17-A5F7-C94F6862E07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193F871E-7E72-4192-B906-82C88FBC14D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5686EB96-835C-435D-A7E4-8A60F6F924B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BCB2169C-F574-4ACC-85BA-C2DBAE25846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69A75BD3-3C25-4EA4-9ADC-0AE3FEDF8C1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4"/>
          </p:nvPr>
        </p:nvSpPr>
        <p:spPr/>
        <p:txBody>
          <a:bodyPr/>
          <a:p>
            <a:fld id="{92D89E24-1F47-43D0-89E6-8CB159D90F9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4"/>
          </p:nvPr>
        </p:nvSpPr>
        <p:spPr/>
        <p:txBody>
          <a:bodyPr/>
          <a:p>
            <a:fld id="{FFBA6613-B2D6-494F-9073-98AD788AB5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114D87E4-68AD-4868-A9BC-9DE9F4D578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B2E4648C-4FF7-40B7-9D80-36D684AD5B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814A89A7-3DB2-4F8E-82F5-825ABC75CB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9630F6D7-55AC-4B12-8006-BAF8ADF8B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6BCFD067-2B0A-4D91-842A-400AF7FA8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55A65874-1A99-439A-BEB1-19E4B4BEE8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5A2B006F-BF80-4287-A14C-66DC21A9BF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B0C91A2E-FFE2-4B19-9C04-2A4CC863DA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53712324-8AC7-4D07-906D-4C7472D60A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AFEAE56-AFAD-4288-8819-E28DAC8E43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084C1361-8468-4CCB-96BA-DFD3522B24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B23069D8-2810-4B61-8373-18DFD9D9EC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18E0D419-FDCD-4D2C-97E0-A69A7BF828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33E87F3C-E0A4-43C8-84AD-983A76A35A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452A7506-5907-428B-9DFA-D9966AF3C3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F0AB262C-A3D3-4535-BAA0-E91A6A7D2A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0476D712-D55C-408E-BC2A-C049843A19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38A186D5-9693-426D-AB56-65DBDE0A3B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C2456B71-74C6-43CE-856B-D29709E167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DCA3EB9C-26DB-4585-B709-E96EF13D1D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7379DC8D-7669-4AD1-B5F4-E966D421ED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A89F19FD-CED5-408A-B164-F293CCA7DB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920946-5980-44A1-A1E8-2E7AC32922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740D7B03-2DCB-4ABE-A17E-2DECA7112D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5A49EC70-E4B9-4F70-BA94-F36E5B170F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2FD0583A-C13F-4475-A6F7-21B871569C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BEC9C252-5840-48CE-AFB1-944A7A4A0DF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59ADFD26-6887-42FD-9A06-1852CB98DC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0C627BA8-BFA8-4F86-9543-4DD7B774CC6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92CADC5-627A-442B-85DA-900A6B6FCC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AAF13B0E-6BB0-4DC9-A002-E9764A319FF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4C94C039-9E13-4CCA-83FB-C69A8A66FA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7D6DCF80-C76E-40EE-9BAB-450A9EA9E8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2177CB76-F695-4778-B358-40ED93B9E8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380D9631-6761-421A-96D7-1E6E7DC1239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6A60D14-9AE9-4F88-90C0-F5BB3D571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ADD3CA14-D7D9-452F-B208-5360794EA1B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4FA057CF-5642-467A-9306-D62E9BD22B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3BB03923-0F2C-4446-8E67-952F66BF53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7AF52731-0C7E-4123-966A-3D7A4A3E09F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B1D45EF2-9B5B-4021-A7DB-F766F2ADA08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96729D86-31F3-40B8-89FA-2439B57025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6943631E-9313-4CD8-9EEE-A455C98FC0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0825A251-017F-47A5-97CD-35FE9ACE35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6A39A225-C7F1-43B8-881E-AA46F8BBF6E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3D111909-B293-404E-95D1-68A1D69997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44F99C7B-AFED-4972-9812-2A147EAD48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D60AACF5-8423-491F-956F-5AA201E80B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670F9B75-6405-4E2A-AC77-6DBE5367E5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184125-5217-4A47-A4E7-D6224ECF12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D22A7D3F-AC29-4830-BCC5-EFE631E1B8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928B8D2A-C64D-454C-8209-D4BA2CCB17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B728AF8F-4EB9-4F90-9439-F6E2CF881FA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CE6F8FEA-9192-4B96-9A06-43962D04915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08091A18-F454-4CB4-B596-95728AABE2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E1C0AF99-AAC4-4911-AC26-5C4D2B7202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724113F2-4D06-4559-B6A6-0F4A4EECF2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699F1DAC-1003-4631-994B-6A99DA2D84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06D40CF7-B171-462E-8FD4-45CBA68F81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DCF93D70-7A5D-4F11-B50F-C7156C40F7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3E5BA263-1181-4568-94C3-CE568F2D9FE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2E63851B-E517-4C4D-8CCC-C254E7BB2AD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BA458B8-5FB1-4506-82E1-5FB7044156A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77099EC6-30F6-428E-A61D-B3DB2D1F4EB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F5681784-3F88-43BE-99EF-A3224A73758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7273A8C4-0282-4B72-ADD8-56EE41BC3FB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7"/>
          </p:nvPr>
        </p:nvSpPr>
        <p:spPr/>
        <p:txBody>
          <a:bodyPr/>
          <a:p>
            <a:fld id="{9EA97FA8-F0C7-4812-8719-914A934E421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7"/>
          </p:nvPr>
        </p:nvSpPr>
        <p:spPr/>
        <p:txBody>
          <a:bodyPr/>
          <a:p>
            <a:fld id="{1D9563C7-AD98-4B10-8D3B-389B27AB06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9B085A88-DC1D-4326-9530-02727D9D57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63090522-0C06-4D05-86AC-2FF08A2F89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0AE2A599-0889-4009-AF32-4F5DEB0B7A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8D6B9579-B378-4802-B176-8CC40B194F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AC8E2A6B-B1D8-470D-AAA7-015B503068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7"/>
          </p:nvPr>
        </p:nvSpPr>
        <p:spPr/>
        <p:txBody>
          <a:bodyPr/>
          <a:p>
            <a:fld id="{3E13C1A4-B315-4B3E-94C9-BBBFAC080C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7"/>
          </p:nvPr>
        </p:nvSpPr>
        <p:spPr/>
        <p:txBody>
          <a:bodyPr/>
          <a:p>
            <a:fld id="{32AF1BB2-113A-44D1-ADAD-787BCE6B216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A06614-4793-4D60-9DBA-2E6BCDD4B8A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A7E35A90-9C89-4921-94A2-C13F75ECF4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717CF735-6678-45F4-AC94-54803865D88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FABDF78E-176B-40AC-B9DF-583B01BA6D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8"/>
          </p:nvPr>
        </p:nvSpPr>
        <p:spPr/>
        <p:txBody>
          <a:bodyPr/>
          <a:p>
            <a:fld id="{BC92ACDC-635D-4EAC-A8D2-58415D236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A19D5C6B-BFC3-477A-810A-97FDFE49C8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8"/>
          </p:nvPr>
        </p:nvSpPr>
        <p:spPr/>
        <p:txBody>
          <a:bodyPr/>
          <a:p>
            <a:fld id="{FADBCBCD-9547-420E-861F-1B094D50CA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31E776EE-5106-4994-BD55-DE1F9EB871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A19720DD-C057-4B2F-B6C2-D2C8C3FD83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CD68FCEC-3300-4F47-B890-D1B85E3A78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966213DC-11B4-4446-8C29-4A7E58FEB8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8"/>
          </p:nvPr>
        </p:nvSpPr>
        <p:spPr/>
        <p:txBody>
          <a:bodyPr/>
          <a:p>
            <a:fld id="{0D7D1B67-BC23-4885-9DAB-7DA2948D7E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8"/>
          </p:nvPr>
        </p:nvSpPr>
        <p:spPr/>
        <p:txBody>
          <a:bodyPr/>
          <a:p>
            <a:fld id="{84AF4BED-005B-4FF3-8886-A908FFE13B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26112F0-F7B8-47D9-875B-DCB843ECCA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B0FD9E48-33F7-43BF-8432-2D7F47694B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00166E3E-5EBD-4520-AA91-436743BAF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ADC4-B145-4AC4-83E6-4414184655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63" name="PlaceHolder 3"/>
          <p:cNvSpPr>
            <a:spLocks noGrp="1"/>
          </p:cNvSpPr>
          <p:nvPr>
            <p:ph type="sldNum" idx="10"/>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A668-F432-40CB-B00E-380B078BE58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03" name="PlaceHolder 3"/>
          <p:cNvSpPr>
            <a:spLocks noGrp="1"/>
          </p:cNvSpPr>
          <p:nvPr>
            <p:ph type="sldNum" idx="11"/>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DEEB-E6E8-4F50-853E-02281C3F5D6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43" name="PlaceHolder 3"/>
          <p:cNvSpPr>
            <a:spLocks noGrp="1"/>
          </p:cNvSpPr>
          <p:nvPr>
            <p:ph type="sldNum" idx="12"/>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F161-EB4D-493B-AA2F-66CFB7A7EBB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83" name="PlaceHolder 3"/>
          <p:cNvSpPr>
            <a:spLocks noGrp="1"/>
          </p:cNvSpPr>
          <p:nvPr>
            <p:ph type="sldNum" idx="13"/>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73AE-3F99-4DA3-B188-064CCEE6D6C7}"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5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523" name="PlaceHolder 3"/>
          <p:cNvSpPr>
            <a:spLocks noGrp="1"/>
          </p:cNvSpPr>
          <p:nvPr>
            <p:ph type="sldNum" idx="14"/>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BB7E-6BAB-4E81-9371-CE5E86DFDFC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69CE-27C3-40C8-9E66-58131BF032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78D6-1A68-4BD3-BE95-4BB0557F45BD}"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84AB-BCB7-4266-86F0-CC0CD5356B3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0652-BDEC-44B9-8AD5-F642133581F2}"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63EF-0DF1-41F9-BD9D-C672A3AB2FD6}"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43" name="PlaceHolder 3"/>
          <p:cNvSpPr>
            <a:spLocks noGrp="1"/>
          </p:cNvSpPr>
          <p:nvPr>
            <p:ph type="sldNum" idx="7"/>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82A5-DDBC-4D0F-9209-D6D69E93294A}"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83" name="PlaceHolder 3"/>
          <p:cNvSpPr>
            <a:spLocks noGrp="1"/>
          </p:cNvSpPr>
          <p:nvPr>
            <p:ph type="sldNum" idx="8"/>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F2D1-2C91-4DDD-8E06-2457F2885B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23" name="PlaceHolder 3"/>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22E7-9670-49EB-93D9-D6914AC064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5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Lab 1</a:t>
            </a:r>
            <a:endParaRPr b="0" lang="en-US" sz="3200" spc="-1" strike="noStrike">
              <a:solidFill>
                <a:srgbClr val="000080"/>
              </a:solidFill>
              <a:latin typeface="Times New Roman"/>
            </a:endParaRPr>
          </a:p>
        </p:txBody>
      </p:sp>
      <p:sp>
        <p:nvSpPr>
          <p:cNvPr id="5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ER Modeling Case Studies</a:t>
            </a:r>
            <a:endParaRPr b="0" lang="en-US" sz="2800" spc="-1" strike="noStrike">
              <a:solidFill>
                <a:srgbClr val="0000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A5F-DECF-41B5-ABB1-C144E63443F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1"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7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BF0D-40F8-4C23-9352-9576AADFCBB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7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F1FE-AE15-4098-B707-192E1E8D059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80" name="TextBox 20"/>
          <p:cNvSpPr/>
          <p:nvPr/>
        </p:nvSpPr>
        <p:spPr>
          <a:xfrm>
            <a:off x="2627280" y="4941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1" name="TextBox 20"/>
          <p:cNvSpPr/>
          <p:nvPr/>
        </p:nvSpPr>
        <p:spPr>
          <a:xfrm>
            <a:off x="5508720" y="2997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2" name="TextBox 20"/>
          <p:cNvSpPr/>
          <p:nvPr/>
        </p:nvSpPr>
        <p:spPr>
          <a:xfrm>
            <a:off x="262728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83" name="Elbow Connector 27"/>
          <p:cNvCxnSpPr/>
          <p:nvPr/>
        </p:nvCxnSpPr>
        <p:spPr>
          <a:xfrm flipV="1">
            <a:off x="2627280" y="3283920"/>
            <a:ext cx="3961080" cy="1585080"/>
          </a:xfrm>
          <a:prstGeom prst="bentConnector3">
            <a:avLst>
              <a:gd name="adj1" fmla="val 50000"/>
            </a:avLst>
          </a:prstGeom>
          <a:ln w="9360">
            <a:solidFill>
              <a:srgbClr val="9393fc"/>
            </a:solidFill>
            <a:miter/>
          </a:ln>
        </p:spPr>
      </p:cxnSp>
      <p:sp>
        <p:nvSpPr>
          <p:cNvPr id="684" name="TextBox 21"/>
          <p:cNvSpPr/>
          <p:nvPr/>
        </p:nvSpPr>
        <p:spPr>
          <a:xfrm flipV="1" rot="10800000">
            <a:off x="4787640" y="4868280"/>
            <a:ext cx="11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66"/>
              </a:solidFill>
              <a:latin typeface="Times New Roman"/>
            </a:endParaRPr>
          </a:p>
        </p:txBody>
      </p:sp>
      <p:sp>
        <p:nvSpPr>
          <p:cNvPr id="685" name="TextBox 21"/>
          <p:cNvSpPr/>
          <p:nvPr/>
        </p:nvSpPr>
        <p:spPr>
          <a:xfrm flipV="1" rot="10800000">
            <a:off x="4500720" y="400464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66"/>
              </a:solidFill>
              <a:latin typeface="Times New Roman"/>
            </a:endParaRPr>
          </a:p>
        </p:txBody>
      </p:sp>
      <p:sp>
        <p:nvSpPr>
          <p:cNvPr id="686" name="TextBox 20"/>
          <p:cNvSpPr/>
          <p:nvPr/>
        </p:nvSpPr>
        <p:spPr>
          <a:xfrm>
            <a:off x="543564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7" name="TextBox 20"/>
          <p:cNvSpPr/>
          <p:nvPr/>
        </p:nvSpPr>
        <p:spPr>
          <a:xfrm>
            <a:off x="4643280" y="2708280"/>
            <a:ext cx="865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Consultant </a:t>
            </a:r>
            <a:endParaRPr b="0" lang="en-US" sz="1100" spc="-1" strike="noStrike">
              <a:solidFill>
                <a:srgbClr val="000066"/>
              </a:solidFill>
              <a:latin typeface="Times New Roman"/>
            </a:endParaRPr>
          </a:p>
        </p:txBody>
      </p:sp>
      <p:sp>
        <p:nvSpPr>
          <p:cNvPr id="688" name="TextBox 20"/>
          <p:cNvSpPr/>
          <p:nvPr/>
        </p:nvSpPr>
        <p:spPr>
          <a:xfrm>
            <a:off x="6227640" y="3500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89" name="TextBox 20"/>
          <p:cNvSpPr/>
          <p:nvPr/>
        </p:nvSpPr>
        <p:spPr>
          <a:xfrm>
            <a:off x="5435640" y="2708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0" name="TextBox 20"/>
          <p:cNvSpPr/>
          <p:nvPr/>
        </p:nvSpPr>
        <p:spPr>
          <a:xfrm>
            <a:off x="5364000" y="5661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1" name="TextBox 20"/>
          <p:cNvSpPr/>
          <p:nvPr/>
        </p:nvSpPr>
        <p:spPr>
          <a:xfrm>
            <a:off x="1547640" y="436572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2" name="Straight Connector 43"/>
          <p:cNvSpPr/>
          <p:nvPr/>
        </p:nvSpPr>
        <p:spPr>
          <a:xfrm flipH="1" flipV="1">
            <a:off x="2050920" y="2923920"/>
            <a:ext cx="36720" cy="36036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Box 21"/>
          <p:cNvSpPr/>
          <p:nvPr/>
        </p:nvSpPr>
        <p:spPr>
          <a:xfrm flipV="1" rot="10800000">
            <a:off x="3708000" y="2132640"/>
            <a:ext cx="1133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66"/>
              </a:solidFill>
              <a:latin typeface="Times New Roman"/>
            </a:endParaRPr>
          </a:p>
        </p:txBody>
      </p:sp>
      <p:sp>
        <p:nvSpPr>
          <p:cNvPr id="694" name="TextBox 20"/>
          <p:cNvSpPr/>
          <p:nvPr/>
        </p:nvSpPr>
        <p:spPr>
          <a:xfrm>
            <a:off x="6659640" y="3645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Leader</a:t>
            </a:r>
            <a:endParaRPr b="0" lang="en-US" sz="1100" spc="-1" strike="noStrike">
              <a:solidFill>
                <a:srgbClr val="000066"/>
              </a:solidFill>
              <a:latin typeface="Times New Roman"/>
            </a:endParaRPr>
          </a:p>
        </p:txBody>
      </p:sp>
      <p:sp>
        <p:nvSpPr>
          <p:cNvPr id="695" name="TextBox 21"/>
          <p:cNvSpPr/>
          <p:nvPr/>
        </p:nvSpPr>
        <p:spPr>
          <a:xfrm flipV="1" rot="10800000">
            <a:off x="3634920" y="566100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96" name="TextBox 20"/>
          <p:cNvSpPr/>
          <p:nvPr/>
        </p:nvSpPr>
        <p:spPr>
          <a:xfrm>
            <a:off x="2700360" y="56610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97" name="TextBox 20"/>
          <p:cNvSpPr/>
          <p:nvPr/>
        </p:nvSpPr>
        <p:spPr>
          <a:xfrm>
            <a:off x="1619280" y="29973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8" name="Straight Connector 27"/>
          <p:cNvSpPr/>
          <p:nvPr/>
        </p:nvSpPr>
        <p:spPr>
          <a:xfrm flipH="1">
            <a:off x="971640" y="3645000"/>
            <a:ext cx="50472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TextBox 21"/>
          <p:cNvSpPr/>
          <p:nvPr/>
        </p:nvSpPr>
        <p:spPr>
          <a:xfrm flipV="1" rot="10800000">
            <a:off x="4716000" y="306864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66"/>
              </a:solidFill>
              <a:latin typeface="Times New Roman"/>
            </a:endParaRPr>
          </a:p>
        </p:txBody>
      </p:sp>
      <p:sp>
        <p:nvSpPr>
          <p:cNvPr id="700" name="Diamond 12"/>
          <p:cNvSpPr/>
          <p:nvPr/>
        </p:nvSpPr>
        <p:spPr>
          <a:xfrm>
            <a:off x="1476360" y="3284640"/>
            <a:ext cx="1224000" cy="71892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1" name=""/>
          <p:cNvGraphicFramePr/>
          <p:nvPr/>
        </p:nvGraphicFramePr>
        <p:xfrm>
          <a:off x="5796000" y="530064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Tes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Ep 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Catego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Resul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02" name="Straight Connector 50"/>
          <p:cNvSpPr/>
          <p:nvPr/>
        </p:nvSpPr>
        <p:spPr>
          <a:xfrm flipH="1">
            <a:off x="2050920" y="4003560"/>
            <a:ext cx="36720" cy="79380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3" name=""/>
          <p:cNvGraphicFramePr/>
          <p:nvPr/>
        </p:nvGraphicFramePr>
        <p:xfrm>
          <a:off x="179280" y="3284640"/>
          <a:ext cx="1042920" cy="6858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im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704" name="Elbow Connector 27"/>
          <p:cNvCxnSpPr/>
          <p:nvPr/>
        </p:nvCxnSpPr>
        <p:spPr>
          <a:xfrm flipV="1">
            <a:off x="2555640" y="3499920"/>
            <a:ext cx="4104360" cy="1658160"/>
          </a:xfrm>
          <a:prstGeom prst="bentConnector3">
            <a:avLst>
              <a:gd name="adj1" fmla="val 99473"/>
            </a:avLst>
          </a:prstGeom>
          <a:ln w="9360">
            <a:solidFill>
              <a:srgbClr val="9393fc"/>
            </a:solidFill>
            <a:miter/>
          </a:ln>
        </p:spPr>
      </p:cxnSp>
      <p:cxnSp>
        <p:nvCxnSpPr>
          <p:cNvPr id="705" name="Elbow Connector 27"/>
          <p:cNvCxnSpPr/>
          <p:nvPr/>
        </p:nvCxnSpPr>
        <p:spPr>
          <a:xfrm flipH="1" flipV="1" rot="10800000">
            <a:off x="2123640" y="5660280"/>
            <a:ext cx="3672720" cy="289440"/>
          </a:xfrm>
          <a:prstGeom prst="bentConnector3">
            <a:avLst>
              <a:gd name="adj1" fmla="val -117"/>
            </a:avLst>
          </a:prstGeom>
          <a:ln w="9360">
            <a:solidFill>
              <a:srgbClr val="9393fc"/>
            </a:solidFill>
            <a:miter/>
          </a:ln>
        </p:spPr>
      </p:cxnSp>
      <p:cxnSp>
        <p:nvCxnSpPr>
          <p:cNvPr id="706" name="Elbow Connector 27"/>
          <p:cNvCxnSpPr>
            <a:stCxn id="700" idx="3"/>
          </p:cNvCxnSpPr>
          <p:nvPr/>
        </p:nvCxnSpPr>
        <p:spPr>
          <a:xfrm flipV="1">
            <a:off x="2700000" y="2996640"/>
            <a:ext cx="3312360" cy="648360"/>
          </a:xfrm>
          <a:prstGeom prst="bentConnector3">
            <a:avLst>
              <a:gd name="adj1" fmla="val 50000"/>
            </a:avLst>
          </a:prstGeom>
          <a:ln w="9360">
            <a:solidFill>
              <a:srgbClr val="9393fc"/>
            </a:solidFill>
            <a:miter/>
          </a:ln>
        </p:spPr>
      </p:cxnSp>
      <p:sp>
        <p:nvSpPr>
          <p:cNvPr id="707" name="Straight Connector 92"/>
          <p:cNvSpPr/>
          <p:nvPr/>
        </p:nvSpPr>
        <p:spPr>
          <a:xfrm flipH="1">
            <a:off x="2484000" y="2421000"/>
            <a:ext cx="352764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8" name=""/>
          <p:cNvGraphicFramePr/>
          <p:nvPr/>
        </p:nvGraphicFramePr>
        <p:xfrm>
          <a:off x="1547640" y="1773360"/>
          <a:ext cx="1043280" cy="1152360"/>
        </p:xfrm>
        <a:graphic>
          <a:graphicData uri="http://schemas.openxmlformats.org/drawingml/2006/table">
            <a:tbl>
              <a:tblPr/>
              <a:tblGrid>
                <a:gridCol w="1043280"/>
              </a:tblGrid>
              <a:tr h="30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Ward</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5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pa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9" name=""/>
          <p:cNvGraphicFramePr/>
          <p:nvPr/>
        </p:nvGraphicFramePr>
        <p:xfrm>
          <a:off x="5867280" y="1916280"/>
          <a:ext cx="1513080" cy="1584000"/>
        </p:xfrm>
        <a:graphic>
          <a:graphicData uri="http://schemas.openxmlformats.org/drawingml/2006/table">
            <a:tbl>
              <a:tblPr/>
              <a:tblGrid>
                <a:gridCol w="1513080"/>
              </a:tblGrid>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octo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oc_NO{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10" name=""/>
          <p:cNvGraphicFramePr/>
          <p:nvPr/>
        </p:nvGraphicFramePr>
        <p:xfrm>
          <a:off x="1547640" y="4797360"/>
          <a:ext cx="1043280" cy="152424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atie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MRN{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11" name="TextBox 20"/>
          <p:cNvSpPr/>
          <p:nvPr/>
        </p:nvSpPr>
        <p:spPr>
          <a:xfrm>
            <a:off x="2700360" y="4581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712" name="TextBox 21"/>
          <p:cNvSpPr/>
          <p:nvPr/>
        </p:nvSpPr>
        <p:spPr>
          <a:xfrm flipV="1" rot="10800000">
            <a:off x="1763280" y="350028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Admits</a:t>
            </a:r>
            <a:endParaRPr b="0" lang="en-US" sz="11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EDDE-6550-4EF2-B819-F88C10F0B45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1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05A4-A923-4B4B-A42A-6BD9E0C5FD8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0" name="Picture 6" descr="Printer_ER_Lab3.jpg"/>
          <p:cNvPicPr/>
          <p:nvPr/>
        </p:nvPicPr>
        <p:blipFill>
          <a:blip r:embed="rId1"/>
          <a:stretch/>
        </p:blipFill>
        <p:spPr>
          <a:xfrm>
            <a:off x="1187280" y="1700280"/>
            <a:ext cx="6370920" cy="41958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05FC-07C4-48B4-B927-25ED9CE042F4}"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3"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2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DEF6-1F77-4304-A973-CD597D93905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8" name="Picture 5" descr="Jornal_ER_Lab3.jpg"/>
          <p:cNvPicPr/>
          <p:nvPr/>
        </p:nvPicPr>
        <p:blipFill>
          <a:blip r:embed="rId1"/>
          <a:stretch/>
        </p:blipFill>
        <p:spPr>
          <a:xfrm>
            <a:off x="1042920" y="1628640"/>
            <a:ext cx="7274160" cy="44643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F2E5-89F2-48CC-AF95-9837D115212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Database :ER Case Study</a:t>
            </a:r>
            <a:endParaRPr b="0" lang="en-US" sz="3200" spc="-1" strike="noStrike">
              <a:solidFill>
                <a:srgbClr val="000080"/>
              </a:solidFill>
              <a:latin typeface="Times New Roman"/>
            </a:endParaRPr>
          </a:p>
        </p:txBody>
      </p:sp>
      <p:sp>
        <p:nvSpPr>
          <p:cNvPr id="56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fontScale="91000"/>
          </a:bodyPr>
          <a:p>
            <a:pPr marL="312120" indent="-31212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sider the following set of requirements for a Bank database that is used to keep track of Customer.</a:t>
            </a:r>
            <a:endParaRPr b="0" lang="en-US" sz="20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ank has a unique name.</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ranch has a number, name, address (number, street, city), and set of phones.</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ustomer includes their name, set of address (P.O. Box, city, zip code, country), set of phones, and social security number. </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ccounts have numbers, types (e.g. saving, checking) and balance. Other branches might use the same designation for accounts. So to name an account uniquely, we need to give both the branch number to which this account belongs to and the account numb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all bank customers must own accounts and a customer may have at most 5 accounts in the bank.</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 account must have only one custom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 customer may have many accounts in different branches.</a:t>
            </a:r>
            <a:endParaRPr b="0" lang="en-US" sz="1800" spc="-1" strike="noStrike">
              <a:solidFill>
                <a:srgbClr val="000066"/>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1B90-8473-4F8F-9A82-44EEDD124A4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 :ER Case Study</a:t>
            </a:r>
            <a:endParaRPr b="0" lang="en-US" sz="3200" spc="-1" strike="noStrike">
              <a:solidFill>
                <a:srgbClr val="000080"/>
              </a:solidFill>
              <a:latin typeface="Times New Roman"/>
            </a:endParaRPr>
          </a:p>
        </p:txBody>
      </p:sp>
      <p:sp>
        <p:nvSpPr>
          <p:cNvPr id="56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sign an ER schema for this application, and draw an ER diagram for that schema.</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pecify key attributes of each entity type and structural constraints on each relationship type. </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te any unspecified requirements, and make appropriate assumptions to make the specification complete.</a:t>
            </a: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942A-3F66-4B97-99AA-F0E45975FD0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574"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graphicFrame>
        <p:nvGraphicFramePr>
          <p:cNvPr id="575" name=""/>
          <p:cNvGraphicFramePr/>
          <p:nvPr/>
        </p:nvGraphicFramePr>
        <p:xfrm>
          <a:off x="7273800" y="3981600"/>
          <a:ext cx="1043280" cy="8874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576"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577"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578"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579" name=""/>
          <p:cNvGraphicFramePr/>
          <p:nvPr/>
        </p:nvGraphicFramePr>
        <p:xfrm>
          <a:off x="4465800" y="1749600"/>
          <a:ext cx="1223640" cy="1531800"/>
        </p:xfrm>
        <a:graphic>
          <a:graphicData uri="http://schemas.openxmlformats.org/drawingml/2006/table">
            <a:tbl>
              <a:tblPr/>
              <a:tblGrid>
                <a:gridCol w="1223640"/>
              </a:tblGrid>
              <a:tr h="26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80"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581"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582"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583"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4"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5"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6"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7"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588" name=""/>
          <p:cNvGraphicFramePr/>
          <p:nvPr/>
        </p:nvGraphicFramePr>
        <p:xfrm>
          <a:off x="2162160" y="2840040"/>
          <a:ext cx="1042920" cy="16923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589" name=""/>
          <p:cNvGraphicFramePr/>
          <p:nvPr/>
        </p:nvGraphicFramePr>
        <p:xfrm>
          <a:off x="331308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90"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591"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592" name="Straight Arrow Connector 24"/>
          <p:cNvCxnSpPr/>
          <p:nvPr/>
        </p:nvCxnSpPr>
        <p:spPr>
          <a:xfrm>
            <a:off x="2484360" y="5084280"/>
            <a:ext cx="1440360" cy="1080"/>
          </a:xfrm>
          <a:prstGeom prst="straightConnector1">
            <a:avLst/>
          </a:prstGeom>
          <a:ln w="12600">
            <a:solidFill>
              <a:srgbClr val="000066"/>
            </a:solidFill>
            <a:miter/>
            <a:tailEnd len="med" type="arrow" w="med"/>
          </a:ln>
        </p:spPr>
      </p:cxnSp>
      <p:sp>
        <p:nvSpPr>
          <p:cNvPr id="593" name="Oval 65"/>
          <p:cNvSpPr/>
          <p:nvPr/>
        </p:nvSpPr>
        <p:spPr>
          <a:xfrm>
            <a:off x="324000" y="4508640"/>
            <a:ext cx="2303280" cy="18730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TextBox 26"/>
          <p:cNvSpPr/>
          <p:nvPr/>
        </p:nvSpPr>
        <p:spPr>
          <a:xfrm flipV="1" rot="10800000">
            <a:off x="684360" y="4651920"/>
            <a:ext cx="1752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Reason of chasm trap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Note all customer should have an account .So we can not answer this question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List all customer available on a specific branch?</a:t>
            </a:r>
            <a:endParaRPr b="0" lang="en-US" sz="1200" spc="-1" strike="noStrike">
              <a:solidFill>
                <a:srgbClr val="000066"/>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5A70-B7CB-4454-94BB-94493355E39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9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cxnSp>
        <p:nvCxnSpPr>
          <p:cNvPr id="598" name="Elbow Connector 27"/>
          <p:cNvCxnSpPr/>
          <p:nvPr/>
        </p:nvCxnSpPr>
        <p:spPr>
          <a:xfrm flipH="1" rot="10800000">
            <a:off x="2809440" y="2566440"/>
            <a:ext cx="1656720" cy="262080"/>
          </a:xfrm>
          <a:prstGeom prst="bentConnector3">
            <a:avLst>
              <a:gd name="adj1" fmla="val -912"/>
            </a:avLst>
          </a:prstGeom>
          <a:ln w="25560">
            <a:solidFill>
              <a:srgbClr val="cc0000"/>
            </a:solidFill>
            <a:miter/>
          </a:ln>
        </p:spPr>
      </p:cxnSp>
      <p:sp>
        <p:nvSpPr>
          <p:cNvPr id="599"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0" name="TextBox 21"/>
          <p:cNvSpPr/>
          <p:nvPr/>
        </p:nvSpPr>
        <p:spPr>
          <a:xfrm flipV="1" rot="10800000">
            <a:off x="2593440" y="2252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1" name="TextBox 20"/>
          <p:cNvSpPr/>
          <p:nvPr/>
        </p:nvSpPr>
        <p:spPr>
          <a:xfrm>
            <a:off x="2378160" y="2541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2" name="TextBox 20"/>
          <p:cNvSpPr/>
          <p:nvPr/>
        </p:nvSpPr>
        <p:spPr>
          <a:xfrm>
            <a:off x="4033800" y="225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03" name=""/>
          <p:cNvGraphicFramePr/>
          <p:nvPr/>
        </p:nvGraphicFramePr>
        <p:xfrm>
          <a:off x="7273800" y="3981600"/>
          <a:ext cx="1043280" cy="8874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604"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605"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606"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607" name=""/>
          <p:cNvGraphicFramePr/>
          <p:nvPr/>
        </p:nvGraphicFramePr>
        <p:xfrm>
          <a:off x="4465800" y="1749600"/>
          <a:ext cx="1223640" cy="1531800"/>
        </p:xfrm>
        <a:graphic>
          <a:graphicData uri="http://schemas.openxmlformats.org/drawingml/2006/table">
            <a:tbl>
              <a:tblPr/>
              <a:tblGrid>
                <a:gridCol w="1223640"/>
              </a:tblGrid>
              <a:tr h="26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08"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9"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10"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611"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2"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3"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4"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5"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616" name=""/>
          <p:cNvGraphicFramePr/>
          <p:nvPr/>
        </p:nvGraphicFramePr>
        <p:xfrm>
          <a:off x="2162160" y="2840040"/>
          <a:ext cx="1042920" cy="16923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17" name=""/>
          <p:cNvGraphicFramePr/>
          <p:nvPr/>
        </p:nvGraphicFramePr>
        <p:xfrm>
          <a:off x="331308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18"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619"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20" name="Straight Arrow Connector 24"/>
          <p:cNvCxnSpPr/>
          <p:nvPr/>
        </p:nvCxnSpPr>
        <p:spPr>
          <a:xfrm>
            <a:off x="2205000" y="2139840"/>
            <a:ext cx="496080" cy="137520"/>
          </a:xfrm>
          <a:prstGeom prst="straightConnector1">
            <a:avLst/>
          </a:prstGeom>
          <a:ln w="12600">
            <a:solidFill>
              <a:srgbClr val="000066"/>
            </a:solidFill>
            <a:miter/>
            <a:tailEnd len="med" type="arrow" w="med"/>
          </a:ln>
        </p:spPr>
      </p:cxnSp>
      <p:sp>
        <p:nvSpPr>
          <p:cNvPr id="621" name="Oval 58"/>
          <p:cNvSpPr/>
          <p:nvPr/>
        </p:nvSpPr>
        <p:spPr>
          <a:xfrm>
            <a:off x="250920" y="1557360"/>
            <a:ext cx="2160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2" name="TextBox 26"/>
          <p:cNvSpPr/>
          <p:nvPr/>
        </p:nvSpPr>
        <p:spPr>
          <a:xfrm flipV="1" rot="10800000">
            <a:off x="468360" y="1699200"/>
            <a:ext cx="1752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To avoid chasm trap we add this relationship </a:t>
            </a:r>
            <a:endParaRPr b="0" lang="en-US" sz="1200" spc="-1" strike="noStrike">
              <a:solidFill>
                <a:srgbClr val="000066"/>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4" name=""/>
          <p:cNvSpPr txBox="1"/>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imary key of account (Weak entity ):</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Branch_No (PK of Strong entity) + accountNo (discriminator) </a:t>
            </a:r>
            <a:endParaRPr b="0" lang="en-US" sz="2800" spc="-1" strike="noStrike">
              <a:solidFill>
                <a:srgbClr val="000066"/>
              </a:solidFill>
              <a:latin typeface="Times New Roman"/>
            </a:endParaRPr>
          </a:p>
        </p:txBody>
      </p:sp>
      <p:sp>
        <p:nvSpPr>
          <p:cNvPr id="62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9596-65B8-4ED7-9A97-234A51F40F3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66A2-C22D-4E60-9804-C58FEE9FA1A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a:t>
            </a:r>
            <a:r>
              <a:rPr b="1" lang="en-US" sz="3200" spc="-1" strike="noStrike">
                <a:solidFill>
                  <a:srgbClr val="3a21ef"/>
                </a:solidFill>
                <a:latin typeface="Times New Roman"/>
              </a:rPr>
              <a:t> :ER Case Study</a:t>
            </a:r>
            <a:endParaRPr b="0" lang="en-US" sz="3200" spc="-1" strike="noStrike">
              <a:solidFill>
                <a:srgbClr val="000080"/>
              </a:solidFill>
              <a:latin typeface="Times New Roman"/>
            </a:endParaRPr>
          </a:p>
        </p:txBody>
      </p:sp>
      <p:sp>
        <p:nvSpPr>
          <p:cNvPr id="628"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2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A618-46F6-49DD-8201-DBDAB1A5DD6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3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4"/>
          <p:cNvSpPr/>
          <p:nvPr/>
        </p:nvSpPr>
        <p:spPr>
          <a:xfrm>
            <a:off x="1116000" y="177336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2D91-5FAA-4012-9E1F-E156C3F8C14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38" name="TextBox 20"/>
          <p:cNvSpPr/>
          <p:nvPr/>
        </p:nvSpPr>
        <p:spPr>
          <a:xfrm>
            <a:off x="5130720" y="563724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39" name="TextBox 20"/>
          <p:cNvSpPr/>
          <p:nvPr/>
        </p:nvSpPr>
        <p:spPr>
          <a:xfrm>
            <a:off x="3220920" y="2637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40" name="TextBox 20"/>
          <p:cNvSpPr/>
          <p:nvPr/>
        </p:nvSpPr>
        <p:spPr>
          <a:xfrm>
            <a:off x="6245280" y="2637000"/>
            <a:ext cx="428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41" name="Elbow Connector 27"/>
          <p:cNvCxnSpPr/>
          <p:nvPr/>
        </p:nvCxnSpPr>
        <p:spPr>
          <a:xfrm flipV="1" rot="16200000">
            <a:off x="2386800" y="3830040"/>
            <a:ext cx="2353320" cy="1981800"/>
          </a:xfrm>
          <a:prstGeom prst="bentConnector3">
            <a:avLst>
              <a:gd name="adj1" fmla="val 50000"/>
            </a:avLst>
          </a:prstGeom>
          <a:ln w="9360">
            <a:solidFill>
              <a:srgbClr val="9393fc"/>
            </a:solidFill>
            <a:miter/>
          </a:ln>
        </p:spPr>
      </p:cxnSp>
      <p:cxnSp>
        <p:nvCxnSpPr>
          <p:cNvPr id="642" name="Elbow Connector 27"/>
          <p:cNvCxnSpPr/>
          <p:nvPr/>
        </p:nvCxnSpPr>
        <p:spPr>
          <a:xfrm flipV="1">
            <a:off x="5076720" y="4004640"/>
            <a:ext cx="2393280" cy="1872360"/>
          </a:xfrm>
          <a:prstGeom prst="bentConnector3">
            <a:avLst>
              <a:gd name="adj1" fmla="val 102076"/>
            </a:avLst>
          </a:prstGeom>
          <a:ln w="9360">
            <a:solidFill>
              <a:srgbClr val="9393fc"/>
            </a:solidFill>
            <a:miter/>
          </a:ln>
        </p:spPr>
      </p:cxnSp>
      <p:sp>
        <p:nvSpPr>
          <p:cNvPr id="643" name="TextBox 21"/>
          <p:cNvSpPr/>
          <p:nvPr/>
        </p:nvSpPr>
        <p:spPr>
          <a:xfrm flipV="1" rot="10800000">
            <a:off x="270036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44" name="TextBox 21"/>
          <p:cNvSpPr/>
          <p:nvPr/>
        </p:nvSpPr>
        <p:spPr>
          <a:xfrm flipV="1" rot="10800000">
            <a:off x="7468920" y="508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66"/>
              </a:solidFill>
              <a:latin typeface="Times New Roman"/>
            </a:endParaRPr>
          </a:p>
        </p:txBody>
      </p:sp>
      <p:sp>
        <p:nvSpPr>
          <p:cNvPr id="645" name="TextBox 20"/>
          <p:cNvSpPr/>
          <p:nvPr/>
        </p:nvSpPr>
        <p:spPr>
          <a:xfrm>
            <a:off x="6173640" y="3456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sp>
        <p:nvSpPr>
          <p:cNvPr id="646" name="TextBox 20"/>
          <p:cNvSpPr/>
          <p:nvPr/>
        </p:nvSpPr>
        <p:spPr>
          <a:xfrm>
            <a:off x="3726000" y="2637000"/>
            <a:ext cx="8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Employee</a:t>
            </a:r>
            <a:endParaRPr b="0" lang="en-US" sz="1100" spc="-1" strike="noStrike">
              <a:solidFill>
                <a:srgbClr val="000066"/>
              </a:solidFill>
              <a:latin typeface="Times New Roman"/>
            </a:endParaRPr>
          </a:p>
        </p:txBody>
      </p:sp>
      <p:sp>
        <p:nvSpPr>
          <p:cNvPr id="647" name="TextBox 20"/>
          <p:cNvSpPr/>
          <p:nvPr/>
        </p:nvSpPr>
        <p:spPr>
          <a:xfrm>
            <a:off x="6966000" y="4103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8" name="TextBox 20"/>
          <p:cNvSpPr/>
          <p:nvPr/>
        </p:nvSpPr>
        <p:spPr>
          <a:xfrm>
            <a:off x="3220920" y="3456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9" name="TextBox 20"/>
          <p:cNvSpPr/>
          <p:nvPr/>
        </p:nvSpPr>
        <p:spPr>
          <a:xfrm>
            <a:off x="4554360" y="49896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50" name=""/>
          <p:cNvGraphicFramePr/>
          <p:nvPr/>
        </p:nvGraphicFramePr>
        <p:xfrm>
          <a:off x="405144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rojec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ro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1" name="TextBox 20"/>
          <p:cNvSpPr/>
          <p:nvPr/>
        </p:nvSpPr>
        <p:spPr>
          <a:xfrm>
            <a:off x="2141640" y="4005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52" name="Straight Connector 43"/>
          <p:cNvSpPr/>
          <p:nvPr/>
        </p:nvSpPr>
        <p:spPr>
          <a:xfrm flipH="1">
            <a:off x="3149640" y="2924280"/>
            <a:ext cx="3527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Straight Connector 47"/>
          <p:cNvSpPr/>
          <p:nvPr/>
        </p:nvSpPr>
        <p:spPr>
          <a:xfrm flipH="1">
            <a:off x="3220560" y="3716280"/>
            <a:ext cx="35290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54" name=""/>
          <p:cNvGraphicFramePr/>
          <p:nvPr/>
        </p:nvGraphicFramePr>
        <p:xfrm>
          <a:off x="6676920" y="2421000"/>
          <a:ext cx="1513080" cy="1584360"/>
        </p:xfrm>
        <a:graphic>
          <a:graphicData uri="http://schemas.openxmlformats.org/drawingml/2006/table">
            <a:tbl>
              <a:tblPr/>
              <a:tblGrid>
                <a:gridCol w="1513080"/>
              </a:tblGrid>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epartme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p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employe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55" name=""/>
          <p:cNvGraphicFramePr/>
          <p:nvPr/>
        </p:nvGraphicFramePr>
        <p:xfrm>
          <a:off x="2141640" y="2349360"/>
          <a:ext cx="1042920" cy="1584360"/>
        </p:xfrm>
        <a:graphic>
          <a:graphicData uri="http://schemas.openxmlformats.org/drawingml/2006/table">
            <a:tbl>
              <a:tblPr/>
              <a:tblGrid>
                <a:gridCol w="1042920"/>
              </a:tblGrid>
              <a:tr h="31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Employe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irth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e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alary</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6" name="TextBox 21"/>
          <p:cNvSpPr/>
          <p:nvPr/>
        </p:nvSpPr>
        <p:spPr>
          <a:xfrm flipV="1" rot="10800000">
            <a:off x="4589640" y="3455280"/>
            <a:ext cx="113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7" name="TextBox 21"/>
          <p:cNvSpPr/>
          <p:nvPr/>
        </p:nvSpPr>
        <p:spPr>
          <a:xfrm flipV="1" rot="10800000">
            <a:off x="4804920" y="263628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8" name="TextBox 20"/>
          <p:cNvSpPr/>
          <p:nvPr/>
        </p:nvSpPr>
        <p:spPr>
          <a:xfrm>
            <a:off x="3652920" y="3456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Manager</a:t>
            </a:r>
            <a:endParaRPr b="0" lang="en-US" sz="1100" spc="-1" strike="noStrike">
              <a:solidFill>
                <a:srgbClr val="000066"/>
              </a:solidFill>
              <a:latin typeface="Times New Roman"/>
            </a:endParaRPr>
          </a:p>
        </p:txBody>
      </p:sp>
      <p:sp>
        <p:nvSpPr>
          <p:cNvPr id="659" name="TextBox 21"/>
          <p:cNvSpPr/>
          <p:nvPr/>
        </p:nvSpPr>
        <p:spPr>
          <a:xfrm flipV="1" rot="10800000">
            <a:off x="1402920" y="1556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60" name="TextBox 21"/>
          <p:cNvSpPr/>
          <p:nvPr/>
        </p:nvSpPr>
        <p:spPr>
          <a:xfrm flipV="1" rot="10800000">
            <a:off x="971280" y="2780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or</a:t>
            </a:r>
            <a:endParaRPr b="0" lang="en-US" sz="1100" spc="-1" strike="noStrike">
              <a:solidFill>
                <a:srgbClr val="000066"/>
              </a:solidFill>
              <a:latin typeface="Times New Roman"/>
            </a:endParaRPr>
          </a:p>
        </p:txBody>
      </p:sp>
      <p:sp>
        <p:nvSpPr>
          <p:cNvPr id="661" name="TextBox 21"/>
          <p:cNvSpPr/>
          <p:nvPr/>
        </p:nvSpPr>
        <p:spPr>
          <a:xfrm flipV="1" rot="10800000">
            <a:off x="2916360" y="198900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ee</a:t>
            </a:r>
            <a:endParaRPr b="0" lang="en-US" sz="1100" spc="-1" strike="noStrike">
              <a:solidFill>
                <a:srgbClr val="000066"/>
              </a:solidFill>
              <a:latin typeface="Times New Roman"/>
            </a:endParaRPr>
          </a:p>
        </p:txBody>
      </p:sp>
      <p:sp>
        <p:nvSpPr>
          <p:cNvPr id="662" name="TextBox 20"/>
          <p:cNvSpPr/>
          <p:nvPr/>
        </p:nvSpPr>
        <p:spPr>
          <a:xfrm>
            <a:off x="2484360" y="2060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63" name="TextBox 20"/>
          <p:cNvSpPr/>
          <p:nvPr/>
        </p:nvSpPr>
        <p:spPr>
          <a:xfrm>
            <a:off x="1692360" y="24922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graphicFrame>
        <p:nvGraphicFramePr>
          <p:cNvPr id="664" name=""/>
          <p:cNvGraphicFramePr/>
          <p:nvPr/>
        </p:nvGraphicFramePr>
        <p:xfrm>
          <a:off x="4643280" y="4005360"/>
          <a:ext cx="1043280" cy="5508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8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tart Dat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5" name="Straight Connector 27"/>
          <p:cNvSpPr/>
          <p:nvPr/>
        </p:nvSpPr>
        <p:spPr>
          <a:xfrm flipV="1">
            <a:off x="5148360" y="3715920"/>
            <a:ext cx="7920" cy="2890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66" name=""/>
          <p:cNvGraphicFramePr/>
          <p:nvPr/>
        </p:nvGraphicFramePr>
        <p:xfrm>
          <a:off x="2627280" y="5084640"/>
          <a:ext cx="1042920" cy="5511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8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Hours</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7" name="Straight Connector 27"/>
          <p:cNvSpPr/>
          <p:nvPr/>
        </p:nvSpPr>
        <p:spPr>
          <a:xfrm flipV="1">
            <a:off x="3132000" y="4797360"/>
            <a:ext cx="7920" cy="287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TextBox 21"/>
          <p:cNvSpPr/>
          <p:nvPr/>
        </p:nvSpPr>
        <p:spPr>
          <a:xfrm flipV="1" rot="10800000">
            <a:off x="2555640" y="400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Worker</a:t>
            </a:r>
            <a:endParaRPr b="0" lang="en-US" sz="11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
Database Systems: A Practical Approach to Design, Implementation, and Management</dc:description>
  <dc:language>en-US</dc:language>
  <cp:lastModifiedBy>sara</cp:lastModifiedBy>
  <cp:lastPrinted>1998-06-24T16:37:58Z</cp:lastPrinted>
  <dcterms:modified xsi:type="dcterms:W3CDTF">2014-02-22T21:13:12Z</dcterms:modified>
  <cp:revision>105</cp:revision>
  <dc:subject>Database Systems</dc:subject>
  <dc:title>Chapter 11</dc:title>
</cp:coreProperties>
</file>