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B024-5287-4B14-892B-41D56AD76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B403-CDB6-459C-B710-561EE83F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45C7-BAC6-4CF4-BB72-B4DDB7EC6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F878-D56C-4FD0-B754-C2035FE75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D03E5-A2C0-49B3-83AD-D67986DBC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BA01-A1F0-4350-A955-B01A2C61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0F18-07D0-4894-AD3F-71F5540E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B6AB-7403-4A96-B2BF-D0B14B30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187EA-E086-4B17-80C6-BCB2D2A7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961D-9737-4575-ABCD-103A0E7A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5077-EB68-48DB-A6AC-38742887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1B4A-ED76-4C7D-9F27-B66D1135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76F9-D2EF-4006-8D46-EDF92B32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0B93-4DB5-44F6-A284-87324ACE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FBEE-AF4C-40D5-99DE-F7506B51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971A-29C7-4566-A47F-4E3AD54E3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8982-FE12-4584-ACBA-9F107C646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3FBEF-340C-4EB3-B146-9BAEC0678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83143-8608-4229-8E81-EB483CA5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341E8-71D1-4DDD-A2DD-5DDF9BD3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012C4-BDF9-4CB8-B016-8F9DD635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5651C-36A1-4F53-81AA-8526F15E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2896-8842-4695-91D6-30DFD70C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9E406-FD98-4629-A67E-201126F9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0A0E7-6C99-4EB2-9265-044519B9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8D61F-C6CF-4249-BFE4-E33C4CEE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F019C-ECE3-4CCC-8196-EC33410A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0D6F4-15E3-4FD1-BB98-BED323CE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21023-BE91-4BCF-AD82-62FD08FE3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25F91-69B3-4750-BF88-3A554BE5B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06609-B5E6-481F-87CC-DD99F62F6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ACF2A-8114-4D59-8344-543CE633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56242-1AF0-4D78-A00C-D0DA5FCC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EEA1-16CA-4606-BD8A-C6361031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BCE90-6C2A-435C-B6AF-0B03D9A0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4DE94-AFE3-4985-B713-2E8368B8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DE65D-D435-458B-AFBB-A9FB86A7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D9331-BCE8-4226-89E9-362FCC45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F4A30-BA5F-4986-B045-EFC691B3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9348C-7953-4AEC-86D1-38B91BA2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18A29-2B5B-4D0E-B596-F25DC0F3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946AD-A18B-476C-9311-327524878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965AD-C176-4060-9DFE-ED2C57284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95D7B-CBCE-4BE4-8C99-FD7B1B2C2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65DD-2027-491E-A04F-7960E5B8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E81AE-8A5B-408D-9545-503396D9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6BBD4-160C-4F7C-9788-53A89144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BD459-19DC-4C5F-B700-5442C543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310D1-42D3-4E7A-BE1B-88A5B4E4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193C2-E461-4FAD-822B-8B978E3A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5EAB7-9894-4977-A957-95F828F6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DD791-8835-45A6-BB2F-1BC0F5AC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3E19A-E0CF-4221-9E16-65460C92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0D5FB-E05E-4F38-B97E-C355D92A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A42CE-FE05-479C-BE47-FFDE1BF68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003A-2D07-4526-819D-9583A9C3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8DAB5-C0F7-45C0-8E69-80F7251EE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56344-9031-46EE-B896-F519B76A3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7A007-C909-49E8-A04D-9CF6E90D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0067A-4FEE-499C-8165-88448A7C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8352E-BC52-44B8-87E6-536CEDE9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9C0DD-F58A-448E-B7E2-4F0FEDB3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C2893-835F-4891-B86C-F6682F72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1A195-7F4C-4EFC-99DF-F1A3FC02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E0925-8FE6-40A4-8508-E9BE18E4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2599A-40F4-4EAD-8173-CD29E632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499C-A93E-4590-A708-6C458087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5DFAE-E385-4C96-A17B-944AEF29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5F002-E22C-4D1A-A3C8-CFB75F14A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9308D-DE22-4CA2-96CD-C3FD1ABA4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B703-29CC-43DA-A50D-4D9F6372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0D66-2063-4E99-B70D-167250E8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شكل حر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8546-BEDE-44A4-AD81-5BD18279E487}" type="slidenum">
              <a:rPr b="0" lang="cs-CZ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شكل حر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شكل حر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19CE-939D-4A4D-A9F4-6C64AA029B02}" type="slidenum">
              <a:rPr b="0" lang="cs-CZ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شكل حر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شكل حر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6215-CB0A-454A-B793-2DC3A45EDB9F}" type="slidenum">
              <a:rPr b="0" lang="cs-CZ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97BB-792F-45BD-814D-5094E559C8F4}" type="slidenum">
              <a:rPr b="0" lang="cs-CZ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شكل حر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شكل حر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BB21-1173-494C-9716-7F54C83E6CA4}" type="slidenum">
              <a:rPr b="0" lang="cs-CZ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2D74-BB92-4C98-8EAB-E277B7ED2D26}" type="slidenum">
              <a:rPr b="0" lang="cs-CZ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0" y="3143160"/>
            <a:ext cx="91440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a collection of grey matter deeply in ea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rebral hemisp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play an important role in the control of posture and voluntary mov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1999800"/>
            <a:ext cx="89438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600" spc="-1" strike="noStrike">
                <a:solidFill>
                  <a:srgbClr val="ffffff"/>
                </a:solidFill>
                <a:latin typeface="Franklin Gothic Book"/>
              </a:rPr>
              <a:t>Basal gangli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videoplayback_5.wmv" descr=""/>
          <p:cNvPicPr/>
          <p:nvPr/>
        </p:nvPicPr>
        <p:blipFill>
          <a:blip r:embed="rId1"/>
          <a:stretch/>
        </p:blipFill>
        <p:spPr>
          <a:xfrm>
            <a:off x="1143000" y="1000080"/>
            <a:ext cx="678168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3" dur="1" fill="hold"/>
                                        <p:tgtEl>
                                          <p:spTgt spid="2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مستطيل 7"/>
          <p:cNvSpPr/>
          <p:nvPr/>
        </p:nvSpPr>
        <p:spPr>
          <a:xfrm>
            <a:off x="1285920" y="571680"/>
            <a:ext cx="62863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baseline="-25000">
                <a:solidFill>
                  <a:srgbClr val="fef58b"/>
                </a:solidFill>
                <a:latin typeface="Tahoma"/>
              </a:rPr>
              <a:t>Dysfunction in globus pallidus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مستطيل 8"/>
          <p:cNvSpPr/>
          <p:nvPr/>
        </p:nvSpPr>
        <p:spPr>
          <a:xfrm>
            <a:off x="3500280" y="1643040"/>
            <a:ext cx="20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hetosi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مستطيل 4"/>
          <p:cNvSpPr/>
          <p:nvPr/>
        </p:nvSpPr>
        <p:spPr>
          <a:xfrm>
            <a:off x="571680" y="2357280"/>
            <a:ext cx="6715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Features: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voluntary, slow, sinuous, writhing movements involving distal part of limb (hand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videoplayback_3.wmv" descr=""/>
          <p:cNvPicPr/>
          <p:nvPr/>
        </p:nvPicPr>
        <p:blipFill>
          <a:blip r:embed="rId1"/>
          <a:stretch/>
        </p:blipFill>
        <p:spPr>
          <a:xfrm>
            <a:off x="13572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9" dur="1" fill="hold"/>
                                        <p:tgtEl>
                                          <p:spTgt spid="2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مربع نص 6"/>
          <p:cNvSpPr/>
          <p:nvPr/>
        </p:nvSpPr>
        <p:spPr>
          <a:xfrm>
            <a:off x="357120" y="2357280"/>
            <a:ext cx="85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Thank You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مستطيل 3"/>
          <p:cNvSpPr/>
          <p:nvPr/>
        </p:nvSpPr>
        <p:spPr>
          <a:xfrm>
            <a:off x="428760" y="357120"/>
            <a:ext cx="778644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Functions of basal ganglia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-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esign of plans, which convert thought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nd ideas into motor actions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produce a coordinated organized purposeful movem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etermining the timing and scale of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ovement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o what extent the movement will be fast, and how long it will las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torage of motor programs of familiar motor a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1"/>
          <p:cNvSpPr/>
          <p:nvPr/>
        </p:nvSpPr>
        <p:spPr>
          <a:xfrm>
            <a:off x="1143000" y="-270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Rectangle 14"/>
          <p:cNvSpPr/>
          <p:nvPr/>
        </p:nvSpPr>
        <p:spPr>
          <a:xfrm>
            <a:off x="1071720" y="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Dotum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Dotum"/>
              </a:rPr>
              <a:t>Parts of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Dotum"/>
              </a:rPr>
              <a:t>Basal Gangli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9" name="Picture 9" descr="14-11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5384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http://thalamus.wustl.edu/course/cbell1.gif"/>
          <p:cNvPicPr/>
          <p:nvPr/>
        </p:nvPicPr>
        <p:blipFill>
          <a:blip r:embed="rId1"/>
          <a:stretch/>
        </p:blipFill>
        <p:spPr>
          <a:xfrm>
            <a:off x="714240" y="500040"/>
            <a:ext cx="7662960" cy="5857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1285560"/>
            <a:ext cx="8943840" cy="57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100" spc="-1" strike="noStrike">
                <a:solidFill>
                  <a:srgbClr val="ffffff"/>
                </a:solidFill>
                <a:latin typeface="Franklin Gothic Book"/>
              </a:rPr>
              <a:t>Parkinson's disease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مستطيل 5"/>
          <p:cNvSpPr/>
          <p:nvPr/>
        </p:nvSpPr>
        <p:spPr>
          <a:xfrm>
            <a:off x="285840" y="71424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58b"/>
                </a:solidFill>
                <a:latin typeface="Tahoma"/>
              </a:rPr>
              <a:t>Dysfunction in substantia nig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مستطيل 7"/>
          <p:cNvSpPr/>
          <p:nvPr/>
        </p:nvSpPr>
        <p:spPr>
          <a:xfrm>
            <a:off x="285840" y="2071800"/>
            <a:ext cx="8429400" cy="28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Features: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- Tremors: involuntary, rhythmic, oscillating movements. It occurs during r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- Rigidity: It occurs in both flexors, and extensors, but more in flexors giving flexion attitud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- lack of movement; Absence of swinging arm during walking, mask face, low- volume slow speec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مستطيل 8"/>
          <p:cNvSpPr/>
          <p:nvPr/>
        </p:nvSpPr>
        <p:spPr>
          <a:xfrm>
            <a:off x="0" y="142920"/>
            <a:ext cx="88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9e98e"/>
                </a:solidFill>
                <a:uFillTx/>
                <a:latin typeface="Tahoma"/>
              </a:rPr>
              <a:t>Clinical signs related 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9e98e"/>
                </a:solidFill>
                <a:uFillTx/>
                <a:latin typeface="Tahoma"/>
              </a:rPr>
              <a:t>Basal Ganglia dysfunc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videoplayback.wmv" descr=""/>
          <p:cNvPicPr/>
          <p:nvPr/>
        </p:nvPicPr>
        <p:blipFill>
          <a:blip r:embed="rId1"/>
          <a:stretch/>
        </p:blipFill>
        <p:spPr>
          <a:xfrm>
            <a:off x="428760" y="357120"/>
            <a:ext cx="816768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" dur="1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مستطيل 7"/>
          <p:cNvSpPr/>
          <p:nvPr/>
        </p:nvSpPr>
        <p:spPr>
          <a:xfrm>
            <a:off x="714240" y="201600"/>
            <a:ext cx="79297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25000">
                <a:solidFill>
                  <a:srgbClr val="fef58b"/>
                </a:solidFill>
                <a:latin typeface="Tahoma"/>
              </a:rPr>
              <a:t>Dysfunction in putamen + caudat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مستطيل 9"/>
          <p:cNvSpPr/>
          <p:nvPr/>
        </p:nvSpPr>
        <p:spPr>
          <a:xfrm>
            <a:off x="2857680" y="1214280"/>
            <a:ext cx="32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orea dise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مستطيل 4"/>
          <p:cNvSpPr/>
          <p:nvPr/>
        </p:nvSpPr>
        <p:spPr>
          <a:xfrm>
            <a:off x="428760" y="2143080"/>
            <a:ext cx="778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eatur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voluntary, quick, irregular, and purposeless movement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videoplayback_2.wmv" descr=""/>
          <p:cNvPicPr/>
          <p:nvPr/>
        </p:nvPicPr>
        <p:blipFill>
          <a:blip r:embed="rId1"/>
          <a:stretch/>
        </p:blipFill>
        <p:spPr>
          <a:xfrm>
            <a:off x="857160" y="696960"/>
            <a:ext cx="716760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7" dur="1" fill="hold"/>
                                        <p:tgtEl>
                                          <p:spTgt spid="2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مستطيل 7"/>
          <p:cNvSpPr/>
          <p:nvPr/>
        </p:nvSpPr>
        <p:spPr>
          <a:xfrm>
            <a:off x="1772640" y="571680"/>
            <a:ext cx="51321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25000">
                <a:solidFill>
                  <a:srgbClr val="fef58b"/>
                </a:solidFill>
                <a:latin typeface="Tahoma"/>
              </a:rPr>
              <a:t>Dysfunction in subthalamic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 baseline="-25000">
                <a:solidFill>
                  <a:srgbClr val="fef58b"/>
                </a:solidFill>
                <a:latin typeface="Tahoma"/>
              </a:rPr>
              <a:t>nucleu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مستطيل 9"/>
          <p:cNvSpPr/>
          <p:nvPr/>
        </p:nvSpPr>
        <p:spPr>
          <a:xfrm>
            <a:off x="2840400" y="1571760"/>
            <a:ext cx="274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miballismu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مستطيل 5"/>
          <p:cNvSpPr/>
          <p:nvPr/>
        </p:nvSpPr>
        <p:spPr>
          <a:xfrm>
            <a:off x="357120" y="2428920"/>
            <a:ext cx="628668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Features: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udden, involuntary movements that involves one limb or one side of the bod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10:52:20Z</dcterms:created>
  <dc:creator>Romana Šlamberová</dc:creator>
  <dc:description/>
  <dc:language>en-US</dc:language>
  <cp:lastModifiedBy>User</cp:lastModifiedBy>
  <dcterms:modified xsi:type="dcterms:W3CDTF">2012-02-20T06:59:50Z</dcterms:modified>
  <cp:revision>135</cp:revision>
  <dc:subject/>
  <dc:title>Synaptic receptors, neurotransmitters and brain modulators, energetical brain metabolism, barrier CNS mechanisms</dc:title>
</cp:coreProperties>
</file>