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8D75-0FB4-4BA4-96BD-98D4A116F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C92-545D-43F4-8D0C-3689DB34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464-8060-4523-BC10-E84603FE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8E7-E9EF-443A-8D33-7100DAF0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3892-8AC2-47C7-96E4-74DD8F9A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0C08-0929-4A8E-AADE-E9595964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5479-6E61-486D-A3E0-77F80BE4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180B-E001-4569-88F6-48C01322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25F2-34C8-4B68-8CA8-B7FAC226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1B2C-E6FD-4FA2-8F2A-AEEE5A37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87B6-66F3-471A-AE49-6D93977C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9C71-C1B2-4F45-A4EC-139387FF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DD28-D43C-48A4-AE96-3DAC5365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ADCF-7A6B-4D25-BBBE-1C0B8E7B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27D4-8817-41DD-A1BC-42B6655E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432A-C089-4365-9067-291ACF5E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BA7B-3773-4092-9467-639DE495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24A3D-CD7E-46E8-81B5-4678CC25B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2CE6B-3FF0-46FB-8262-111D23BB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6065F-9413-4A88-9474-0E46625F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EE8B4-619D-4F0B-8F19-D62A4E2F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BBAD7-FE98-413B-91EC-8DDF82A0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8504-1B8C-48A5-ADB9-B28E8639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61098-5FD4-45F4-AF68-972B6601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94831-881B-4C1C-A187-4477130C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823A5-6F3F-4CA2-9BBE-9EE343F6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3ECDA-20FF-4052-A98F-E823296A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27C6C-7427-4D94-9556-0A86D780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24305-F724-4C09-848B-6AEA2A39A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80D0C-3BCC-452C-8096-6F8559AF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6288D-9846-4989-9B19-8E611E98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5755B-A11A-4471-AE86-E530E993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7695A-B144-4D55-84BE-D2D77500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733-4756-4192-A240-93A8A232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4853D-B11F-4368-89C8-0F7D3912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E5082-A5E5-434F-BFA4-8733370D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91A25-185C-49AB-8D68-1512960E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09874-BC8B-4E59-BA35-5821D3F2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63D52-4E55-425D-A315-B5BE8D30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6EF26-D2C0-4A54-9EC9-844EB657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B712F-7CCC-4A2B-AF4A-60722B30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4B1DC-ACBF-4447-AF93-5C6935DC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32DCB-EEBB-47AD-8EAF-1C92D88D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1D6B7-5888-4BA8-B21F-2BBF5790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C0F7-38EC-4E46-9C51-CD0981DB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DECDF-C916-41F2-9074-461BB755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EDF75-08F9-48C2-93E6-A33A7C8F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FF662-FCA1-40BE-BE29-E37A344B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F6579-481F-4E19-8D7C-7EC2B0D6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009E5-5FEE-41FF-8042-3ABF519F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4B446-52C3-4C2B-9FA0-022D8E7D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BF421-4825-4278-9375-36B52EB3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B73CA-C23E-4F6B-9B0B-09908425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F5C63-1F41-42FF-93DB-56D372EE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ED8AA-D5E4-48BB-90C9-E9FFE543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CEE-1FB2-4891-B726-C41486E3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1F47A-893F-45DB-AD07-CEDC12B4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44171-BC49-412F-B90C-AA372E73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DBCCD-ECEC-4032-8ADC-4D946FD7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764A7-3142-42BD-B9EA-D61335E8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9EC55-BF27-42C5-8A8D-810CC6B2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E35F7-AE14-419D-AD7A-B52F21EA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20E18-1C29-4396-91F4-D0308860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394DF-BDF1-42BC-9B16-02DF96CA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C4C45-2FB0-4155-8BFB-610894B9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F60DA-7A1D-48E3-8B3E-134A4256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2B5B-E016-4DCF-9756-022C581D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FC8B1-C541-4B3C-8F53-B719A78E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CFFF1-3948-474A-A804-448817E4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9B4FE-B154-4EF3-8EA5-9510166A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75CD-CF61-45B3-B760-A122A857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8FE-BA7E-40BE-B3AD-360F61E8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9FD9-D7EB-41B0-B5A2-9D0EC5F486D5}" type="slidenum">
              <a:rPr b="0" lang="cs-CZ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شكل حر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شكل حر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43D4-C999-4C28-97F2-5EB4FCB18211}" type="slidenum">
              <a:rPr b="0" lang="cs-CZ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شكل حر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شكل حر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90AA-38A3-4EC8-8A7A-C76392CC6F53}" type="slidenum">
              <a:rPr b="0" lang="cs-CZ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4C79-DDFD-4C15-8B0C-E87CBE6FBA2A}" type="slidenum">
              <a:rPr b="0" lang="cs-CZ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0969-804F-4E0A-B151-94AE006D709D}" type="slidenum">
              <a:rPr b="0" lang="cs-CZ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9b9a98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D3E8-641B-48CF-AB4F-994EFCD8A3A1}" type="slidenum">
              <a:rPr b="0" lang="cs-CZ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0" y="314316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 collection of grey matter deeply in e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ebral hemisp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play an important role in the control of posture and voluntary mov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1999800"/>
            <a:ext cx="8943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600" spc="-1" strike="noStrike">
                <a:solidFill>
                  <a:srgbClr val="ffffff"/>
                </a:solidFill>
                <a:latin typeface="Franklin Gothic Book"/>
              </a:rPr>
              <a:t>Basal ganglia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videoplayback_5.wmv" descr=""/>
          <p:cNvPicPr/>
          <p:nvPr/>
        </p:nvPicPr>
        <p:blipFill>
          <a:blip r:embed="rId1"/>
          <a:stretch/>
        </p:blipFill>
        <p:spPr>
          <a:xfrm>
            <a:off x="1143000" y="10000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مستطيل 7"/>
          <p:cNvSpPr/>
          <p:nvPr/>
        </p:nvSpPr>
        <p:spPr>
          <a:xfrm>
            <a:off x="1285920" y="571680"/>
            <a:ext cx="62863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baseline="-25000">
                <a:solidFill>
                  <a:srgbClr val="fef58b"/>
                </a:solidFill>
                <a:latin typeface="Tahoma"/>
              </a:rPr>
              <a:t>Dysfunction in globus pallidus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مستطيل 8"/>
          <p:cNvSpPr/>
          <p:nvPr/>
        </p:nvSpPr>
        <p:spPr>
          <a:xfrm>
            <a:off x="3500280" y="1643040"/>
            <a:ext cx="20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hetosi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مستطيل 4"/>
          <p:cNvSpPr/>
          <p:nvPr/>
        </p:nvSpPr>
        <p:spPr>
          <a:xfrm>
            <a:off x="571680" y="2357280"/>
            <a:ext cx="6715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Features: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voluntary, slow, sinuous, writhing movements involving distal part of limb (hand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videoplayback_3.wmv" descr=""/>
          <p:cNvPicPr/>
          <p:nvPr/>
        </p:nvPicPr>
        <p:blipFill>
          <a:blip r:embed="rId1"/>
          <a:stretch/>
        </p:blipFill>
        <p:spPr>
          <a:xfrm>
            <a:off x="13572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مربع نص 6"/>
          <p:cNvSpPr/>
          <p:nvPr/>
        </p:nvSpPr>
        <p:spPr>
          <a:xfrm>
            <a:off x="357120" y="235728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Thank You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مستطيل 3"/>
          <p:cNvSpPr/>
          <p:nvPr/>
        </p:nvSpPr>
        <p:spPr>
          <a:xfrm>
            <a:off x="428760" y="357120"/>
            <a:ext cx="77864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Functions of basal ganglia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-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sign of plans, which convert though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nd ideas into motor actions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produce a coordinated organized purposeful move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termining the timing and scale o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ovement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what extent the movement will be fast, and how long it will las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torage of motor programs of familiar motor a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1"/>
          <p:cNvSpPr/>
          <p:nvPr/>
        </p:nvSpPr>
        <p:spPr>
          <a:xfrm>
            <a:off x="1143000" y="-27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1071720" y="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Dotum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Dotum"/>
              </a:rPr>
              <a:t>Parts of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Dotum"/>
              </a:rPr>
              <a:t>Basal Gangl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Picture 9" descr="14-11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384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http://thalamus.wustl.edu/course/cbell1.gif"/>
          <p:cNvPicPr/>
          <p:nvPr/>
        </p:nvPicPr>
        <p:blipFill>
          <a:blip r:embed="rId1"/>
          <a:stretch/>
        </p:blipFill>
        <p:spPr>
          <a:xfrm>
            <a:off x="714240" y="500040"/>
            <a:ext cx="7662960" cy="585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285560"/>
            <a:ext cx="8943840" cy="57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100" spc="-1" strike="noStrike">
                <a:solidFill>
                  <a:srgbClr val="ffffff"/>
                </a:solidFill>
                <a:latin typeface="Franklin Gothic Book"/>
              </a:rPr>
              <a:t>Parkinson's disease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مستطيل 5"/>
          <p:cNvSpPr/>
          <p:nvPr/>
        </p:nvSpPr>
        <p:spPr>
          <a:xfrm>
            <a:off x="285840" y="7142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58b"/>
                </a:solidFill>
                <a:latin typeface="Tahoma"/>
              </a:rPr>
              <a:t>Dysfunction in substantia nig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مستطيل 7"/>
          <p:cNvSpPr/>
          <p:nvPr/>
        </p:nvSpPr>
        <p:spPr>
          <a:xfrm>
            <a:off x="285840" y="2071800"/>
            <a:ext cx="8429400" cy="28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Features: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- Tremors: involuntary, rhythmic, oscillating movements. It occurs during r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- Rigidity: It occurs in both flexors, and extensors, but more in flexors giving flexion attitu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- lack of movement; Absence of swinging arm during walking, mask face, low- volume slow speec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مستطيل 8"/>
          <p:cNvSpPr/>
          <p:nvPr/>
        </p:nvSpPr>
        <p:spPr>
          <a:xfrm>
            <a:off x="0" y="14292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9e98e"/>
                </a:solidFill>
                <a:uFillTx/>
                <a:latin typeface="Tahoma"/>
              </a:rPr>
              <a:t>Clinical signs related 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9e98e"/>
                </a:solidFill>
                <a:uFillTx/>
                <a:latin typeface="Tahoma"/>
              </a:rPr>
              <a:t>Basal Ganglia dysfunc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videoplayback.wmv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81676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مستطيل 7"/>
          <p:cNvSpPr/>
          <p:nvPr/>
        </p:nvSpPr>
        <p:spPr>
          <a:xfrm>
            <a:off x="714240" y="201600"/>
            <a:ext cx="7929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fef58b"/>
                </a:solidFill>
                <a:latin typeface="Tahoma"/>
              </a:rPr>
              <a:t>Dysfunction in putamen + caudat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مستطيل 9"/>
          <p:cNvSpPr/>
          <p:nvPr/>
        </p:nvSpPr>
        <p:spPr>
          <a:xfrm>
            <a:off x="2857680" y="1214280"/>
            <a:ext cx="32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rea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مستطيل 4"/>
          <p:cNvSpPr/>
          <p:nvPr/>
        </p:nvSpPr>
        <p:spPr>
          <a:xfrm>
            <a:off x="428760" y="2143080"/>
            <a:ext cx="778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eatur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oluntary, quick, irregular, and purposeless movement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videoplayback_2.wmv" descr=""/>
          <p:cNvPicPr/>
          <p:nvPr/>
        </p:nvPicPr>
        <p:blipFill>
          <a:blip r:embed="rId1"/>
          <a:stretch/>
        </p:blipFill>
        <p:spPr>
          <a:xfrm>
            <a:off x="857160" y="696960"/>
            <a:ext cx="716760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مستطيل 7"/>
          <p:cNvSpPr/>
          <p:nvPr/>
        </p:nvSpPr>
        <p:spPr>
          <a:xfrm>
            <a:off x="1772640" y="571680"/>
            <a:ext cx="51321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ef58b"/>
                </a:solidFill>
                <a:latin typeface="Tahoma"/>
              </a:rPr>
              <a:t>Dysfunction in subthalamic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 baseline="-25000">
                <a:solidFill>
                  <a:srgbClr val="fef58b"/>
                </a:solidFill>
                <a:latin typeface="Tahoma"/>
              </a:rPr>
              <a:t>nucleu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مستطيل 9"/>
          <p:cNvSpPr/>
          <p:nvPr/>
        </p:nvSpPr>
        <p:spPr>
          <a:xfrm>
            <a:off x="2840400" y="1571760"/>
            <a:ext cx="274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iballism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مستطيل 5"/>
          <p:cNvSpPr/>
          <p:nvPr/>
        </p:nvSpPr>
        <p:spPr>
          <a:xfrm>
            <a:off x="357120" y="2428920"/>
            <a:ext cx="628668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Features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udden, involuntary movements that involves one limb or one side of the bo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0:52:20Z</dcterms:created>
  <dc:creator>Romana Šlamberová</dc:creator>
  <dc:description/>
  <dc:language>en-US</dc:language>
  <cp:lastModifiedBy>User</cp:lastModifiedBy>
  <dcterms:modified xsi:type="dcterms:W3CDTF">2012-02-20T06:59:50Z</dcterms:modified>
  <cp:revision>135</cp:revision>
  <dc:subject/>
  <dc:title>Synaptic receptors, neurotransmitters and brain modulators, energetical brain metabolism, barrier CNS mechanisms</dc:title>
</cp:coreProperties>
</file>