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4.jpeg" ContentType="image/jpeg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5618-CCBE-4AD6-BB6D-54BAB5C0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D4E2-8F61-48FC-A0DD-694DEFE9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33CC-2987-4C42-9D92-A77B308A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FCBF-FECC-433C-BCFC-B2F7E9DFF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3C35-F7ED-40D7-94D1-1F53BF2D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27AF-C2C4-49C5-951A-D5E74662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6D94-A3D4-42E8-9807-3E517B6A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1702-F2AD-4C8A-9FFD-1696BF0C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CD12-3A6E-47C5-92BC-843DC267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B407-8978-4CF1-A9C1-29B2A76E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C330-EAC1-4968-8D01-F799005F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AFE4-2756-4595-B422-A8F1A347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4629-B4CA-4CD5-974B-47875D8B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1965-93DE-4B54-B720-01CD68EC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FC8E-C036-4DB1-8293-E4B6CE07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7336-6A33-450F-9C35-8FF3E254A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6515-BB29-4CA8-9D9A-F1590E610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825B9-4EA3-45D2-B64E-96198B74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F65A7-3931-4EB5-9DD3-08586F85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739A0-3055-4B77-8AF8-751CCC16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4500E-1B1A-4A5D-9662-EFAE1EC4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CF540-BC92-48E9-91BD-4293D00A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D215-A3EB-455A-8F0B-5378128F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83790-7B60-48CE-96F9-8E23148E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ABB31-5F33-4DEC-B147-354A5859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7B725-9BEA-48D6-8A9E-A2678071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68334-BD93-4F97-8FE3-FF78BF9E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F153B-9397-481B-98CF-1F1F5E6A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F00E6-BE0B-44CE-A80B-3E2BAC16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1F3D5-1DE4-4B27-846F-28B8E7CEC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0E8F3-B78E-469C-8737-1D1EA6B8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F4305-C82F-4140-B3E1-854327F8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49469-722C-438D-B6F2-414BC8D0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B40C-3251-4F63-8F83-10A533B2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38160-10B4-47D1-BC3A-34EA6A4A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ECE2E-2B4A-4B9E-9F40-B256C5AC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06F75-CF90-4009-A332-E4CA8F1D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33194-3F91-428C-8A3C-9CE19C42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6071B-8653-4946-BF79-8E9C1F85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6A830-5B57-44C6-9E7C-810F5BE6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67955-60FD-4A59-B283-E5CA2680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8BE2F-1CF0-4FD3-8077-CDE26BB7F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1031B-B34F-45F0-B7F5-B681FD185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1DE0D-2582-496D-86D4-1628ACD0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CEB4-E4A7-4FF6-8C25-33450E22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D6258-0BFA-40D0-BB55-91C99145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5C871-0F05-4BA9-A30E-979A2A51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B6976-1D3C-4545-9637-0F6E9AAE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6A0D2-437F-4524-8FB4-514D170E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60C5F-8CCD-49BA-A1DD-F0FA6001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CE650-8277-4B42-86AE-D8E19745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8109F-2DCD-44DD-9F6E-14CBD7D4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5AC02-375C-4402-8619-604E5505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4E199-4C28-4525-8C67-8791241A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E6294-3F0D-4B67-A634-5010AA002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9B12-05EA-41DB-B4F6-498D7658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33CAD-1C62-4343-ADAF-194B929FC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3C99-881D-4E79-937A-64E9738E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FD61-4368-4CEA-A02F-1134EFCC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FA8B-8E63-4079-8CC9-D972C43E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C72A-7993-425A-A210-EA0EEA4AC814}" type="slidenum">
              <a:rPr b="0" lang="en-GB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E652-5B96-4E10-9032-4BA7D0E8F336}" type="slidenum">
              <a:rPr b="0" lang="en-GB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82E8-4DEB-4543-9045-41EFA59EE13C}" type="slidenum">
              <a:rPr b="0" lang="en-GB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FE95-D8ED-481A-8E7B-082E821A33EB}" type="slidenum">
              <a:rPr b="0" lang="en-GB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478D-BB14-4977-90D7-7872BD072918}" type="slidenum">
              <a:rPr b="0" lang="en-GB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3"/>
          <p:cNvSpPr/>
          <p:nvPr/>
        </p:nvSpPr>
        <p:spPr>
          <a:xfrm>
            <a:off x="3584160" y="2143080"/>
            <a:ext cx="232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3500280" y="3071880"/>
          <a:ext cx="235764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3071880"/>
                    <a:ext cx="235764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1523880" y="785880"/>
          <a:ext cx="6977160" cy="3429000"/>
        </p:xfrm>
        <a:graphic>
          <a:graphicData uri="http://schemas.openxmlformats.org/drawingml/2006/table">
            <a:tbl>
              <a:tblPr/>
              <a:tblGrid>
                <a:gridCol w="2032200"/>
                <a:gridCol w="2587680"/>
                <a:gridCol w="2357280"/>
              </a:tblGrid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</a:tr>
              <a:tr h="15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</a:tr>
            </a:tbl>
          </a:graphicData>
        </a:graphic>
      </p:graphicFrame>
      <p:sp>
        <p:nvSpPr>
          <p:cNvPr id="224" name="TextBox 6"/>
          <p:cNvSpPr/>
          <p:nvPr/>
        </p:nvSpPr>
        <p:spPr>
          <a:xfrm>
            <a:off x="1748160" y="2786040"/>
            <a:ext cx="160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tic acid 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an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7"/>
          <p:cNvSpPr/>
          <p:nvPr/>
        </p:nvSpPr>
        <p:spPr>
          <a:xfrm>
            <a:off x="4078440" y="2786040"/>
            <a:ext cx="155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anol 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cyl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8"/>
          <p:cNvSpPr/>
          <p:nvPr/>
        </p:nvSpPr>
        <p:spPr>
          <a:xfrm>
            <a:off x="6507000" y="2786040"/>
            <a:ext cx="150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anol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zo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9"/>
          <p:cNvSpPr/>
          <p:nvPr/>
        </p:nvSpPr>
        <p:spPr>
          <a:xfrm>
            <a:off x="1864080" y="36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iph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0"/>
          <p:cNvSpPr/>
          <p:nvPr/>
        </p:nvSpPr>
        <p:spPr>
          <a:xfrm>
            <a:off x="4078800" y="357192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o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1"/>
          <p:cNvSpPr/>
          <p:nvPr/>
        </p:nvSpPr>
        <p:spPr>
          <a:xfrm>
            <a:off x="6532920" y="35924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o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2"/>
          <p:cNvSpPr/>
          <p:nvPr/>
        </p:nvSpPr>
        <p:spPr>
          <a:xfrm>
            <a:off x="1607040" y="76032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yl ace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3"/>
          <p:cNvSpPr/>
          <p:nvPr/>
        </p:nvSpPr>
        <p:spPr>
          <a:xfrm>
            <a:off x="3652200" y="77472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yl salicy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4"/>
          <p:cNvSpPr/>
          <p:nvPr/>
        </p:nvSpPr>
        <p:spPr>
          <a:xfrm>
            <a:off x="6225480" y="7747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yl benzo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36"/>
          <p:cNvGraphicFramePr/>
          <p:nvPr/>
        </p:nvGraphicFramePr>
        <p:xfrm>
          <a:off x="1643040" y="1500120"/>
          <a:ext cx="185724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3040" y="1500120"/>
                    <a:ext cx="185724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37"/>
          <p:cNvGraphicFramePr/>
          <p:nvPr/>
        </p:nvGraphicFramePr>
        <p:xfrm>
          <a:off x="3857760" y="1285920"/>
          <a:ext cx="2071440" cy="13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Object 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7760" y="1285920"/>
                    <a:ext cx="207144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38"/>
          <p:cNvGraphicFramePr/>
          <p:nvPr/>
        </p:nvGraphicFramePr>
        <p:xfrm>
          <a:off x="6286680" y="1428840"/>
          <a:ext cx="207144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" name="Object 3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86680" y="1428840"/>
                    <a:ext cx="20714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500040" y="0"/>
          <a:ext cx="8570880" cy="6006960"/>
        </p:xfrm>
        <a:graphic>
          <a:graphicData uri="http://schemas.openxmlformats.org/drawingml/2006/table">
            <a:tbl>
              <a:tblPr/>
              <a:tblGrid>
                <a:gridCol w="991080"/>
                <a:gridCol w="218880"/>
                <a:gridCol w="920520"/>
                <a:gridCol w="1132920"/>
                <a:gridCol w="1345320"/>
                <a:gridCol w="212400"/>
                <a:gridCol w="1203840"/>
                <a:gridCol w="2545920"/>
              </a:tblGrid>
              <a:tr h="642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hyl ace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hyl salicyl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hyl benzo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</a:tr>
              <a:tr h="565200">
                <a:tc gridSpan="8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hysical propertie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652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004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</a:tr>
              <a:tr h="500040">
                <a:tc gridSpan="8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460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Inflamm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424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Change in appear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Change in o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Residu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com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0" name="Rectangle 91"/>
          <p:cNvSpPr/>
          <p:nvPr/>
        </p:nvSpPr>
        <p:spPr>
          <a:xfrm>
            <a:off x="2000160" y="128592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quid, oily,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92"/>
          <p:cNvSpPr/>
          <p:nvPr/>
        </p:nvSpPr>
        <p:spPr>
          <a:xfrm>
            <a:off x="1931400" y="2357280"/>
            <a:ext cx="13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uity o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3"/>
          <p:cNvSpPr/>
          <p:nvPr/>
        </p:nvSpPr>
        <p:spPr>
          <a:xfrm>
            <a:off x="4338720" y="235728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ks o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94"/>
          <p:cNvSpPr/>
          <p:nvPr/>
        </p:nvSpPr>
        <p:spPr>
          <a:xfrm>
            <a:off x="4000680" y="178596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rl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95"/>
          <p:cNvSpPr/>
          <p:nvPr/>
        </p:nvSpPr>
        <p:spPr>
          <a:xfrm>
            <a:off x="567360" y="268128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gnition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96"/>
          <p:cNvSpPr/>
          <p:nvPr/>
        </p:nvSpPr>
        <p:spPr>
          <a:xfrm>
            <a:off x="2615760" y="3286080"/>
            <a:ext cx="245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ammable, n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minous, non smo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97"/>
          <p:cNvSpPr/>
          <p:nvPr/>
        </p:nvSpPr>
        <p:spPr>
          <a:xfrm>
            <a:off x="4434480" y="471492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8"/>
          <p:cNvSpPr/>
          <p:nvPr/>
        </p:nvSpPr>
        <p:spPr>
          <a:xfrm>
            <a:off x="6726240" y="2314440"/>
            <a:ext cx="21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 o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00"/>
          <p:cNvSpPr/>
          <p:nvPr/>
        </p:nvSpPr>
        <p:spPr>
          <a:xfrm>
            <a:off x="2564640" y="558972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ound is aliph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6"/>
          <p:cNvSpPr/>
          <p:nvPr/>
        </p:nvSpPr>
        <p:spPr>
          <a:xfrm>
            <a:off x="5150520" y="3429000"/>
            <a:ext cx="336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ammable, luminous, smo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6"/>
          <p:cNvSpPr/>
          <p:nvPr/>
        </p:nvSpPr>
        <p:spPr>
          <a:xfrm>
            <a:off x="4507200" y="4143240"/>
            <a:ext cx="19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volati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7"/>
          <p:cNvSpPr/>
          <p:nvPr/>
        </p:nvSpPr>
        <p:spPr>
          <a:xfrm>
            <a:off x="3744360" y="511488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sid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00"/>
          <p:cNvSpPr/>
          <p:nvPr/>
        </p:nvSpPr>
        <p:spPr>
          <a:xfrm>
            <a:off x="5559120" y="5589720"/>
            <a:ext cx="29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ounds are aro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9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9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9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0" y="104760"/>
          <a:ext cx="9072720" cy="4395960"/>
        </p:xfrm>
        <a:graphic>
          <a:graphicData uri="http://schemas.openxmlformats.org/drawingml/2006/table">
            <a:tbl>
              <a:tblPr/>
              <a:tblGrid>
                <a:gridCol w="1428840"/>
                <a:gridCol w="2286000"/>
                <a:gridCol w="3000240"/>
                <a:gridCol w="2357640"/>
              </a:tblGrid>
              <a:tr h="528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Miscibility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hyl ace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hyl salicyl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hyl benzo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.p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l. HC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NaO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c. H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ommen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4" name="TextBox 3"/>
          <p:cNvSpPr/>
          <p:nvPr/>
        </p:nvSpPr>
        <p:spPr>
          <a:xfrm>
            <a:off x="2006640" y="1214280"/>
            <a:ext cx="16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immisc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9"/>
          <p:cNvSpPr/>
          <p:nvPr/>
        </p:nvSpPr>
        <p:spPr>
          <a:xfrm>
            <a:off x="2715120" y="4071960"/>
            <a:ext cx="30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: All are neutral com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0"/>
          <p:cNvSpPr/>
          <p:nvPr/>
        </p:nvSpPr>
        <p:spPr>
          <a:xfrm>
            <a:off x="4649760" y="2786040"/>
            <a:ext cx="16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immisc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1"/>
          <p:cNvSpPr/>
          <p:nvPr/>
        </p:nvSpPr>
        <p:spPr>
          <a:xfrm>
            <a:off x="3220920" y="2214720"/>
            <a:ext cx="16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immisc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0"/>
          <p:cNvSpPr/>
          <p:nvPr/>
        </p:nvSpPr>
        <p:spPr>
          <a:xfrm>
            <a:off x="3935520" y="3429000"/>
            <a:ext cx="16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immisc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0" y="104760"/>
          <a:ext cx="9001080" cy="6181920"/>
        </p:xfrm>
        <a:graphic>
          <a:graphicData uri="http://schemas.openxmlformats.org/drawingml/2006/table">
            <a:tbl>
              <a:tblPr/>
              <a:tblGrid>
                <a:gridCol w="1000080"/>
                <a:gridCol w="428760"/>
                <a:gridCol w="1785960"/>
                <a:gridCol w="3143160"/>
                <a:gridCol w="2643120"/>
              </a:tblGrid>
              <a:tr h="459720">
                <a:tc gridSpan="5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reliminary tes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hyl ace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hyl salicyl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hyl benzo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</a:tr>
              <a:tr h="459720">
                <a:tc gridSpan="5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oda l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5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5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% NaO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cold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</a:tr>
              <a:tr h="459720"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ho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</a:tr>
              <a:tr h="510120">
                <a:tc gridSpan="5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eCl</a:t>
                      </a:r>
                      <a:r>
                        <a:rPr b="1" i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cold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</a:tr>
              <a:tr h="459720"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ho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</a:tr>
              <a:tr h="510120">
                <a:tc gridSpan="5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onc. H</a:t>
                      </a:r>
                      <a:r>
                        <a:rPr b="1" i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i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cold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ho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0" name="TextBox 3"/>
          <p:cNvSpPr/>
          <p:nvPr/>
        </p:nvSpPr>
        <p:spPr>
          <a:xfrm>
            <a:off x="2290680" y="1643040"/>
            <a:ext cx="27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done ( for solid on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3933000" y="307188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5"/>
          <p:cNvSpPr/>
          <p:nvPr/>
        </p:nvSpPr>
        <p:spPr>
          <a:xfrm>
            <a:off x="4004640" y="442908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3935160" y="535788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 in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7"/>
          <p:cNvSpPr/>
          <p:nvPr/>
        </p:nvSpPr>
        <p:spPr>
          <a:xfrm>
            <a:off x="2935080" y="585792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 in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9"/>
          <p:cNvSpPr/>
          <p:nvPr/>
        </p:nvSpPr>
        <p:spPr>
          <a:xfrm>
            <a:off x="1648080" y="25718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0"/>
          <p:cNvSpPr/>
          <p:nvPr/>
        </p:nvSpPr>
        <p:spPr>
          <a:xfrm>
            <a:off x="3215160" y="4000680"/>
            <a:ext cx="305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olet color in ethanol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9"/>
          <p:cNvSpPr/>
          <p:nvPr/>
        </p:nvSpPr>
        <p:spPr>
          <a:xfrm>
            <a:off x="3474000" y="2571840"/>
            <a:ext cx="28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ppt of Na-salicy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9"/>
          <p:cNvSpPr/>
          <p:nvPr/>
        </p:nvSpPr>
        <p:spPr>
          <a:xfrm>
            <a:off x="7005960" y="25718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"/>
          <p:cNvSpPr/>
          <p:nvPr/>
        </p:nvSpPr>
        <p:spPr>
          <a:xfrm>
            <a:off x="1576800" y="30718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6791760" y="30718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0"/>
          <p:cNvSpPr/>
          <p:nvPr/>
        </p:nvSpPr>
        <p:spPr>
          <a:xfrm>
            <a:off x="1576800" y="40006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0"/>
          <p:cNvSpPr/>
          <p:nvPr/>
        </p:nvSpPr>
        <p:spPr>
          <a:xfrm>
            <a:off x="6824880" y="40006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5"/>
          <p:cNvSpPr/>
          <p:nvPr/>
        </p:nvSpPr>
        <p:spPr>
          <a:xfrm>
            <a:off x="1576800" y="44290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5"/>
          <p:cNvSpPr/>
          <p:nvPr/>
        </p:nvSpPr>
        <p:spPr>
          <a:xfrm>
            <a:off x="6934680" y="44290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4336920" y="1973160"/>
            <a:ext cx="576360" cy="5986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"/>
          <p:cNvPicPr/>
          <p:nvPr/>
        </p:nvPicPr>
        <p:blipFill>
          <a:blip r:embed="rId2"/>
          <a:stretch/>
        </p:blipFill>
        <p:spPr>
          <a:xfrm>
            <a:off x="4302000" y="3473280"/>
            <a:ext cx="528840" cy="5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0" y="304920"/>
          <a:ext cx="9144000" cy="4910040"/>
        </p:xfrm>
        <a:graphic>
          <a:graphicData uri="http://schemas.openxmlformats.org/drawingml/2006/table">
            <a:tbl>
              <a:tblPr/>
              <a:tblGrid>
                <a:gridCol w="3000240"/>
                <a:gridCol w="3403800"/>
                <a:gridCol w="2739960"/>
              </a:tblGrid>
              <a:tr h="499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General test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0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hyl ace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hyl salicyl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hyl benzo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</a:tr>
              <a:tr h="499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2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</a:tr>
            </a:tbl>
          </a:graphicData>
        </a:graphic>
      </p:graphicFrame>
      <p:sp>
        <p:nvSpPr>
          <p:cNvPr id="278" name="TextBox 3"/>
          <p:cNvSpPr/>
          <p:nvPr/>
        </p:nvSpPr>
        <p:spPr>
          <a:xfrm>
            <a:off x="227520" y="76356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Hydroxylamine HCl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Isosceles Triangle 4"/>
          <p:cNvSpPr/>
          <p:nvPr/>
        </p:nvSpPr>
        <p:spPr>
          <a:xfrm>
            <a:off x="5500800" y="1214280"/>
            <a:ext cx="214200" cy="214560"/>
          </a:xfrm>
          <a:prstGeom prst="triangle">
            <a:avLst>
              <a:gd name="adj" fmla="val 500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9"/>
          <p:cNvSpPr/>
          <p:nvPr/>
        </p:nvSpPr>
        <p:spPr>
          <a:xfrm>
            <a:off x="0" y="1220760"/>
            <a:ext cx="9144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r + hydroxylamine HCl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white solid)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10% NaO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until fussion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solution             after cooling + Dil. HCl + 2 drops Fe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Straight Arrow Connector 15"/>
          <p:cNvCxnSpPr/>
          <p:nvPr/>
        </p:nvCxnSpPr>
        <p:spPr>
          <a:xfrm>
            <a:off x="5500800" y="1498680"/>
            <a:ext cx="1286640" cy="21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282" name="Straight Arrow Connector 18"/>
          <p:cNvCxnSpPr/>
          <p:nvPr/>
        </p:nvCxnSpPr>
        <p:spPr>
          <a:xfrm>
            <a:off x="8286840" y="1428840"/>
            <a:ext cx="714960" cy="21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283" name="TextBox 10"/>
          <p:cNvSpPr/>
          <p:nvPr/>
        </p:nvSpPr>
        <p:spPr>
          <a:xfrm>
            <a:off x="227160" y="275256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dish brown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urved Left Arrow 23"/>
          <p:cNvSpPr/>
          <p:nvPr/>
        </p:nvSpPr>
        <p:spPr>
          <a:xfrm>
            <a:off x="4286160" y="1643040"/>
            <a:ext cx="785880" cy="714240"/>
          </a:xfrm>
          <a:custGeom>
            <a:avLst/>
            <a:gdLst>
              <a:gd name="textAreaLeft" fmla="*/ 105120 w 785880"/>
              <a:gd name="textAreaRight" fmla="*/ 680760 w 785880"/>
              <a:gd name="textAreaTop" fmla="*/ 111600 h 714240"/>
              <a:gd name="textAreaBottom" fmla="*/ 51336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194854"/>
                <a:lnTo>
                  <a:pt x="4909" y="21423"/>
                </a:lnTo>
                <a:lnTo>
                  <a:pt x="0" y="16200"/>
                </a:lnTo>
                <a:lnTo>
                  <a:pt x="4909" y="10623"/>
                </a:lnTo>
                <a:lnTo>
                  <a:pt x="4909" y="13323"/>
                </a:lnTo>
                <a:arcTo wR="21600" hR="6750" stAng="3194854" swAng="-2728868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4"/>
          <p:cNvSpPr/>
          <p:nvPr/>
        </p:nvSpPr>
        <p:spPr>
          <a:xfrm>
            <a:off x="3296520" y="275256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dish violet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5"/>
          <p:cNvSpPr/>
          <p:nvPr/>
        </p:nvSpPr>
        <p:spPr>
          <a:xfrm>
            <a:off x="6462720" y="275256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dish brown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6"/>
          <p:cNvSpPr/>
          <p:nvPr/>
        </p:nvSpPr>
        <p:spPr>
          <a:xfrm>
            <a:off x="223200" y="325296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Hydrolysis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7"/>
          <p:cNvSpPr/>
          <p:nvPr/>
        </p:nvSpPr>
        <p:spPr>
          <a:xfrm>
            <a:off x="0" y="3801960"/>
            <a:ext cx="9144000" cy="11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ml ester + 20ml 10% NaO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eflux 30 min.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i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illat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 alc.)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Residu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 acid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Straight Arrow Connector 29"/>
          <p:cNvCxnSpPr/>
          <p:nvPr/>
        </p:nvCxnSpPr>
        <p:spPr>
          <a:xfrm>
            <a:off x="3271320" y="4070520"/>
            <a:ext cx="1358280" cy="21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290" name="Straight Arrow Connector 33"/>
          <p:cNvCxnSpPr/>
          <p:nvPr/>
        </p:nvCxnSpPr>
        <p:spPr>
          <a:xfrm flipH="1">
            <a:off x="4642920" y="4143240"/>
            <a:ext cx="215280" cy="21528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291" name="Straight Arrow Connector 35"/>
          <p:cNvCxnSpPr/>
          <p:nvPr/>
        </p:nvCxnSpPr>
        <p:spPr>
          <a:xfrm>
            <a:off x="5929200" y="4143240"/>
            <a:ext cx="215280" cy="21528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292" name="TextBox 6"/>
          <p:cNvSpPr/>
          <p:nvPr/>
        </p:nvSpPr>
        <p:spPr>
          <a:xfrm>
            <a:off x="325440" y="4786200"/>
            <a:ext cx="24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anol + Acetic ac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7"/>
          <p:cNvSpPr/>
          <p:nvPr/>
        </p:nvSpPr>
        <p:spPr>
          <a:xfrm>
            <a:off x="3295440" y="474516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anol + Salicyl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8"/>
          <p:cNvSpPr/>
          <p:nvPr/>
        </p:nvSpPr>
        <p:spPr>
          <a:xfrm>
            <a:off x="6510240" y="4743360"/>
            <a:ext cx="25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anol +Benzo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7778880" y="3187800"/>
            <a:ext cx="145728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77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770" fill="hold"/>
                                        <p:tgtEl>
                                          <p:spTgt spid="2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4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6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77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3" dur="770" fill="hold"/>
                                        <p:tgtEl>
                                          <p:spTgt spid="2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5" dur="77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7" dur="77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77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770" fill="hold"/>
                                        <p:tgtEl>
                                          <p:spTgt spid="2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6" dur="77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8" dur="77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0" y="0"/>
          <a:ext cx="9144000" cy="33577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571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pecific test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hyl ace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hyl salicyl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hyl benzo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</a:tr>
              <a:tr h="12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</a:tr>
              <a:tr h="99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3"/>
          <p:cNvSpPr/>
          <p:nvPr/>
        </p:nvSpPr>
        <p:spPr>
          <a:xfrm>
            <a:off x="0" y="2455920"/>
            <a:ext cx="31431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yl acetate is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ighter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than H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Object 2"/>
          <p:cNvGraphicFramePr/>
          <p:nvPr/>
        </p:nvGraphicFramePr>
        <p:xfrm>
          <a:off x="357120" y="1143000"/>
          <a:ext cx="642960" cy="10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1143000"/>
                    <a:ext cx="64296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Rectangle 30"/>
          <p:cNvSpPr/>
          <p:nvPr/>
        </p:nvSpPr>
        <p:spPr>
          <a:xfrm>
            <a:off x="785880" y="1500120"/>
            <a:ext cx="2143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yl acetate + H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king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Object 34"/>
          <p:cNvGraphicFramePr/>
          <p:nvPr/>
        </p:nvGraphicFramePr>
        <p:xfrm>
          <a:off x="3143160" y="1214280"/>
          <a:ext cx="642960" cy="10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2" name="Object 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3160" y="1214280"/>
                    <a:ext cx="64296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35"/>
          <p:cNvGraphicFramePr/>
          <p:nvPr/>
        </p:nvGraphicFramePr>
        <p:xfrm>
          <a:off x="6286680" y="1143000"/>
          <a:ext cx="642600" cy="107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4" name="Object 3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86680" y="1143000"/>
                    <a:ext cx="64260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Rectangle 30"/>
          <p:cNvSpPr/>
          <p:nvPr/>
        </p:nvSpPr>
        <p:spPr>
          <a:xfrm>
            <a:off x="3571920" y="1496880"/>
            <a:ext cx="2428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yl salicylate+ H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king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0"/>
          <p:cNvSpPr/>
          <p:nvPr/>
        </p:nvSpPr>
        <p:spPr>
          <a:xfrm>
            <a:off x="6786720" y="1425600"/>
            <a:ext cx="2357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yl benzoate + H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king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2"/>
          <p:cNvSpPr/>
          <p:nvPr/>
        </p:nvSpPr>
        <p:spPr>
          <a:xfrm>
            <a:off x="3000240" y="2428920"/>
            <a:ext cx="3000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thyl salicylate is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eavier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than H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23"/>
          <p:cNvSpPr/>
          <p:nvPr/>
        </p:nvSpPr>
        <p:spPr>
          <a:xfrm>
            <a:off x="5929200" y="2428920"/>
            <a:ext cx="3071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yl benzoate is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eavier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than H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Straight Arrow Connector 25"/>
          <p:cNvCxnSpPr/>
          <p:nvPr/>
        </p:nvCxnSpPr>
        <p:spPr>
          <a:xfrm flipH="1">
            <a:off x="1785600" y="1856880"/>
            <a:ext cx="2160" cy="42948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10" name="Straight Arrow Connector 27"/>
          <p:cNvCxnSpPr/>
          <p:nvPr/>
        </p:nvCxnSpPr>
        <p:spPr>
          <a:xfrm flipH="1">
            <a:off x="4570200" y="1785600"/>
            <a:ext cx="3600" cy="5007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11" name="Straight Arrow Connector 29"/>
          <p:cNvCxnSpPr/>
          <p:nvPr/>
        </p:nvCxnSpPr>
        <p:spPr>
          <a:xfrm flipH="1">
            <a:off x="7786440" y="1785600"/>
            <a:ext cx="2160" cy="5007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pic>
        <p:nvPicPr>
          <p:cNvPr id="312" name="Picture 2" descr=""/>
          <p:cNvPicPr/>
          <p:nvPr/>
        </p:nvPicPr>
        <p:blipFill>
          <a:blip r:embed="rId7"/>
          <a:stretch/>
        </p:blipFill>
        <p:spPr>
          <a:xfrm>
            <a:off x="6748560" y="3713040"/>
            <a:ext cx="1305000" cy="13399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"/>
          <p:cNvPicPr/>
          <p:nvPr/>
        </p:nvPicPr>
        <p:blipFill>
          <a:blip r:embed="rId8"/>
          <a:stretch/>
        </p:blipFill>
        <p:spPr>
          <a:xfrm>
            <a:off x="628560" y="3565440"/>
            <a:ext cx="123660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0" y="0"/>
          <a:ext cx="9144000" cy="5232240"/>
        </p:xfrm>
        <a:graphic>
          <a:graphicData uri="http://schemas.openxmlformats.org/drawingml/2006/table">
            <a:tbl>
              <a:tblPr/>
              <a:tblGrid>
                <a:gridCol w="2852640"/>
                <a:gridCol w="2797200"/>
                <a:gridCol w="3494160"/>
              </a:tblGrid>
              <a:tr h="581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Lo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om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hyl ace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</a:tr>
              <a:tr h="68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</a:tr>
              <a:tr h="4827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hyl salicyl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</a:tr>
              <a:tr h="48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</a:tr>
              <a:tr h="48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</a:tr>
              <a:tr h="4809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hyl benzo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</a:tr>
              <a:tr h="44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</a:tr>
              <a:tr h="49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</a:tr>
            </a:tbl>
          </a:graphicData>
        </a:graphic>
      </p:graphicFrame>
      <p:sp>
        <p:nvSpPr>
          <p:cNvPr id="315" name="Rectangle 2"/>
          <p:cNvSpPr/>
          <p:nvPr/>
        </p:nvSpPr>
        <p:spPr>
          <a:xfrm>
            <a:off x="3375000" y="121428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35 cm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3371040" y="171468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3000 cm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6078960" y="1214280"/>
            <a:ext cx="23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O stretching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6078960" y="3857760"/>
            <a:ext cx="23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O stretching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3591000" y="385776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35 cm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9"/>
          <p:cNvSpPr/>
          <p:nvPr/>
        </p:nvSpPr>
        <p:spPr>
          <a:xfrm>
            <a:off x="5903640" y="1714680"/>
            <a:ext cx="310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 aliphatic stretching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0"/>
          <p:cNvSpPr/>
          <p:nvPr/>
        </p:nvSpPr>
        <p:spPr>
          <a:xfrm>
            <a:off x="5889600" y="4314960"/>
            <a:ext cx="310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 aliphatic stretching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3442320" y="478620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3000 cm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2"/>
          <p:cNvSpPr/>
          <p:nvPr/>
        </p:nvSpPr>
        <p:spPr>
          <a:xfrm>
            <a:off x="5500800" y="4786200"/>
            <a:ext cx="37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 aromatic stretching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3"/>
          <p:cNvSpPr/>
          <p:nvPr/>
        </p:nvSpPr>
        <p:spPr>
          <a:xfrm>
            <a:off x="3448080" y="238608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35 cm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4"/>
          <p:cNvSpPr/>
          <p:nvPr/>
        </p:nvSpPr>
        <p:spPr>
          <a:xfrm>
            <a:off x="6078960" y="2386080"/>
            <a:ext cx="23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O stretching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5"/>
          <p:cNvSpPr/>
          <p:nvPr/>
        </p:nvSpPr>
        <p:spPr>
          <a:xfrm>
            <a:off x="3371040" y="288612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3000 cm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6"/>
          <p:cNvSpPr/>
          <p:nvPr/>
        </p:nvSpPr>
        <p:spPr>
          <a:xfrm>
            <a:off x="5795640" y="2886120"/>
            <a:ext cx="310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 aliphatic stretching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7"/>
          <p:cNvSpPr/>
          <p:nvPr/>
        </p:nvSpPr>
        <p:spPr>
          <a:xfrm>
            <a:off x="3371040" y="338616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3000 cm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8"/>
          <p:cNvSpPr/>
          <p:nvPr/>
        </p:nvSpPr>
        <p:spPr>
          <a:xfrm>
            <a:off x="5786280" y="3314880"/>
            <a:ext cx="32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 aromatic stretching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3"/>
          <p:cNvSpPr/>
          <p:nvPr/>
        </p:nvSpPr>
        <p:spPr>
          <a:xfrm>
            <a:off x="3453480" y="435780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3000 cm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20" descr=""/>
          <p:cNvPicPr/>
          <p:nvPr/>
        </p:nvPicPr>
        <p:blipFill>
          <a:blip r:embed="rId1"/>
          <a:stretch/>
        </p:blipFill>
        <p:spPr>
          <a:xfrm>
            <a:off x="2214720" y="1143000"/>
            <a:ext cx="5109840" cy="3664080"/>
          </a:xfrm>
          <a:prstGeom prst="rect">
            <a:avLst/>
          </a:prstGeom>
          <a:ln w="0">
            <a:noFill/>
          </a:ln>
        </p:spPr>
      </p:pic>
      <p:grpSp>
        <p:nvGrpSpPr>
          <p:cNvPr id="332" name="شكل بيضاوي 3"/>
          <p:cNvGrpSpPr/>
          <p:nvPr/>
        </p:nvGrpSpPr>
        <p:grpSpPr>
          <a:xfrm>
            <a:off x="4578480" y="3333600"/>
            <a:ext cx="529920" cy="433440"/>
            <a:chOff x="4578480" y="3333600"/>
            <a:chExt cx="529920" cy="433440"/>
          </a:xfrm>
        </p:grpSpPr>
        <p:pic>
          <p:nvPicPr>
            <p:cNvPr id="333" name="شكل بيضاوي 3" descr=""/>
            <p:cNvPicPr/>
            <p:nvPr/>
          </p:nvPicPr>
          <p:blipFill>
            <a:blip r:embed="rId2"/>
            <a:stretch/>
          </p:blipFill>
          <p:spPr>
            <a:xfrm>
              <a:off x="4578480" y="3333600"/>
              <a:ext cx="52992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4694400" y="3409920"/>
              <a:ext cx="30456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1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10:51:46Z</dcterms:created>
  <dc:creator>admin</dc:creator>
  <dc:description/>
  <dc:language>en-US</dc:language>
  <cp:lastModifiedBy>reem</cp:lastModifiedBy>
  <dcterms:modified xsi:type="dcterms:W3CDTF">2014-11-10T06:07:14Z</dcterms:modified>
  <cp:revision>84</cp:revision>
  <dc:subject/>
  <dc:title>Slide 1</dc:title>
</cp:coreProperties>
</file>