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wmf" ContentType="image/x-wmf"/>
  <Override PartName="/ppt/media/image10.wmf" ContentType="image/x-wmf"/>
  <Override PartName="/ppt/media/image4.jpeg" ContentType="image/jpeg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F161-0D16-4997-8551-64D17D270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0911-C7E3-4EA3-8FDE-8C6609ED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99FF-8999-4CD0-8D47-222F55607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F4A8-B9D2-4D74-B86E-26714136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5C76-467D-4398-9086-540B3D600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2723-52F1-46AC-A07A-7872403C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CE61-E791-403F-9CA1-5BE098B6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0101-B2D6-4426-AB9B-0C1B494C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B98C-42B1-4171-9DF7-E87D07DC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9925-2D4C-4490-81BC-E2A61724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704D-BEFF-4A59-8452-ECAE0960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BF9B-A0E3-4090-B59E-E806CFFB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614D-26FF-4DD5-A9E1-D41AFAA6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4EB3-DF4E-4068-B15C-F2F528DC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8277-934E-4A33-9A4E-6C7680FA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D7B0-2DF6-4EAE-835A-A05687D0D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B8E5-F66E-4300-B92E-3B5E69E54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64757-2387-4E74-8C78-0F6CEEDF9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39A30-CB13-4DCC-8DF5-8BB34CA7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212EC-D797-4442-BF3F-0CE328D1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38F83-9773-421C-89C2-CD5474D5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3A158-2898-47E3-B1D2-233E210B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E6C5-4CB1-4A60-846F-AF2FD632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799EA-A8DB-4585-9BFE-A8AB8F56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1EEEF-91D0-4149-9FC4-4A5BFC8A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DA841-D70A-45AF-B542-80A13226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C14D9-2763-42B9-9A96-30D68EBF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071F1-8DB6-4DD2-9B48-697FEBD0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0BDAA-60ED-4433-BCB7-28B84EC33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DD336-5E05-4B1C-AAEB-A340AE7E0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D3CD1-BDA1-401F-9308-BDC0890BF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DD7EB-B6BD-47EC-A7F4-8BAA2970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443D6-FCEC-48E0-8AC5-49B9BC9E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0C01-20BD-4FC9-8C95-CF661F00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A13FE-5283-4A4E-83AC-77540629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EE123-439E-42B3-9F10-E226F538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B4D81-303B-43D2-8606-0CFBE4E9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51DAC-DFD8-4C2A-9725-2E21CF48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0DC99-E873-4090-BA0C-60AFBDA0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C3929-A634-44B1-BC70-4969F91C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8CD4F-927E-4A75-B670-49FF882A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3B809-EDDB-4A38-A9D1-D87C9C1C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2D09B-CE96-4C38-BE30-3AA5D1ABC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E69A0-C352-4E30-8A2C-7BED1B884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94EB-D0E8-4CE1-85C4-938BD177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5122E-86D4-4482-BE63-E749C864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91950-D3F9-4913-BD85-AFAE8EAC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1C60F-A25F-4445-B11C-DAA080AB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F6CC1-0E7D-4621-97D1-E4C8C923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D67DE-AB17-444C-A595-F74FFECF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A8EF8-7DA0-4D81-86FF-498D7460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1A6CA-55AC-4977-A0FA-9C269752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B6AD4-B22F-4728-80E6-1CCBEEFE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771C8-FB3A-4B04-87D2-FC88723F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F7917-2570-4480-BEDE-5291F155C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F91F-0803-44B1-9464-D4B8D11B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B8CCE-890E-45F0-AD84-5FFE56B02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CDA9-5DAA-4074-AD0C-056D3D3A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B1F4-F186-4DFD-9BDD-413EAA0A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48ED-742B-4D2E-AFB7-827C6076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1F2B-01F3-4F1F-BD3E-AD76F9C96446}" type="slidenum">
              <a:rPr b="0" lang="en-GB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72E5-BA3F-45CE-B39F-5909F8791B1E}" type="slidenum">
              <a:rPr b="0" lang="en-GB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9905-F0F2-42E2-B24B-1AD294EAC854}" type="slidenum">
              <a:rPr b="0" lang="en-GB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DDAC-8DBD-443C-B66E-AA05938B6F54}" type="slidenum">
              <a:rPr b="0" lang="en-GB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002F-A1EB-43A8-A8DD-95B3289DBD5C}" type="slidenum">
              <a:rPr b="0" lang="en-GB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3"/>
          <p:cNvSpPr/>
          <p:nvPr/>
        </p:nvSpPr>
        <p:spPr>
          <a:xfrm>
            <a:off x="3584160" y="2143080"/>
            <a:ext cx="232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Object 5"/>
          <p:cNvGraphicFramePr/>
          <p:nvPr/>
        </p:nvGraphicFramePr>
        <p:xfrm>
          <a:off x="3500280" y="3071880"/>
          <a:ext cx="235764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3071880"/>
                    <a:ext cx="235764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1523880" y="785880"/>
          <a:ext cx="6977160" cy="3429000"/>
        </p:xfrm>
        <a:graphic>
          <a:graphicData uri="http://schemas.openxmlformats.org/drawingml/2006/table">
            <a:tbl>
              <a:tblPr/>
              <a:tblGrid>
                <a:gridCol w="2032200"/>
                <a:gridCol w="2587680"/>
                <a:gridCol w="2357280"/>
              </a:tblGrid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</a:tr>
              <a:tr h="15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</a:tr>
            </a:tbl>
          </a:graphicData>
        </a:graphic>
      </p:graphicFrame>
      <p:sp>
        <p:nvSpPr>
          <p:cNvPr id="224" name="TextBox 6"/>
          <p:cNvSpPr/>
          <p:nvPr/>
        </p:nvSpPr>
        <p:spPr>
          <a:xfrm>
            <a:off x="1748160" y="2786040"/>
            <a:ext cx="160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tic acid 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an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7"/>
          <p:cNvSpPr/>
          <p:nvPr/>
        </p:nvSpPr>
        <p:spPr>
          <a:xfrm>
            <a:off x="4078440" y="2786040"/>
            <a:ext cx="155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anol 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cyl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8"/>
          <p:cNvSpPr/>
          <p:nvPr/>
        </p:nvSpPr>
        <p:spPr>
          <a:xfrm>
            <a:off x="6507000" y="2786040"/>
            <a:ext cx="150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anol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zo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9"/>
          <p:cNvSpPr/>
          <p:nvPr/>
        </p:nvSpPr>
        <p:spPr>
          <a:xfrm>
            <a:off x="1864080" y="36432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iph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0"/>
          <p:cNvSpPr/>
          <p:nvPr/>
        </p:nvSpPr>
        <p:spPr>
          <a:xfrm>
            <a:off x="4078800" y="357192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o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1"/>
          <p:cNvSpPr/>
          <p:nvPr/>
        </p:nvSpPr>
        <p:spPr>
          <a:xfrm>
            <a:off x="6532920" y="359244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om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2"/>
          <p:cNvSpPr/>
          <p:nvPr/>
        </p:nvSpPr>
        <p:spPr>
          <a:xfrm>
            <a:off x="1607040" y="76032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yl ace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3"/>
          <p:cNvSpPr/>
          <p:nvPr/>
        </p:nvSpPr>
        <p:spPr>
          <a:xfrm>
            <a:off x="3652200" y="77472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yl salicy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4"/>
          <p:cNvSpPr/>
          <p:nvPr/>
        </p:nvSpPr>
        <p:spPr>
          <a:xfrm>
            <a:off x="6225480" y="7747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yl benzo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36"/>
          <p:cNvGraphicFramePr/>
          <p:nvPr/>
        </p:nvGraphicFramePr>
        <p:xfrm>
          <a:off x="1643040" y="1500120"/>
          <a:ext cx="185724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3040" y="1500120"/>
                    <a:ext cx="185724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37"/>
          <p:cNvGraphicFramePr/>
          <p:nvPr/>
        </p:nvGraphicFramePr>
        <p:xfrm>
          <a:off x="3857760" y="1285920"/>
          <a:ext cx="2071440" cy="13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Object 3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7760" y="1285920"/>
                    <a:ext cx="207144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38"/>
          <p:cNvGraphicFramePr/>
          <p:nvPr/>
        </p:nvGraphicFramePr>
        <p:xfrm>
          <a:off x="6286680" y="1428840"/>
          <a:ext cx="207144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8" name="Object 3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86680" y="1428840"/>
                    <a:ext cx="20714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500040" y="0"/>
          <a:ext cx="8570880" cy="6006960"/>
        </p:xfrm>
        <a:graphic>
          <a:graphicData uri="http://schemas.openxmlformats.org/drawingml/2006/table">
            <a:tbl>
              <a:tblPr/>
              <a:tblGrid>
                <a:gridCol w="991080"/>
                <a:gridCol w="218880"/>
                <a:gridCol w="920520"/>
                <a:gridCol w="1132920"/>
                <a:gridCol w="1345320"/>
                <a:gridCol w="212400"/>
                <a:gridCol w="1203840"/>
                <a:gridCol w="2545920"/>
              </a:tblGrid>
              <a:tr h="642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hyl ace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hyl salicyl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hyl benzo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</a:tr>
              <a:tr h="565200">
                <a:tc gridSpan="8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hysical propertie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652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004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</a:tr>
              <a:tr h="500040">
                <a:tc gridSpan="8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460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Inflamm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424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Change in appear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Change in o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Residu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com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0" name="Rectangle 91"/>
          <p:cNvSpPr/>
          <p:nvPr/>
        </p:nvSpPr>
        <p:spPr>
          <a:xfrm>
            <a:off x="2000160" y="128592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quid, oily,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92"/>
          <p:cNvSpPr/>
          <p:nvPr/>
        </p:nvSpPr>
        <p:spPr>
          <a:xfrm>
            <a:off x="1931400" y="2357280"/>
            <a:ext cx="13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uity o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93"/>
          <p:cNvSpPr/>
          <p:nvPr/>
        </p:nvSpPr>
        <p:spPr>
          <a:xfrm>
            <a:off x="4338720" y="2357280"/>
            <a:ext cx="13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ks o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94"/>
          <p:cNvSpPr/>
          <p:nvPr/>
        </p:nvSpPr>
        <p:spPr>
          <a:xfrm>
            <a:off x="4000680" y="178596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orl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95"/>
          <p:cNvSpPr/>
          <p:nvPr/>
        </p:nvSpPr>
        <p:spPr>
          <a:xfrm>
            <a:off x="567360" y="2681280"/>
            <a:ext cx="18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gnition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96"/>
          <p:cNvSpPr/>
          <p:nvPr/>
        </p:nvSpPr>
        <p:spPr>
          <a:xfrm>
            <a:off x="2615760" y="3286080"/>
            <a:ext cx="245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lammable, n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minous, non smo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97"/>
          <p:cNvSpPr/>
          <p:nvPr/>
        </p:nvSpPr>
        <p:spPr>
          <a:xfrm>
            <a:off x="4434480" y="471492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8"/>
          <p:cNvSpPr/>
          <p:nvPr/>
        </p:nvSpPr>
        <p:spPr>
          <a:xfrm>
            <a:off x="6726240" y="2314440"/>
            <a:ext cx="21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stic o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00"/>
          <p:cNvSpPr/>
          <p:nvPr/>
        </p:nvSpPr>
        <p:spPr>
          <a:xfrm>
            <a:off x="2564640" y="558972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pound is aliph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96"/>
          <p:cNvSpPr/>
          <p:nvPr/>
        </p:nvSpPr>
        <p:spPr>
          <a:xfrm>
            <a:off x="5150520" y="3429000"/>
            <a:ext cx="336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lammable, luminous, smo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96"/>
          <p:cNvSpPr/>
          <p:nvPr/>
        </p:nvSpPr>
        <p:spPr>
          <a:xfrm>
            <a:off x="4507200" y="4143240"/>
            <a:ext cx="191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volati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97"/>
          <p:cNvSpPr/>
          <p:nvPr/>
        </p:nvSpPr>
        <p:spPr>
          <a:xfrm>
            <a:off x="3744360" y="511488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sid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00"/>
          <p:cNvSpPr/>
          <p:nvPr/>
        </p:nvSpPr>
        <p:spPr>
          <a:xfrm>
            <a:off x="5559120" y="5589720"/>
            <a:ext cx="29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pounds are aro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9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9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9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9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9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0" y="104760"/>
          <a:ext cx="9072720" cy="4395960"/>
        </p:xfrm>
        <a:graphic>
          <a:graphicData uri="http://schemas.openxmlformats.org/drawingml/2006/table">
            <a:tbl>
              <a:tblPr/>
              <a:tblGrid>
                <a:gridCol w="1428840"/>
                <a:gridCol w="2286000"/>
                <a:gridCol w="3000240"/>
                <a:gridCol w="2357640"/>
              </a:tblGrid>
              <a:tr h="528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Miscibility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hyl ace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hyl salicyl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hyl benzo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.p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l. HC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NaO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c. H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ommen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4" name="TextBox 3"/>
          <p:cNvSpPr/>
          <p:nvPr/>
        </p:nvSpPr>
        <p:spPr>
          <a:xfrm>
            <a:off x="2006640" y="1214280"/>
            <a:ext cx="169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immisc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9"/>
          <p:cNvSpPr/>
          <p:nvPr/>
        </p:nvSpPr>
        <p:spPr>
          <a:xfrm>
            <a:off x="2715120" y="4071960"/>
            <a:ext cx="30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: All are neutral comp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0"/>
          <p:cNvSpPr/>
          <p:nvPr/>
        </p:nvSpPr>
        <p:spPr>
          <a:xfrm>
            <a:off x="4649760" y="2786040"/>
            <a:ext cx="169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immisc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1"/>
          <p:cNvSpPr/>
          <p:nvPr/>
        </p:nvSpPr>
        <p:spPr>
          <a:xfrm>
            <a:off x="3220920" y="2214720"/>
            <a:ext cx="169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immisc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0"/>
          <p:cNvSpPr/>
          <p:nvPr/>
        </p:nvSpPr>
        <p:spPr>
          <a:xfrm>
            <a:off x="3935520" y="3429000"/>
            <a:ext cx="169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immisc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0" y="104760"/>
          <a:ext cx="9001080" cy="6181920"/>
        </p:xfrm>
        <a:graphic>
          <a:graphicData uri="http://schemas.openxmlformats.org/drawingml/2006/table">
            <a:tbl>
              <a:tblPr/>
              <a:tblGrid>
                <a:gridCol w="1000080"/>
                <a:gridCol w="428760"/>
                <a:gridCol w="1785960"/>
                <a:gridCol w="3143160"/>
                <a:gridCol w="2643120"/>
              </a:tblGrid>
              <a:tr h="459720">
                <a:tc gridSpan="5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reliminary tes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hyl ace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hyl salicyl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hyl benzo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</a:tr>
              <a:tr h="459720">
                <a:tc gridSpan="5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oda l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5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5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% NaO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On cold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</a:tr>
              <a:tr h="459720"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On ho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</a:tr>
              <a:tr h="510120">
                <a:tc gridSpan="5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eCl</a:t>
                      </a:r>
                      <a:r>
                        <a:rPr b="1" i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On cold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</a:tr>
              <a:tr h="459720"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On ho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</a:tr>
              <a:tr h="510120">
                <a:tc gridSpan="5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onc. H</a:t>
                      </a:r>
                      <a:r>
                        <a:rPr b="1" i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1" i="1" lang="en-US" sz="24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On cold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 u="sng">
                          <a:solidFill>
                            <a:srgbClr val="7030a0"/>
                          </a:solidFill>
                          <a:uFillTx/>
                          <a:latin typeface="Times New Roman"/>
                          <a:ea typeface="Times New Roman"/>
                        </a:rPr>
                        <a:t>On ho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0" name="TextBox 3"/>
          <p:cNvSpPr/>
          <p:nvPr/>
        </p:nvSpPr>
        <p:spPr>
          <a:xfrm>
            <a:off x="2290680" y="1643040"/>
            <a:ext cx="27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done ( for solid on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"/>
          <p:cNvSpPr/>
          <p:nvPr/>
        </p:nvSpPr>
        <p:spPr>
          <a:xfrm>
            <a:off x="3933000" y="307188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5"/>
          <p:cNvSpPr/>
          <p:nvPr/>
        </p:nvSpPr>
        <p:spPr>
          <a:xfrm>
            <a:off x="4004640" y="442908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6"/>
          <p:cNvSpPr/>
          <p:nvPr/>
        </p:nvSpPr>
        <p:spPr>
          <a:xfrm>
            <a:off x="3935160" y="535788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 in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7"/>
          <p:cNvSpPr/>
          <p:nvPr/>
        </p:nvSpPr>
        <p:spPr>
          <a:xfrm>
            <a:off x="2935080" y="585792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 in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9"/>
          <p:cNvSpPr/>
          <p:nvPr/>
        </p:nvSpPr>
        <p:spPr>
          <a:xfrm>
            <a:off x="1648080" y="25718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0"/>
          <p:cNvSpPr/>
          <p:nvPr/>
        </p:nvSpPr>
        <p:spPr>
          <a:xfrm>
            <a:off x="3215160" y="4000680"/>
            <a:ext cx="305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olet color in ethanol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9"/>
          <p:cNvSpPr/>
          <p:nvPr/>
        </p:nvSpPr>
        <p:spPr>
          <a:xfrm>
            <a:off x="3474000" y="2571840"/>
            <a:ext cx="28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 ppt of Na-salicy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9"/>
          <p:cNvSpPr/>
          <p:nvPr/>
        </p:nvSpPr>
        <p:spPr>
          <a:xfrm>
            <a:off x="7005960" y="25718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4"/>
          <p:cNvSpPr/>
          <p:nvPr/>
        </p:nvSpPr>
        <p:spPr>
          <a:xfrm>
            <a:off x="1576800" y="30718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4"/>
          <p:cNvSpPr/>
          <p:nvPr/>
        </p:nvSpPr>
        <p:spPr>
          <a:xfrm>
            <a:off x="6791760" y="30718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0"/>
          <p:cNvSpPr/>
          <p:nvPr/>
        </p:nvSpPr>
        <p:spPr>
          <a:xfrm>
            <a:off x="1576800" y="40006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0"/>
          <p:cNvSpPr/>
          <p:nvPr/>
        </p:nvSpPr>
        <p:spPr>
          <a:xfrm>
            <a:off x="6824880" y="40006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5"/>
          <p:cNvSpPr/>
          <p:nvPr/>
        </p:nvSpPr>
        <p:spPr>
          <a:xfrm>
            <a:off x="1576800" y="44290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5"/>
          <p:cNvSpPr/>
          <p:nvPr/>
        </p:nvSpPr>
        <p:spPr>
          <a:xfrm>
            <a:off x="6934680" y="44290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4336920" y="1973160"/>
            <a:ext cx="576360" cy="5986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"/>
          <p:cNvPicPr/>
          <p:nvPr/>
        </p:nvPicPr>
        <p:blipFill>
          <a:blip r:embed="rId2"/>
          <a:stretch/>
        </p:blipFill>
        <p:spPr>
          <a:xfrm>
            <a:off x="4302000" y="3473280"/>
            <a:ext cx="528840" cy="5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0" y="304920"/>
          <a:ext cx="9144000" cy="4910040"/>
        </p:xfrm>
        <a:graphic>
          <a:graphicData uri="http://schemas.openxmlformats.org/drawingml/2006/table">
            <a:tbl>
              <a:tblPr/>
              <a:tblGrid>
                <a:gridCol w="3000240"/>
                <a:gridCol w="3403800"/>
                <a:gridCol w="2739960"/>
              </a:tblGrid>
              <a:tr h="499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General test 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0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hyl ace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hyl salicyl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hyl benzo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</a:tr>
              <a:tr h="499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26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</a:tr>
            </a:tbl>
          </a:graphicData>
        </a:graphic>
      </p:graphicFrame>
      <p:sp>
        <p:nvSpPr>
          <p:cNvPr id="278" name="TextBox 3"/>
          <p:cNvSpPr/>
          <p:nvPr/>
        </p:nvSpPr>
        <p:spPr>
          <a:xfrm>
            <a:off x="227520" y="763560"/>
            <a:ext cx="36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Hydroxylamine HCl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Isosceles Triangle 4"/>
          <p:cNvSpPr/>
          <p:nvPr/>
        </p:nvSpPr>
        <p:spPr>
          <a:xfrm>
            <a:off x="5500800" y="1214280"/>
            <a:ext cx="214200" cy="214560"/>
          </a:xfrm>
          <a:prstGeom prst="triangle">
            <a:avLst>
              <a:gd name="adj" fmla="val 5000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9"/>
          <p:cNvSpPr/>
          <p:nvPr/>
        </p:nvSpPr>
        <p:spPr>
          <a:xfrm>
            <a:off x="0" y="1220760"/>
            <a:ext cx="9144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r + hydroxylamine HCl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white solid)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10% NaO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until fussion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 solution             after cooling + Dil. HCl + 2 drops Fe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Straight Arrow Connector 15"/>
          <p:cNvCxnSpPr/>
          <p:nvPr/>
        </p:nvCxnSpPr>
        <p:spPr>
          <a:xfrm>
            <a:off x="5500800" y="1498680"/>
            <a:ext cx="1286640" cy="216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282" name="Straight Arrow Connector 18"/>
          <p:cNvCxnSpPr/>
          <p:nvPr/>
        </p:nvCxnSpPr>
        <p:spPr>
          <a:xfrm>
            <a:off x="8286840" y="1428840"/>
            <a:ext cx="714960" cy="216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283" name="TextBox 10"/>
          <p:cNvSpPr/>
          <p:nvPr/>
        </p:nvSpPr>
        <p:spPr>
          <a:xfrm>
            <a:off x="227160" y="275256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dish brown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urved Left Arrow 23"/>
          <p:cNvSpPr/>
          <p:nvPr/>
        </p:nvSpPr>
        <p:spPr>
          <a:xfrm>
            <a:off x="4286160" y="1643040"/>
            <a:ext cx="785880" cy="714240"/>
          </a:xfrm>
          <a:custGeom>
            <a:avLst/>
            <a:gdLst>
              <a:gd name="textAreaLeft" fmla="*/ 105120 w 785880"/>
              <a:gd name="textAreaRight" fmla="*/ 680760 w 785880"/>
              <a:gd name="textAreaTop" fmla="*/ 111600 h 714240"/>
              <a:gd name="textAreaBottom" fmla="*/ 51336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194854"/>
                <a:lnTo>
                  <a:pt x="4909" y="21423"/>
                </a:lnTo>
                <a:lnTo>
                  <a:pt x="0" y="16200"/>
                </a:lnTo>
                <a:lnTo>
                  <a:pt x="4909" y="10623"/>
                </a:lnTo>
                <a:lnTo>
                  <a:pt x="4909" y="13323"/>
                </a:lnTo>
                <a:arcTo wR="21600" hR="6750" stAng="3194854" swAng="-2728868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4"/>
          <p:cNvSpPr/>
          <p:nvPr/>
        </p:nvSpPr>
        <p:spPr>
          <a:xfrm>
            <a:off x="3296520" y="275256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dish violet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25"/>
          <p:cNvSpPr/>
          <p:nvPr/>
        </p:nvSpPr>
        <p:spPr>
          <a:xfrm>
            <a:off x="6462720" y="275256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dish brown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6"/>
          <p:cNvSpPr/>
          <p:nvPr/>
        </p:nvSpPr>
        <p:spPr>
          <a:xfrm>
            <a:off x="223200" y="3252960"/>
            <a:ext cx="24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Hydrolysis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7"/>
          <p:cNvSpPr/>
          <p:nvPr/>
        </p:nvSpPr>
        <p:spPr>
          <a:xfrm>
            <a:off x="0" y="3801960"/>
            <a:ext cx="9144000" cy="11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ml ester + 20ml 10% NaO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eflux 30 min.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il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illat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 alc.)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Residu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 acid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Straight Arrow Connector 29"/>
          <p:cNvCxnSpPr/>
          <p:nvPr/>
        </p:nvCxnSpPr>
        <p:spPr>
          <a:xfrm>
            <a:off x="3271320" y="4070520"/>
            <a:ext cx="1358280" cy="216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290" name="Straight Arrow Connector 33"/>
          <p:cNvCxnSpPr/>
          <p:nvPr/>
        </p:nvCxnSpPr>
        <p:spPr>
          <a:xfrm flipH="1">
            <a:off x="4642920" y="4143240"/>
            <a:ext cx="215280" cy="21528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291" name="Straight Arrow Connector 35"/>
          <p:cNvCxnSpPr/>
          <p:nvPr/>
        </p:nvCxnSpPr>
        <p:spPr>
          <a:xfrm>
            <a:off x="5929200" y="4143240"/>
            <a:ext cx="215280" cy="21528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292" name="TextBox 6"/>
          <p:cNvSpPr/>
          <p:nvPr/>
        </p:nvSpPr>
        <p:spPr>
          <a:xfrm>
            <a:off x="325440" y="4786200"/>
            <a:ext cx="24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anol + Acetic ac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7"/>
          <p:cNvSpPr/>
          <p:nvPr/>
        </p:nvSpPr>
        <p:spPr>
          <a:xfrm>
            <a:off x="3295440" y="474516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anol + Salicyl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8"/>
          <p:cNvSpPr/>
          <p:nvPr/>
        </p:nvSpPr>
        <p:spPr>
          <a:xfrm>
            <a:off x="6510240" y="4743360"/>
            <a:ext cx="25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anol +Benzo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7778880" y="3187800"/>
            <a:ext cx="145728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77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2" dur="770" fill="hold"/>
                                        <p:tgtEl>
                                          <p:spTgt spid="2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4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6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77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3" dur="770" fill="hold"/>
                                        <p:tgtEl>
                                          <p:spTgt spid="2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5" dur="77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7" dur="77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77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4" dur="770" fill="hold"/>
                                        <p:tgtEl>
                                          <p:spTgt spid="2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6" dur="77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8" dur="77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0" y="0"/>
          <a:ext cx="9144000" cy="33577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571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pecific test 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hyl ace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hyl salicyl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hyl benzo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</a:tr>
              <a:tr h="12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</a:tr>
              <a:tr h="99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3"/>
          <p:cNvSpPr/>
          <p:nvPr/>
        </p:nvSpPr>
        <p:spPr>
          <a:xfrm>
            <a:off x="0" y="2455920"/>
            <a:ext cx="31431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hyl acetate is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lighter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than H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Object 2"/>
          <p:cNvGraphicFramePr/>
          <p:nvPr/>
        </p:nvGraphicFramePr>
        <p:xfrm>
          <a:off x="357120" y="1143000"/>
          <a:ext cx="642960" cy="10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1143000"/>
                    <a:ext cx="64296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Rectangle 30"/>
          <p:cNvSpPr/>
          <p:nvPr/>
        </p:nvSpPr>
        <p:spPr>
          <a:xfrm>
            <a:off x="785880" y="1500120"/>
            <a:ext cx="2143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yl acetate + H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king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Object 34"/>
          <p:cNvGraphicFramePr/>
          <p:nvPr/>
        </p:nvGraphicFramePr>
        <p:xfrm>
          <a:off x="3143160" y="1214280"/>
          <a:ext cx="642960" cy="10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2" name="Object 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3160" y="1214280"/>
                    <a:ext cx="64296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Object 35"/>
          <p:cNvGraphicFramePr/>
          <p:nvPr/>
        </p:nvGraphicFramePr>
        <p:xfrm>
          <a:off x="6286680" y="1143000"/>
          <a:ext cx="642600" cy="107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4" name="Object 3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86680" y="1143000"/>
                    <a:ext cx="64260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Rectangle 30"/>
          <p:cNvSpPr/>
          <p:nvPr/>
        </p:nvSpPr>
        <p:spPr>
          <a:xfrm>
            <a:off x="3571920" y="1496880"/>
            <a:ext cx="24289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yl salicylate+ H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king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0"/>
          <p:cNvSpPr/>
          <p:nvPr/>
        </p:nvSpPr>
        <p:spPr>
          <a:xfrm>
            <a:off x="6786720" y="1425600"/>
            <a:ext cx="23572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yl benzoate + H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king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22"/>
          <p:cNvSpPr/>
          <p:nvPr/>
        </p:nvSpPr>
        <p:spPr>
          <a:xfrm>
            <a:off x="3000240" y="2428920"/>
            <a:ext cx="3000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thyl salicylate is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eavier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than H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23"/>
          <p:cNvSpPr/>
          <p:nvPr/>
        </p:nvSpPr>
        <p:spPr>
          <a:xfrm>
            <a:off x="5929200" y="2428920"/>
            <a:ext cx="3071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hyl benzoate is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eavier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than H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Straight Arrow Connector 25"/>
          <p:cNvCxnSpPr/>
          <p:nvPr/>
        </p:nvCxnSpPr>
        <p:spPr>
          <a:xfrm flipH="1">
            <a:off x="1785600" y="1856880"/>
            <a:ext cx="2160" cy="42948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10" name="Straight Arrow Connector 27"/>
          <p:cNvCxnSpPr/>
          <p:nvPr/>
        </p:nvCxnSpPr>
        <p:spPr>
          <a:xfrm flipH="1">
            <a:off x="4570200" y="1785600"/>
            <a:ext cx="3600" cy="50076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311" name="Straight Arrow Connector 29"/>
          <p:cNvCxnSpPr/>
          <p:nvPr/>
        </p:nvCxnSpPr>
        <p:spPr>
          <a:xfrm flipH="1">
            <a:off x="7786440" y="1785600"/>
            <a:ext cx="2160" cy="50076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pic>
        <p:nvPicPr>
          <p:cNvPr id="312" name="Picture 2" descr=""/>
          <p:cNvPicPr/>
          <p:nvPr/>
        </p:nvPicPr>
        <p:blipFill>
          <a:blip r:embed="rId7"/>
          <a:stretch/>
        </p:blipFill>
        <p:spPr>
          <a:xfrm>
            <a:off x="6748560" y="3713040"/>
            <a:ext cx="1305000" cy="13399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" descr=""/>
          <p:cNvPicPr/>
          <p:nvPr/>
        </p:nvPicPr>
        <p:blipFill>
          <a:blip r:embed="rId8"/>
          <a:stretch/>
        </p:blipFill>
        <p:spPr>
          <a:xfrm>
            <a:off x="628560" y="3565440"/>
            <a:ext cx="123660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7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0" y="0"/>
          <a:ext cx="9144000" cy="5232240"/>
        </p:xfrm>
        <a:graphic>
          <a:graphicData uri="http://schemas.openxmlformats.org/drawingml/2006/table">
            <a:tbl>
              <a:tblPr/>
              <a:tblGrid>
                <a:gridCol w="2852640"/>
                <a:gridCol w="2797200"/>
                <a:gridCol w="3494160"/>
              </a:tblGrid>
              <a:tr h="581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Lo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om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hyl ace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</a:tr>
              <a:tr h="68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</a:tr>
              <a:tr h="4827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hyl salicyl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</a:tr>
              <a:tr h="48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</a:tr>
              <a:tr h="48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</a:tr>
              <a:tr h="4809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hyl benzo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</a:tr>
              <a:tr h="446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f1eaf3"/>
                    </a:solidFill>
                  </a:tcPr>
                </a:tc>
              </a:tr>
              <a:tr h="49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c66bb"/>
                      </a:solidFill>
                    </a:lnL>
                    <a:lnR w="5760">
                      <a:solidFill>
                        <a:srgbClr val="ac66bb"/>
                      </a:solidFill>
                    </a:lnR>
                    <a:lnT w="5760">
                      <a:solidFill>
                        <a:srgbClr val="ac66bb"/>
                      </a:solidFill>
                    </a:lnT>
                    <a:lnB w="5760">
                      <a:solidFill>
                        <a:srgbClr val="ac66bb"/>
                      </a:solidFill>
                    </a:lnB>
                    <a:solidFill>
                      <a:srgbClr val="e3d3e7"/>
                    </a:solidFill>
                  </a:tcPr>
                </a:tc>
              </a:tr>
            </a:tbl>
          </a:graphicData>
        </a:graphic>
      </p:graphicFrame>
      <p:sp>
        <p:nvSpPr>
          <p:cNvPr id="315" name="Rectangle 2"/>
          <p:cNvSpPr/>
          <p:nvPr/>
        </p:nvSpPr>
        <p:spPr>
          <a:xfrm>
            <a:off x="3375000" y="121428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35 cm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3371040" y="1714680"/>
            <a:ext cx="14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3000 cm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6078960" y="1214280"/>
            <a:ext cx="23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O stretching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6078960" y="3857760"/>
            <a:ext cx="23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O stretching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3591000" y="385776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35 cm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9"/>
          <p:cNvSpPr/>
          <p:nvPr/>
        </p:nvSpPr>
        <p:spPr>
          <a:xfrm>
            <a:off x="5903640" y="1714680"/>
            <a:ext cx="310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 aliphatic stretching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0"/>
          <p:cNvSpPr/>
          <p:nvPr/>
        </p:nvSpPr>
        <p:spPr>
          <a:xfrm>
            <a:off x="5889600" y="4314960"/>
            <a:ext cx="310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 aliphatic stretching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1"/>
          <p:cNvSpPr/>
          <p:nvPr/>
        </p:nvSpPr>
        <p:spPr>
          <a:xfrm>
            <a:off x="3442320" y="4786200"/>
            <a:ext cx="14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3000 cm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2"/>
          <p:cNvSpPr/>
          <p:nvPr/>
        </p:nvSpPr>
        <p:spPr>
          <a:xfrm>
            <a:off x="5500800" y="4786200"/>
            <a:ext cx="37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 aromatic stretching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3"/>
          <p:cNvSpPr/>
          <p:nvPr/>
        </p:nvSpPr>
        <p:spPr>
          <a:xfrm>
            <a:off x="3448080" y="238608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35 cm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4"/>
          <p:cNvSpPr/>
          <p:nvPr/>
        </p:nvSpPr>
        <p:spPr>
          <a:xfrm>
            <a:off x="6078960" y="2386080"/>
            <a:ext cx="23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O stretching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5"/>
          <p:cNvSpPr/>
          <p:nvPr/>
        </p:nvSpPr>
        <p:spPr>
          <a:xfrm>
            <a:off x="3371040" y="2886120"/>
            <a:ext cx="14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3000 cm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6"/>
          <p:cNvSpPr/>
          <p:nvPr/>
        </p:nvSpPr>
        <p:spPr>
          <a:xfrm>
            <a:off x="5795640" y="2886120"/>
            <a:ext cx="310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 aliphatic stretching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7"/>
          <p:cNvSpPr/>
          <p:nvPr/>
        </p:nvSpPr>
        <p:spPr>
          <a:xfrm>
            <a:off x="3371040" y="3386160"/>
            <a:ext cx="14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3000 cm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8"/>
          <p:cNvSpPr/>
          <p:nvPr/>
        </p:nvSpPr>
        <p:spPr>
          <a:xfrm>
            <a:off x="5786280" y="3314880"/>
            <a:ext cx="32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 aromatic stretching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3"/>
          <p:cNvSpPr/>
          <p:nvPr/>
        </p:nvSpPr>
        <p:spPr>
          <a:xfrm>
            <a:off x="3453480" y="4357800"/>
            <a:ext cx="14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3000 cm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20" descr=""/>
          <p:cNvPicPr/>
          <p:nvPr/>
        </p:nvPicPr>
        <p:blipFill>
          <a:blip r:embed="rId1"/>
          <a:stretch/>
        </p:blipFill>
        <p:spPr>
          <a:xfrm>
            <a:off x="2214720" y="1143000"/>
            <a:ext cx="5109840" cy="3664080"/>
          </a:xfrm>
          <a:prstGeom prst="rect">
            <a:avLst/>
          </a:prstGeom>
          <a:ln w="0">
            <a:noFill/>
          </a:ln>
        </p:spPr>
      </p:pic>
      <p:grpSp>
        <p:nvGrpSpPr>
          <p:cNvPr id="332" name="شكل بيضاوي 3"/>
          <p:cNvGrpSpPr/>
          <p:nvPr/>
        </p:nvGrpSpPr>
        <p:grpSpPr>
          <a:xfrm>
            <a:off x="4578480" y="3333600"/>
            <a:ext cx="529920" cy="433440"/>
            <a:chOff x="4578480" y="3333600"/>
            <a:chExt cx="529920" cy="433440"/>
          </a:xfrm>
        </p:grpSpPr>
        <p:pic>
          <p:nvPicPr>
            <p:cNvPr id="333" name="شكل بيضاوي 3" descr=""/>
            <p:cNvPicPr/>
            <p:nvPr/>
          </p:nvPicPr>
          <p:blipFill>
            <a:blip r:embed="rId2"/>
            <a:stretch/>
          </p:blipFill>
          <p:spPr>
            <a:xfrm>
              <a:off x="4578480" y="3333600"/>
              <a:ext cx="52992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4694400" y="3409920"/>
              <a:ext cx="30456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3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3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4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1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10:51:46Z</dcterms:created>
  <dc:creator>admin</dc:creator>
  <dc:description/>
  <dc:language>en-US</dc:language>
  <cp:lastModifiedBy>reem</cp:lastModifiedBy>
  <dcterms:modified xsi:type="dcterms:W3CDTF">2014-11-10T06:07:14Z</dcterms:modified>
  <cp:revision>84</cp:revision>
  <dc:subject/>
  <dc:title>Slide 1</dc:title>
</cp:coreProperties>
</file>