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C739C5-45BC-416A-BAA8-35D9FFDF2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3113F3-6E19-4B94-A4B8-F7E0B1FBF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 – transient erythroblastopenia of child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A26F35-7A77-423E-AB41-0F2C2AD96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oisoning – lead screening usually done before anemia kicks in – if anemia triggers screen, then dx = 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disease – more often presents as normocytic an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5D4912-F80B-4553-867C-AF2B35F60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145484-5479-4977-B4E4-A62EBCB54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EC699A-25AF-4D16-B059-AB664730F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1FE-3BE3-447F-A536-99AEC0A0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861-9DDF-42EA-861C-EFB6E972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ECD2-FFFB-496E-8E0A-1DB30C5D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FFE7-B705-4CCD-A68D-19209BBE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2EC6-67C5-441B-A362-D079F580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24EF-4E38-483F-8D79-4AE11272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DD0D-DB5A-4A00-BF34-FFD7C779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E133-3628-4542-9E4A-86F05E74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84C4-0051-4215-B3A8-049E7C6F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5948-B6DF-4A57-BF42-2985D0EA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E46B-F27F-4B86-86EA-B8824594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D468-59F4-494D-9552-6162C358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12FE-5E37-4411-BCA7-FCFECD7A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B2BD-8DB0-4E46-AFD4-14161B4A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873A-1DB4-4C79-BAE8-E12E510F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111A-35A8-4DCA-AB67-F4EE25A4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8766-D058-43C1-A6D7-996E5B41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889-AECF-41A9-8650-F1CFD29A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9B1-DE0B-414A-B659-F4B70CC0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769-1AEF-4152-9004-25BD01C4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B5C-4C00-4951-94FA-6CE76762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825-60CD-4AB3-8D8C-4812C093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2D1-1C2B-4C28-8FEB-1F0176E1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2B17-1D70-4513-9EFE-B65B377C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5192-1952-450B-851A-2FAAEAF2049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D33F-AEA3-41BF-8013-F737368DD03C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3.png"/><Relationship Id="rId9" Type="http://schemas.openxmlformats.org/officeDocument/2006/relationships/image" Target="../media/image16.png"/><Relationship Id="rId10" Type="http://schemas.openxmlformats.org/officeDocument/2006/relationships/image" Target="../media/image3.png"/><Relationship Id="rId11" Type="http://schemas.openxmlformats.org/officeDocument/2006/relationships/image" Target="../media/image16.png"/><Relationship Id="rId12" Type="http://schemas.openxmlformats.org/officeDocument/2006/relationships/image" Target="../media/image3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3.png"/><Relationship Id="rId9" Type="http://schemas.openxmlformats.org/officeDocument/2006/relationships/image" Target="../media/image18.png"/><Relationship Id="rId10" Type="http://schemas.openxmlformats.org/officeDocument/2006/relationships/slide" Target="slide8.xml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3.png"/><Relationship Id="rId7" Type="http://schemas.openxmlformats.org/officeDocument/2006/relationships/image" Target="../media/image19.png"/><Relationship Id="rId8" Type="http://schemas.openxmlformats.org/officeDocument/2006/relationships/image" Target="../media/image3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3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3.png"/><Relationship Id="rId17" Type="http://schemas.openxmlformats.org/officeDocument/2006/relationships/image" Target="../media/image19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image" Target="../media/image16.png"/><Relationship Id="rId5" Type="http://schemas.openxmlformats.org/officeDocument/2006/relationships/image" Target="../media/image3.png"/><Relationship Id="rId6" Type="http://schemas.openxmlformats.org/officeDocument/2006/relationships/image" Target="../media/image16.png"/><Relationship Id="rId7" Type="http://schemas.openxmlformats.org/officeDocument/2006/relationships/image" Target="../media/image3.png"/><Relationship Id="rId8" Type="http://schemas.openxmlformats.org/officeDocument/2006/relationships/image" Target="../media/image16.png"/><Relationship Id="rId9" Type="http://schemas.openxmlformats.org/officeDocument/2006/relationships/image" Target="../media/image3.png"/><Relationship Id="rId10" Type="http://schemas.openxmlformats.org/officeDocument/2006/relationships/image" Target="../media/image16.png"/><Relationship Id="rId11" Type="http://schemas.openxmlformats.org/officeDocument/2006/relationships/image" Target="../media/image3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" Target="slide15.xml"/><Relationship Id="rId6" Type="http://schemas.openxmlformats.org/officeDocument/2006/relationships/image" Target="../media/image3.png"/><Relationship Id="rId7" Type="http://schemas.openxmlformats.org/officeDocument/2006/relationships/slide" Target="slide16.xml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8.png"/><Relationship Id="rId11" Type="http://schemas.openxmlformats.org/officeDocument/2006/relationships/slide" Target="slide19.xml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3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3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4.xml"/><Relationship Id="rId1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22.png"/><Relationship Id="rId6" Type="http://schemas.openxmlformats.org/officeDocument/2006/relationships/image" Target="../media/image18.png"/><Relationship Id="rId7" Type="http://schemas.openxmlformats.org/officeDocument/2006/relationships/image" Target="../media/image2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3.png"/><Relationship Id="rId7" Type="http://schemas.openxmlformats.org/officeDocument/2006/relationships/image" Target="../media/image18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22.png"/><Relationship Id="rId6" Type="http://schemas.openxmlformats.org/officeDocument/2006/relationships/image" Target="../media/image18.png"/><Relationship Id="rId7" Type="http://schemas.openxmlformats.org/officeDocument/2006/relationships/image" Target="../media/image3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066680" y="175248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2f1311"/>
                </a:solidFill>
                <a:latin typeface="Arial"/>
                <a:ea typeface="Arial"/>
              </a:rPr>
              <a:t>Evaluation  of Anemia </a:t>
            </a:r>
            <a:endParaRPr b="0" lang="en-US" sz="38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rcRect l="0" t="4812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mooth Tongue/Glossiti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0" t="0" r="0" b="7542"/>
          <a:stretch/>
        </p:blipFill>
        <p:spPr>
          <a:xfrm>
            <a:off x="457200" y="1752480"/>
            <a:ext cx="8153280" cy="4840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30560" y="226800"/>
            <a:ext cx="366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cleral Icteru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01840" y="1598760"/>
            <a:ext cx="35478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Yellow scler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an be seen in hemolysi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rcRect l="34282" t="0" r="17080" b="0"/>
          <a:stretch/>
        </p:blipFill>
        <p:spPr>
          <a:xfrm>
            <a:off x="457200" y="457200"/>
            <a:ext cx="3760920" cy="57913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flipH="1">
            <a:off x="2133360" y="2362320"/>
            <a:ext cx="2971800" cy="4572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Koilonychia (spoon nails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0" t="0" r="0" b="10234"/>
          <a:stretch/>
        </p:blipFill>
        <p:spPr>
          <a:xfrm>
            <a:off x="609480" y="1295280"/>
            <a:ext cx="8001000" cy="530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590920" y="1600200"/>
            <a:ext cx="5333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  <a:ea typeface="Arial"/>
              </a:rPr>
              <a:t>History:</a:t>
            </a:r>
            <a:endParaRPr b="0" lang="en-US" sz="4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28880" y="2903400"/>
            <a:ext cx="3840120" cy="35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Physiological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Inadequate intake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Blood loss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Malabsorption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62640" y="2905200"/>
            <a:ext cx="35812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Comorbids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Drug history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Family history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152800" y="657360"/>
            <a:ext cx="6619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7d47d"/>
                </a:solidFill>
                <a:latin typeface="Arial"/>
                <a:ea typeface="Arial"/>
              </a:rPr>
              <a:t>Classification of Anemia (Mean Corpuscular volume):</a:t>
            </a:r>
            <a:endParaRPr b="0" lang="en-US" sz="3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33480" y="2505240"/>
            <a:ext cx="6858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Microcyctic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–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MCV </a:t>
            </a:r>
            <a:r>
              <a:rPr b="1" lang="en-US" sz="3200" spc="-1" strike="noStrike" u="sng">
                <a:solidFill>
                  <a:srgbClr val="2f1311"/>
                </a:solidFill>
                <a:uFillTx/>
                <a:latin typeface="Arial"/>
                <a:ea typeface="Arial"/>
              </a:rPr>
              <a:t>&lt;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 80 fL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f131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Macrocytic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–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MCV </a:t>
            </a:r>
            <a:r>
              <a:rPr b="1" lang="en-US" sz="3200" spc="-1" strike="noStrike" u="sng">
                <a:solidFill>
                  <a:srgbClr val="2f1311"/>
                </a:solidFill>
                <a:uFillTx/>
                <a:latin typeface="Arial"/>
                <a:ea typeface="Arial"/>
              </a:rPr>
              <a:t>&gt;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 100 fL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Normocytic   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MCV 80 – 100 fL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286000" y="1523880"/>
            <a:ext cx="624852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  <a:ea typeface="Arial"/>
              </a:rPr>
              <a:t>Microcytic Anemia </a:t>
            </a:r>
            <a:endParaRPr b="0" lang="en-US" sz="4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4080" y="2781360"/>
            <a:ext cx="624816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1" marL="660960" indent="-254160">
              <a:lnSpc>
                <a:spcPct val="100000"/>
              </a:lnSpc>
              <a:spcBef>
                <a:spcPts val="799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Iron deficiency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349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99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Hemoglobinopathy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224"/>
              </a:spcBef>
              <a:buClr>
                <a:srgbClr val="4f010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Lead poisoning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99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Sideroblastic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99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Occasionally chronic disease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914400" y="1847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If no obvious cause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f1311"/>
                </a:solidFill>
                <a:uFillTx/>
                <a:latin typeface="Arial"/>
              </a:rPr>
              <a:t>Serum Ferritin</a:t>
            </a: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0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0101"/>
                </a:solidFill>
                <a:latin typeface="Arial"/>
              </a:rPr>
              <a:t>&lt; 15ug/l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Iron deficiency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0101"/>
                </a:solidFill>
                <a:latin typeface="Arial"/>
              </a:rPr>
              <a:t>Normal or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Serum Iron /       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    Increased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 (TIBC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hat’s normal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/H– Anemia criter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6-23 m </a:t>
            </a:r>
            <a:r>
              <a:rPr b="0" lang="en-US" sz="24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10/3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2-5 y </a:t>
            </a:r>
            <a:r>
              <a:rPr b="0" lang="en-US" sz="24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11/3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6-12 </a:t>
            </a:r>
            <a:r>
              <a:rPr b="0" lang="en-US" sz="24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2/3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CV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ower</a:t>
            </a:r>
            <a:r>
              <a:rPr b="0" lang="en-US" sz="24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70 + years in age (2-10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pper</a:t>
            </a:r>
            <a:r>
              <a:rPr b="0" lang="en-US" sz="24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0.6/year + 84 (up to 96y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DW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1.5%-14.5%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62720" y="1828800"/>
            <a:ext cx="3200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ticulocyte cou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rrected 1%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entzer index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CV/RBC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&lt;12 thal trai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&gt;13 Fe deficienc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Normal Values – Age and Gende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458200" cy="4502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80880" y="4191120"/>
            <a:ext cx="1219320" cy="533160"/>
          </a:xfrm>
          <a:prstGeom prst="ellipse">
            <a:avLst/>
          </a:prstGeom>
          <a:noFill/>
          <a:ln w="572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4876920"/>
            <a:ext cx="1219320" cy="533160"/>
          </a:xfrm>
          <a:prstGeom prst="ellipse">
            <a:avLst/>
          </a:prstGeom>
          <a:noFill/>
          <a:ln w="572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5562720"/>
            <a:ext cx="1219320" cy="533160"/>
          </a:xfrm>
          <a:prstGeom prst="ellipse">
            <a:avLst/>
          </a:prstGeom>
          <a:noFill/>
          <a:ln w="572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3048120"/>
            <a:ext cx="9144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295280" y="1981080"/>
            <a:ext cx="7239240" cy="1791000"/>
          </a:xfrm>
          <a:prstGeom prst="rect">
            <a:avLst/>
          </a:prstGeom>
          <a:solidFill>
            <a:srgbClr val="ff99cc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7d47d"/>
                </a:solidFill>
                <a:latin typeface="Arial"/>
                <a:ea typeface="Arial"/>
              </a:rPr>
              <a:t>Hemoglobin below the normal reference level for the age and sex of the individual</a:t>
            </a:r>
            <a:endParaRPr b="0" lang="en-US" sz="3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3809880"/>
            <a:ext cx="6705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Times New Roman"/>
              </a:rPr>
              <a:t>Reference range: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d2ffb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7d2ffb"/>
                </a:solidFill>
                <a:latin typeface="Times New Roman"/>
              </a:rPr>
              <a:t>1-3 days:</a:t>
            </a:r>
            <a:r>
              <a:rPr b="0" lang="en-US" sz="2800" spc="-1" strike="noStrike">
                <a:solidFill>
                  <a:srgbClr val="7d2ff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7d2ffb"/>
                </a:solidFill>
                <a:latin typeface="Times New Roman"/>
              </a:rPr>
              <a:t>14.5 - 22.5g/dl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d2ffb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7d2ffb"/>
                </a:solidFill>
                <a:latin typeface="Times New Roman"/>
              </a:rPr>
              <a:t>6 months to 2 years:</a:t>
            </a:r>
            <a:r>
              <a:rPr b="0" lang="en-US" sz="2800" spc="-1" strike="noStrike">
                <a:solidFill>
                  <a:srgbClr val="7d2ff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7d2ffb"/>
                </a:solidFill>
                <a:latin typeface="Times New Roman"/>
              </a:rPr>
              <a:t>10.5 - 13.5g/dl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d2ffb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7d2ffb"/>
                </a:solidFill>
                <a:latin typeface="Times New Roman"/>
              </a:rPr>
              <a:t>Adult  Men:</a:t>
            </a:r>
            <a:r>
              <a:rPr b="0" lang="en-US" sz="2800" spc="-1" strike="noStrike">
                <a:solidFill>
                  <a:srgbClr val="7d2ff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7d2ffb"/>
                </a:solidFill>
                <a:latin typeface="Times New Roman"/>
              </a:rPr>
              <a:t>13-18 g/dl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d2ffb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7d2ffb"/>
                </a:solidFill>
                <a:latin typeface="Times New Roman"/>
              </a:rPr>
              <a:t>Adult Women:</a:t>
            </a:r>
            <a:r>
              <a:rPr b="0" lang="en-US" sz="2800" spc="-1" strike="noStrike">
                <a:solidFill>
                  <a:srgbClr val="7d2ff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7d2ffb"/>
                </a:solidFill>
                <a:latin typeface="Times New Roman"/>
              </a:rPr>
              <a:t>11.5-15.5g/dl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nical Manifestations of Anemi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ymptomatic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ymptoms begin when HgB &lt;7-8g/d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Vague symptom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rritabilit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Fatigu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yspnea – especially with exert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eaknes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ig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10" action="ppaction://hlinksldjump"/>
              </a:rPr>
              <a:t>Pallo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achycard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achypne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ngestive heart failur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Approach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ues to the etiology are in the H&amp;P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Approach - Histor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43040" y="1200240"/>
            <a:ext cx="7772400" cy="56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ge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Newborn period – hemolytic anemia, blood loss, Fe deficiency rare before 4-6mo ol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3-6mo old – hemoglobinopathy, maybe iron deficienc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6-18mo old – iron deficiency most common, consider TEC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&gt; 18mo – differential broaden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Gende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Male – X-linked diseas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Ra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AA – Sickle cell diseas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Middle eastern, southeast asian, southern european – </a:t>
            </a:r>
            <a:r>
              <a:rPr b="0" lang="el-GR" sz="1600" spc="-1" strike="noStrike">
                <a:solidFill>
                  <a:srgbClr val="2f1311"/>
                </a:solidFill>
                <a:latin typeface="Arial"/>
              </a:rPr>
              <a:t>β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thalassemi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AA and southeast asians – æ thalassemi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Di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Excessive cow’s milk consumption – Fe deficienc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Strict vegetarian – B</a:t>
            </a:r>
            <a:r>
              <a:rPr b="0" lang="en-US" sz="1600" spc="-1" strike="noStrike" baseline="-25000">
                <a:solidFill>
                  <a:srgbClr val="2f1311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deficienc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Goat’s milk as milk protein source – folate deficienc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Drug history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Antibiotics, anti-inflammatory meds, anticonvulsant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Infec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Hx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Anemia? Gallstones? Splenectomy? Transfusions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Approach – Physical Exam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bnormal forearm and hand, café-au-lait macules, short statu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Fanconi anem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riphalangeal thumb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iamond-Blackfan anem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rontal bossing, maxillary overgrowth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ngenital hemolytic anem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ortic stenosis, VS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icroangiopathic hemolytic anem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plenomega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nherited hemolytic anem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taxia and posterior column sig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2f1311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deficienc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bs are Helpful – Within Reas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370160"/>
            <a:ext cx="738648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BC with differentia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valuate all cell lin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d cell indic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5" action="ppaction://hlinksldjump"/>
              </a:rPr>
              <a:t>MCV and RDW = critica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7" action="ppaction://hlinksldjump"/>
              </a:rPr>
              <a:t>Peripheral smea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ticulocyte cou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omb’s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smear indicates hemolys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>
            <a:hlinkClick r:id="rId11" action="ppaction://hlinksldjump"/>
          </p:cNvPr>
          <p:cNvSpPr/>
          <p:nvPr/>
        </p:nvSpPr>
        <p:spPr>
          <a:xfrm>
            <a:off x="8001000" y="62485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CV and RDW = Critica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442116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ow MCV = microcytosi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Iron deficiency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47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Thalassemia trait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47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Hemoglobin EE disease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47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(lead poisoning)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47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(chronic disease)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igh MCV = macrocytosi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47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Nutritional deficiency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47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Bone marrow failure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plastic anemi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Drug suppressio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Diamond-Blackfa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14720" y="1598760"/>
            <a:ext cx="2734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creased RDW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Helps distinguish between iron deficiency and thalassemia trait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ron Deficiency Anemi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aking Your Diagnosi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istory and physical = most importa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ab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BC with differential and smea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d cell indic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CV and RDW = critic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ticulocyte cou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ot necessarily needed if H&amp;P strongly suggest Fe deficiency as cause of anem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Charter Bd BT"/>
              </a:rPr>
              <a:t>If an unusual hx, or age &lt; 6 mo or &gt;18 mo-2y/o, then other labs are needed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ron Deficiency Anemia Lab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 order of changes that occu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DW increas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rum Fe levels fal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CV decreas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gB/Hct drop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ther labs may be done – but not necessar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9144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harter Bd BT"/>
                <a:ea typeface="Arial"/>
              </a:rPr>
              <a:t>Iron studies: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f1311"/>
                </a:solidFill>
                <a:latin typeface="Charter Bd BT"/>
                <a:ea typeface="Arial"/>
              </a:rPr>
              <a:t>Ferritin</a:t>
            </a:r>
            <a:endParaRPr b="0" lang="en-US" sz="23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f1311"/>
                </a:solidFill>
                <a:latin typeface="Charter Bd BT"/>
                <a:ea typeface="Arial"/>
              </a:rPr>
              <a:t>TIBC</a:t>
            </a:r>
            <a:endParaRPr b="0" lang="en-US" sz="23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f1311"/>
                </a:solidFill>
                <a:latin typeface="Charter Bd BT"/>
                <a:ea typeface="Arial"/>
              </a:rPr>
              <a:t>FEP</a:t>
            </a:r>
            <a:endParaRPr b="0" lang="en-US" sz="23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f1311"/>
                </a:solidFill>
                <a:latin typeface="Charter Bd BT"/>
                <a:ea typeface="Arial"/>
              </a:rPr>
              <a:t>Iron</a:t>
            </a:r>
            <a:endParaRPr b="0" lang="en-US" sz="23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harter Bd BT"/>
                <a:ea typeface="Arial"/>
              </a:rPr>
              <a:t>Hgb electrophoresis: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f1311"/>
                </a:solidFill>
                <a:latin typeface="Charter Bd BT"/>
                <a:ea typeface="Arial"/>
              </a:rPr>
              <a:t>A2 and F quantification</a:t>
            </a:r>
            <a:endParaRPr b="0" lang="en-US" sz="23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harter Bd BT"/>
                <a:ea typeface="Arial"/>
              </a:rPr>
              <a:t>ESR, UA, stool guiac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harter Bd BT"/>
                <a:ea typeface="Arial"/>
              </a:rPr>
              <a:t>CBC and smear </a:t>
            </a:r>
            <a:r>
              <a:rPr b="0" lang="en-US" sz="2600" spc="-1" strike="noStrike">
                <a:solidFill>
                  <a:srgbClr val="79af7d"/>
                </a:solidFill>
                <a:latin typeface="Charter Bd BT"/>
                <a:ea typeface="Arial"/>
              </a:rPr>
              <a:t>of parents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dditional Lab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7620120" y="61722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095560" y="1752480"/>
            <a:ext cx="5905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f1311"/>
                </a:solidFill>
                <a:latin typeface="Arial"/>
                <a:ea typeface="Arial"/>
              </a:rPr>
              <a:t>Clinical Features </a:t>
            </a:r>
            <a:r>
              <a:rPr b="1" i="1" lang="en-US" sz="4000" spc="-1" strike="noStrike">
                <a:solidFill>
                  <a:srgbClr val="2f1311"/>
                </a:solidFill>
                <a:latin typeface="Arial"/>
                <a:ea typeface="Arial"/>
              </a:rPr>
              <a:t>(symptoms):INFANTS</a:t>
            </a:r>
            <a:endParaRPr b="0" lang="en-US" sz="4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276720"/>
            <a:ext cx="6705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Irritability, restlessness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Anorexia, sleepiness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Behavioral changes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icrocytosis &amp; Fe studi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42880" y="1552680"/>
          <a:ext cx="7924680" cy="4566960"/>
        </p:xfrm>
        <a:graphic>
          <a:graphicData uri="http://schemas.openxmlformats.org/drawingml/2006/table">
            <a:tbl>
              <a:tblPr/>
              <a:tblGrid>
                <a:gridCol w="1942920"/>
                <a:gridCol w="2019240"/>
                <a:gridCol w="1600200"/>
                <a:gridCol w="2362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Fe deficiency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Thal trait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Lead poisoning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Hgb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MCV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RDW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FEP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Serum Fe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TIBC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Ferriti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3429000" y="25146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29000" y="30481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9000" y="5638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29000" y="46483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30481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25146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358128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29000" y="411480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51055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15200" y="411480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75438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10800"/>
                </a:moveTo>
                <a:lnTo>
                  <a:pt x="30399" y="3794"/>
                </a:lnTo>
                <a:lnTo>
                  <a:pt x="30399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2514600" y="1066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7d47d"/>
                </a:solidFill>
                <a:latin typeface="Arial"/>
                <a:ea typeface="Arial"/>
              </a:rPr>
              <a:t>Evaluation continued..</a:t>
            </a:r>
            <a:endParaRPr b="0" lang="en-US" sz="3800" spc="-1" strike="noStrike">
              <a:solidFill>
                <a:srgbClr val="2f1311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380960" y="1990800"/>
          <a:ext cx="7315200" cy="18399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7b0707"/>
                          </a:solidFill>
                          <a:latin typeface="Arial"/>
                          <a:ea typeface="Arial"/>
                        </a:rPr>
                        <a:t>Serum Iron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7b0707"/>
                          </a:solidFill>
                          <a:latin typeface="Arial"/>
                          <a:ea typeface="Arial"/>
                        </a:rPr>
                        <a:t>TIBC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7b0707"/>
                          </a:solidFill>
                          <a:latin typeface="Arial"/>
                          <a:ea typeface="Arial"/>
                        </a:rPr>
                        <a:t>Peripheral smear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7b0707"/>
                          </a:solidFill>
                          <a:latin typeface="Arial"/>
                          <a:ea typeface="Arial"/>
                        </a:rPr>
                        <a:t>Iron deficiency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7b0707"/>
                          </a:solidFill>
                          <a:latin typeface="Arial"/>
                          <a:ea typeface="Arial"/>
                        </a:rPr>
                        <a:t>Decreased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7b0707"/>
                          </a:solidFill>
                          <a:latin typeface="Arial"/>
                          <a:ea typeface="Arial"/>
                        </a:rPr>
                        <a:t>Increased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7b0707"/>
                          </a:solidFill>
                          <a:latin typeface="Arial"/>
                          <a:ea typeface="Arial"/>
                        </a:rPr>
                        <a:t>Hypochromic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6953400" y="3782880"/>
            <a:ext cx="1828800" cy="109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Target cells</a:t>
            </a:r>
            <a:r>
              <a:rPr b="1" lang="en-US" sz="2200" spc="-1" strike="noStrike">
                <a:solidFill>
                  <a:srgbClr val="7b0707"/>
                </a:solidFill>
                <a:latin typeface="Arial"/>
                <a:ea typeface="Arial"/>
              </a:rPr>
              <a:t> Basophilic stippling</a:t>
            </a:r>
            <a:endParaRPr b="0" lang="en-US" sz="22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24600" y="3840120"/>
            <a:ext cx="1828800" cy="109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Normal Increased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95800" y="3840120"/>
            <a:ext cx="1828800" cy="109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Increased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80960" y="3782880"/>
            <a:ext cx="2089440" cy="109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Thallasemia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67000" y="3840120"/>
            <a:ext cx="731520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67000" y="4935600"/>
            <a:ext cx="731520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38200" y="3811680"/>
            <a:ext cx="0" cy="109512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95800" y="3840120"/>
            <a:ext cx="0" cy="10954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24600" y="3840120"/>
            <a:ext cx="0" cy="10954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53400" y="3840120"/>
            <a:ext cx="0" cy="10954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782200" y="3840120"/>
            <a:ext cx="0" cy="109548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46920" y="4876920"/>
            <a:ext cx="1898640" cy="91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Diamorphic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21360" y="4876920"/>
            <a:ext cx="1825560" cy="91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Normal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94000" y="4876920"/>
            <a:ext cx="1827360" cy="91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Increased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67000" y="4876920"/>
            <a:ext cx="1827000" cy="91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Sideroblast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67000" y="4962600"/>
            <a:ext cx="730728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67000" y="5789520"/>
            <a:ext cx="730728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24080" y="4905360"/>
            <a:ext cx="0" cy="91296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94000" y="4876920"/>
            <a:ext cx="0" cy="91260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21360" y="4876920"/>
            <a:ext cx="0" cy="91260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46920" y="4876920"/>
            <a:ext cx="0" cy="91260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774280" y="4876920"/>
            <a:ext cx="0" cy="91260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96160" y="5738760"/>
            <a:ext cx="2190600" cy="871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Hypo/normo chromic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24600" y="5753160"/>
            <a:ext cx="1828800" cy="85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Decreased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95800" y="5753160"/>
            <a:ext cx="1828800" cy="85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Decreased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67000" y="5753160"/>
            <a:ext cx="1828800" cy="85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Chronic disease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67000" y="5753160"/>
            <a:ext cx="731520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67000" y="6610320"/>
            <a:ext cx="731520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67000" y="5753160"/>
            <a:ext cx="0" cy="85716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95800" y="5753160"/>
            <a:ext cx="0" cy="85716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24600" y="5753160"/>
            <a:ext cx="0" cy="85716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53400" y="5753160"/>
            <a:ext cx="0" cy="85716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782200" y="5753160"/>
            <a:ext cx="0" cy="85716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139760" y="1889280"/>
            <a:ext cx="75358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Thallesemia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Mentzer index: MCV/RBC count. &lt;13 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Hb Electrophoresis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0101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Sideroblastic anemia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Bone marrow exam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Iron deficiency anemia in men/post menopausal women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Gastro-intestinal endoscopy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Barium studies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9144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7d47d"/>
                </a:solidFill>
                <a:latin typeface="Arial"/>
                <a:ea typeface="Arial"/>
              </a:rPr>
              <a:t>Evaluation continued..</a:t>
            </a:r>
            <a:endParaRPr b="0" lang="en-US" sz="38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2558880" y="385920"/>
            <a:ext cx="574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7d47d"/>
                </a:solidFill>
                <a:latin typeface="Arial"/>
                <a:ea typeface="Arial"/>
              </a:rPr>
              <a:t>Macrocytic anemia (evaluation):</a:t>
            </a:r>
            <a:r>
              <a:rPr b="1" i="1" lang="en-US" sz="4000" spc="-1" strike="noStrike">
                <a:solidFill>
                  <a:srgbClr val="f7d47d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60480" y="1778040"/>
            <a:ext cx="760104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f0101"/>
                </a:solidFill>
                <a:uFillTx/>
                <a:latin typeface="Arial"/>
                <a:ea typeface="Arial"/>
              </a:rPr>
              <a:t>Peripheral film &amp; Reticulocyte count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Macrocytes absent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Normal reticulocyte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artifactual (hyperglycemia/natremia, cold agglutinin, and extreme leucocytosis)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High reticulocyte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hemolysis, bleeding or nutritional response to folate/B12/iron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303640" y="582480"/>
            <a:ext cx="64116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7d47d"/>
                </a:solidFill>
                <a:latin typeface="Arial"/>
                <a:ea typeface="Arial"/>
              </a:rPr>
              <a:t>Evaluation continued...  </a:t>
            </a:r>
            <a:endParaRPr b="0" lang="en-US" sz="3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1563840"/>
            <a:ext cx="708660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7d47d"/>
                </a:solidFill>
                <a:latin typeface="Arial"/>
                <a:ea typeface="Arial"/>
              </a:rPr>
              <a:t>Macrocytes present</a:t>
            </a:r>
            <a:endParaRPr b="0" lang="en-US" sz="3600" spc="-1" strike="noStrike">
              <a:solidFill>
                <a:srgbClr val="2f1311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With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megaloblast MCV&gt;120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B12 deficiency, Folic acid deficiency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Drugs (cytotoxic, anticonvulsant, antibiotic)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Without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megaloblast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MCV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100-120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Liver disease, Alcoholism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Hypothyroidism, Myelodysplastic disorders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251080" y="782640"/>
            <a:ext cx="58086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7d47d"/>
                </a:solidFill>
                <a:latin typeface="Arial"/>
                <a:ea typeface="Arial"/>
              </a:rPr>
              <a:t>Normocytic anemia (causes):</a:t>
            </a:r>
            <a:br>
              <a:rPr sz="3800"/>
            </a:br>
            <a:endParaRPr b="0" lang="en-US" sz="3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51040" y="2052720"/>
            <a:ext cx="8662680" cy="48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d2ffb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Increased</a:t>
            </a:r>
            <a:r>
              <a:rPr b="1" lang="en-US" sz="3200" spc="-1" strike="noStrike">
                <a:solidFill>
                  <a:srgbClr val="7d2ffb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RBC</a:t>
            </a:r>
            <a:r>
              <a:rPr b="1" lang="en-US" sz="3200" spc="-1" strike="noStrike">
                <a:solidFill>
                  <a:srgbClr val="7d2ffb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loss/destruction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d2ffb"/>
                </a:solidFill>
                <a:latin typeface="Arial"/>
                <a:ea typeface="Arial"/>
              </a:rPr>
              <a:t>acute blood loss, hypersplenism, hemolytic disease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d2ffb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Decreased</a:t>
            </a:r>
            <a:r>
              <a:rPr b="1" lang="en-US" sz="3200" spc="-1" strike="noStrike">
                <a:solidFill>
                  <a:srgbClr val="7d2ffb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RBC</a:t>
            </a:r>
            <a:r>
              <a:rPr b="1" lang="en-US" sz="3200" spc="-1" strike="noStrike">
                <a:solidFill>
                  <a:srgbClr val="7d2ffb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production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d2ffb"/>
                </a:solidFill>
                <a:latin typeface="Arial"/>
                <a:ea typeface="Arial"/>
              </a:rPr>
              <a:t>primary cause i.e bone marrow disorders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d2ffb"/>
                </a:solidFill>
                <a:latin typeface="Arial"/>
                <a:ea typeface="Arial"/>
              </a:rPr>
              <a:t>secondary cause i.e CRF, liver disease, chronic disease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d2ffb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Over-expansion</a:t>
            </a:r>
            <a:r>
              <a:rPr b="1" lang="en-US" sz="3200" spc="-1" strike="noStrike">
                <a:solidFill>
                  <a:srgbClr val="7d2ffb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of</a:t>
            </a:r>
            <a:r>
              <a:rPr b="1" lang="en-US" sz="3200" spc="-1" strike="noStrike">
                <a:solidFill>
                  <a:srgbClr val="7d2ffb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plasma</a:t>
            </a:r>
            <a:r>
              <a:rPr b="1" lang="en-US" sz="3200" spc="-1" strike="noStrike">
                <a:solidFill>
                  <a:srgbClr val="7d2ffb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volume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d2ffb"/>
                </a:solidFill>
                <a:latin typeface="Arial"/>
                <a:ea typeface="Arial"/>
              </a:rPr>
              <a:t>pregnancy, overhydration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066760" y="0"/>
            <a:ext cx="622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7d47d"/>
                </a:solidFill>
                <a:latin typeface="Arial"/>
                <a:ea typeface="Arial"/>
              </a:rPr>
              <a:t>Normocytic anemia </a:t>
            </a:r>
            <a:r>
              <a:rPr b="1" i="1" lang="en-US" sz="2600" spc="-1" strike="noStrike">
                <a:solidFill>
                  <a:srgbClr val="f7d47d"/>
                </a:solidFill>
                <a:latin typeface="Arial"/>
                <a:ea typeface="Arial"/>
              </a:rPr>
              <a:t>(evaluation):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46080" y="1619280"/>
            <a:ext cx="774072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 u="sng">
                <a:solidFill>
                  <a:srgbClr val="d5b781"/>
                </a:solidFill>
                <a:uFillTx/>
                <a:latin typeface="Arial"/>
                <a:ea typeface="Arial"/>
              </a:rPr>
              <a:t>CBC, Peripheral smear &amp; Retic count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0b854"/>
                </a:solidFill>
                <a:latin typeface="Arial"/>
                <a:ea typeface="Arial"/>
              </a:rPr>
              <a:t>Normal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0b854"/>
                </a:solidFill>
                <a:latin typeface="Arial"/>
                <a:ea typeface="Arial"/>
              </a:rPr>
              <a:t>retic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and </a:t>
            </a:r>
            <a:r>
              <a:rPr b="1" lang="en-US" sz="3200" spc="-1" strike="noStrike">
                <a:solidFill>
                  <a:srgbClr val="f0b854"/>
                </a:solidFill>
                <a:latin typeface="Arial"/>
                <a:ea typeface="Arial"/>
              </a:rPr>
              <a:t>mild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0b854"/>
                </a:solidFill>
                <a:latin typeface="Arial"/>
                <a:ea typeface="Arial"/>
              </a:rPr>
              <a:t>anemia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&gt;9gm/dl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chronic disease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0b854"/>
                </a:solidFill>
                <a:latin typeface="Arial"/>
                <a:ea typeface="Arial"/>
              </a:rPr>
              <a:t>Normal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0b854"/>
                </a:solidFill>
                <a:latin typeface="Arial"/>
                <a:ea typeface="Arial"/>
              </a:rPr>
              <a:t>or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0b854"/>
                </a:solidFill>
                <a:latin typeface="Arial"/>
                <a:ea typeface="Arial"/>
              </a:rPr>
              <a:t>decreased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0b854"/>
                </a:solidFill>
                <a:latin typeface="Arial"/>
                <a:ea typeface="Arial"/>
              </a:rPr>
              <a:t>retic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with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leucopenia/thrombocytopenia/blast cell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bone marrow exam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0b854"/>
                </a:solidFill>
                <a:latin typeface="Arial"/>
                <a:ea typeface="Arial"/>
              </a:rPr>
              <a:t>Elevated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0b854"/>
                </a:solidFill>
                <a:latin typeface="Arial"/>
                <a:ea typeface="Arial"/>
              </a:rPr>
              <a:t>retic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0b854"/>
                </a:solidFill>
                <a:latin typeface="Arial"/>
                <a:ea typeface="Arial"/>
              </a:rPr>
              <a:t>count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Direct Coombs test: +ve autoimmune HA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-ve mechanical or other         </a:t>
            </a:r>
            <a:r>
              <a:rPr b="1" lang="ar-SA" sz="2800" spc="-1" strike="noStrike">
                <a:solidFill>
                  <a:srgbClr val="2f1311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HA  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162240" y="419040"/>
            <a:ext cx="377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7d47d"/>
                </a:solidFill>
                <a:latin typeface="Arial"/>
                <a:ea typeface="Arial"/>
              </a:rPr>
              <a:t>Conclusion:</a:t>
            </a:r>
            <a:endParaRPr b="0" lang="en-US" sz="3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5160" y="1847880"/>
            <a:ext cx="79441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Evaluation based on MCV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Microcytosis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is due to iron deficiency     unless proven otherwise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Megaloblast help in differentiating cause of macrocytosis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CBC and reticulocyte count essential for normocytic anemia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The Medical Student’s Approach to Anemia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37680" y="990360"/>
            <a:ext cx="86029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heck the reticulocyte count to determine if the anemia is from decreased production (“hypoproliferative”, “reticulocytopenic”) or increased destruction (“hemolytic”)/acute blood loss (“reticulocytosis”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2.  If  decreased production, narrow down the causes in terms of the MCV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86240" indent="-393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f the MCV is low, then do iron studies then Hb electropheresi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86240" indent="-393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f the MCV is normal, check the serum creatinine and TSH, if they are WNL then consider bone marrow exa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86240" indent="-393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f the MCV is high check a folate and vitamin B</a:t>
            </a:r>
            <a:r>
              <a:rPr b="0" lang="en-US" sz="2400" spc="-1" strike="noStrike" baseline="-25000">
                <a:solidFill>
                  <a:srgbClr val="2f1311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3.  If the the reticulocyte count is increased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86240" indent="-393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heck a direct Coomb’s tes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4.  Look at the peripheral blood smear to confirm/support the diagnosi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320" y="42840"/>
            <a:ext cx="777564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nemia Algorithm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7763040" cy="6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atient with anemia and decreased reticulocyte count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76520" y="1828800"/>
            <a:ext cx="6168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Book Antiqua"/>
              </a:rPr>
              <a:t>What is the MCV ??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990720" y="2514600"/>
            <a:ext cx="3657600" cy="30492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0040" y="2897280"/>
            <a:ext cx="197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Book Antiqua"/>
              </a:rPr>
              <a:t>Microcytic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7760" y="4040280"/>
            <a:ext cx="75888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Book Antiqua"/>
              </a:rPr>
              <a:t>Fe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Book Antiqua"/>
              </a:rPr>
              <a:t>def.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92160" y="4116240"/>
            <a:ext cx="83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Book Antiqua"/>
              </a:rPr>
              <a:t>Thal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457200" y="3352680"/>
            <a:ext cx="457200" cy="60984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3352680"/>
            <a:ext cx="457200" cy="60984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880560" y="3352680"/>
            <a:ext cx="33480" cy="289584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-271440" y="6095880"/>
            <a:ext cx="47419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Book Antiqua"/>
              </a:rPr>
              <a:t>Other: sideroblastic anemia    </a:t>
            </a:r>
            <a:r>
              <a:rPr b="0" lang="en-US" sz="1800" spc="-1" strike="noStrike">
                <a:solidFill>
                  <a:srgbClr val="2f1311"/>
                </a:solidFill>
                <a:latin typeface="Book Antiqua"/>
              </a:rPr>
              <a:t>(meds,PB,Zn excess,Cu def)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35360" y="2973240"/>
            <a:ext cx="281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Book Antiqua"/>
              </a:rPr>
              <a:t>Normocytic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648320" y="2590560"/>
            <a:ext cx="0" cy="7596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404040" y="2666880"/>
            <a:ext cx="2739960" cy="38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Book Antiqua"/>
              </a:rPr>
              <a:t>Macrocytic: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f1311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Book Antiqua"/>
              </a:rPr>
              <a:t>Vitamin-related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7d47d"/>
                </a:solidFill>
                <a:latin typeface="Book Antiqua"/>
              </a:rPr>
              <a:t>12</a:t>
            </a:r>
            <a:r>
              <a:rPr b="0" lang="en-US" sz="2400" spc="-1" strike="noStrike" baseline="30000">
                <a:solidFill>
                  <a:srgbClr val="2f1311"/>
                </a:solidFill>
                <a:latin typeface="Book Antiqua"/>
              </a:rPr>
              <a:t>,</a:t>
            </a:r>
            <a:r>
              <a:rPr b="0" lang="en-US" sz="2400" spc="-1" strike="noStrike">
                <a:solidFill>
                  <a:srgbClr val="2f1311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Book Antiqua"/>
              </a:rPr>
              <a:t>Folate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f1311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Book Antiqua"/>
              </a:rPr>
              <a:t>Non-vitamin: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7d47d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Book Antiqua"/>
              </a:rPr>
              <a:t>MDS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2f1311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Book Antiqua"/>
              </a:rPr>
              <a:t>EtOH/Liver Disease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2f1311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Book Antiqua"/>
              </a:rPr>
              <a:t>Hypothyroidism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8320" y="2514600"/>
            <a:ext cx="1904760" cy="7632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33720" y="3886200"/>
            <a:ext cx="1749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Book Antiqua"/>
              </a:rPr>
              <a:t>Systemic Diseases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38480" y="3905280"/>
            <a:ext cx="25066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Book Antiqua"/>
              </a:rPr>
              <a:t>Diseases in Bone Marrow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2f1311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Book Antiqua"/>
              </a:rPr>
              <a:t>MDS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2f1311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Book Antiqua"/>
              </a:rPr>
              <a:t>Solid Tumor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2f1311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Book Antiqua"/>
              </a:rPr>
              <a:t>Myeloma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2f1311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Book Antiqua"/>
              </a:rPr>
              <a:t>Aplastic anemia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819520" y="3428640"/>
            <a:ext cx="1676160" cy="685800"/>
          </a:xfrm>
          <a:prstGeom prst="line">
            <a:avLst/>
          </a:prstGeom>
          <a:ln w="12600">
            <a:solidFill>
              <a:srgbClr val="2f13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95680" y="3429000"/>
            <a:ext cx="1067040" cy="68580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4648320"/>
            <a:ext cx="3267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Book Antiqua"/>
              </a:rPr>
              <a:t>Renal</a:t>
            </a:r>
            <a:r>
              <a:rPr b="0" lang="en-US" sz="2400" spc="-1" strike="noStrike">
                <a:solidFill>
                  <a:srgbClr val="2f1311"/>
                </a:solidFill>
                <a:latin typeface="Book Antiqua"/>
              </a:rPr>
              <a:t> vs. Liver vs. Endocrine vs.        </a:t>
            </a:r>
            <a:r>
              <a:rPr b="0" lang="en-US" sz="2400" spc="-1" strike="noStrike">
                <a:solidFill>
                  <a:srgbClr val="f7d47d"/>
                </a:solidFill>
                <a:latin typeface="Book Antiqua"/>
              </a:rPr>
              <a:t>Anemia of  Inflammation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43200" y="4800600"/>
            <a:ext cx="0" cy="30492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666880" y="1752480"/>
            <a:ext cx="5334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f1311"/>
                </a:solidFill>
                <a:latin typeface="Arial"/>
                <a:ea typeface="Arial"/>
              </a:rPr>
              <a:t>Clinical Features </a:t>
            </a:r>
            <a:r>
              <a:rPr b="1" i="1" lang="en-US" sz="4000" spc="-1" strike="noStrike">
                <a:solidFill>
                  <a:srgbClr val="2f1311"/>
                </a:solidFill>
                <a:latin typeface="Arial"/>
                <a:ea typeface="Arial"/>
              </a:rPr>
              <a:t>(symptoms):ADULTS</a:t>
            </a:r>
            <a:endParaRPr b="0" lang="en-US" sz="4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71720" y="2962440"/>
            <a:ext cx="670572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Times New Roman"/>
              </a:rPr>
              <a:t>Common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Fatigue/Muscle weakness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Headache/Lack of concentration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Faintness/dizziness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Times New Roman"/>
              </a:rPr>
              <a:t>Exertional dyspnoea/palpitation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Times New Roman"/>
              </a:rPr>
              <a:t>Angina/intermittent claudication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42840"/>
            <a:ext cx="777564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nemia Algorithm, continue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80920" y="685440"/>
            <a:ext cx="7761600" cy="6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-226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atient with anemia and increased reticulocyte count= HEMOLYTIC ANEM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3187800" y="1523880"/>
            <a:ext cx="297648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42840"/>
            <a:ext cx="777564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nemia Algorithm, continue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7761240" cy="6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atient with anemia and increased reticulocyte count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6120" y="1057320"/>
            <a:ext cx="61707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Book Antiqua"/>
              </a:rPr>
              <a:t>What is the result of a Coomb’s test ??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844720" y="1523880"/>
            <a:ext cx="1897200" cy="22860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400" y="2209680"/>
            <a:ext cx="1977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f1311"/>
                </a:solidFill>
                <a:uFillTx/>
                <a:latin typeface="Book Antiqua"/>
              </a:rPr>
              <a:t>Extrinsic red cell defect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400" y="4114800"/>
            <a:ext cx="879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Vessel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92160" y="4116240"/>
            <a:ext cx="83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56840" y="2895480"/>
            <a:ext cx="490680" cy="106704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47880" y="2895480"/>
            <a:ext cx="423720" cy="106704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837720" y="2895480"/>
            <a:ext cx="109800" cy="297180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6440" y="5869080"/>
            <a:ext cx="121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oxin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97200" y="1828800"/>
            <a:ext cx="13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Book Antiqua"/>
              </a:rPr>
              <a:t>Negativ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41920" y="2666880"/>
            <a:ext cx="0" cy="38124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89440" y="1828800"/>
            <a:ext cx="34545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Book Antiqua"/>
              </a:rPr>
              <a:t>Positive                    </a:t>
            </a:r>
            <a:r>
              <a:rPr b="0" lang="en-US" sz="1600" spc="-1" strike="noStrike">
                <a:solidFill>
                  <a:srgbClr val="2f1311"/>
                </a:solidFill>
                <a:latin typeface="Book Antiqua"/>
              </a:rPr>
              <a:t>(autoimmune hemolytic anemia)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8520" y="1523880"/>
            <a:ext cx="1965240" cy="30492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26000" y="2057400"/>
            <a:ext cx="1977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f1311"/>
                </a:solidFill>
                <a:uFillTx/>
                <a:latin typeface="Book Antiqua"/>
              </a:rPr>
              <a:t>Intrinsic red cell defect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95640" y="3200400"/>
            <a:ext cx="1693800" cy="3276720"/>
          </a:xfrm>
          <a:prstGeom prst="ellipse">
            <a:avLst/>
          </a:prstGeom>
          <a:solidFill>
            <a:srgbClr val="cc3300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92600" y="3352680"/>
            <a:ext cx="1287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947520" y="2057400"/>
            <a:ext cx="949320" cy="22860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0640" y="2085840"/>
            <a:ext cx="744480" cy="15264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32440" y="4724280"/>
            <a:ext cx="169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Hemoglobin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99040" y="4038480"/>
            <a:ext cx="1287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ytoplasm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24440" y="3124080"/>
            <a:ext cx="115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Warm”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924680" y="3124080"/>
            <a:ext cx="115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old”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366960" y="2514600"/>
            <a:ext cx="1016280" cy="60948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383600" y="2514600"/>
            <a:ext cx="947520" cy="60948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8040" y="0"/>
            <a:ext cx="8026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he Attending’s Approach to Anemi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.  Stool guiacs x 3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.  If the MCV is low, then prescribe ir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.  If the MCV is high, then check a folate level and vitamin B</a:t>
            </a:r>
            <a:r>
              <a:rPr b="0" lang="en-US" sz="3200" spc="-1" strike="noStrike" baseline="-25000">
                <a:solidFill>
                  <a:srgbClr val="2f1311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f folate level returns low or “indeterminate”, then begin folic acid 1 mg po q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f B</a:t>
            </a:r>
            <a:r>
              <a:rPr b="0" lang="en-US" sz="2800" spc="-1" strike="noStrike" baseline="-25000">
                <a:solidFill>
                  <a:srgbClr val="2f1311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level returns low or “indeterminate”, then begin IM vitamin B</a:t>
            </a:r>
            <a:r>
              <a:rPr b="0" lang="en-US" sz="2800" spc="-1" strike="noStrike" baseline="-25000">
                <a:solidFill>
                  <a:srgbClr val="2f1311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Blood Loss Anemi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xcessive bleeding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jur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urgery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oblem with the blood's clotting mechanism (inherited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e hemophil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eavy menstrual periods in teen girls and women (most common problem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lower, long-term blood loss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e Intestinal bleeding and inflammatory bowel diseas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09880" y="6400800"/>
            <a:ext cx="533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ahoma"/>
                <a:ea typeface="Arial"/>
              </a:rPr>
              <a:t>http://www.innvista.com/health/ailments/anemias/bloodlos.htm</a:t>
            </a:r>
            <a:endParaRPr b="0" lang="en-US" sz="1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52560" y="3715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Arial"/>
              </a:rPr>
              <a:t>Blood Loss Anemia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GI and other malignancy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Bleeding ulcer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Bleeding hemorrhoid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hysiologic Reactions to Blood Los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cute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– Peripheral vasoconstriction and central vasodilat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f blood loss continues – small vessel dilatation with compensatory decreased PVR, resulting in increased C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hronic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- Increased plasma volume keeps intravascular volume norma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rythropoietin released by kidneys – reticulocytes in 3-7 day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OST HEMORRHAGIC ANEMI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P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CTIVATES SNS </a:t>
            </a:r>
            <a:r>
              <a:rPr b="0" lang="en-US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VASCULAR RESISTANCE, </a:t>
            </a:r>
            <a:r>
              <a:rPr b="0" lang="en-US" sz="3200" spc="-1" strike="noStrike">
                <a:solidFill>
                  <a:srgbClr val="2f1311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HR, </a:t>
            </a:r>
            <a:r>
              <a:rPr b="0" lang="en-US" sz="3200" spc="-1" strike="noStrike">
                <a:solidFill>
                  <a:srgbClr val="2f1311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STROKE VOLUM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R TO IMPROVE OXYGEN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emia of Acute Blood Los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rauma or GI tract loss most comm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enstrual/vaginal los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rinary trac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osebleeds leading to anemia, but not because of it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achycardia and hypotension are common finding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istory helps the most for the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igns and Symptom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pend up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ate of blood los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mount of blood los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verall Health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orbid disease stat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igns and Symptom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Weaknes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Fatigue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Dyspnea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Palpitation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Orthostatic symptom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Lethargy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666880" y="1352520"/>
            <a:ext cx="5334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f1311"/>
                </a:solidFill>
                <a:latin typeface="Arial"/>
                <a:ea typeface="Arial"/>
              </a:rPr>
              <a:t>Clinical Features </a:t>
            </a:r>
            <a:r>
              <a:rPr b="1" i="1" lang="en-US" sz="4000" spc="-1" strike="noStrike">
                <a:solidFill>
                  <a:srgbClr val="2f1311"/>
                </a:solidFill>
                <a:latin typeface="Arial"/>
                <a:ea typeface="Arial"/>
              </a:rPr>
              <a:t>(signs):</a:t>
            </a:r>
            <a:endParaRPr b="0" lang="en-US" sz="4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00080" y="2590920"/>
            <a:ext cx="754380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Times New Roman"/>
              </a:rPr>
              <a:t>Non-specific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pallor, tacycardia, flow mummer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Times New Roman"/>
              </a:rPr>
              <a:t>Specific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koilonychia, angular stomatitis, glossitis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neuropathy, dementia, paraplegia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jaundice, bone deformities, leg ulcer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hysical Exam Finding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+ Orthostatic BP’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achycard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allor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ystolic ejc. murmu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idened pulse pressu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I bleeding/Uterine bleed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ltered Mental Statu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agnosi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nfirmed by lab values – RBC count, Hgb and Hc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BC may not determine specific cause – need to obtain other labs to begin appropriate workup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BC-provides RBC indices (MCV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ticulocyte cou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eripheral smea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ron stud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late, B12 level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emia- Signs/Symptom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yspnea on exer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lpitat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gina pectori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termittent claudic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adach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yncop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orexi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izziness/vertig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ause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ld intolera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menorrhe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crease libido/impote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8478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Multi-system effects of Anemi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924200" y="0"/>
            <a:ext cx="72198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allo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259160" cy="2890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390920" y="1901880"/>
            <a:ext cx="3144960" cy="316368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8077320" y="62485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10800"/>
                </a:moveTo>
                <a:lnTo>
                  <a:pt x="28598" y="3794"/>
                </a:lnTo>
                <a:lnTo>
                  <a:pt x="28598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rcRect l="0" t="0" r="0" b="5223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0:22:34Z</dcterms:created>
  <dc:creator>marie</dc:creator>
  <dc:description/>
  <dc:language>en-US</dc:language>
  <cp:lastModifiedBy>Dr.abdel-hamid</cp:lastModifiedBy>
  <dcterms:modified xsi:type="dcterms:W3CDTF">2006-10-17T05:53:10Z</dcterms:modified>
  <cp:revision>11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Alectures\ALLLectures\901-1000\9971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