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298D1-8C71-4142-A456-27079234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B6CCB-1EB1-4EA7-99B4-490B830B3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 – transient erythroblastopenia of child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0F6A0-D67F-41E9-A1B2-660E8C73B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– lead screening usually done before anemia kicks in – if anemia triggers screen, then dx = 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disease – more often presents as normocytic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9683B-044C-454C-A1F3-5066141A9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456CE-2A17-4A23-9E67-671047EE4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EB738-58B7-4974-AAFA-A4F43AF1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51560" cy="34876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9A2-1E98-49D2-86C2-F21363BC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D94-AE10-4208-A3F8-89E32C1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4A2-1D73-438F-A137-BDFB82B7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833-6976-4B15-B3EF-531D9645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D81E-FC4D-44DA-A1D8-EF8E3913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2C33-4EF4-48DF-A2A8-69CE8385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5E98-780D-41B5-87D5-59F5FBF1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AB7F-8B68-4270-816E-C1ACCFA4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3419-17C6-4F6E-A9ED-5C333100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0E95-7BD2-4755-A289-4A7906B0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AEAA-3E17-45AB-AD4F-82C96F8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7D5-8612-4404-8F9D-EA7E4366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47D6-D8A5-4738-BC15-2DE976B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E609-6CA2-4FA8-8118-B475DDB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1A85-C83B-41FE-994F-6B56E328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94A7-6F83-4D8F-93E3-7BDCD114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1AE7-FE6A-4C4E-9D79-F244AC20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95E-D26B-4698-BBA2-5522D996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7A4-5458-47F0-A007-F4B3EDC8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C45-92CA-48CE-83F5-440939F5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9FA-7C0C-4FCA-BB4E-21160FCA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241-8930-4643-BE8D-F35B74F5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ADB-C06B-46E5-96A5-6461A6B4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5AF-AB76-4CC7-BAA6-63E1D10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B9A6-C969-40C0-BC6A-F0C1351B1E0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9A77-D643-4938-B575-954C324195D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3.png"/><Relationship Id="rId9" Type="http://schemas.openxmlformats.org/officeDocument/2006/relationships/image" Target="../media/image16.png"/><Relationship Id="rId10" Type="http://schemas.openxmlformats.org/officeDocument/2006/relationships/image" Target="../media/image3.png"/><Relationship Id="rId11" Type="http://schemas.openxmlformats.org/officeDocument/2006/relationships/image" Target="../media/image16.png"/><Relationship Id="rId12" Type="http://schemas.openxmlformats.org/officeDocument/2006/relationships/image" Target="../media/image3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3.png"/><Relationship Id="rId9" Type="http://schemas.openxmlformats.org/officeDocument/2006/relationships/image" Target="../media/image18.png"/><Relationship Id="rId10" Type="http://schemas.openxmlformats.org/officeDocument/2006/relationships/slide" Target="slide8.xml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19.png"/><Relationship Id="rId8" Type="http://schemas.openxmlformats.org/officeDocument/2006/relationships/image" Target="../media/image3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3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3.png"/><Relationship Id="rId17" Type="http://schemas.openxmlformats.org/officeDocument/2006/relationships/image" Target="../media/image19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16.png"/><Relationship Id="rId7" Type="http://schemas.openxmlformats.org/officeDocument/2006/relationships/image" Target="../media/image3.png"/><Relationship Id="rId8" Type="http://schemas.openxmlformats.org/officeDocument/2006/relationships/image" Target="../media/image16.png"/><Relationship Id="rId9" Type="http://schemas.openxmlformats.org/officeDocument/2006/relationships/image" Target="../media/image3.png"/><Relationship Id="rId10" Type="http://schemas.openxmlformats.org/officeDocument/2006/relationships/image" Target="../media/image16.png"/><Relationship Id="rId11" Type="http://schemas.openxmlformats.org/officeDocument/2006/relationships/image" Target="../media/image3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" Target="slide15.xml"/><Relationship Id="rId6" Type="http://schemas.openxmlformats.org/officeDocument/2006/relationships/image" Target="../media/image3.png"/><Relationship Id="rId7" Type="http://schemas.openxmlformats.org/officeDocument/2006/relationships/slide" Target="slide16.xm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8.png"/><Relationship Id="rId11" Type="http://schemas.openxmlformats.org/officeDocument/2006/relationships/slide" Target="slide19.xml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3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3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4.xml"/><Relationship Id="rId1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2.png"/><Relationship Id="rId6" Type="http://schemas.openxmlformats.org/officeDocument/2006/relationships/image" Target="../media/image18.png"/><Relationship Id="rId7" Type="http://schemas.openxmlformats.org/officeDocument/2006/relationships/image" Target="../media/image2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.png"/><Relationship Id="rId7" Type="http://schemas.openxmlformats.org/officeDocument/2006/relationships/image" Target="../media/image18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2.png"/><Relationship Id="rId6" Type="http://schemas.openxmlformats.org/officeDocument/2006/relationships/image" Target="../media/image18.png"/><Relationship Id="rId7" Type="http://schemas.openxmlformats.org/officeDocument/2006/relationships/image" Target="../media/image3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66680" y="175248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2f1311"/>
                </a:solidFill>
                <a:latin typeface="Arial"/>
                <a:ea typeface="Arial"/>
              </a:rPr>
              <a:t>Evaluation  of Anemia 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4812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mooth Tongue/Glossit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7542"/>
          <a:stretch/>
        </p:blipFill>
        <p:spPr>
          <a:xfrm>
            <a:off x="457200" y="1752480"/>
            <a:ext cx="8153280" cy="484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30560" y="226800"/>
            <a:ext cx="366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cleral Icteru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01840" y="1598760"/>
            <a:ext cx="3547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Yellow scler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n be seen in hemolysi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rcRect l="34282" t="0" r="17080" b="0"/>
          <a:stretch/>
        </p:blipFill>
        <p:spPr>
          <a:xfrm>
            <a:off x="457200" y="457200"/>
            <a:ext cx="3760920" cy="5791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H="1">
            <a:off x="2133360" y="2362320"/>
            <a:ext cx="297180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oilonychia (spoon nails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0" r="0" b="10234"/>
          <a:stretch/>
        </p:blipFill>
        <p:spPr>
          <a:xfrm>
            <a:off x="609480" y="1295280"/>
            <a:ext cx="8001000" cy="530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90920" y="16002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History: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28880" y="2903400"/>
            <a:ext cx="384012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Physiologica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Inadequate intak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Blood lo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alabsorp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62640" y="2905200"/>
            <a:ext cx="3581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Comorbid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Drug history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Family history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52800" y="657360"/>
            <a:ext cx="661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Classification of Anemia (Mean Corpuscular volume):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33480" y="250524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icrocyc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–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MCV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  <a:ea typeface="Arial"/>
              </a:rPr>
              <a:t>&lt;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80 f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f131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acrocy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–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MCV </a:t>
            </a:r>
            <a:r>
              <a:rPr b="1" lang="en-US" sz="3200" spc="-1" strike="noStrike" u="sng">
                <a:solidFill>
                  <a:srgbClr val="2f1311"/>
                </a:solidFill>
                <a:uFillTx/>
                <a:latin typeface="Arial"/>
                <a:ea typeface="Arial"/>
              </a:rPr>
              <a:t>&gt;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100 f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Normocytic    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MCV 80 – 100 f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86000" y="1523880"/>
            <a:ext cx="62485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Microcytic Anemia 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4080" y="2781360"/>
            <a:ext cx="62481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Iron deficiency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34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Hemoglobinopathy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224"/>
              </a:spcBef>
              <a:buClr>
                <a:srgbClr val="4f010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4f010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Lead poisoning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Sideroblastic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Occasionally chronic diseas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914400" y="1847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If no obvious cause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f1311"/>
                </a:solidFill>
                <a:uFillTx/>
                <a:latin typeface="Arial"/>
              </a:rPr>
              <a:t>Serum Ferritin</a:t>
            </a: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</a:rPr>
              <a:t>&lt; 15ug/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Iron deficiency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</a:rPr>
              <a:t>Normal or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erum Iron /    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Increased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(TIBC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’s normal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/H– Anemia criter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-23 m 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10/3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-5 y 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11/3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-12 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2/37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C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wer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70 + years in age (2-10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pper</a:t>
            </a:r>
            <a:r>
              <a:rPr b="0" lang="en-US" sz="24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0.6/year + 84 (up to 96y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DW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.5%-14.5%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62720" y="1828800"/>
            <a:ext cx="3200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ticulocyte cou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rrected 1%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entzer index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CV/RB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&lt;12 thal trai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&gt;13 Fe deficienc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ormal Values – Age and Gend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458200" cy="4502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80880" y="4191120"/>
            <a:ext cx="1219320" cy="533160"/>
          </a:xfrm>
          <a:prstGeom prst="ellipse">
            <a:avLst/>
          </a:prstGeom>
          <a:noFill/>
          <a:ln w="572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876920"/>
            <a:ext cx="1219320" cy="533160"/>
          </a:xfrm>
          <a:prstGeom prst="ellipse">
            <a:avLst/>
          </a:prstGeom>
          <a:noFill/>
          <a:ln w="572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5562720"/>
            <a:ext cx="1219320" cy="533160"/>
          </a:xfrm>
          <a:prstGeom prst="ellipse">
            <a:avLst/>
          </a:prstGeom>
          <a:noFill/>
          <a:ln w="572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95280" y="1981080"/>
            <a:ext cx="7239240" cy="1791000"/>
          </a:xfrm>
          <a:prstGeom prst="rect">
            <a:avLst/>
          </a:prstGeom>
          <a:solidFill>
            <a:srgbClr val="ff99cc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Hemoglobin below the normal reference level for the age and sex of the individual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3809880"/>
            <a:ext cx="6705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Times New Roman"/>
              </a:rPr>
              <a:t>Reference range: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-3 days:</a:t>
            </a: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4.5 - 22.5g/d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6 months to 2 years:</a:t>
            </a: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0.5 - 13.5g/d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Adult  Men:</a:t>
            </a: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3-18 g/d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f0101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Adult Women:</a:t>
            </a:r>
            <a:r>
              <a:rPr b="0" lang="en-US" sz="2800" spc="-1" strike="noStrike">
                <a:solidFill>
                  <a:srgbClr val="7d2ff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d2ffb"/>
                </a:solidFill>
                <a:latin typeface="Times New Roman"/>
              </a:rPr>
              <a:t>11.5-15.5g/d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nical Manifestations of Anemi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ymptomatic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ymptoms begin when HgB &lt;7-8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ague symptom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rritabil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atigu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yspnea – especially with exer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eaknes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ig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10" action="ppaction://hlinksldjump"/>
              </a:rPr>
              <a:t>Pallo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achypne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gestive heart fail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Approac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ues to the etiology are in the H&amp;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Approach - Histor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304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ge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Newborn period – hemolytic anemia, blood loss, Fe deficiency rare before 4-6mo ol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3-6mo old – hemoglobinopathy, maybe iron deficienc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6-18mo old – iron deficiency most common, consider TE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&gt; 18mo – differential broaden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Gende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Male – X-linked diseas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Ra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A – Sickle cell diseas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Middle eastern, southeast asian, southern european – </a:t>
            </a:r>
            <a:r>
              <a:rPr b="0" lang="el-GR" sz="1600" spc="-1" strike="noStrike">
                <a:solidFill>
                  <a:srgbClr val="2f1311"/>
                </a:solidFill>
                <a:latin typeface="Arial"/>
              </a:rPr>
              <a:t>β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thalassemi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A and southeast asians – æ thalassemi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i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Excessive cow’s milk consumption – Fe deficienc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Strict vegetarian – B</a:t>
            </a:r>
            <a:r>
              <a:rPr b="0" lang="en-US" sz="16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deficienc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Goat’s milk as milk protein source – folate deficienc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rug histor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ntibiotics, anti-inflammatory meds, anticonvulsan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Infec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FHx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4412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Anemia? Gallstones? Splenectomy? Transfusions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Approach – Physical Exa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normal forearm and hand, café-au-lait macules, short sta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anconi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iphalangeal thumb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amond-Blackfan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rontal bossing, maxillary overgrowt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genital hemolytic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ortic stenosis, VS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icroangiopathic hemolytic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plenomegal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herited hemolytic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axia and posterior column sig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deficienc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bs are Helpful – Within Reas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370160"/>
            <a:ext cx="73864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BC with differenti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valuate all cell lin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d cell indic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5" action="ppaction://hlinksldjump"/>
              </a:rPr>
              <a:t>MCV and RDW = critic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7" action="ppaction://hlinksldjump"/>
              </a:rPr>
              <a:t>Peripheral sme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ticulocyte cou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omb’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smear indicates hemolys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>
            <a:hlinkClick r:id="rId11" action="ppaction://hlinksldjump"/>
          </p:cNvPr>
          <p:cNvSpPr/>
          <p:nvPr/>
        </p:nvSpPr>
        <p:spPr>
          <a:xfrm>
            <a:off x="8001000" y="6248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CV and RDW = Critic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44211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w MCV = microcytos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Iron deficiency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Thalassemia trait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Hemoglobin EE disease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(lead poisoning)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(chronic disease)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igh MCV = macrocytos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Nutritional deficiency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47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</a:rPr>
              <a:t>Bone marrow failure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plastic anemi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rug suppressi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iamond-Blackf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14720" y="1598760"/>
            <a:ext cx="2734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creased RDW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Helps distinguish between iron deficiency and thalassemia trait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ron Deficiency Anemi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aking Your Diagno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story and physical = most importa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b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BC with differential and sme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d cell indi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CV and RDW = critic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ticulocyte cou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t necessarily needed if H&amp;P strongly suggest Fe deficiency as cause of a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harter Bd BT"/>
              </a:rPr>
              <a:t>If an unusual hx, or age &lt; 6 mo or &gt;18 mo-2y/o, then other labs are neede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ron Deficiency Anemia La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 order of changes that occu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DW increa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rum Fe levels fa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CV decreas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gB/Hct drop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ther labs may be done – but not necessa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144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harter Bd BT"/>
                <a:ea typeface="Arial"/>
              </a:rPr>
              <a:t>Iron studies: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Ferritin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TIBC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FEP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Iron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harter Bd BT"/>
                <a:ea typeface="Arial"/>
              </a:rPr>
              <a:t>Hgb electrophoresis: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1311"/>
                </a:solidFill>
                <a:latin typeface="Charter Bd BT"/>
                <a:ea typeface="Arial"/>
              </a:rPr>
              <a:t>A2 and F quantification</a:t>
            </a:r>
            <a:endParaRPr b="0" lang="en-US" sz="23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harter Bd BT"/>
                <a:ea typeface="Arial"/>
              </a:rPr>
              <a:t>ESR, UA, stool guiac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Charter Bd BT"/>
                <a:ea typeface="Arial"/>
              </a:rPr>
              <a:t>CBC and smear </a:t>
            </a:r>
            <a:r>
              <a:rPr b="0" lang="en-US" sz="2600" spc="-1" strike="noStrike">
                <a:solidFill>
                  <a:srgbClr val="79af7d"/>
                </a:solidFill>
                <a:latin typeface="Charter Bd BT"/>
                <a:ea typeface="Arial"/>
              </a:rPr>
              <a:t>of parents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dditional La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762012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95560" y="1752480"/>
            <a:ext cx="5905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  <a:ea typeface="Arial"/>
              </a:rPr>
              <a:t>Clinical Features </a:t>
            </a:r>
            <a:r>
              <a:rPr b="1" i="1" lang="en-US" sz="4000" spc="-1" strike="noStrike">
                <a:solidFill>
                  <a:srgbClr val="2f1311"/>
                </a:solidFill>
                <a:latin typeface="Arial"/>
                <a:ea typeface="Arial"/>
              </a:rPr>
              <a:t>(symptoms):INFANTS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276720"/>
            <a:ext cx="6705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Irritability, restlessne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Anorexia, sleepine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Behavioral change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crocytosis &amp; Fe stud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42880" y="1552680"/>
          <a:ext cx="7924680" cy="4566960"/>
        </p:xfrm>
        <a:graphic>
          <a:graphicData uri="http://schemas.openxmlformats.org/drawingml/2006/table">
            <a:tbl>
              <a:tblPr/>
              <a:tblGrid>
                <a:gridCol w="1942920"/>
                <a:gridCol w="2019240"/>
                <a:gridCol w="1600200"/>
                <a:gridCol w="2362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Fe deficiency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Thal trait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Lead poisoning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Hgb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MCV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RDW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FEP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Serum Fe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TIBC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Ferriti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429000" y="2514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048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5638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46483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048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35812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1148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51055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15200" y="41148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75438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514600" y="1066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Evaluation continued..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380960" y="1990800"/>
          <a:ext cx="7315200" cy="1839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Serum Iron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TIBC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Peripheral smear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Iron deficiency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Decreased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Increased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7b0707"/>
                          </a:solidFill>
                          <a:latin typeface="Arial"/>
                          <a:ea typeface="Arial"/>
                        </a:rPr>
                        <a:t>Hypochromic</a:t>
                      </a:r>
                      <a:endParaRPr b="0" lang="en-US" sz="22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6953400" y="3782880"/>
            <a:ext cx="1828800" cy="109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Target cells</a:t>
            </a:r>
            <a:r>
              <a:rPr b="1" lang="en-US" sz="2200" spc="-1" strike="noStrike">
                <a:solidFill>
                  <a:srgbClr val="7b0707"/>
                </a:solidFill>
                <a:latin typeface="Arial"/>
                <a:ea typeface="Arial"/>
              </a:rPr>
              <a:t> Basophilic stippling</a:t>
            </a:r>
            <a:endParaRPr b="0" lang="en-US" sz="22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24600" y="3840120"/>
            <a:ext cx="1828800" cy="109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Normal In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95800" y="3840120"/>
            <a:ext cx="1828800" cy="109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In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80960" y="3782880"/>
            <a:ext cx="2089440" cy="109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Thallasemia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67000" y="3840120"/>
            <a:ext cx="731520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67000" y="4935600"/>
            <a:ext cx="731520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38200" y="3811680"/>
            <a:ext cx="0" cy="109512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95800" y="3840120"/>
            <a:ext cx="0" cy="10954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4600" y="3840120"/>
            <a:ext cx="0" cy="10954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53400" y="3840120"/>
            <a:ext cx="0" cy="10954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82200" y="3840120"/>
            <a:ext cx="0" cy="10954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46920" y="4876920"/>
            <a:ext cx="1898640" cy="91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Diamorphic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21360" y="4876920"/>
            <a:ext cx="1825560" cy="91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Normal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94000" y="4876920"/>
            <a:ext cx="1827360" cy="91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In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67000" y="4876920"/>
            <a:ext cx="1827000" cy="91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Sideroblast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67000" y="4962600"/>
            <a:ext cx="730728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67000" y="5789520"/>
            <a:ext cx="730728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24080" y="4905360"/>
            <a:ext cx="0" cy="91296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94000" y="4876920"/>
            <a:ext cx="0" cy="91260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21360" y="4876920"/>
            <a:ext cx="0" cy="91260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46920" y="4876920"/>
            <a:ext cx="0" cy="91260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774280" y="4876920"/>
            <a:ext cx="0" cy="91260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96160" y="5738760"/>
            <a:ext cx="2190600" cy="871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Hypo/normo chromic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24600" y="5753160"/>
            <a:ext cx="1828800" cy="85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De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95800" y="5753160"/>
            <a:ext cx="1828800" cy="85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Decreased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67000" y="5753160"/>
            <a:ext cx="1828800" cy="85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0707"/>
                </a:solidFill>
                <a:latin typeface="Arial"/>
                <a:ea typeface="Arial"/>
              </a:rPr>
              <a:t>Chronic disease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67000" y="5753160"/>
            <a:ext cx="731520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67000" y="6610320"/>
            <a:ext cx="731520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67000" y="5753160"/>
            <a:ext cx="0" cy="85716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95800" y="5753160"/>
            <a:ext cx="0" cy="85716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24600" y="5753160"/>
            <a:ext cx="0" cy="85716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53400" y="5753160"/>
            <a:ext cx="0" cy="85716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2200" y="5753160"/>
            <a:ext cx="0" cy="85716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139760" y="1889280"/>
            <a:ext cx="7535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Thallesemia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Mentzer index: MCV/RBC count. &lt;13 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Hb Electrophoresis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0101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Sideroblastic anemia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Bone marrow exam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Iron deficiency anemia in men/post menopausal wome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Gastro-intestinal endoscopy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Barium studies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9144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Evaluation continued..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558880" y="385920"/>
            <a:ext cx="574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Macrocytic anemia (evaluation):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60480" y="1778040"/>
            <a:ext cx="7601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f0101"/>
                </a:solidFill>
                <a:uFillTx/>
                <a:latin typeface="Arial"/>
                <a:ea typeface="Arial"/>
              </a:rPr>
              <a:t>Peripheral film &amp; Reticulocyte count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Macrocytes absent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Normal reticulocyt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artifactual (hyperglycemia/natremia, cold agglutinin, and extreme leucocytosis)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High reticulocyt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hemolysis, bleeding or nutritional response to folate/B12/iron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303640" y="582480"/>
            <a:ext cx="6411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Evaluation continued...  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563840"/>
            <a:ext cx="708660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Macrocytes present</a:t>
            </a:r>
            <a:endParaRPr b="0" lang="en-US" sz="3600" spc="-1" strike="noStrike">
              <a:solidFill>
                <a:srgbClr val="2f1311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With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megaloblast MCV&gt;120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B12 deficiency, Folic acid deficiency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Drugs (cytotoxic, anticonvulsant, antibiotic)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Without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megaloblast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MCV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100-120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Liver disease, Alcoholism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Hypothyroidism, Myelodysplastic disorders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251080" y="782640"/>
            <a:ext cx="58086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Normocytic anemia (causes):</a:t>
            </a:r>
            <a:br>
              <a:rPr sz="3800"/>
            </a:b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1040" y="2052720"/>
            <a:ext cx="866268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Increased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RBC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loss/destruc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acute blood loss, hypersplenism, hemolytic disease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Decreased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RBC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produc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primary cause i.e bone marrow disorders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secondary cause i.e CRF, liver disease, chronic disease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Over-expansion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of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plasma</a:t>
            </a:r>
            <a:r>
              <a:rPr b="1" lang="en-US" sz="3200" spc="-1" strike="noStrike">
                <a:solidFill>
                  <a:srgbClr val="7d2ffb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volum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2ffb"/>
                </a:solidFill>
                <a:latin typeface="Arial"/>
                <a:ea typeface="Arial"/>
              </a:rPr>
              <a:t>pregnancy, overhydration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066760" y="0"/>
            <a:ext cx="62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Normocytic anemia </a:t>
            </a:r>
            <a:r>
              <a:rPr b="1" i="1" lang="en-US" sz="2600" spc="-1" strike="noStrike">
                <a:solidFill>
                  <a:srgbClr val="f7d47d"/>
                </a:solidFill>
                <a:latin typeface="Arial"/>
                <a:ea typeface="Arial"/>
              </a:rPr>
              <a:t>(evaluation):</a:t>
            </a:r>
            <a:endParaRPr b="0" lang="en-US" sz="2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46080" y="1619280"/>
            <a:ext cx="774072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 u="sng">
                <a:solidFill>
                  <a:srgbClr val="d5b781"/>
                </a:solidFill>
                <a:uFillTx/>
                <a:latin typeface="Arial"/>
                <a:ea typeface="Arial"/>
              </a:rPr>
              <a:t>CBC, Peripheral smear &amp; Retic count</a:t>
            </a:r>
            <a:r>
              <a:rPr b="1" lang="en-US" sz="3200" spc="-1" strike="noStrike">
                <a:solidFill>
                  <a:srgbClr val="d5b78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Normal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re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mild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anemia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&gt;9gm/dl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chronic disease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Normal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or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decreased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re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with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leucopenia/thrombocytopenia/blast cell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bone marrow exam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Elevated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retic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0b854"/>
                </a:solidFill>
                <a:latin typeface="Arial"/>
                <a:ea typeface="Arial"/>
              </a:rPr>
              <a:t>coun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Direct Coombs test: +ve autoimmune HA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-ve mechanical or other         </a:t>
            </a:r>
            <a:r>
              <a:rPr b="1" lang="ar-SA" sz="2800" spc="-1" strike="noStrike">
                <a:solidFill>
                  <a:srgbClr val="2f1311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HA  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162240" y="419040"/>
            <a:ext cx="37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7d47d"/>
                </a:solidFill>
                <a:latin typeface="Arial"/>
                <a:ea typeface="Arial"/>
              </a:rPr>
              <a:t>Conclusion:</a:t>
            </a:r>
            <a:endParaRPr b="0" lang="en-US" sz="3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5160" y="1847880"/>
            <a:ext cx="79441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Evaluation based on MCV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icrocytosis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is due to iron deficiency     unless proven otherwise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Megaloblast help in differentiating cause of macrocytosi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Arial"/>
                <a:ea typeface="Arial"/>
              </a:rPr>
              <a:t>CBC and reticulocyte count essential for normocytic anemia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The Medical Student’s Approach to Anemia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37680" y="990360"/>
            <a:ext cx="86029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heck the reticulocyte count to determine if the anemia is from decreased production (“hypoproliferative”, “reticulocytopenic”) or increased destruction (“hemolytic”)/acute blood loss (“reticulocytosis”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  If  decreased production, narrow down the causes in terms of the MCV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f the MCV is low, then do iron studies then Hb electropheres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f the MCV is normal, check the serum creatinine and TSH, if they are WNL then consider bone marrow exa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f the MCV is high check a folate and vitamin B</a:t>
            </a:r>
            <a:r>
              <a:rPr b="0" lang="en-US" sz="24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 If the the reticulocyte count is increased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heck a direct Coomb’s te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  Look at the peripheral blood smear to confirm/support the diagnos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42840"/>
            <a:ext cx="777564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emia Algorith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763040" cy="6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tient with anemia and decreased reticulocyte count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76520" y="1828800"/>
            <a:ext cx="6168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Book Antiqua"/>
              </a:rPr>
              <a:t>What is the MCV ??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990720" y="2514600"/>
            <a:ext cx="3657600" cy="30492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0040" y="289728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Microcytic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7760" y="4040280"/>
            <a:ext cx="75888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F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def.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2160" y="4116240"/>
            <a:ext cx="83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Thal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57200" y="3352680"/>
            <a:ext cx="457200" cy="6098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3352680"/>
            <a:ext cx="457200" cy="6098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80560" y="3352680"/>
            <a:ext cx="33480" cy="28958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271440" y="6095880"/>
            <a:ext cx="4741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Other: sideroblastic anemia    </a:t>
            </a:r>
            <a:r>
              <a:rPr b="0" lang="en-US" sz="1800" spc="-1" strike="noStrike">
                <a:solidFill>
                  <a:srgbClr val="2f1311"/>
                </a:solidFill>
                <a:latin typeface="Book Antiqua"/>
              </a:rPr>
              <a:t>(meds,PB,Zn excess,Cu def)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5360" y="2973240"/>
            <a:ext cx="281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Normocytic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648320" y="2590560"/>
            <a:ext cx="0" cy="7596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04040" y="2666880"/>
            <a:ext cx="273996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Macrocytic: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Vitamin-relate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B</a:t>
            </a:r>
            <a:r>
              <a:rPr b="0" lang="en-US" sz="2400" spc="-1" strike="noStrike" baseline="-25000">
                <a:solidFill>
                  <a:srgbClr val="f7d47d"/>
                </a:solidFill>
                <a:latin typeface="Book Antiqua"/>
              </a:rPr>
              <a:t>12</a:t>
            </a:r>
            <a:r>
              <a:rPr b="0" lang="en-US" sz="2400" spc="-1" strike="noStrike" baseline="30000">
                <a:solidFill>
                  <a:srgbClr val="2f1311"/>
                </a:solidFill>
                <a:latin typeface="Book Antiqua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Folate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Non-vitamin: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7d47d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Book Antiqua"/>
              </a:rPr>
              <a:t>MDS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EtOH/Liver Disease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Hypothyroidism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14600"/>
            <a:ext cx="1904760" cy="7632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3886200"/>
            <a:ext cx="1749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Systemic Diseases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38480" y="3905280"/>
            <a:ext cx="25066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Diseases in Bone Marrow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MDS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Solid Tumor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Myeloma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2f1311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Book Antiqua"/>
              </a:rPr>
              <a:t>Aplastic anemia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819520" y="3428640"/>
            <a:ext cx="1676160" cy="685800"/>
          </a:xfrm>
          <a:prstGeom prst="line">
            <a:avLst/>
          </a:prstGeom>
          <a:ln w="12600">
            <a:solidFill>
              <a:srgbClr val="2f13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3429000"/>
            <a:ext cx="1067040" cy="68580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4648320"/>
            <a:ext cx="3267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Renal</a:t>
            </a:r>
            <a:r>
              <a:rPr b="0" lang="en-US" sz="2400" spc="-1" strike="noStrike">
                <a:solidFill>
                  <a:srgbClr val="2f1311"/>
                </a:solidFill>
                <a:latin typeface="Book Antiqua"/>
              </a:rPr>
              <a:t> vs. Liver vs. Endocrine vs.        </a:t>
            </a:r>
            <a:r>
              <a:rPr b="0" lang="en-US" sz="2400" spc="-1" strike="noStrike">
                <a:solidFill>
                  <a:srgbClr val="f7d47d"/>
                </a:solidFill>
                <a:latin typeface="Book Antiqua"/>
              </a:rPr>
              <a:t>Anemia of  Inflammation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4800600"/>
            <a:ext cx="0" cy="30492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666880" y="1752480"/>
            <a:ext cx="5334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  <a:ea typeface="Arial"/>
              </a:rPr>
              <a:t>Clinical Features </a:t>
            </a:r>
            <a:r>
              <a:rPr b="1" i="1" lang="en-US" sz="4000" spc="-1" strike="noStrike">
                <a:solidFill>
                  <a:srgbClr val="2f1311"/>
                </a:solidFill>
                <a:latin typeface="Arial"/>
                <a:ea typeface="Arial"/>
              </a:rPr>
              <a:t>(symptoms):ADULTS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71720" y="2962440"/>
            <a:ext cx="670572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Comm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Fatigue/Muscle weakne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Headache/Lack of concentra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Faintness/dizzines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Exertional dyspnoea/palpita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Angina/intermittent claudication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42840"/>
            <a:ext cx="777564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emia Algorithm, continue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80920" y="685440"/>
            <a:ext cx="7761600" cy="6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tient with anemia and increased reticulocyte count= HEMOLYTIC ANEM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3187800" y="1523880"/>
            <a:ext cx="297648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42840"/>
            <a:ext cx="777564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nemia Algorithm, continue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7761240" cy="6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atient with anemia and increased reticulocyte count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6120" y="1057320"/>
            <a:ext cx="6170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Book Antiqua"/>
              </a:rPr>
              <a:t>What is the result of a Coomb’s test ??</a:t>
            </a:r>
            <a:endParaRPr b="0" lang="en-US" sz="2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44720" y="1523880"/>
            <a:ext cx="1897200" cy="22860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0" y="2209680"/>
            <a:ext cx="197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Extrinsic red cell defect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400" y="4114800"/>
            <a:ext cx="879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Vessel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92160" y="4116240"/>
            <a:ext cx="83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Valve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6840" y="2895480"/>
            <a:ext cx="490680" cy="10670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47880" y="2895480"/>
            <a:ext cx="423720" cy="10670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37720" y="2895480"/>
            <a:ext cx="109800" cy="297180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6440" y="5869080"/>
            <a:ext cx="121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xin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7200" y="1828800"/>
            <a:ext cx="13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Negativ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41920" y="2666880"/>
            <a:ext cx="0" cy="3812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89440" y="1828800"/>
            <a:ext cx="34545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Book Antiqua"/>
              </a:rPr>
              <a:t>Positive                    </a:t>
            </a:r>
            <a:r>
              <a:rPr b="0" lang="en-US" sz="1600" spc="-1" strike="noStrike">
                <a:solidFill>
                  <a:srgbClr val="2f1311"/>
                </a:solidFill>
                <a:latin typeface="Book Antiqua"/>
              </a:rPr>
              <a:t>(autoimmune hemolytic anemia)</a:t>
            </a: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8520" y="1523880"/>
            <a:ext cx="1965240" cy="30492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26000" y="2057400"/>
            <a:ext cx="197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Intrinsic red cell defect</a:t>
            </a:r>
            <a:endParaRPr b="0" lang="en-US" sz="2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3200400"/>
            <a:ext cx="1693800" cy="3276720"/>
          </a:xfrm>
          <a:prstGeom prst="ellipse">
            <a:avLst/>
          </a:prstGeom>
          <a:solidFill>
            <a:srgbClr val="cc33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92600" y="3352680"/>
            <a:ext cx="1287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947520" y="2057400"/>
            <a:ext cx="949320" cy="22860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0640" y="2085840"/>
            <a:ext cx="744480" cy="15264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2440" y="4724280"/>
            <a:ext cx="169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emoglobin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9040" y="4038480"/>
            <a:ext cx="1287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ytoplasm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24440" y="3124080"/>
            <a:ext cx="115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Warm”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924680" y="3124080"/>
            <a:ext cx="115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old”</a:t>
            </a:r>
            <a:endParaRPr b="0" lang="en-US" sz="18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366960" y="2514600"/>
            <a:ext cx="1016280" cy="60948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3600" y="2514600"/>
            <a:ext cx="947520" cy="609480"/>
          </a:xfrm>
          <a:prstGeom prst="line">
            <a:avLst/>
          </a:prstGeom>
          <a:ln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8040" y="0"/>
            <a:ext cx="8026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he Attending’s Approach to Anemi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 Stool guiacs x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 If the MCV is low, then prescribe ir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 If the MCV is high, then check a folate level and vitamin B</a:t>
            </a:r>
            <a:r>
              <a:rPr b="0" lang="en-US" sz="32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folate level returns low or “indeterminate”, then begin folic acid 1 mg po q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B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level returns low or “indeterminate”, then begin IM vitamin B</a:t>
            </a:r>
            <a:r>
              <a:rPr b="0" lang="en-US" sz="2800" spc="-1" strike="noStrike" baseline="-25000">
                <a:solidFill>
                  <a:srgbClr val="2f1311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lood Loss Anemi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xcessive bleeding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ju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rgery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blem with the blood's clotting mechanism (inherited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e hemophil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avy menstrual periods in teen girls and women (most common problem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lower, long-term blood los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e Intestinal bleeding and inflammatory bowel diseas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09880" y="6400800"/>
            <a:ext cx="533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ahoma"/>
                <a:ea typeface="Arial"/>
              </a:rPr>
              <a:t>http://www.innvista.com/health/ailments/anemias/bloodlos.htm</a:t>
            </a:r>
            <a:endParaRPr b="0" lang="en-US" sz="1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52560" y="3715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Blood Loss Anemia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GI and other malignancy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Bleeding ulcer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Bleeding hemorrhoid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hysiologic Reactions to Blood Los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ut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– Peripheral vasoconstriction and central vasodilat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f blood loss continues – small vessel dilatation with compensatory decreased PVR, resulting in increased C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hronic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- Increased plasma volume keeps intravascular volume norm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rythropoietin released by kidneys – reticulocytes in 3-7 day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OST HEMORRHAGIC ANEMI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CTIVATES SNS </a:t>
            </a:r>
            <a:r>
              <a:rPr b="0" lang="en-US" sz="32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VASCULAR RESISTANCE, </a:t>
            </a: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HR, </a:t>
            </a: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STROKE VOLU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R TO IMPROVE OXYGEN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emia of Acute Blood Los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rauma or GI tract loss most comm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enstrual/vaginal lo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rinary tra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sebleeds leading to anemia, but not because of it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achycardia and hypotension are common finding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istory helps the most for the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pend up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ate of blood los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ount of blood lo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verall Health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orbid disease sta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eaknes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atigu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Dyspnea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Palpitation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Orthostatic symptom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Lethargy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666880" y="1352520"/>
            <a:ext cx="5334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  <a:ea typeface="Arial"/>
              </a:rPr>
              <a:t>Clinical Features </a:t>
            </a:r>
            <a:r>
              <a:rPr b="1" i="1" lang="en-US" sz="4000" spc="-1" strike="noStrike">
                <a:solidFill>
                  <a:srgbClr val="2f1311"/>
                </a:solidFill>
                <a:latin typeface="Arial"/>
                <a:ea typeface="Arial"/>
              </a:rPr>
              <a:t>(signs):</a:t>
            </a:r>
            <a:endParaRPr b="0" lang="en-US" sz="40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00080" y="2590920"/>
            <a:ext cx="754380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Non-specific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pallor, tacycardia, flow mummer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0101"/>
                </a:solidFill>
                <a:latin typeface="Times New Roman"/>
              </a:rPr>
              <a:t>Specific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koilonychia, angular stomatitis, glossitis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neuropathy, dementia, paraplegia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</a:rPr>
              <a:t>jaundice, bone deformities, leg ulcer</a:t>
            </a:r>
            <a:endParaRPr b="0" lang="en-US" sz="32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hysical Exam Finding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+ Orthostatic BP’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chycard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allo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ystolic ejc. murmu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idened pulse press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I bleeding/Uterine bleed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ltered Mental Statu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agno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firmed by lab values – RBC count, Hgb and Hc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BC may not determine specific cause – need to obtain other labs to begin appropriate worku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BC-provides RBC indices (MCV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ticulocyte cou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eripheral sme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ron stud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late, B12 leve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emia- Signs/Symptom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yspnea on exer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lpitati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termittent claudic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adach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yncop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orex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zziness/vertig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ld intolera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menorrhe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crease libido/impote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8478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ulti-system effects of Anemi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924200" y="0"/>
            <a:ext cx="72198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ll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259160" cy="2890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390920" y="1901880"/>
            <a:ext cx="3144960" cy="316368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8077320" y="6248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0" b="522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22:34Z</dcterms:created>
  <dc:creator>marie</dc:creator>
  <dc:description/>
  <dc:language>en-US</dc:language>
  <cp:lastModifiedBy>Dr.abdel-hamid</cp:lastModifiedBy>
  <dcterms:modified xsi:type="dcterms:W3CDTF">2006-10-17T05:53:10Z</dcterms:modified>
  <cp:revision>1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Alectures\ALLLectures\901-1000\997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