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F78-D62C-432A-9DA0-5A40C915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EE0D-9FC2-4392-BE20-BC5F6E5EB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76320" y="76320"/>
            <a:ext cx="761760" cy="6705360"/>
          </a:xfrm>
          <a:prstGeom prst="rect">
            <a:avLst/>
          </a:prstGeom>
          <a:solidFill>
            <a:srgbClr val="05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bradylogo"/>
          <p:cNvPicPr/>
          <p:nvPr/>
        </p:nvPicPr>
        <p:blipFill>
          <a:blip r:embed="rId2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3581280" y="6319800"/>
            <a:ext cx="548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uce E. Evans • Jeff T. Dyar — Management of E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by Pearson Education, Inc. Upper Saddle River, NJ 07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5037120" y="2967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CHAPTER</a:t>
            </a:r>
            <a:r>
              <a:rPr b="0" lang="en-US" sz="1800" spc="-1" strike="noStrike">
                <a:solidFill>
                  <a:srgbClr val="05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05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agement of 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cover_0132324326"/>
          <p:cNvPicPr/>
          <p:nvPr/>
        </p:nvPicPr>
        <p:blipFill>
          <a:blip r:embed="rId2"/>
          <a:stretch/>
        </p:blipFill>
        <p:spPr>
          <a:xfrm>
            <a:off x="762120" y="2057400"/>
            <a:ext cx="3160440" cy="3886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4" name="Picture 20" descr="bradylogo"/>
          <p:cNvPicPr/>
          <p:nvPr/>
        </p:nvPicPr>
        <p:blipFill>
          <a:blip r:embed="rId3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E. Evans • Jeff T. Dyar, Management of EMS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10 by Pearson Education, Inc. Upper Saddle River, NJ 074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Strategic Planning for 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7892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566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Executive Summar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write a compelling executive summary may doom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contain the program mission and vision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Problem Defini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information into a clear and concise definition of the issue and/or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demonstrate the issue, the impacts of the issue, and the potential outcome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clearly identify the issue and its effects upon the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Assessment of Critical Fac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 of project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, costs,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include identification of the dominant and weakest factors or project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Intervention Strategi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oth the potential and selected interven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Stakeholde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ose involved in the plan directly or in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ed interests should be identified as potential adverse effects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Stakeholder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managers, chief officers, financial managers, planning, information technology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ors, insurance company representatives, advocacy groups, homeowners associations, elected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Organizational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the strategies and measurable objectives that have been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frames for completion should also be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strengths and milestones, objectives and corresponding tasks, financial and resource requirements,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Budge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aluation of each component of the proposed budget, including strengths, weaknesses, opportunities,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should b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, how strengths will be tapped into to correct weaknesses, and how opportunities will be explored while avoiding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Plan Evalu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rehensive plan for monitorin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review, revision, completion, “bail-out”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udget item or component of the strategic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lanced Score Card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et measured get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asures are linked to the organization’s strategy, people will naturally adopt appropriat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asures are not sufficient to manage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, customers, internal business processes, clinical competencies, patient outcomes, personnel growth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Define strategic planning and the time frames that are incorporated in strategic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Define the contingent planning model for strategic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Use a multi-point plan to create components of a strategic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 Demonstrate how to prioritize strategic planning concepts and i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38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approach to planning incorporated into a multi-year budge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is contingent on a choice made by analyzing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MacKay’s Strategic Planning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AAIUFNJ0"/>
          <p:cNvPicPr/>
          <p:nvPr/>
        </p:nvPicPr>
        <p:blipFill>
          <a:blip r:embed="rId1"/>
          <a:stretch/>
        </p:blipFill>
        <p:spPr>
          <a:xfrm>
            <a:off x="4572000" y="2590920"/>
            <a:ext cx="4114800" cy="2368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4876920" y="5105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 2.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MacKay’s Strategic Planning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Reprinted with permission of Berkel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ulting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the steps: plan, act, and 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ful for organizations that have stable demands and clea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to find a common ground through a labor-management partnership or by stakeholder consensus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plann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innovation, pilot projects, and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scenarios planning and experimenting with possible futu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al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harismatic leadership and new approaches to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lanning in Fire and EM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lanning models prev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Strategic Plann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William Pfe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Fire Academy’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ine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ry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Department Strategic Plann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Wal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NFA Applied Strategic Planning</a:t>
            </a:r>
            <a:br>
              <a:rPr sz="3600"/>
            </a:b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Dr.J. William Pfeiffer</a:t>
            </a:r>
            <a:endParaRPr b="1" lang="en-US" sz="24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trategic business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performance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contingenc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ntegrated function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John Bryson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and agree on a strategic pla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rganizational man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the organization’s mission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opportunities and threats of the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 (Cont.)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John Bryson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trengths and weaknesses of the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rategic issues facing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strategies to manage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effective organizational vision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re Department Strategic Planning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Mark Wallace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epartment’s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lan strateg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d recommend a strategic pla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epartment’s man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mission of th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hilosophy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re Department Strategic Planning (Cont.)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Mark Wallace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the opportunities and threats of the external and intern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rategic issues of th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trategies for strateg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department’s ideal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operational planning from a strategic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lan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3 to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10 to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should be given to population trends, tax base, planned development, and trend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Define the strategic planning items–and their purposes–that would be included in a fire or EMS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 Explain and incorporate the planning cycle for a strategic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 Discuss the various considerations for calculating the cost of EMS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he direction of the division 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futuristic l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and action plan should be  consistent with the vi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uild loyalty through involvement, commitment, and a need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positive and inspiring, providing a focus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the leader’s beliefs, values, an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ase for 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cor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a basis for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ddress what you are going to do and for whom you are do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a foc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the reason that the organization, committee, or group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no more than two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791320"/>
            <a:ext cx="7843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.5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Las Vegas Fire EMS Vision, Mission, and Values Statemen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7851600" cy="4300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Vision, Mission, an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rainstorm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shared problem solving in which all members of a group spontaneously contribut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variety of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s creative ideas, solves problems, motivates and develops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rainstorm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d agree on the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ideas, and have an agreed upon time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ze/condense/combine/r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/analyze effects o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options/rank list, a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actions and time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and monitor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haracteristics: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dvantages does the organization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organization or its resources do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levant resources do you have acces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haracteristics: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other people see as the strengths in such a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urrent operations could be im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gram or organization doing bad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you avo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good opportunities for th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trends in the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technology and markets on both a broad and narrow sc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government policy related to your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social patterns, populations, indus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cal, state, and national ev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8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 identify the stakeholders in 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9   Identify management tools to conduct project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0 Describe the primary components of an EMS 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dentify proactive approaches to EMS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stacles do you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other agencies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required specifications for the job, products, or services cha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anging technology threatening your 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the weakness seriously threaten the agency or op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Goals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nd Objective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onent of a successfu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Goals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nd Objective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define what you intend to accomplish as specifical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outcome over an identifie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 Audience: Who will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 Behavior: What must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 Conditions: By when, where, and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 Degree: What is the quantity and quality exp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rioritiz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 Mapping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approach to help set the goals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aspects of the leader’s vision are placed on a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 notes are placed on the wall near the specific goal, with each group discussing and linking the issues and establishing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ing Out the Plann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y scale, base salary, certification level, and incentive pay category needs to be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A, retirement, life and health insurance, workers’ compensation, disability insurance, clothing allowance, specialty pay, educationa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conomies of Scal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efficiency of production as the number of goods or services being produce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conomies of sc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 hour depends on the size of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 depends on the size of the individual department o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conomies of Scale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economies of scale have both financial and operationa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all volume, financial impact, unit costs go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looks to reduce un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ing the economies of scale helps agencies fund specialty teams- fleet programs, and reduces medical supply costs by buying in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Workload Indica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38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ng the cost of goods and services starts with a review of the workloa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876920" y="1655640"/>
            <a:ext cx="3886200" cy="2459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410080" y="43434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2.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load Indicators for 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pital Expens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large portions of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co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replacement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dolla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on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Operating Expens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s of service that continue to be the same, regardless of the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, depreciation, preventive vehicle maintenance,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wi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 vehicle maintenance, station repair, medical supplies, linen, fuel, office supplies and reports, accounting and leg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sting out strategies to a variety of EMS system asp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active approaches to EMS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roblem Research Techniqu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ing information on issues is a lengthy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on intern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perso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ith a variety of people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aborative approach with labor management can avoid delays in the approval process and bring valuable resources to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ix Questions on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blem Analysi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volved or affected by the item or budget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nd secondary target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ture of the problem solved or service provided by the item or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problem being resear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ix Questions on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blem Analysi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the item operate, and what will be the duration or life sp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item be located, housed, or ope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tem impact organization’s the 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e item or request need to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Government Budge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al document that is often passed by the legislature, city council, fire or EMS board, or county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riangle of Critical Fac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ides, with the scope of the project being the middle of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performance to see how cost and time reductions can increase or decrease the performance of th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Triangle of Critical Factor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ides with the scope of the project being the middle of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ime is stretched out, people los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ime increases, so do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ime decreases, so do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ools for Strategic Plann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pat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graphic view of projects, and predicts the time required to complete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what activities are critical to maintaining 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each activity as a node or circle with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ginning or ending of an event or activity is depicted as lines between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ritical Path Method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step process that can be used to develop a project o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individu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equence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ub-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then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gram Evaluation and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Review Technique (PERT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to organize activities that have more random completio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used for complex strategic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may take years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duce cost and time to complete 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5791320"/>
            <a:ext cx="78440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.1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 Chart for Constructing an EMS Facility or Fire Station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13" name="Picture 5" descr="AAIUFNP0"/>
          <p:cNvPicPr/>
          <p:nvPr/>
        </p:nvPicPr>
        <p:blipFill>
          <a:blip r:embed="rId1"/>
          <a:stretch/>
        </p:blipFill>
        <p:spPr>
          <a:xfrm>
            <a:off x="1714680" y="1239840"/>
            <a:ext cx="6438600" cy="4378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990720" y="30492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ERT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entire set of processes and behaviors that an organization uses to identify, prioritize, focus, and schedule action in order for it to remain viable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ERT Plann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pecific activities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proper sequence of th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a networ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time required for eac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PERT chart as the project pro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 as a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Living Document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to change that are made in response to crisis events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 as a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Living Document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lanned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change–change in direction of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 change–altering of equipment, engineering processes, research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ing change–increasing organizational effectiveness through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change–upgrading skills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hange–shaping behavior and guiding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arriving at a document that outlines how the organization will achieve its objectives in conjunction with the fiscal constraints set by the budge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ction taken between an administrative body, such as a government or board of directors, and th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a business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leaders engaged in the proces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political priorities are i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et the guidelines for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a 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distinct sec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business, marketing, finances,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reviewed at regular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a review of financi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Quality Planning at the State and Regional Level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at the local and agen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gencies are charged with creating or maintaining public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the needs based on the type of citizens, patients, hospitals, health-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Quality Planning at the State and Regional Level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ing systems of care that will lead to optimal patien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with identifying demographic and economic issues that will impact the delivery of 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is a critical process for success of EM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issues are seldom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o success of interventions is the effective assessment of the people a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task an EMS manager or leader can do is to condu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equipment, systems, and personnel are matched with needs of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Overview of a Strategic Pla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n organization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livery and development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ic plan has eight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mmary, problem definition, assessment of critical factors, intervention strategies, stakeholders, organizational objectives, budget, and plan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Executive 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nerally written at the end of the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the key issues related to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hook the reader into reading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06:53Z</dcterms:created>
  <dc:creator>Bill Montgomery</dc:creator>
  <dc:description/>
  <dc:language>en-US</dc:language>
  <cp:lastModifiedBy>MMS</cp:lastModifiedBy>
  <dcterms:modified xsi:type="dcterms:W3CDTF">2009-03-25T21:19:24Z</dcterms:modified>
  <cp:revision>61</cp:revision>
  <dc:subject/>
  <dc:title>Slide 1</dc:title>
</cp:coreProperties>
</file>