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CA11-123A-4DAD-9EFF-41663BFA7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EB2A-7382-4705-B980-27453BED0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3800" y="396432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716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44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308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380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44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308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8480" y="228240"/>
            <a:ext cx="7843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716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3800" y="396432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716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1844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7308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380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1844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7308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8480" y="228240"/>
            <a:ext cx="7843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716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5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5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76320" y="76320"/>
            <a:ext cx="761760" cy="6705360"/>
          </a:xfrm>
          <a:prstGeom prst="rect">
            <a:avLst/>
          </a:prstGeom>
          <a:solidFill>
            <a:srgbClr val="05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1" descr="bradylogo"/>
          <p:cNvPicPr/>
          <p:nvPr/>
        </p:nvPicPr>
        <p:blipFill>
          <a:blip r:embed="rId2"/>
          <a:stretch/>
        </p:blipFill>
        <p:spPr>
          <a:xfrm>
            <a:off x="0" y="6567480"/>
            <a:ext cx="2057400" cy="2318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7"/>
          <p:cNvSpPr/>
          <p:nvPr/>
        </p:nvSpPr>
        <p:spPr>
          <a:xfrm>
            <a:off x="3581280" y="6319800"/>
            <a:ext cx="5486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uce E. Evans • Jeff T. Dyar — Management of EMS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0 by Pearson Education, Inc. Upper Saddle River, NJ 074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5037120" y="2967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699"/>
                </a:solidFill>
                <a:latin typeface="Arial"/>
              </a:rPr>
              <a:t>CHAPTER</a:t>
            </a:r>
            <a:r>
              <a:rPr b="0" lang="en-US" sz="1800" spc="-1" strike="noStrike">
                <a:solidFill>
                  <a:srgbClr val="05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3240" y="0"/>
            <a:ext cx="9140760" cy="1676520"/>
          </a:xfrm>
          <a:prstGeom prst="rect">
            <a:avLst/>
          </a:prstGeom>
          <a:solidFill>
            <a:srgbClr val="05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nagement of 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cover_0132324326"/>
          <p:cNvPicPr/>
          <p:nvPr/>
        </p:nvPicPr>
        <p:blipFill>
          <a:blip r:embed="rId2"/>
          <a:stretch/>
        </p:blipFill>
        <p:spPr>
          <a:xfrm>
            <a:off x="762120" y="2057400"/>
            <a:ext cx="3160440" cy="38862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44" name="Picture 20" descr="bradylogo"/>
          <p:cNvPicPr/>
          <p:nvPr/>
        </p:nvPicPr>
        <p:blipFill>
          <a:blip r:embed="rId3"/>
          <a:stretch/>
        </p:blipFill>
        <p:spPr>
          <a:xfrm>
            <a:off x="0" y="6567480"/>
            <a:ext cx="2057400" cy="23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5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5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1"/>
          </p:nvPr>
        </p:nvSpPr>
        <p:spPr>
          <a:xfrm>
            <a:off x="3428640" y="6473880"/>
            <a:ext cx="5715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ruce E. Evans • Jeff T. Dyar, Management of EMS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10 by Pearson Education, Inc. Upper Saddle River, NJ 074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028840" y="3886200"/>
            <a:ext cx="38098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6699"/>
                </a:solidFill>
                <a:latin typeface="Arial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6699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478920" y="25588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56699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Funding Source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ources of fun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reimbur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tary or government dependent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s, capitated agreements with HMOs, philanthropic donations, and civic group donations and subscriptio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Medicare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in 1965 by the Social Security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ed only those older than age 65 from 1965 to 19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72 expanded to cover those with dis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red to Health Care Financing Administration in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1 restructured Centers for Medicare and Medicai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Medicare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coverage for low-income families; aged, blind, and disabled; and those eligible for federally assisted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CHIP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Children’s Health Insuranc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d in 1997, as part of the Balanced Budget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ed states to provide health insurance for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Balanced Budget Act of 1997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ormulated the ambulance fee structure through negotiated rulemaking conduc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 stakeholders who negotiate the regulations specifying how ambulance services are reimbursed under Medi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5333760"/>
            <a:ext cx="7844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9.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s Represented on the Negotiated Rulemaking Committee.</a:t>
            </a:r>
            <a:endParaRPr b="1" lang="en-US" sz="1200" spc="-1" strike="noStrike">
              <a:solidFill>
                <a:srgbClr val="056699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400800" cy="35053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1068480" y="228600"/>
            <a:ext cx="78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Organizations Represented on the Negotiated Rulemaking Committ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Medicare Part B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S systems are classified according to the level of service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9 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quired on most ambulance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generally trigger a payment or a denial of a cl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Medicare Part B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9 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tient receives a primary and alternativ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s condition on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on scene changes from the dispatch information versus what was found on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Levels of EMS Service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Life Support (BL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Life Support 1 (ALS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Life Support 2 (ALS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ty Care Transport (SCT)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dic Intercept (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Wing (F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ry Wing (R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Basic Life Support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state allows EMT Basics to initiate IV lines or administer medications, regulations mandate reimbursement at the basic life suppor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Learning Objectiv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1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1 Discuss the Medicare Ambulance Fee Schedule Final Rule and identify strategies for optimizing reimbursement within its requirements and limi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2 Describe the historical development of and programs administered by the Centers for Medicare and Medicaid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Medically Necessary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87480" y="1599840"/>
            <a:ext cx="7851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 only allows billing at the ALS level when medical necessity has been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assessment is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t time of dispatch meets ALS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Upbilling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srepresentation of provided services by billing for more expensiv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f an agency performs an ALS assessment  on every patient in an attempt to gain ALS reim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esult in fines, criminal charges, or  suspension of Medicar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Advanced Life Support,</a:t>
            </a:r>
            <a:br>
              <a:rPr sz="4000"/>
            </a:b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(Level 1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851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ast one ALS intervention is per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ly necessary” AL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sessment that requires the use of ALS evaluation tools (such as EC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Advanced Life Support,</a:t>
            </a:r>
            <a:br>
              <a:rPr sz="4000"/>
            </a:b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(Level 2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include the administration of at least three intravenous medications or the performance of at least one of the following ski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defibrillation/cardioversion, endotracheal intubation, central venous line placement, cardiac pacing, chest decompression, a surgical airway, an intraosseous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pecialty Care Transport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facility transports requiring level beyond the scope of paramedic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igher level of b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billed under Medicare Part A, b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a physician-documented medical reason for the 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Paramedic Intercept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dic services provided by non-transporting 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ing agency must bill all recipients of service regardless of Medicare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must be a rural servic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certified as an AL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Fixed Wing and Rotary Wing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and rotary wing air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ed when point of pickup is inaccessible by a land vehicle, great distances are involved, or other obstacles that are not defined by the rule-making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alculation of Ambulance Fe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rate adjusted for geographical cost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ic physician cost index (GP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base rate of $204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70% and apply the GP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maining 30% of the $204.65 is added to the adjusted fig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Mileage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can charge for a loaded mileage, which starts at point of pick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rate of $5.47 per loaded mile but goes up an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p code must be documented on each 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ed mile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Medicare Rat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s increase based on the CPI-urban percentage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mergency transports require a physician certification statement (PCS) to bill Medi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ed by a physician; if not available, then a nurse, physician assistant, or nurse practitioner may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Learning Objective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90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3 Identify the requirements of Medicare Part B as they apply to ambulance suppliers, including levels of service, medical necessity, physician certification, origins and destinations, vehicles and staff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Billing for Multiple Patient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 will reimburse multiple patients in the following man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reimburse 75% of base rate for each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or mor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reimburse 60% of base rate for each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Reimbursement Involving Death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85320" y="1600200"/>
            <a:ext cx="7851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eath is pronounced before the ambulance is called, then no reimbursement will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eath is pronounced after transport has begun, then normal nonemergency rates apply but no mileage and before arrival on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eath is pronounced during transport, normal reimbursement rates a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auses of Claim Denial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pic>
        <p:nvPicPr>
          <p:cNvPr id="155" name="Picture 3" descr="Picture 1.png"/>
          <p:cNvPicPr/>
          <p:nvPr/>
        </p:nvPicPr>
        <p:blipFill>
          <a:blip r:embed="rId1"/>
          <a:stretch/>
        </p:blipFill>
        <p:spPr>
          <a:xfrm>
            <a:off x="914400" y="2514600"/>
            <a:ext cx="8001000" cy="20638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066680" y="5334120"/>
            <a:ext cx="7844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9.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Claim Den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cheduled Transfer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ly necessary = success in b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necessity is established when the patient’s condition is such that transfer by any other means of transportation would endanger the health of the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cheduled Transfer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reason for the transfer by ambulance and exactly why the patient cannot ride in a car is required on ru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Future Medicare Chang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 will become stri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-based reim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force EMS providers to provide care and complete transport based on medical necessity and evidence-based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-based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entions and actions that produce a positive outcome for the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Future Medicare Changes (Cont.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 Payment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pa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decide not to pay for the cost of the EMS to work an arrest knowing that evidence-based medicine indicates this will not have a favorable or positive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the same trend from third-party private insurance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Third-Party Billing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one other than Medicare, Medicaid, or self-paying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insurance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Os, workers’ compensation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automobile 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owner 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Third-Party Billing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itution from crime vict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ruptcy, probate, small cl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organizations, travel insurance, embass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HMO Contracting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ed fees for service should actually represent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limit payment delays with good contract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 should be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prompt payment rules and enforc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Learning Objective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90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4 Explain the alternative components used to fund ambulance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5 Describe the financial policies that are addressed in budgeting and in types of budg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6 Calculate the unit hour utilization and various benchmarks and seasonal fluctuations for various levels of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HMO Contracting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ted 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lump sum payment to the provider to cover an estimated number of patients under their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MS can provide service at a cost less than what it is paid, the agency can generate a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osts rise above capitated amount, the agency experiences a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 management coord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Financial Policy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, ongoing, or continuous expenses should be calc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and supplied, vehicles and fuel, medical supplies, facilities, communications, personnel, training, and licen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used that are necessary for logistics or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Financial Policy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lnSpc>
                <a:spcPct val="90000"/>
              </a:lnSpc>
              <a:spcBef>
                <a:spcPts val="700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be traced directly to a specific product or service provided by the EMS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urance, legal and consultation, medical directors, billing services, contract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total proportion to changes in the related level of total activity or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 unchanged in total for a given period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EMS Budget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-item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on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items or services by division, department, and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requires last-minute spending to empty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focus 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EMS Budget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ve budge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 of line-item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computerized catego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, operations, and capital out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EMS Budget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-based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on outputs or specific services, not dol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spects of a specific type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s processes “call cent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full costing or recording of both the direct and indirec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EMS Budget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-based cos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s costs to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bjects are based on the consumption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e-based cos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s cost with quality, function, and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means for examining performance in the EMS system and customer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EMS Budget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-based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sts are summarized for each program, rather than placed in broad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system costs with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s most line items for lump sums to major objects in EMS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EMS Budget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-based budg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s workload and uni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d categories are personnel, maintenance, operations,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used for shared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EMS Budget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-based budg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EMS to justify the existence of a budget for the program or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a significant amount of administrativ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lost pop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d only when a city or department is facing budget shortfalls or there is an economic down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Learning Objective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90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7 Discuss various methods for costing out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8 Understand managed-care contracting strate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ost Per Response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d by dividing each provider’s total expenses by the total number of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service must include overhead that is allocated in a one-month period divided by the total responses in the same one-month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ost Per Response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primarily for purposes of comparison to other service delivery models in 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alculating Unit Hour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ost per unit is a measure of the total cost of providing coverage during a given accounting period divided by the total number of unit hours of coverage during the same accounting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to identify whether or not unit-hour costs are excessive given the quality of care being deli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alculating Unit Hours (Cont.) 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-heavy administration, high wages, poor economies of scale, overtime pay can drive up unit-hour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excessive unit-hour costs with poor response times, consideration should be given to moving vehicles or adding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hicle operating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4343400"/>
            <a:ext cx="78440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9.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-Per-Unit Hour.</a:t>
            </a:r>
            <a:endParaRPr b="1" lang="en-US" sz="1200" spc="-1" strike="noStrike">
              <a:solidFill>
                <a:srgbClr val="056699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1143000" y="2992320"/>
            <a:ext cx="7772400" cy="8175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"/>
          <p:cNvSpPr/>
          <p:nvPr/>
        </p:nvSpPr>
        <p:spPr>
          <a:xfrm>
            <a:off x="1068480" y="228600"/>
            <a:ext cx="78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ost-Per-Unit H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alculating Unit-Hour Utilization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ing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waiting lines and the consequences of thes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method for determining how many EMS units are needed to handl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estimate how busy EMS units are, probability of a call, waiting time, number of units needed to satisfy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Unit Hour Utilization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of workload for EMS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rom queuing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determine the line between too few ambulances and putting an ambulance on every co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know the number of EMS calls and amount of time a crew spends on an ambulanc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:UH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Benchmarks of Unit-Hour Utilization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challenged as a measurement tool applicable only to private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additional measurements are made in some high performance or heavy workload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-hour utilization-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-hour utilization-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-hour utilization-total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al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Managing Unit Hour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EMS units does a system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s per hour X average time for each call divided by 60 minutes X unit-hour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57150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9.1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ginal Personnel Worksheet.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Source: International Association of Firefighter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S Implementation Guidebook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. Reprinted with permission.)</a:t>
            </a:r>
            <a:endParaRPr b="1" lang="en-US" sz="1200" spc="-1" strike="noStrike">
              <a:solidFill>
                <a:srgbClr val="056699"/>
              </a:solidFill>
              <a:latin typeface="Arial"/>
            </a:endParaRPr>
          </a:p>
        </p:txBody>
      </p:sp>
      <p:pic>
        <p:nvPicPr>
          <p:cNvPr id="211" name="Picture 3" descr="Picture 2.png"/>
          <p:cNvPicPr/>
          <p:nvPr/>
        </p:nvPicPr>
        <p:blipFill>
          <a:blip r:embed="rId1"/>
          <a:stretch/>
        </p:blipFill>
        <p:spPr>
          <a:xfrm>
            <a:off x="1066680" y="1182600"/>
            <a:ext cx="785016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Financial Requirements and Billing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 recovery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ulance rates and billing should be bala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delivering EMS, collection of revenues, and non-service related monies coming into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ly will rates reflect the cost of providing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Picture 3.png"/>
          <p:cNvPicPr/>
          <p:nvPr/>
        </p:nvPicPr>
        <p:blipFill>
          <a:blip r:embed="rId1"/>
          <a:stretch/>
        </p:blipFill>
        <p:spPr>
          <a:xfrm>
            <a:off x="914400" y="533520"/>
            <a:ext cx="8072280" cy="51624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57909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9.1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ge Calculation Worksheet.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Source: International Association of Firefighter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S Implementation Guidebook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. Reprinted with permission.)</a:t>
            </a:r>
            <a:endParaRPr b="1" lang="en-US" sz="1200" spc="-1" strike="noStrike">
              <a:solidFill>
                <a:srgbClr val="05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ubsidy-Price Trade-Off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all the estimated and total payments for all emergency and non-emergency services from all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HMO contracts, Medicare, Medic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is then divided by the population of the primary service area and plotted on the horizontal axis of subsidy price trade-off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ubsidy-Price Trade-Off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oint on the chart is calculated by estimating the current average total bill, which includes the base rate, mileage, and all add-on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verage is then graphed on the vertical axis, and a line is drawn between the two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agonal line can be compared with proposed changes in the service or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Funding Mechanism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ity of local government budgets are funded by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 taxes, local income taxes, general sales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ag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taxes collected for fire and 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as dollars per $1,000 of assess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Funding Mechanism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ed value is typically 40% of the fair market value of th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es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called gross-receipts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 on the total amount of the sale price of all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Funding Mechanism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s on new construction, new business, or activities as a one-time fee for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Ambulance Membership Programs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xed-price pre-payment of all or part of fee-for-service ambulance service bills for a certain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subscri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irst type, provider may not bill third party payers; all costs are supplied by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econd type, provider may bill and collect from third party payers; co-pays are taken care of by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Ambulance Membership Programs (Cont.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 to the goals of th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provide additional personnel, equipment, enhanced training, a mechanism to improve marketing and custome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best when the public is sensitive to ambulance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Billing Service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ing and collection is often contracted to a vendor or firm with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S agencies should develop a list of the services required before looking for billing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ing services can provide training and may improve collection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ing contract i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Financial Report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provide accoun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by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health of th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of an EMS financial re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gross billings, collection rates, billing mix, ALS versus BLS, miles billed, transfers versus primary 911 billings, payee mix, accounts receivable turnover rate, bad debt expenses, contractual allowances, write-o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Who Sets the Rates?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agencies, states, and local jurisdictions set ambulance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 and large insurance carriers (third-party payers) set reimbursement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s of service must be calculated as accurately and with as much detail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s should be tracked for operational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ing is complex and ever-changing process that requires expert knowledge of regulations and billing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ummary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means of funding should continually be expl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reports should be given to the management team and used in strategic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Marginal Costing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rginal cost of the ambulance trans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st of providing the transport divided by the transport volume = marginal cost per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s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vide additional monies to enhance other EM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venues are needed for the delivery of th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Funding Sourc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ources of fun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reve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les taxes, property taxes, or impact f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S operating le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icipal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7:02:40Z</dcterms:created>
  <dc:creator>James Ramsey</dc:creator>
  <dc:description/>
  <dc:language>en-US</dc:language>
  <cp:lastModifiedBy>MMS</cp:lastModifiedBy>
  <dcterms:modified xsi:type="dcterms:W3CDTF">2009-03-30T16:13:15Z</dcterms:modified>
  <cp:revision>70</cp:revision>
  <dc:subject/>
  <dc:title>PowerPoint Presentation</dc:title>
</cp:coreProperties>
</file>