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91A-667E-461C-99E2-09EA56FC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8B6-1EE3-4FB8-B209-BC843355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6E7-7A48-43A6-A30C-E3394F64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CC0-4D23-4E5B-9F3A-7F4CE5F5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98D-2FA6-47FB-B4DD-91220E5B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1D8-0DC0-4878-96EB-35D3B914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07A-0800-4D05-A84F-4D81C71F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252-4A65-4523-BCEF-CC83E6BB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A84-D1CC-493A-8126-B334590C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1BF-C9F7-49CB-816A-44959BAD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BE8-70A3-426C-B6E3-6973C6DF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386-4EE5-47B5-BD2B-C4456B94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E73B-1903-424C-B49C-02914D5358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981080"/>
            <a:ext cx="7162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PHYSICAL EXAMINATION OF THE SPLE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01"/>
                </a:solidFill>
                <a:latin typeface="Arial"/>
              </a:rPr>
              <a:t>EXAMINATION OF THE SPLEE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ER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AL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SPEC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AUSCUL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352680" y="2666880"/>
            <a:ext cx="1524240" cy="398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3809880" y="1981080"/>
            <a:ext cx="106704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2438280"/>
            <a:ext cx="2666880" cy="3682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COMPLIMENT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03848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5000" y="1143000"/>
            <a:ext cx="2965320" cy="3505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7467480" y="36576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153280" y="3200400"/>
            <a:ext cx="0" cy="1828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5029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SPL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572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HE SPL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312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3352680"/>
            <a:ext cx="2590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8769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280" y="4038480"/>
            <a:ext cx="4876920" cy="243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90720" y="533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EXAMINATION OF THE SPL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5105520"/>
            <a:ext cx="3809880" cy="1159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NIXON’S METHOD – </a:t>
            </a:r>
            <a:r>
              <a:rPr b="1" lang="en-US" sz="1400" spc="-1" strike="noStrike" u="sng">
                <a:solidFill>
                  <a:srgbClr val="66ccff"/>
                </a:solidFill>
                <a:uFillTx/>
                <a:latin typeface="Arial"/>
              </a:rPr>
              <a:t>PERCUSS </a:t>
            </a: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MIDWAY ALONG LEFT COSTAL MARGIN. NORMALLY DULLNESS DOES NOT EXTEND FURTHER THAN 8 CM ABOVE THE COSTAL  MARGI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3124080"/>
            <a:ext cx="3809880" cy="15858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CASTELL’S METHOD – </a:t>
            </a:r>
            <a:r>
              <a:rPr b="1" lang="en-US" sz="1400" spc="-1" strike="noStrike" u="sng">
                <a:solidFill>
                  <a:srgbClr val="66ccff"/>
                </a:solidFill>
                <a:uFillTx/>
                <a:latin typeface="Arial"/>
              </a:rPr>
              <a:t>PERCUSS</a:t>
            </a: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 IN THE LOWEST INTERCOSTAL SPACE IN THE  LEFT MIDAXILLARY LINE IN BOTH EXPIRATION AND FULL INSPIRATION. NORMALLY THE PERCUSSION NOTE IS RESONANT. DULLNESS IMPLIES SPLENOMEGAL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1371600"/>
            <a:ext cx="3809880" cy="13726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66ccff"/>
                </a:solidFill>
                <a:uFillTx/>
                <a:latin typeface="Arial"/>
              </a:rPr>
              <a:t>PERCUSSION</a:t>
            </a: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 OF TRAUBE’S SPACE – SIXTH RIB SUPERIORLY, MIDAXILLARY LINE LATERALLY AND LEFT COSTAL MARGIN INFERIORLY. NORMALLY THE PERCUSSION NOTE IS RESONANT. DULLNESS IMPLIES SPLENOMEGAL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7339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ccff"/>
                </a:solidFill>
                <a:latin typeface="Arial"/>
              </a:rPr>
              <a:t>NIXON’S METH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752480" y="3733560"/>
            <a:ext cx="0" cy="152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3733920"/>
            <a:ext cx="0" cy="152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581280" cy="2361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3124080" cy="3236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90720" y="2819520"/>
            <a:ext cx="99036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09680" y="2971800"/>
            <a:ext cx="152640" cy="152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4106880"/>
            <a:ext cx="3200400" cy="11091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BIMANUAL PALP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ccff"/>
                </a:solidFill>
                <a:latin typeface="Arial"/>
              </a:rPr>
              <a:t>SUP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ccff"/>
                </a:solidFill>
                <a:latin typeface="Arial"/>
              </a:rPr>
              <a:t>DEEP BREA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4944960"/>
            <a:ext cx="2819160" cy="3682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BALLOTT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5410080"/>
            <a:ext cx="2819160" cy="6426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PALPATION FROM ABOVE - HOO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486400"/>
            <a:ext cx="3657600" cy="951120"/>
          </a:xfrm>
          <a:prstGeom prst="rect">
            <a:avLst/>
          </a:pr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701"/>
                </a:solidFill>
                <a:latin typeface="Arial"/>
              </a:rPr>
              <a:t>FLEX KNEES AND HI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701"/>
                </a:solidFill>
                <a:latin typeface="Arial"/>
              </a:rPr>
              <a:t>RIGHT LATERAL DECUBITUS POS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609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EXAMINATION OF THE SPLEEN - PAL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01"/>
                </a:solidFill>
                <a:latin typeface="Arial"/>
              </a:rPr>
              <a:t>ARE ENLARGED SPLEENS EVER NORMAL?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% OF HEALTHY COLLEG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% OF NORMAL WOMEN POSTPAR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3 – 3.8% OF PATIENTS IN AN OFFICE P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COMMON ETIOLOGIES OF SPLENOMEGAL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RTAL HYPERTEN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MATOLOGIC MALIGNANCY     LYMPHOMA,LEUKE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ECTIOUS DISEASE  HIV,MONONUCLEOSIS,MALA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LENIC HEMATO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KEHR’S SIG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RED PAIN TO THE LEFT SHOULDER AS A CONSEQUENCE OF AN IRRITATED LEFT HEMIDIAPHRAGM. MAY BE DUE TO SPLENIC RUP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USS FIRST AND IF POSITIVE THEN PALP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 THE DIFFERENTIAL DIAGNOSIS OF SPLENOMEGA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 THE PITFA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R CLINICAL SUSPICION REMAINS HIGH AFTER CLINICAL EXAMINATION PROCEED WITH A RADIOGRAPHIC STU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18:41:18Z</dcterms:created>
  <dc:creator> richard michael rodriguez</dc:creator>
  <dc:description/>
  <dc:language>en-US</dc:language>
  <cp:lastModifiedBy>Dr.abdel-hamid</cp:lastModifiedBy>
  <dcterms:modified xsi:type="dcterms:W3CDTF">2006-10-20T15:19:17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12976548</vt:r8>
  </property>
  <property fmtid="{D5CDD505-2E9C-101B-9397-08002B2CF9AE}" pid="3" name="_AuthorEmail">
    <vt:lpwstr>eda.chako-moore@Vanderbilt.Edu</vt:lpwstr>
  </property>
  <property fmtid="{D5CDD505-2E9C-101B-9397-08002B2CF9AE}" pid="4" name="_AuthorEmailDisplayName">
    <vt:lpwstr>Chako-Moore, Edlira A</vt:lpwstr>
  </property>
  <property fmtid="{D5CDD505-2E9C-101B-9397-08002B2CF9AE}" pid="5" name="_EmailSubject">
    <vt:lpwstr>Dr. Rod's notes</vt:lpwstr>
  </property>
  <property fmtid="{D5CDD505-2E9C-101B-9397-08002B2CF9AE}" pid="6" name="_ReviewingToolsShownOnce">
    <vt:lpwstr/>
  </property>
</Properties>
</file>