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789-C80A-4844-82EB-73F7E749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8AF-E714-4DEA-B294-E54E5A42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187-F058-4007-A664-B5CF2ABC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F4A-FBC2-416F-9EAB-B76D562C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2EB-9DA6-4722-ABD8-E191689A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102-6D7D-41B7-9418-BD4D333B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6D2-0EA6-4715-AEAC-98B677CE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A53-E591-47B6-80D8-06B4BDD7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0D7-D92A-4958-901D-E5999173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980-2F3E-4A26-B884-9E0D3A4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1D5-C913-444F-832B-046DA4B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121-17BA-436D-A403-E6587A9B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C124-6901-4CC3-9CAD-A7D5C74D5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981080"/>
            <a:ext cx="7162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PHYSICAL EXAMINATION OF THE SPLE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EXAMINATION OF THE SPLEE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ER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AL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PE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USCUL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352680" y="2666880"/>
            <a:ext cx="1524240" cy="39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809880" y="1981080"/>
            <a:ext cx="106704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438280"/>
            <a:ext cx="2666880" cy="368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OMPLIMENT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1143000"/>
            <a:ext cx="29653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7467480" y="36576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153280" y="3200400"/>
            <a:ext cx="0" cy="1828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502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PL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572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12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352680"/>
            <a:ext cx="2590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8769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280" y="4038480"/>
            <a:ext cx="4876920" cy="243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533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AMINATION OF THE SPL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5105520"/>
            <a:ext cx="3809880" cy="1159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NIXON’S METHOD –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Arial"/>
              </a:rPr>
              <a:t>PERCUSS 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MIDWAY ALONG LEFT COSTAL MARGIN. NORMALLY DULLNESS DOES NOT EXTEND FURTHER THAN 8 CM ABOVE THE COSTAL  MARGI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3124080"/>
            <a:ext cx="3809880" cy="1585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CASTELL’S METHOD –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Arial"/>
              </a:rPr>
              <a:t>PERCUSS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 IN THE LOWEST INTERCOSTAL SPACE IN THE  LEFT MIDAXILLARY LINE IN BOTH EXPIRATION AND FULL INSPIRATION. NORMALLY THE PERCUSSION NOTE IS RESONANT. DULLNESS IMPLIES SPLENOMEGA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371600"/>
            <a:ext cx="3809880" cy="13726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66ccff"/>
                </a:solidFill>
                <a:uFillTx/>
                <a:latin typeface="Arial"/>
              </a:rPr>
              <a:t>PERCUSSION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 OF TRAUBE’S SPACE – SIXTH RIB SUPERIORLY, MIDAXILLARY LINE LATERALLY AND LEFT COSTAL MARGIN INFERIORLY. NORMALLY THE PERCUSSION NOTE IS RESONANT. DULLNESS IMPLIES SPLENOMEGA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7339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Arial"/>
              </a:rPr>
              <a:t>NIXON’S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752480" y="3733560"/>
            <a:ext cx="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733920"/>
            <a:ext cx="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3124080" cy="3236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2819520"/>
            <a:ext cx="990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106880"/>
            <a:ext cx="3200400" cy="11091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BIMANUAL PAL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Arial"/>
              </a:rPr>
              <a:t>SUP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Arial"/>
              </a:rPr>
              <a:t>DEEP BRE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4944960"/>
            <a:ext cx="2819160" cy="368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BALLOTT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5410080"/>
            <a:ext cx="2819160" cy="642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ALPATION FROM ABOVE - HOO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486400"/>
            <a:ext cx="3657600" cy="951120"/>
          </a:xfrm>
          <a:prstGeom prst="rect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701"/>
                </a:solidFill>
                <a:latin typeface="Arial"/>
              </a:rPr>
              <a:t>FLEX KNEES AND 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701"/>
                </a:solidFill>
                <a:latin typeface="Arial"/>
              </a:rPr>
              <a:t>RIGHT LATERAL DECUBITUS POS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09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EXAMINATION OF THE SPLEEN - PAL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ARE ENLARGED SPLEENS EVER NORMAL?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% OF HEALTHY COLLEG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% OF NORMAL WOMEN POSTPAR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3 – 3.8% OF PATIENTS IN AN OFFICE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COMMON ETIOLOGIES OF SPLENOMEGAL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RTAL HYPER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MATOLOGIC MALIGNANCY     LYMPHOMA,LEUKE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ECTIOUS DISEASE  HIV,MONONUCLEOSIS,MAL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LENIC HEMAT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KEHR’S SIG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RED PAIN TO THE LEFT SHOULDER AS A CONSEQUENCE OF AN IRRITATED LEFT HEMIDIAPHRAGM. MAY BE DUE TO SPLENIC RUP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USS FIRST AND IF POSITIVE THEN PALP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E DIFFERENTIAL DIAGNOSIS OF SPLENOMEGA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E PITFA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CLINICAL SUSPICION REMAINS HIGH AFTER CLINICAL EXAMINATION PROCEED WITH A RADIOGRAPHIC STU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18:41:18Z</dcterms:created>
  <dc:creator> richard michael rodriguez</dc:creator>
  <dc:description/>
  <dc:language>en-US</dc:language>
  <cp:lastModifiedBy>Dr.abdel-hamid</cp:lastModifiedBy>
  <dcterms:modified xsi:type="dcterms:W3CDTF">2006-10-20T15:19:17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2976548</vt:r8>
  </property>
  <property fmtid="{D5CDD505-2E9C-101B-9397-08002B2CF9AE}" pid="3" name="_AuthorEmail">
    <vt:lpwstr>eda.chako-moore@Vanderbilt.Edu</vt:lpwstr>
  </property>
  <property fmtid="{D5CDD505-2E9C-101B-9397-08002B2CF9AE}" pid="4" name="_AuthorEmailDisplayName">
    <vt:lpwstr>Chako-Moore, Edlira A</vt:lpwstr>
  </property>
  <property fmtid="{D5CDD505-2E9C-101B-9397-08002B2CF9AE}" pid="5" name="_EmailSubject">
    <vt:lpwstr>Dr. Rod's notes</vt:lpwstr>
  </property>
  <property fmtid="{D5CDD505-2E9C-101B-9397-08002B2CF9AE}" pid="6" name="_ReviewingToolsShownOnce">
    <vt:lpwstr/>
  </property>
</Properties>
</file>