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37E-11D3-4C4A-A46E-A2846178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7D7-739F-427B-84E3-1C828B8A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A149-8C26-42C3-A620-3234E1A9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78C-E71E-4EAC-8E82-E509CFD1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9E7-F5E7-4F19-9F1C-1330C23E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FDF-0341-417A-BBAB-2A9C30DF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79E-4C5C-4F35-9073-FBF4614C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4AE-38B3-4B5D-B59A-8487F04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B73-D250-4809-A42A-3FF99971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6EC-950B-4D35-A1C0-95F2118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C4A-1313-4405-8880-F98B7721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B7A-9F74-4659-9B09-D947E630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E400-F302-407F-8913-04EB0E2BE14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67104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7:56:07Z</dcterms:created>
  <dc:creator>Asma</dc:creator>
  <dc:description/>
  <dc:language>en-US</dc:language>
  <cp:lastModifiedBy>sara</cp:lastModifiedBy>
  <dcterms:modified xsi:type="dcterms:W3CDTF">2014-02-22T21:15:15Z</dcterms:modified>
  <cp:revision>2</cp:revision>
  <dc:subject/>
  <dc:title>Slide 1</dc:title>
</cp:coreProperties>
</file>