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DC0-3B34-4697-87D9-CE1256DE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DC7-DA7B-4980-84AE-1F5C1A01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DF0-2C53-4F68-8314-A90923F4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23D-FCA6-409A-B6E2-919DA152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57C-FADE-4E93-9E8A-EE309FF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FB6-A074-4EFD-9C0C-E6353ED3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91C-C036-409F-9EF1-6E9BB551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52B-6BE6-4D6F-8C62-5A3FD467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E37-6B5C-425D-9F29-7AF63F56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5BD-BF7C-4EB9-AD65-AC83F56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F1F-9BD0-40F2-860B-B12AE827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825-F784-4A58-9DAE-4EB2E5E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991C-EC3F-4D66-905A-6C2BA9693D6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7104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7:56:07Z</dcterms:created>
  <dc:creator>Asma</dc:creator>
  <dc:description/>
  <dc:language>en-US</dc:language>
  <cp:lastModifiedBy>sara</cp:lastModifiedBy>
  <dcterms:modified xsi:type="dcterms:W3CDTF">2014-02-22T21:15:15Z</dcterms:modified>
  <cp:revision>2</cp:revision>
  <dc:subject/>
  <dc:title>Slide 1</dc:title>
</cp:coreProperties>
</file>