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08BA3-C248-4A5E-B6EC-BBB54ADD0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4499-1967-4956-8CBD-39435A9E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87AB9-7A52-4462-BDE2-961569C0B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A0784-D6CD-45AF-8491-7FC95F68D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38987-BCF8-47A4-A2E2-9E84F38AA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EB31E-BF4B-4E1E-A71C-5FE00E87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E2D53-8739-4508-B61E-851E61D7C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588E3-9B6A-4F26-A517-D70B90B8C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E23C1-4F58-4980-B347-0AAF6BC87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C951D-3070-499A-A1BF-B59759132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6006A-CAE4-4530-8D5F-E8CC7B754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F8C1-134D-468B-B5FB-0D29655B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73CC-B6F2-4DC5-85DA-7918C294C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AB963-8C57-4253-892F-C13831DC1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028F3-C35B-47EE-9C70-94B26E5CC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B422A-8CE4-4197-A878-7A92C89DD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9D927-A19F-4732-B099-3626CBDA7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AD899-8C78-4224-94B7-08DA34E14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2599-D537-4480-9889-AE145C6A5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F8E05-06B9-4B5A-8EAE-EE7C3663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F1EF-4F54-4B16-820A-FF60D1BB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84C0-54C5-455F-8046-07C715F3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7CC8D-CAE4-4265-9AFC-937EC079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5B04-B7A5-4330-8A79-54BE70810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1480" y="-4680"/>
                <a:ext cx="988920" cy="68353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040" y="1694880"/>
                <a:ext cx="988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1840" y="1285920"/>
                <a:ext cx="9889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1840" y="149400"/>
                <a:ext cx="9889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040" y="987120"/>
                <a:ext cx="98892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1840" y="681120"/>
                <a:ext cx="988920" cy="4316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2200" y="372600"/>
                <a:ext cx="10015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0680" y="3938040"/>
                <a:ext cx="988920" cy="4996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1760" y="3534840"/>
                <a:ext cx="98892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120" y="2395800"/>
                <a:ext cx="988920" cy="3045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1760" y="3231360"/>
                <a:ext cx="988920" cy="34848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1760" y="2929320"/>
                <a:ext cx="98892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15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240" y="4969800"/>
                <a:ext cx="9889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49680" y="4560480"/>
                <a:ext cx="988920" cy="50328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1760" y="5668200"/>
                <a:ext cx="9889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3240" y="6184800"/>
                <a:ext cx="345960" cy="9903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0680" y="6201000"/>
                <a:ext cx="9889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1400" y="5891760"/>
                <a:ext cx="10015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701E-A7C1-4953-9E4F-BF84DDC20495}"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1600" y="2648520"/>
                <a:ext cx="9889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520" y="264780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2200" y="2780640"/>
                <a:ext cx="9889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240" y="2749680"/>
                <a:ext cx="9889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7680" y="2695680"/>
                <a:ext cx="9889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1920" y="2741400"/>
                <a:ext cx="100152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960" y="2642760"/>
                <a:ext cx="98856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4240" y="263988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7000" y="2774520"/>
                <a:ext cx="98856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1760"/>
                <a:ext cx="9889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3200" y="2690280"/>
                <a:ext cx="9885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4200" y="2730960"/>
                <a:ext cx="100152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80480" y="2648520"/>
                <a:ext cx="9889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9400" y="2647800"/>
                <a:ext cx="9889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6240" y="2774520"/>
                <a:ext cx="9885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03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2080" y="2690280"/>
                <a:ext cx="9885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2360" y="2730600"/>
                <a:ext cx="10015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4CAA-667E-4071-9CCC-A9F94C22809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0" name="PlaceHolder 2"/>
          <p:cNvSpPr>
            <a:spLocks noGrp="1"/>
          </p:cNvSpPr>
          <p:nvPr>
            <p:ph/>
          </p:nvPr>
        </p:nvSpPr>
        <p:spPr>
          <a:xfrm>
            <a:off x="117288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1.96(0.15)</a:t>
            </a: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2.58(0.15)</a:t>
            </a: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590920" y="1716120"/>
                <a:ext cx="3124080" cy="950760"/>
              </a:xfrm>
              <a:prstGeom prst="rect">
                <a:avLst/>
              </a:prstGeom>
            </p:spPr>
            <p:txBody>
              <a:bodyPr/>
              <a:p>
                <a14:m>
                  <m:oMath xmlns:m="http://schemas.openxmlformats.org/officeDocument/2006/math">
                    <m:f>
                      <m:num>
                        <m:r>
                          <m:t xml:space="preserve">s</m:t>
                        </m:r>
                      </m:num>
                      <m:den>
                        <m:rad>
                          <m:radPr>
                            <m:degHide m:val="1"/>
                          </m:radPr>
                          <m:deg/>
                          <m:e>
                            <m:r>
                              <m:t xml:space="preserve">n</m:t>
                            </m:r>
                          </m:e>
                        </m:rad>
                      </m:den>
                    </m:f>
                    <m:r>
                      <m:t xml:space="preserve">=</m:t>
                    </m:r>
                    <m:f>
                      <m:num>
                        <m:r>
                          <m:t xml:space="preserve">3</m:t>
                        </m:r>
                        <m:r>
                          <m:rPr>
                            <m:lit/>
                            <m:nor/>
                          </m:rPr>
                          <m:t xml:space="preserve">.</m:t>
                        </m:r>
                        <m:r>
                          <m:t xml:space="preserve">6</m:t>
                        </m:r>
                      </m:num>
                      <m:den>
                        <m:rad>
                          <m:radPr>
                            <m:degHide m:val="1"/>
                          </m:radPr>
                          <m:deg/>
                          <m:e>
                            <m:r>
                              <m:rPr>
                                <m:lit/>
                                <m:nor/>
                              </m:rPr>
                              <m:t xml:space="preserve">576</m:t>
                            </m:r>
                          </m:e>
                        </m:rad>
                      </m:den>
                    </m:f>
                    <m:r>
                      <m:t xml:space="preserve">=</m:t>
                    </m:r>
                    <m:r>
                      <m:t xml:space="preserve">0</m:t>
                    </m:r>
                    <m:r>
                      <m:rPr>
                        <m:lit/>
                        <m:nor/>
                      </m:rPr>
                      <m:t xml:space="preserve">.</m:t>
                    </m:r>
                    <m:r>
                      <m:rPr>
                        <m:lit/>
                        <m:nor/>
                      </m:rPr>
                      <m:t xml:space="preserve">15</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320/500=0.6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4         1.96(0.02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to 68%</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209680" y="4038480"/>
                <a:ext cx="762120" cy="53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6" name="Object 6"/>
              <p:cNvSpPr txBox="1"/>
              <p:nvPr/>
            </p:nvSpPr>
            <p:spPr>
              <a:xfrm>
                <a:off x="2438280" y="2895480"/>
                <a:ext cx="236232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r>
                      <m:t xml:space="preserve">=</m:t>
                    </m:r>
                    <m:r>
                      <m:t xml:space="preserve">0</m:t>
                    </m:r>
                    <m:r>
                      <m:rPr>
                        <m:lit/>
                        <m:nor/>
                      </m:rPr>
                      <m:t xml:space="preserve">.</m:t>
                    </m:r>
                    <m:r>
                      <m:rPr>
                        <m:lit/>
                        <m:nor/>
                      </m:rPr>
                      <m:t xml:space="preserve">0215</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1.96;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25; d=2</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ea typeface="Arial"/>
              </a:rPr>
              <a:t>b) As in (a), with z=2.58</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1981080" y="2743200"/>
                <a:ext cx="2895840" cy="1066680"/>
              </a:xfrm>
              <a:prstGeom prst="rect">
                <a:avLst/>
              </a:prstGeom>
            </p:spPr>
            <p:txBody>
              <a:bodyPr/>
              <a:p>
                <a14:m>
                  <m:oMath xmlns:m="http://schemas.openxmlformats.org/officeDocument/2006/math">
                    <m:f>
                      <m:num>
                        <m:sSup>
                          <m:e>
                            <m:r>
                              <m:t xml:space="preserve">z</m:t>
                            </m:r>
                          </m:e>
                          <m:sup>
                            <m:r>
                              <m:t xml:space="preserve">2</m:t>
                            </m:r>
                          </m:sup>
                        </m:sSup>
                        <m:sSup>
                          <m:e>
                            <m:r>
                              <m:t xml:space="preserve">σ</m:t>
                            </m:r>
                          </m:e>
                          <m:sup>
                            <m:r>
                              <m:t xml:space="preserve">2</m:t>
                            </m:r>
                          </m:sup>
                        </m:sSup>
                      </m:num>
                      <m:den>
                        <m:sSup>
                          <m:e>
                            <m:r>
                              <m:t xml:space="preserve">d</m:t>
                            </m:r>
                          </m:e>
                          <m:sup>
                            <m:r>
                              <m:t xml:space="preserve">2</m:t>
                            </m:r>
                          </m:sup>
                        </m:sSup>
                      </m:den>
                    </m:f>
                    <m:r>
                      <m:t xml:space="preserve">=</m:t>
                    </m:r>
                    <m:r>
                      <m:rPr>
                        <m:lit/>
                        <m:nor/>
                      </m:rPr>
                      <m:t xml:space="preserve">60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0.02; q=0.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0.5%=0.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endParaRPr b="0" lang="en-US" sz="2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209680" y="3276720"/>
                <a:ext cx="3276720" cy="99036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58</m:t>
                        </m:r>
                        <m:sSup>
                          <m:e>
                            <m:r>
                              <m:t xml:space="preserve">)</m:t>
                            </m:r>
                          </m:e>
                          <m:sup>
                            <m:r>
                              <m:t xml:space="preserve">2</m:t>
                            </m:r>
                          </m:sup>
                        </m:sSup>
                        <m:r>
                          <m:rPr>
                            <m:lit/>
                            <m:nor/>
                          </m:rPr>
                          <m:t xml:space="preserve">pq</m:t>
                        </m:r>
                      </m:num>
                      <m:den>
                        <m:sSup>
                          <m:e>
                            <m:r>
                              <m:t xml:space="preserve">d</m:t>
                            </m:r>
                          </m:e>
                          <m:sup>
                            <m:r>
                              <m:t xml:space="preserve">2</m:t>
                            </m:r>
                          </m:sup>
                        </m:sSup>
                      </m:den>
                    </m:f>
                    <m:r>
                      <m:t xml:space="preserve">=</m:t>
                    </m:r>
                    <m:r>
                      <m:rPr>
                        <m:lit/>
                        <m:nor/>
                      </m:rPr>
                      <m:t xml:space="preserve">5219</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49:18Z</dcterms:modified>
  <cp:revision>42</cp:revision>
  <dc:subject/>
  <dc:title>No Slide Title</dc:title>
</cp:coreProperties>
</file>