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116-2FD6-49A9-A6CB-BFCA9C40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557-12C6-4A6E-913E-BF08D75C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846-338B-4963-8E78-62C4DDEE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A77-C22A-45EE-9535-471D193B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A6D9-2D3D-44B2-AE50-95F0EC6F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5388-B0A4-42BB-90DD-AA12F1CE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36E7-92CB-4A10-BD0B-AF1264D5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2A5-6DCC-4B9F-90E5-C75EC76C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CBB8-442C-4D65-B286-3DC76E4F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5CD8-F85F-47AA-B5AD-61E4C09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F29-AD25-475F-9C64-ACB1EF3E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E21-B40E-4472-A4AD-E5D9336F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16F9-BAED-44B5-A579-9819045E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545C-C2A5-405C-8B8C-DC1DCDD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74E-691F-4E90-B37A-2A506D7E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DA6-3C54-4709-970F-DD98BDE3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101F-7EBC-42FA-8C17-529FB91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611-65FF-40DE-81DA-670AC57A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E94-9C44-4E96-B759-DF6C8E81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2C0-D2AE-4E16-955E-E1F676DD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DF1-1698-448B-A7A7-6B1A7D3D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3D5-67DF-4E5B-9359-E1F79C03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CDC-B17D-4CB9-B7ED-657FAAB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55D-22A7-4BAA-873E-674A81B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C563-DD3C-43D6-BD25-AF6B3C5F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6B39-72C9-4E83-874A-263BA9E8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54080" y="90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3208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5576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174560" y="2286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lbertus Extra Bold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88680" y="762120"/>
            <a:ext cx="705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supervisor of a production line that assemble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computer keyboards has been experiencing problems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nce a new process was instituted. He notes that ther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has been an increase in defective units and occasional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acklogs when one station’s productivity is not matche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y the other stations’. Upon reviewing the process,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discovered that the management scientist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who developed the production process assumed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mount of time to complete a critical part of the proces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normally distributed with a mean of 130 seconds an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 standard deviation of 15 seconds.  He is satisfied tha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process time is normally distributed with a standar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deviation of 15 seconds, but he is unsure abou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n time.  In order to examine the problem, 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sures the times for 100 assemblies.  The mean of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se times was calculated to be 126.8.  Can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conclude at the 5% significance level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ssumption that the mean assembly time is 130 second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correct?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47920" y="685800"/>
            <a:ext cx="7162560" cy="59436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584360" y="88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981080" y="11606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5"/>
          <p:cNvSpPr/>
          <p:nvPr/>
        </p:nvSpPr>
        <p:spPr>
          <a:xfrm>
            <a:off x="1884600" y="330120"/>
            <a:ext cx="3112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lbertus Extra Bold"/>
              </a:rPr>
              <a:t>Outline of </a:t>
            </a:r>
            <a:r>
              <a:rPr b="0" lang="en-US" sz="2400" spc="-1" strike="noStrike">
                <a:solidFill>
                  <a:srgbClr val="ff9966"/>
                </a:solidFill>
                <a:latin typeface="Albertus Extra Bold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81080" y="18464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7"/>
          <p:cNvSpPr/>
          <p:nvPr/>
        </p:nvSpPr>
        <p:spPr>
          <a:xfrm>
            <a:off x="1978920" y="2590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 :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4572000" y="2409840"/>
                <a:ext cx="14479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9"/>
          <p:cNvSpPr/>
          <p:nvPr/>
        </p:nvSpPr>
        <p:spPr>
          <a:xfrm>
            <a:off x="1952280" y="3809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181480" y="383544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σ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1"/>
          <p:cNvSpPr/>
          <p:nvPr/>
        </p:nvSpPr>
        <p:spPr>
          <a:xfrm>
            <a:off x="2015640" y="48769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267080" y="5486400"/>
                <a:ext cx="4419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8125920" y="65530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455120" y="1036800"/>
            <a:ext cx="729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 Since                        ,which is greater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 1.96, reject the null hypothesis and conclud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t there is enough evidence to infer that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 time is not equal to 130 seconds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4267080" y="1066680"/>
                <a:ext cx="1905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Nadia MS</cp:lastModifiedBy>
  <dcterms:modified xsi:type="dcterms:W3CDTF">2017-04-19T21:50:55Z</dcterms:modified>
  <cp:revision>42</cp:revision>
  <dc:subject/>
  <dc:title>No Slide Title</dc:title>
</cp:coreProperties>
</file>