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B8F-8C85-4F31-8542-D8D7ED2D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CC3-6A09-4EF2-8E8D-639A5CC7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1B8-CC53-43F9-896B-FBF349CF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B07-B841-4B7C-826C-D24DDD6E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2337-4DAF-477E-A845-4F94CD99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FC3D-DA98-43D5-93BD-252727F6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ED5D-7182-411A-8061-95D05DB7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0287-8850-49DF-99B4-A9EF3D2B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0867-1FE2-4718-989F-238CF379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801D-75E1-46C6-94AA-73405F60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A611-E0CB-4F1A-9D8E-B094EFEF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9D6-0382-4845-B4A0-25CE0F2E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94AC-6839-426C-B0B0-BFBDD686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177-8B82-4B37-BB0B-616476C6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7342-5712-49D1-8422-FE9C4D6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2D7C-3388-4D66-98CD-03920CF1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EC38-E666-4830-A550-3DD2CB50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4B6-98EB-4291-B85E-E80656EF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287-F6E2-4907-A207-C3A25633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4FA-EF51-42B2-92B8-2078A096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51E-B9BF-4B57-B1DF-A968C00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596-1F70-41B8-BCFC-8D5DEE8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CB6-0446-4A2A-8A89-C3AF2F21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8A5-A810-496E-97C3-359057A8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480" y="-4680"/>
                <a:ext cx="988920" cy="68353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040" y="169488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1840" y="1285920"/>
                <a:ext cx="988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1840" y="149400"/>
                <a:ext cx="9889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040" y="98712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1840" y="681120"/>
                <a:ext cx="98892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2200" y="372600"/>
                <a:ext cx="10015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8040"/>
                <a:ext cx="98892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484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120" y="2395800"/>
                <a:ext cx="98892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136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760" y="2929320"/>
                <a:ext cx="988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980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89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89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3240" y="6184800"/>
                <a:ext cx="34596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201000"/>
                <a:ext cx="9889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FE9-43E2-447E-A375-B0C9E6A02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81D3-2EA1-4792-8F87-22EDF0CD5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54080" y="90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32080" y="9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355760" y="9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174560" y="2286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lbertus Extra Bold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588680" y="762120"/>
            <a:ext cx="705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 supervisor of a production line that assemble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computer keyboards has been experiencing problems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nce a new process was instituted. He notes that ther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has been an increase in defective units and occasional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backlogs when one station’s productivity is not matche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by the other stations’. Upon reviewing the process,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upervisor discovered that the management scientist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who developed the production process assumed tha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mount of time to complete a critical part of the proces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is normally distributed with a mean of 130 seconds an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 standard deviation of 15 seconds.  He is satisfied tha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 process time is normally distributed with a standar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deviation of 15 seconds, but he is unsure abou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ean time.  In order to examine the problem, 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easures the times for 100 assemblies.  The mean of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se times was calculated to be 126.8.  Can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upervisor conclude at the 5% significance level tha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ssumption that the mean assembly time is 130 second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is correct?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447920" y="685800"/>
            <a:ext cx="7162560" cy="59436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584360" y="884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981080" y="1160640"/>
                <a:ext cx="190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5"/>
          <p:cNvSpPr/>
          <p:nvPr/>
        </p:nvSpPr>
        <p:spPr>
          <a:xfrm>
            <a:off x="1884600" y="330120"/>
            <a:ext cx="31129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lbertus Extra Bold"/>
              </a:rPr>
              <a:t>Outline of </a:t>
            </a:r>
            <a:r>
              <a:rPr b="0" lang="en-US" sz="2400" spc="-1" strike="noStrike">
                <a:solidFill>
                  <a:srgbClr val="ff9966"/>
                </a:solidFill>
                <a:latin typeface="Albertus Extra Bold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981080" y="1846440"/>
                <a:ext cx="190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7"/>
          <p:cNvSpPr/>
          <p:nvPr/>
        </p:nvSpPr>
        <p:spPr>
          <a:xfrm>
            <a:off x="1978920" y="2590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 :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4572000" y="2409840"/>
                <a:ext cx="14479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Text Box 9"/>
          <p:cNvSpPr/>
          <p:nvPr/>
        </p:nvSpPr>
        <p:spPr>
          <a:xfrm>
            <a:off x="1952280" y="38098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 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5181480" y="3835440"/>
                <a:ext cx="2971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σ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11"/>
          <p:cNvSpPr/>
          <p:nvPr/>
        </p:nvSpPr>
        <p:spPr>
          <a:xfrm>
            <a:off x="2015640" y="487692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 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4267080" y="5486400"/>
                <a:ext cx="4419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3"/>
          <p:cNvSpPr/>
          <p:nvPr/>
        </p:nvSpPr>
        <p:spPr>
          <a:xfrm>
            <a:off x="8125920" y="65530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lbertus Extra Bold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1455120" y="1036800"/>
            <a:ext cx="729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 Since                        ,which is greater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n 1.96, reject the null hypothesis and conclud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t there is enough evidence to infer that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 time is not equal to 130 seconds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4267080" y="1066680"/>
                <a:ext cx="1905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Nadia MS</cp:lastModifiedBy>
  <dcterms:modified xsi:type="dcterms:W3CDTF">2017-04-19T21:50:55Z</dcterms:modified>
  <cp:revision>42</cp:revision>
  <dc:subject/>
  <dc:title>No Slide Title</dc:title>
</cp:coreProperties>
</file>