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888-0165-4BE4-8B7A-599EED40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BB6C-9DD9-4B66-B457-E58C98D2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7D5-C497-43BB-B350-5B4AD3A3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B68-41E7-47EA-BA61-9BE77677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7219-9075-4AE2-BC59-A5393DA3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9817-57CB-4A01-9493-FFBF1AA2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C7EF-BA59-421D-B4F8-354050D5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A885-F8E5-4045-9B44-DCA3206F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272B-73B6-4008-BC17-42A05226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1C8F-080E-42FC-BB88-86109C2A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4E91-5F3C-4675-89B0-A4128068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454-2482-475F-9A6B-69E8CCB5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1F0A-699D-4D15-8F3F-EE5EE174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83A5-9D50-4790-B700-4EF8ADC8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2D05-F308-484D-B940-CF304F31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3CD5-BC78-4080-9DC4-1E43EDBA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3DF6-EF11-4C30-8CD0-8CDAE1B7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56A-CAE2-436C-8D60-620B6356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79F7-06CB-412E-81CF-1149581E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6E6C-1208-4D20-9C0F-2013E6E3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053D-632E-447D-94A3-619EC0F6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E0A-C5CB-4351-944D-83158351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B17-824A-4136-880E-3D5EC344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261-6850-40F7-AA6A-61946E55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E0A4-66EB-475B-BA89-42A82A136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lbertus Extra Bold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lbertus Extra Bold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F9E9-EDC7-4C8D-8E51-36947B10A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054080" y="90360"/>
            <a:ext cx="2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Albertus Extra Bol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432080" y="96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355760" y="96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174560" y="2286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lbertus Extra Bold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588680" y="762120"/>
            <a:ext cx="7058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The supervisor of a production line that assembles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computer keyboards has been experiencing problems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ince a new process was instituted. He notes that there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has been an increase in defective units and occasional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backlogs when one station’s productivity is not matched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by the other stations’. Upon reviewing the process, t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upervisor discovered that the management scientists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who developed the production process assumed that t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amount of time to complete a critical part of the process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is normally distributed with a mean of 130 seconds and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a standard deviation of 15 seconds.  He is satisfied that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the process time is normally distributed with a standard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deviation of 15 seconds, but he is unsure about t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mean time.  In order to examine the problem, 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measures the times for 100 assemblies.  The mean of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these times was calculated to be 126.8.  Can t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supervisor conclude at the 5% significance level that the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assumption that the mean assembly time is 130 seconds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Extra Bold"/>
              </a:rPr>
              <a:t>is correct? </a:t>
            </a:r>
            <a:endParaRPr b="0" lang="en-US" sz="2000" spc="-1" strike="noStrike">
              <a:solidFill>
                <a:srgbClr val="000000"/>
              </a:solidFill>
              <a:latin typeface="Albertus Extra Bol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447920" y="685800"/>
            <a:ext cx="7162560" cy="59436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584360" y="884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1981080" y="1160640"/>
                <a:ext cx="1905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 Box 5"/>
          <p:cNvSpPr/>
          <p:nvPr/>
        </p:nvSpPr>
        <p:spPr>
          <a:xfrm>
            <a:off x="1884600" y="330120"/>
            <a:ext cx="311292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Albertus Extra Bold"/>
              </a:rPr>
              <a:t>Outline of </a:t>
            </a:r>
            <a:r>
              <a:rPr b="0" lang="en-US" sz="2400" spc="-1" strike="noStrike">
                <a:solidFill>
                  <a:srgbClr val="ff9966"/>
                </a:solidFill>
                <a:latin typeface="Albertus Extra Bold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1981080" y="1846440"/>
                <a:ext cx="1905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μ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 Box 7"/>
          <p:cNvSpPr/>
          <p:nvPr/>
        </p:nvSpPr>
        <p:spPr>
          <a:xfrm>
            <a:off x="1978920" y="25909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est statistic :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8"/>
              <p:cNvSpPr txBox="1"/>
              <p:nvPr/>
            </p:nvSpPr>
            <p:spPr>
              <a:xfrm>
                <a:off x="4572000" y="2409840"/>
                <a:ext cx="14479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Text Box 9"/>
          <p:cNvSpPr/>
          <p:nvPr/>
        </p:nvSpPr>
        <p:spPr>
          <a:xfrm>
            <a:off x="1952280" y="3809880"/>
            <a:ext cx="26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Rejection region 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0"/>
              <p:cNvSpPr txBox="1"/>
              <p:nvPr/>
            </p:nvSpPr>
            <p:spPr>
              <a:xfrm>
                <a:off x="5181480" y="3835440"/>
                <a:ext cx="29718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&gt;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σ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Text Box 11"/>
          <p:cNvSpPr/>
          <p:nvPr/>
        </p:nvSpPr>
        <p:spPr>
          <a:xfrm>
            <a:off x="2015640" y="4876920"/>
            <a:ext cx="38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Value of the test statistic :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4267080" y="5486400"/>
                <a:ext cx="4419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13"/>
          <p:cNvSpPr/>
          <p:nvPr/>
        </p:nvSpPr>
        <p:spPr>
          <a:xfrm>
            <a:off x="8125920" y="655308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Albertus Extra Bold"/>
              </a:rPr>
              <a:t>continued</a:t>
            </a:r>
            <a:endParaRPr b="0" lang="en-US" sz="1400" spc="-1" strike="noStrike">
              <a:solidFill>
                <a:srgbClr val="000000"/>
              </a:solidFill>
              <a:latin typeface="Albertus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1455120" y="1036800"/>
            <a:ext cx="729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Conclusion: Since                        ,which is greater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an 1.96, reject the null hypothesis and conclud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that there is enough evidence to infer that the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bertus Extra Bold"/>
              </a:rPr>
              <a:t>mean time is not equal to 130 seconds. </a:t>
            </a:r>
            <a:endParaRPr b="0" lang="en-US" sz="2400" spc="-1" strike="noStrike">
              <a:solidFill>
                <a:srgbClr val="000000"/>
              </a:solidFill>
              <a:latin typeface="Albertus Extra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4267080" y="1066680"/>
                <a:ext cx="19051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3T08:09:03Z</dcterms:created>
  <dc:creator>none</dc:creator>
  <dc:description/>
  <dc:language>en-US</dc:language>
  <cp:lastModifiedBy>Sasidhar</cp:lastModifiedBy>
  <dcterms:modified xsi:type="dcterms:W3CDTF">2010-09-07T13:42:59Z</dcterms:modified>
  <cp:revision>42</cp:revision>
  <dc:subject/>
  <dc:title>No Slide Title</dc:title>
</cp:coreProperties>
</file>