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19B-1DB4-4C34-9CB9-BB72CDE9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752-536D-43E4-83BB-E40792B6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E93-119B-4777-8530-73BC56DF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D40-AD4D-4907-A3EC-194A7026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62F1-F133-468D-B05B-3C2C75AD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1335-FDD5-4186-A3FD-58866977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73BB-FD36-47BC-A8C9-BF1BAFD6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03E6-4490-44D2-AE43-73DDED6A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76B3-A854-42A9-8A5F-0E0A4EBE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6C5E-EEB4-4B59-89E3-4E93FE9F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870C-CE2E-42F6-830F-C9721775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98D-7D59-433F-936C-D6B87DEE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91B6-CA55-4619-8EDC-C905C3EB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6F12-7C63-4AEF-A494-C71F0518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113F-FDEA-435E-8A3D-9E6E97A3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D089-9CF8-45DE-9B43-5D119614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54A8-4707-4E5A-872E-04B26D86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6CE-3E17-4772-B3B0-FE71DAB9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6EB-0BFA-4C63-AD93-14FFE9EF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5D8-CA5E-4C2E-8252-BDFB01E2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CC3-2E4B-4842-AC8A-CB0319D8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E84-644D-4AD7-98DB-88532E01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69E-20E9-4171-B0F5-E997D884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566-3145-483F-9D39-2ECD1E72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5D4B-54A6-48D6-ACB6-3B52B01FD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31B8-772E-4FDE-8F3F-9FA478E1B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054080" y="90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432080" y="96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355760" y="96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174560" y="2286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lbertus Extra Bold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588680" y="762120"/>
            <a:ext cx="7058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The supervisor of a production line that assembles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computer keyboards has been experiencing problems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ince a new process was instituted. He notes that ther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has been an increase in defective units and occasional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backlogs when one station’s productivity is not matched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by the other stations’. Upon reviewing the process,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upervisor discovered that the management scientists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who developed the production process assumed that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amount of time to complete a critical part of the process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is normally distributed with a mean of 130 seconds and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a standard deviation of 15 seconds.  He is satisfied tha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the process time is normally distributed with a standard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deviation of 15 seconds, but he is unsure about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mean time.  In order to examine the problem, 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measures the times for 100 assemblies.  The mean of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these times was calculated to be 126.8.  Can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upervisor conclude at the 5% significance level that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assumption that the mean assembly time is 130 seconds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is correct?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447920" y="685800"/>
            <a:ext cx="7162560" cy="59436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584360" y="884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1981080" y="1160640"/>
                <a:ext cx="1905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 Box 5"/>
          <p:cNvSpPr/>
          <p:nvPr/>
        </p:nvSpPr>
        <p:spPr>
          <a:xfrm>
            <a:off x="1884600" y="330120"/>
            <a:ext cx="31129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lbertus Extra Bold"/>
              </a:rPr>
              <a:t>Outline of </a:t>
            </a:r>
            <a:r>
              <a:rPr b="0" lang="en-US" sz="2400" spc="-1" strike="noStrike">
                <a:solidFill>
                  <a:srgbClr val="ff9966"/>
                </a:solidFill>
                <a:latin typeface="Albertus Extra Bold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981080" y="1846440"/>
                <a:ext cx="1905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7"/>
          <p:cNvSpPr/>
          <p:nvPr/>
        </p:nvSpPr>
        <p:spPr>
          <a:xfrm>
            <a:off x="1978920" y="25909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 :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4572000" y="2409840"/>
                <a:ext cx="14479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Text Box 9"/>
          <p:cNvSpPr/>
          <p:nvPr/>
        </p:nvSpPr>
        <p:spPr>
          <a:xfrm>
            <a:off x="1952280" y="38098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Rejection region 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5181480" y="3835440"/>
                <a:ext cx="2971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&gt;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σ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 Box 11"/>
          <p:cNvSpPr/>
          <p:nvPr/>
        </p:nvSpPr>
        <p:spPr>
          <a:xfrm>
            <a:off x="2015640" y="487692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Value of the test statistic 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4267080" y="5486400"/>
                <a:ext cx="4419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13"/>
          <p:cNvSpPr/>
          <p:nvPr/>
        </p:nvSpPr>
        <p:spPr>
          <a:xfrm>
            <a:off x="8125920" y="65530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Albertus Extra Bold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1455120" y="1036800"/>
            <a:ext cx="729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onclusion: Since                        ,which is greater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an 1.96, reject the null hypothesis and conclud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at there is enough evidence to infer that th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mean time is not equal to 130 seconds.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4267080" y="1066680"/>
                <a:ext cx="19051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3T08:09:03Z</dcterms:created>
  <dc:creator>none</dc:creator>
  <dc:description/>
  <dc:language>en-US</dc:language>
  <cp:lastModifiedBy>Sasidhar</cp:lastModifiedBy>
  <dcterms:modified xsi:type="dcterms:W3CDTF">2010-09-07T13:42:59Z</dcterms:modified>
  <cp:revision>42</cp:revision>
  <dc:subject/>
  <dc:title>No Slide Title</dc:title>
</cp:coreProperties>
</file>