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E3E-C751-484A-B65F-A829EAD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DE2-9B10-4D3B-8275-194A1FA4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3F4-E2B4-46EC-9174-16D0181E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71A-EC17-43A1-ACFE-B4F5EF92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B2F-1063-48C7-9C6F-A770D6D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37B-6019-4EAE-A5B8-4AA4B0F7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A6C-173F-4C67-8842-8FB3C804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5B4-59C8-41CD-976D-139426F6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CCF-4E22-438F-845D-1372B2C9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733-B051-4490-B80F-7C9098A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1BA-BC1D-41DC-8ED9-BD08A1E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56B-1058-4630-971A-3DEFF9A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0CE-C5A6-4333-98CF-622A928E5E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Reaction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898989"/>
                </a:solidFill>
                <a:latin typeface="Calibri"/>
                <a:cs typeface="Arial"/>
              </a:rPr>
              <a:t>زمن الرج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صائص المفحوص : في مراحل العمر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٤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١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سنوات و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٤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٦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سنه. تبين ان الذكور أسرع من الإنا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ذين يتمتعون بدرجة عالية من الانتباه أسرع من الذين يتسمون بالسرحان وتشتيت الانتبا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ذين يتناولون منشطات أسرع في الاستجابة من الذين يتناولون المن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ذوي البنية النحيلة أسرع من الأفراد ذوي السم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ضطراب الغدد والمعادن في الدم وارتفاع درجة حرارة الجسم وعدم الافطار يطيل زمن الرج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64304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المقارنة بين زمن الرجع الاختياري و البسيط نجد ان زمن الرجع الاختياري اصعب و بالتالي اطول من زمن الرجع البسيط، لانه يتضمن عملية اكتشاف اكثرمن منبه و عملية تعرف و عملية ادراك و اتخاذ قرار، في حين ان زمن الرجع البسيط لا يتضمن سوى عملية اكتشاف منبه واحد و الاستجابة ل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هم الأجهزة المستخدمة في زمن الرج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ول جهاز: كرونوجرا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bc.co.uk/science/humanbody/sleep/sheep/reaction_version5.s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faculty.washington.edu/chudler/java/redgre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ogtest.com/tests/cognitive_int/srtflash1.html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م هلمهولت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mhol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بقياس سرعة التوصيل العصبي  في عَصب حركي للضفدع حيث كان ينظر العلماء في ذلك الزمن الى استحاله قياس هذا الزمن لسرعته الفائ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ذلك بتنبيه العصب القريب من العضلة ثم بعيد عنها. اي انه قاس الزمن المنقضي بين التنبيه وبداية انقباض العض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اعد قياس زمن الرجع لقياس الوظائف الحسية والحركية والقدرات العق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الفترة الزمنية التي تمر بين بدء ظهور المنبه و بدء الاستجا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طول او قصر زمن الرجع يتوقف على عدد كبير من العوامل منها: شدة المنبه، الالفة، درجة حساسية العضو المستقبل، عمر الشخص، جنسه ......الخ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اية الإهتمام بدراسات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رجع الاهتمام بدراسات زمن الرجع الى ما قب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8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 بلورة هذا الجانب من العلم في ضوء ثلاث تخصص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علم الفل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الفسيولوجي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علم النفس التجري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واع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الحواس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قبلة (زمن الرجع البصري، السمعي، اللمسي، الشمي و الذوقي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طبيعة المهم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ي سيؤديها الفرد بسرعة فائقة، منها (زمن الرجع الحسي، الحركي، العضلي، اللفظي، العقلي) (الادراك، الفهم، التفكير التذكر ...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بساطة او تعقيد الموق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جريبي و ما يشمل من منبها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بسيط: ان يستجيب الشخص بأسرع مايمكن عند رؤيتك لمنبه معين مثلا ضوء احمر(منبه واحد واستجابته واحد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تضمن قياس زمن الرجع البسيط: زمن اكتشاف المنبه وزمن الاستجابة الحرك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تميزي: ان يستجيب الفرد للضوء الأخضر دون الأحم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معقد او الاختياري : ان يستجيب الفرد للضوء الأخضر باليد اليمنى والضوء الأحمر باليد اليس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ضمن قياس زمن الرجع الاختياري زمن اكتشاف المنبه وزمن الاستجابة الحركية وزمن التعرف او الإدراك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بلغ متوسط زمن الرجع للمنبهات الصوت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٤٢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جزء من الثانية  والمنبهات الحسية اللمس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٥٥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الثانية. وللمنبهات البصر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٩٤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جزء من الثانية ( ايهم الأسر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وامل المؤثرة في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صائص الاستجابة: بالنسبة لاستجابة أعضاء الجسم تكون الاستجابة أسرع بالنسبة للجهه المفضله. اليد المفضلة أسرع من الغير مفض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يد اليمنى أسرع من القدم اليمنى وكذلك بالنسبة لليد اليس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زداد اخطاء اليد والقدم اليسرى مقارنة باليمن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8:47:26Z</dcterms:created>
  <dc:creator>Ru</dc:creator>
  <dc:description/>
  <dc:language>en-US</dc:language>
  <cp:lastModifiedBy>ksu</cp:lastModifiedBy>
  <dcterms:modified xsi:type="dcterms:W3CDTF">2015-12-06T08:54:47Z</dcterms:modified>
  <cp:revision>68</cp:revision>
  <dc:subject/>
  <dc:title>Reaction time</dc:title>
</cp:coreProperties>
</file>