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16E-DDD2-42D9-9D28-809B8E9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26F-35D0-49BE-B547-334FBA57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6CF-1748-4E1C-8C04-A9C5C719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924-DA63-4C1E-A3AD-0729CAE8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3EB-C58F-4F97-92BF-7744FC1C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34E-1447-4BB9-82C4-B0023647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742-BAEB-4FB1-AE96-E7C388D0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72F-EE43-48EF-898A-9C084F4D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306-B32B-4AAB-A934-2CC0B96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842-EF76-46A1-AB61-82A666E2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F1F-5ECA-4379-9B5A-39599A4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E99-D8E5-4BF0-BB6E-E162C08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8B7-8D37-4F44-90E3-B40FC28F77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Reaction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898989"/>
                </a:solidFill>
                <a:latin typeface="Calibri"/>
                <a:cs typeface="Arial"/>
              </a:rPr>
              <a:t>زمن الرج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صائص المفحوص : في مراحل العمر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٤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١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سنوات و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٤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٦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سنه. تبين ان الذكور أسرع من الإنا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ذين يتمتعون بدرجة عالية من الانتباه أسرع من الذين يتسمون بالسرحان وتشتيت الانتبا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ذين يتناولون منشطات أسرع في الاستجابة من الذين يتناولون المن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ذوي البنية النحيلة أسرع من الأفراد ذوي السم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ضطراب الغدد والمعادن في الدم وارتفاع درجة حرارة الجسم وعدم الافطار يطيل زمن الرج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64304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المقارنة بين زمن الرجع الاختياري و البسيط نجد ان زمن الرجع الاختياري اصعب و بالتالي اطول من زمن الرجع البسيط، لانه يتضمن عملية اكتشاف اكثرمن منبه و عملية تعرف و عملية ادراك و اتخاذ قرار، في حين ان زمن الرجع البسيط لا يتضمن سوى عملية اكتشاف منبه واحد و الاستجابة ل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هم الأجهزة المستخدمة في زمن الرج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ول جهاز: كرونوجرا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bc.co.uk/science/humanbody/sleep/sheep/reaction_version5.s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faculty.washington.edu/chudler/java/redgre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ogtest.com/tests/cognitive_int/srtflash1.html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م هلمهولت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mhol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بقياس سرعة التوصيل العصبي  في عَصب حركي للضفدع حيث كان ينظر العلماء في ذلك الزمن الى استحاله قياس هذا الزمن لسرعته الفائ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ذلك بتنبيه العصب القريب من العضلة ثم بعيد عنها. اي انه قاس الزمن المنقضي بين التنبيه وبداية انقباض العض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اعد قياس زمن الرجع لقياس الوظائف الحسية والحركية والقدرات العق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الفترة الزمنية التي تمر بين بدء ظهور المنبه و بدء الاستجا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طول او قصر زمن الرجع يتوقف على عدد كبير من العوامل منها: شدة المنبه، الالفة، درجة حساسية العضو المستقبل، عمر الشخص، جنسه ......الخ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اية الإهتمام بدراسات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رجع الاهتمام بدراسات زمن الرجع الى ما قب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8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 بلورة هذا الجانب من العلم في ضوء ثلاث تخصص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علم الفل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الفسيولوجي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علم النفس التجري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واع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الحواس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قبلة (زمن الرجع البصري، السمعي، اللمسي، الشمي و الذوقي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طبيعة المهم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ي سيؤديها الفرد بسرعة فائقة، منها (زمن الرجع الحسي، الحركي، العضلي، اللفظي، العقلي) (الادراك، الفهم، التفكير التذكر ...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تصنيف حسب بساطة او تعقيد الموق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جريبي و ما يشمل من منبها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بسيط: ان يستجيب الشخص بأسرع مايمكن عند رؤيتك لمنبه معين مثلا ضوء احمر(منبه واحد واستجابته واحد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تضمن قياس زمن الرجع البسيط: زمن اكتشاف المنبه وزمن الاستجابة الحرك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تميزي: ان يستجيب الفرد للضوء الأخضر دون الأحم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من الرجع المعقد او الاختياري : ان يستجيب الفرد للضوء الأخضر باليد اليمنى والضوء الأحمر باليد اليس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ضمن قياس زمن الرجع الاختياري زمن اكتشاف المنبه وزمن الاستجابة الحركية وزمن التعرف او الإدراك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بلغ متوسط زمن الرجع للمنبهات الصوت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٤٢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جزء من الثانية  والمنبهات الحسية اللمس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٥٥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الثانية. وللمنبهات البصر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٠.١٩٤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جزء من الثانية ( ايهم الأسر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وامل المؤثرة في زمن ال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صائص الاستجابة: بالنسبة لاستجابة أعضاء الجسم تكون الاستجابة أسرع بالنسبة للجهه المفضله. اليد المفضلة أسرع من الغير مفض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يد اليمنى أسرع من القدم اليمنى وكذلك بالنسبة لليد اليس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زداد اخطاء اليد والقدم اليسرى مقارنة باليمن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8:47:26Z</dcterms:created>
  <dc:creator>Ru</dc:creator>
  <dc:description/>
  <dc:language>en-US</dc:language>
  <cp:lastModifiedBy>ksu</cp:lastModifiedBy>
  <dcterms:modified xsi:type="dcterms:W3CDTF">2015-12-06T08:54:47Z</dcterms:modified>
  <cp:revision>68</cp:revision>
  <dc:subject/>
  <dc:title>Reaction time</dc:title>
</cp:coreProperties>
</file>