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3FA-ED72-4ED7-8A48-AE8FC18F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F85-147C-4AE6-8C58-DF8BA7A5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DAC-FCC7-4BC9-AEF6-5D381BC7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DDF-9ADF-4FE2-A67A-1F15151D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EA1D-7B70-49EA-BFCB-EC4B605F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BAF9-BA61-4BDC-98CA-C68F4DD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2926-16DA-493C-A3F9-E936510B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7248-AC37-4C5F-BA5A-62A321B3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C42-F5E2-4432-88C4-D3671C97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A58F-2CA0-4FAA-99D2-82A523F2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F82C-6E17-44B4-98C3-82A873DA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56A-C855-425B-9627-4E341326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DC0B-A356-4306-BD73-FBA3722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DB61-8652-4B9D-8F61-2C16C722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B0B6-D0DE-4711-AC60-F89DC4F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B063-0002-408C-821D-8FBB37DC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1A68-0760-4160-8230-03599039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BA02-6193-4DBD-9F25-93ACD49E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F0E1-9BAB-48DF-956C-BEB2EC38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28EE7-26A9-4FD0-B5C7-30BD6F3E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4D17-5E24-4AAD-A736-B11AE833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E0FC-DCB8-4D50-985F-7FA50FCA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538-C8F5-4914-9C10-5CBF0760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F045-3359-42C1-BB1C-27DF305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5C9B-584A-479C-B947-B176EE53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D85C-6A12-4736-A184-C5583A42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E3C0-3276-4967-ADD1-699140E2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3738-D80A-403C-BEF5-5EC3A416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4CF7-B5C6-401D-83C4-8D7B204F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3FEA-6946-48AF-8BFE-1B62DBB3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1EE5D-F26F-44BE-B12F-F661D40D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BD779-B3F6-417E-9479-EEC2AA9B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9C5E-2176-4382-A8DA-177A3D18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108-241B-4AB8-9A45-BB18B643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C599F-04CA-45DD-8994-373F238F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F7B58-BEE7-4AF7-9EC6-0DAC8D2C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56F7-226F-4E99-86CC-6BAFEB9B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C5977-7F1E-4722-BB14-458B5349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864A5-C78B-4DA2-9741-0B1FB04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7C81-B92F-4086-9538-089BE304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0E19-BDFE-4FB3-83CB-536E1DE2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C56F-8A18-4196-A117-CF95D0C3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157F-235D-42FF-93DE-8E1B7AED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5CE4-E59E-44EB-A9D4-6C65B190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C30-E6DD-44F7-896D-EAB96D90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6257-BC34-4CEF-AE1E-A300B921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F5AB-752B-43EF-8B08-CF91294C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5471-EE05-4EE4-9A51-0910FE95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D0E02-36BA-42C9-A970-441B5F80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0FEBE-220F-4C16-AEED-BB522ED5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1F03-0549-4381-97FE-FFE29F0E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8A779-3492-4FCB-AEBD-F2ECB153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09335-466E-4DD6-87AA-B60E54C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F10F-B2E5-4CBC-BB87-92DB6A3A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FB2C8-9721-464D-82E7-2775972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5C7-5ED8-487D-8F64-BAD929C6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B9B35-19C9-408B-B217-F72052FA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777C4-46C6-428F-9262-E4DC4C02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CCBAD-6540-4E65-A03E-1C4BA2DC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D0BCD-EAFC-4A9F-9B6D-82385F0A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12B86-4415-42E4-8696-D0C31460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ADA46-5062-4506-B2EF-DDEE2B3E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554DF-FE4B-4DA3-B207-2C26074E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FD74E-01B8-4312-B8B6-6E8AC9C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A557-FAB0-4E68-B05A-D18BBC06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0802-4388-477A-8637-B15E0771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2EC-FEB9-43EA-9D3D-EA19F10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CFA02-159A-455D-A6E7-B50662C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44635-EA56-4D6A-AC19-A04211E8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87990-54B6-4863-BFCB-4F5A4731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7A665-54B9-4099-BC63-972F5DE7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D26E3-EEDB-4D8E-8DD5-376E42E5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C4E86-7344-4BAB-902E-AC4D7604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86708-6922-4537-A0FA-0C68BCA6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5E4B5-969C-4BE5-BD40-6A446B43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DEE0-431F-4FD0-95B4-19A7E6E5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31B14-5CB6-4164-8103-634A0D3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BBD-FFAF-4F81-8A54-C6569A0C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27B25-CA67-4F1A-B726-819BB564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2694E-3487-4196-BC32-71DDCB4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A5ED1-8796-4A06-94BF-E8BCC51C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AAA0D-DC2C-49A1-827C-46679558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BC7F-B279-4C4B-9688-CF81C0E2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5726-EBA5-410F-9CDA-2CD2EC83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BA8A2-2540-4E48-AA27-0D73341E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7D525-4BAF-4727-B188-FA5F0600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1B1FC-9198-4566-979A-5CF88519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4D61C-3A49-4D00-94A9-A620766C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424-01FF-4CE2-ADED-5E520452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C8AD2-5BA7-4591-A28B-658EC42D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BC4C2-A237-4945-8981-3A3F30C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00068-152C-4C8D-8929-B403A5F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CC326-E560-46A6-A5D3-A3E6515C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3168F-BAA3-49D7-B9E0-B8E665A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57E99-6F7E-41A5-8DF1-C2949A6C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425EB-5690-4D3B-BA5D-6D3C52FA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5A93-E043-491E-8878-C196FCA19082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1CDC-4DD0-4672-9460-0EE3AE82788D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1E26-D8CB-4A68-AB7E-775492383F1A}" type="slidenum">
              <a:rPr b="0" lang="en-GB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776D-3C6F-414B-B37C-97EA3A79FD4E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15B3-0CD6-4138-91D6-DFAB951D7B5E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08D1-BFF4-46CD-801F-E89156B0D80E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7D92-1677-42D1-AA42-38AE65720AA0}" type="slidenum">
              <a:rPr b="0" lang="en-GB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C113-405A-4A48-BDCB-D09CFA9F2079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مستطيل 3"/>
          <p:cNvSpPr/>
          <p:nvPr/>
        </p:nvSpPr>
        <p:spPr>
          <a:xfrm>
            <a:off x="1908000" y="1341360"/>
            <a:ext cx="57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مراحل إجراء التجربة العلم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2938320"/>
            <a:ext cx="69199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42880" y="404640"/>
            <a:ext cx="8229600" cy="990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4653"/>
                </a:solidFill>
                <a:latin typeface="Bookman Old Style"/>
                <a:cs typeface="Times New Roman"/>
              </a:rPr>
              <a:t>ثالثا: كتابة التقرير العلمي عن التجربة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599840"/>
            <a:ext cx="8400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أهداف كتابة التقارير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التواصل العلمي: توصيل نتائج الدراسة إلى الآخرين للاستفادة منها أكاديميا و تطبيقيا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إعادة الانتاج والتصحيح: تغطية جميع جوانب التجربة مما يتيح لباحث آخر تكرار التجربة بدقة  “قسم المنهج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في حال تم نشر التقرير العلمي فإن ذلك يتيح للباحثين الآخرين إمكانية مقارنة نتائج أبحاثهم بنتائج التقارير أو الدراسات التي نشرت قبله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85840" y="135720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عنوان (صفحة العنوان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شتمل على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العنوان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ينبغي أن يكون قصيرا  ودالا على محتوى التقرير كما يوضح متغيرات الدراسة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في العادة لا يزيد طول العنوان عن 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– 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كلم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اسم الباحث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الجهة التي ينتمي إليها الباحث (الطالبة: الفصل الدراسي، الشعبة، الكلية و القسم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جامعة الملك سعود (الرياض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  <a:cs typeface="Arial"/>
              </a:rPr>
              <a:t>متغير مستقل 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  <a:cs typeface="Arial"/>
              </a:rPr>
              <a:t>متغير تاب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أثر ...........على .......... لدى ..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اسم الطالبة و الرقم الجامعي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علم النفس التجريبي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361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نف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شعبة رقم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قسم علم النف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68" name="Straight Arrow Connector 6"/>
          <p:cNvCxnSpPr/>
          <p:nvPr/>
        </p:nvCxnSpPr>
        <p:spPr>
          <a:xfrm>
            <a:off x="4915080" y="1714680"/>
            <a:ext cx="514440" cy="7070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69" name="Straight Arrow Connector 8"/>
          <p:cNvCxnSpPr/>
          <p:nvPr/>
        </p:nvCxnSpPr>
        <p:spPr>
          <a:xfrm>
            <a:off x="3850920" y="1714680"/>
            <a:ext cx="361080" cy="5763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71720" y="999720"/>
            <a:ext cx="7186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قدمة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جزء الأول من الدراسة. يطلق عليه أحياناً مدخل الى مشكلة الدراسة. تشتمل المقدمة على مسح للدراسات السابقة و الأطر النظرية المرتبطة بالموضوع المدرو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والكتابة فيها عادة تتم من العام إلى الخاص، أو ما يشبه المثلث المقلوب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28400" y="1356840"/>
            <a:ext cx="8258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نهج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ethod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تضمن هذا الجزء وصفا دقيقا للكيفية التي أجريت بها التجربة من حيث (اختيار نوع التصميم التجريبي، بيانات عينة الدراسة، وصف إجراءات التطبيق، وصف الأدوات المستخدمة في التجربة و الأساليب الاحصائية المستخدمة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57120" y="1428840"/>
            <a:ext cx="84297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نتائج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تضمن هذا الجزء التحليلات الاحصائية المستخدمة و بالتالي عرضا منظما للبيانات والنتائج التي تم استخلاصها، مما يؤدي الى التحقق من الفروض، إما قبولها أو رفضها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ستخدم في هذا الجزء الجداول و الرسوم البيانية للتوضيح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28400" y="64296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ناقشة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  في هذا الجزء يتم أولاً البدء بالتذكير بهدف الدراسة وفروضها ثم يتم عرض أهم النتائج التي توصل إليها الباحث ثم بعد ذلك يتم تفسير النتائج في ضوء الأطر النظرية و الدراسات السابقة، وتقديم تفسيرات محتملة ل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  تتضمن المناقشة أيضا الإشارة الى أوجه النقص أو القصور التي وقعت التجربة بها مع اقتراح أساليب علمية لتلافي مثل هذا القصور في الدراسات المستقبلية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28440" y="1856880"/>
            <a:ext cx="73292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لخص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كون في حدود (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00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– 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50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) كلمة، يشتمل على مشكلة البحث و المنهج، العينة، حدود التعميم و أهم النتائج (دون ذكر للأساليب الاحصائية) مع عرض بسيط لأهم التطبيقات الممكنة نظرياً أو تطبيقيا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عادة ما يوضع في بداية التقرير، ولكن لا مانع من وجوده في آخر الدراسة قبل عرض قائمة المراج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23640" y="1196640"/>
            <a:ext cx="8358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راجع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شترط تحري الدقة والأمانة في جميع أجزاء التجربة أو الدراسة، تظهر أمانة الباحث في توثيقه لكل ما كتبه في التقرير أو الدراسة (التوثيق داخل النص أو المتن، و كتابة المرجع ببياناته كاملة تحت قائمة المراجع).  تتضمن قائمة المراجع ما تم الرجوع إليه من قبل الباحث في متن الدراس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13840" y="1571760"/>
            <a:ext cx="8643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دراسة في مجلة علمية مؤلف واحد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الاسم الاخير، الاسم الاول. (السنة). اسم الدراسة. </a:t>
            </a: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اسم المجلة و العدد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. الصفحات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مكاوي، صالح. (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2001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). فعالية برنامج للعلاج بالرسم في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          رفع مستوى القدرة التعبيرية لدى الأطفال. </a:t>
            </a: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المجلة النفسية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           للدراسات النفسية </a:t>
            </a: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32</a:t>
            </a: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.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 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133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-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163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يعامل عدد المؤلفين في المجلات العلمية كما في الكتب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5664240" y="54936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285840" y="428400"/>
            <a:ext cx="84009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فائدة التخطيط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بلورة مشكلة الدراسة و صياغتها صياغة علمية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تجنب الوقوع في أخطاء الآخرين والاستفادة من ملاحظاته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تفادي ضياع الوقت والجهد والمال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إمكانية التطوير بعد عرضها للمناقشة على المختصين وذوي الاهتما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92888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دراسة من الانترنت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اسم الاخير، الاسم الاول. (السنة). اسم الدراسة. </a:t>
            </a:r>
            <a:r>
              <a:rPr b="0" i="1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سم المجلة العدد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.  ص-ص. تاريخ الحصول عليها من الشبكة الشهر – اليوم – السنة. الموق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4653"/>
                </a:solidFill>
                <a:latin typeface="Bookman Old Style"/>
                <a:cs typeface="Times New Roman"/>
              </a:rPr>
              <a:t>أولا: التخطيط أو الإعداد للتجربة العلمية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المشكلة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صياغة الفروض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ختيار التصميم التجريبي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عينات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أسلوب الإحصائي المستخد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جراء دراسة استطلاعية للتحقق من مدى ملاءمة التخطيط للتنفيذ الفعلي للتجربة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4653"/>
                </a:solidFill>
                <a:latin typeface="Bookman Old Style"/>
                <a:cs typeface="Times New Roman"/>
              </a:rPr>
              <a:t>ثانيا: خطوات إجراء التجربة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عنوان التجربة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تحديد و الشمولية من أهم شروط العنوان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٬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حيث يجب أن يحتوي على متغيرات التجربة كما يمكن أن يشير إلى الأسلوب الاحصائي المستخد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مراجعة الدراسات السابقة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تساعدنا في صياغة البحث و تحديد نطاقه، و عدم التكرار إلا اذا كان هدف التجربة هو التحقق من نتائج تجربة سابقة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تثري المعلومات في كل قسم من أقسام الدراسة مما يساعد الباحث على تقنين تجربته ومناقشة نتائجها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480" y="49968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المشكلة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المشكلة و صياغتها في شكل سؤال محدد (أو عدة أسئلة) يتم الإجابة عليها تجريبيا أو ميدانيا و بشكل يقبل الإثبات أو النفي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و صياغة الفروض العلمية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فرض: جملة خبرية تربط بين متغيرين أو أكثر بحيث يقبل الحل بالإمكانات المتاحة و يضيف جديد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عتبر الفرض حل مؤقت للمشكلة، يتم قبول الفرض أو رفضه في ضوء نتائج التجربة أو الدراس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57120" y="500040"/>
            <a:ext cx="8429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المتغيرات و تعريفها اجرائيا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شمل الفروض على متغيرات الدراسة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متغيرات مستقلة (تخضع للظروف التجريبية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متغيرات تابعة (يتم قياسها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إحاطة بمعظم المتغيرات الدخيلة و بأساليب ضبطها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فضل مراجعة الدراسات السابقة للإحاطة بهذه المتغيرات و معرفة مدى تأثيرها على الظاهرة المدروسة، مما يساعدنا على تفسير النتائج في ضوء المتغير المستقل و التابع دون تداخل من متغيرات أخرى لم يتم ضبط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85840" y="1071360"/>
            <a:ext cx="8572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ختيار التصميم التجريبي الملائم لدراسة المشكلة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تم الاختيار في ضوء مجموعة من القرارات التي تم اتخاذها (هل سيتم إجراء التجربة على مجموعة أم على عدة مجموعات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٬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كما يتوقف على الهدف من التجربة و عدد المتغيرات و مستويات هذه المتغيرات ..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وصف العينات أو المشاركين في التجربة و أسلوب اختيارهم من المجتم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تحديد المجتمع الذي سيتم اختيار العينة (المشاركين) منها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تحديد حجم العينة و خصائصها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G-Power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42600" y="128592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خطوات إجراء التجربة بالتفصيل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قوم المجرب أو الباحث بوضع خطوات إجراء التجربة التي سيتم تنفيذها، و تتضمن (اختيار التصميم التجريبي ووصفه و ذكر أسباب اختياره، كيفية اختيار العينة و توزيعها، كيفية تعريضهم للظروف التجريبية، طريقة تسجيل الأداء و ملاحظته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صياغة التعليمات و طريقة القائها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والتدرب عليها عدداً من المرات حتى يتم إتقان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57120" y="107136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ختيار أنسب الأساليب الإحصائية الملائمة لتحليل البيانات التجريبي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توقف اختيارنا للأساليب الاحصائية على نوع الفروض و طبيعة البيانات التي حصلنا علي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حدود تعميم النتائج في ضوء مطابقة خصائص العينة التجريبية للمجتمع الأصلي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ذا جاءت خصائص العينة مطابقة لخصائص المجتمع الأصلي يصبح تعميم نتائج الدراسة على أفراد المجتمع الأصلي ممكن، مع الوضع في الاعتبار أنه من الصعب جدا التوفيق الكامل بين العينة و مجتمع الدراسة حتى في حال الالتزام بشروط اختيار العين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9:49:48Z</dcterms:created>
  <dc:creator>Ru</dc:creator>
  <dc:description/>
  <dc:language>en-US</dc:language>
  <cp:lastModifiedBy>Albandri oti</cp:lastModifiedBy>
  <dcterms:modified xsi:type="dcterms:W3CDTF">2017-02-26T15:12:16Z</dcterms:modified>
  <cp:revision>110</cp:revision>
  <dc:subject/>
  <dc:title>Slide 1</dc:title>
</cp:coreProperties>
</file>