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38F-E2C0-4A5D-8E06-2786C219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FFD-5AF4-45BD-BB35-99C9385A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468-8E91-401E-9263-B6358B09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85A-C111-4188-B175-438333BB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7132-08C7-4D29-A38E-4EDD95C4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9705-71BA-443D-BE12-2581FB72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5953-E5F9-49FA-9E3F-0098320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91A0-6F7E-4210-9F87-1A7989F8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90EF-0F32-465B-98E9-968303DF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E10-0F45-4536-BD41-9EFE354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FF51-52DD-4C6E-8F86-B6E0D41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276-C966-4392-A703-691C8D00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C206-044C-4689-B5F1-F18EF90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F501-3AA0-4D5E-B280-8B984EE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5A8E-06F8-4DFF-91A6-77B78C8F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AC5-9234-4B28-81DD-C5316249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54E5-AD04-4B19-9315-27A33669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0BD8-1A22-4D40-883E-EAAD4390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512F-B09B-4443-9304-028203D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2E9C-C655-4197-9A68-53EE070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2095-1681-4660-BF1C-50859CE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4EE5-4877-4863-83AD-835F4AB1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F3A-9336-4CC2-9E13-F2994ACA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3EE6-A70D-4D85-BA50-82B29E42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7293-21A6-4761-9945-8D87A471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1435-A15D-495C-A3B9-574E9401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ECBC-6996-4695-A5C9-8BF5BB4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047D-8D6D-4410-A076-ECB2F40E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BF26-7E2C-4562-B34E-F4BA69BF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B351-10C7-4CD0-B2C6-0BA644DB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4894-F3A2-420F-A45A-E89B86D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3A9F-82CA-4F55-ADC3-30CA4E5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2173-E7FA-4DED-A18A-8D4C67D3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D17-894F-4953-B86A-4A4D639E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BC411-F856-45B5-9D76-C051DA7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8CCE-7D5B-43C1-A75A-06ACADB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6CF1-A54D-4821-ADE0-C7D55B4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FFD1-DAFA-476E-92AF-809B2DF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8F84-63B0-40C1-ABD6-C623607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8376-6332-4370-A80B-3DD8926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9D43-955D-441F-BF37-78D8C640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9FCA-B662-4454-9039-1FE842E0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9420-EDBB-4AC8-B041-39F0AB77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020A-19A4-457E-ACC4-BC593AAC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34F-5555-483F-9A1E-1D1F1023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9425F-6F60-448A-A1BA-14AAEA8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1F735-A9AF-4BA3-8DD5-12DB9B0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DDDB-BCB8-47CA-B78B-66DD810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4029-C80E-49D4-8BAE-8A333EA7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16A6-66EA-42B0-87D8-E126596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5411-D994-4A46-9472-4954521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36D0E-294D-41FE-B66C-4E30BC5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2B151-E536-437D-A0FC-02CDE9A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1F2B-1083-4BB7-94D5-78250D24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4BE19-CC3D-4F8C-9457-20E98367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614-680B-4790-9545-0521DEAC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E8F3-01D9-4FF5-BEFA-6CAADBFF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3275-9BF1-4A45-8B93-E53BDDBD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D20F-6A63-40F2-9783-D78B94B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D7306-BE8D-4C28-B284-F2F6FE6F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9AA9-FE83-43D0-A563-EE0505A3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29B24-BF3C-4725-9197-BEE19AD9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6B2A-A243-4041-B221-2AD9C41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100CD-5E52-4351-9CE6-351DD5F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CA8F-E177-45F4-979B-287714B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B6E90-4D88-4AB4-B2E7-FCF84D8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B27-836B-4511-9CC9-FFD2A894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CB3FC-64DA-431D-B4C4-09D96ED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4153-E6F3-45E7-8336-E80C99AB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7CC5-6EBF-4798-8FF7-E2CB37A2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ACE1-CE42-4E08-9952-C865F057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846FA-315B-4EF8-881A-9D7C8552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A237B-6BC8-49EE-9815-D6F64D6E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94FFF-E54E-49AE-A6B8-7D4E971B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E7C4-9C51-44B1-99E1-B6729E91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C440F-0C88-441B-82FA-22A50451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256AA-9332-4A0E-BEBA-0570AE5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E35-683B-4481-9282-897B780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194A-30BA-441C-A227-5FC20DE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9BD14-4765-49C8-88C4-1FB2656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8E43-20B9-47E6-AF1E-A8174AD8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9FEB-CAE1-4719-A366-33F44AB3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78B5-8869-4EBC-8684-DEC933B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448CA-1C56-4423-8909-B5AD803D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0A436-03DD-4D90-9B54-286CEDA9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76BD-631E-41BD-8396-62871160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DB12-CC60-4CC7-8DC2-F054519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E931E-AC92-4CB4-A150-1B188CA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40B-9B51-4569-BA19-3C701DB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2D2E4-FA5B-46D4-AE0B-0AEC05A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B0B0-1186-4F77-957D-485E9C2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71856-3249-4F57-8B75-55A5A8A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CDF7-8E17-483A-9289-E3508F8B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1F4E-6EFE-4569-B803-BC2942E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7189-6189-42E6-A7A1-30D3FB64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2307-7984-4D47-B04A-BBC4E8B7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945C-9DC6-4A58-AE11-0DE09EF36664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07F8-803C-4727-90DA-982D88055EDD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8142-E073-4972-ACD0-A377D0ADD8B0}" type="slidenum">
              <a:rPr b="0" lang="en-GB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BD01-7643-4D23-9750-37A286D3CEDB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F7A3-196E-47D4-944A-24C5A225C21D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AE2-5692-41E4-949D-04DC21BA17C6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66E-214F-4114-A4E0-2442BC7C3BCB}" type="slidenum">
              <a:rPr b="0" lang="en-GB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8F80-0265-4E0D-A46F-7EC3EF7F6DB6}" type="slidenum">
              <a:rPr b="0" lang="en-GB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مستطيل 3"/>
          <p:cNvSpPr/>
          <p:nvPr/>
        </p:nvSpPr>
        <p:spPr>
          <a:xfrm>
            <a:off x="1908000" y="1341360"/>
            <a:ext cx="57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مراحل إجراء التجربة العلم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2938320"/>
            <a:ext cx="69199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2880" y="404640"/>
            <a:ext cx="8229600" cy="990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ثالثا: كتابة التقرير العلمي عن التجربة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أهداف كتابة التقارير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التواصل العلمي: توصيل نتائج الدراسة إلى الآخرين للاستفادة منها أكاديميا و تطبيقي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إعادة الانتاج والتصحيح: تغطية جميع جوانب التجربة مما يتيح لباحث آخر تكرار التجربة بدقة  “قسم المنهج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في حال تم نشر التقرير العلمي فإن ذلك يتيح للباحثين الآخرين إمكانية مقارنة نتائج أبحاثهم بنتائج التقارير أو الدراسات التي نشرت قبله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584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عنوان (صفحة العنوان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شتمل على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العنوان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ينبغي أن يكون قصيرا  ودالا على محتوى التقرير كما يوضح متغيرات الدراس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في العادة لا يزيد طول العنوان عن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كلم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اسم الباحث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الجهة التي ينتمي إليها الباحث (الطالبة: الفصل الدراسي، الشعبة، الكلية و القسم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جامعة الملك سعود (الرياض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 مستقل 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 تاب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أثر ...........على .......... لدى ..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اسم الطالبة و الرقم الجامعي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علم النفس التجريبي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361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نف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شعبة رقم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قسم علم النف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8" name="Straight Arrow Connector 6"/>
          <p:cNvCxnSpPr/>
          <p:nvPr/>
        </p:nvCxnSpPr>
        <p:spPr>
          <a:xfrm>
            <a:off x="4915080" y="1714680"/>
            <a:ext cx="514440" cy="7070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69" name="Straight Arrow Connector 8"/>
          <p:cNvCxnSpPr/>
          <p:nvPr/>
        </p:nvCxnSpPr>
        <p:spPr>
          <a:xfrm>
            <a:off x="3850920" y="1714680"/>
            <a:ext cx="361080" cy="5763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71720" y="999720"/>
            <a:ext cx="7186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قدمة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جزء الأول من الدراسة. يطلق عليه أحياناً مدخل الى مشكلة الدراسة. تشتمل المقدمة على مسح للدراسات السابقة و الأطر النظرية المرتبطة بالموضوع المدرو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والكتابة فيها عادة تتم من العام إلى الخاص، أو ما يشبه المثلث المقلوب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نهج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ethod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ضمن هذا الجزء وصفا دقيقا للكيفية التي أجريت بها التجربة من حيث (اختيار نوع التصميم التجريبي، بيانات عينة الدراسة، وصف إجراءات التطبيق، وصف الأدوات المستخدمة في التجربة و الأساليب الاحصائية المستخدمة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57120" y="1428840"/>
            <a:ext cx="84297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نتائج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ضمن هذا الجزء التحليلات الاحصائية المستخدمة و بالتالي عرضا منظما للبيانات والنتائج التي تم استخلاصها، مما يؤدي الى التحقق من الفروض، إما قبولها أو رفضه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ستخدم في هذا الجزء الجداول و الرسوم البيانية للتوضيح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28400" y="64296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ناقشة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  في هذا الجزء يتم أولاً البدء بالتذكير بهدف الدراسة وفروضها ثم يتم عرض أهم النتائج التي توصل إليها الباحث ثم بعد ذلك يتم تفسير النتائج في ضوء الأطر النظرية و الدراسات السابقة، وتقديم تفسيرات محتملة ل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  تتضمن المناقشة أيضا الإشارة الى أوجه النقص أو القصور التي وقعت التجربة بها مع اقتراح أساليب علمية لتلافي مثل هذا القصور في الدراسات المستقبلي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28440" y="1856880"/>
            <a:ext cx="73292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لخص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كون في حدود (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00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50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) كلمة، يشتمل على مشكلة البحث و المنهج، العينة، حدود التعميم و أهم النتائج (دون ذكر للأساليب الاحصائية) مع عرض بسيط لأهم التطبيقات الممكنة نظرياً أو تطبيقيا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عادة ما يوضع في بداية التقرير، ولكن لا مانع من وجوده في آخر الدراسة قبل عرض قائمة المراج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3640" y="1196640"/>
            <a:ext cx="8358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مراجع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شترط تحري الدقة والأمانة في جميع أجزاء التجربة أو الدراسة، تظهر أمانة الباحث في توثيقه لكل ما كتبه في التقرير أو الدراسة (التوثيق داخل النص أو المتن، و كتابة المرجع ببياناته كاملة تحت قائمة المراجع).  تتضمن قائمة المراجع ما تم الرجوع إليه من قبل الباحث في متن الدراس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13840" y="1571760"/>
            <a:ext cx="8643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دراسة في مجلة علمية مؤلف واحد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الاسم الاخير، الاسم الاول. (السنة). اسم الدراسة. 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اسم المجلة و العدد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. الصفحات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مكاوي، صالح. (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2001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). فعالية برنامج للعلاج بالرسم في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          رفع مستوى القدرة التعبيرية لدى الأطفال. 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المجلة النفسية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           للدراسات النفسية 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32</a:t>
            </a:r>
            <a:r>
              <a:rPr b="0" i="1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.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 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133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-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163</a:t>
            </a:r>
            <a:r>
              <a:rPr b="0" lang="ar-SA" sz="2300" spc="-1" strike="noStrike">
                <a:solidFill>
                  <a:srgbClr val="464653"/>
                </a:solidFill>
                <a:latin typeface="Gill Sans MT"/>
                <a:ea typeface="Arial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464653"/>
                </a:solidFill>
                <a:latin typeface="Gill Sans MT"/>
                <a:cs typeface="Arial"/>
              </a:rPr>
              <a:t>يعامل عدد المؤلفين في المجلات العلمية كما في الكتب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5664240" y="5493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285840" y="428400"/>
            <a:ext cx="8400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فائدة التخطيط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بلورة مشكلة الدراسة و صياغتها صياغة علمي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تجنب الوقوع في أخطاء الآخرين والاستفادة من ملاحظاته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تفادي ضياع الوقت والجهد والمال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إمكانية التطوير بعد عرضها للمناقشة على المختصين وذوي الاهتما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92888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دراسة من الانترنت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اسم الاخير، الاسم الاول. (السنة). اسم الدراسة. </a:t>
            </a:r>
            <a:r>
              <a:rPr b="0" i="1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سم المجلة العدد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.  ص-ص. تاريخ الحصول عليها من الشبكة الشهر – اليوم – السنة. الموق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أولا: التخطيط أو الإعداد للتجربة العلمية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شكل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صياغة الفروض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ختيار التصميم التجريبي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عينات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أسلوب الإحصائي المستخد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جراء دراسة استطلاعية للتحقق من مدى ملاءمة التخطيط للتنفيذ الفعلي للتجرب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ثانيا: خطوات إجراء التجربة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عنوان التجرب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تحديد و الشمولية من أهم شروط العنوان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٬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حيث يجب أن يحتوي على متغيرات التجربة كما يمكن أن يشير إلى الأسلوب الاحصائي المستخد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مراجعة الدراسات السابق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ساعدنا في صياغة البحث و تحديد نطاقه، و عدم التكرار إلا اذا كان هدف التجربة هو التحقق من نتائج تجربة سابق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ثري المعلومات في كل قسم من أقسام الدراسة مما يساعد الباحث على تقنين تجربته ومناقشة نتائجه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49968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شكلة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شكلة و صياغتها في شكل سؤال محدد (أو عدة أسئلة) يتم الإجابة عليها تجريبيا أو ميدانيا و بشكل يقبل الإثبات أو النفي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و صياغة الفروض العلمي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فرض: جملة خبرية تربط بين متغيرين أو أكثر بحيث يقبل الحل بالإمكانات المتاحة و يضيف جديد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عتبر الفرض حل مؤقت للمشكلة، يتم قبول الفرض أو رفضه في ضوء نتائج التجربة أو الدراس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57120" y="500040"/>
            <a:ext cx="8429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المتغيرات و تعريفها اجرائيا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شمل الفروض على متغيرات الدراسة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ات مستقلة (تخضع للظروف التجريبية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متغيرات تابعة (يتم قياسها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لإحاطة بمعظم المتغيرات الدخيلة و بأساليب ضبطها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فضل مراجعة الدراسات السابقة للإحاطة بهذه المتغيرات و معرفة مدى تأثيرها على الظاهرة المدروسة، مما يساعدنا على تفسير النتائج في ضوء المتغير المستقل و التابع دون تداخل من متغيرات أخرى لم يتم ضبط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85840" y="1071360"/>
            <a:ext cx="8572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ختيار التصميم التجريبي الملائم لدراسة المشكلة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م الاختيار في ضوء مجموعة من القرارات التي تم اتخاذها (هل سيتم إجراء التجربة على مجموعة أم على عدة مجموعات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٬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كما يتوقف على الهدف من التجربة و عدد المتغيرات و مستويات هذه المتغيرات ..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وصف العينات أو المشاركين في التجربة و أسلوب اختيارهم من المجتم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حديد المجتمع الذي سيتم اختيار العينة (المشاركين) منها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- تحديد حجم العينة و خصائصها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G-Power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42600" y="128592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تحديد خطوات إجراء التجربة بالتفصيل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قوم المجرب أو الباحث بوضع خطوات إجراء التجربة التي سيتم تنفيذها، و تتضمن (اختيار التصميم التجريبي ووصفه و ذكر أسباب اختياره، كيفية اختيار العينة و توزيعها، كيفية تعريضهم للظروف التجريبية، طريقة تسجيل الأداء و ملاحظته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صياغة التعليمات و طريقة القائها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والتدرب عليها عدداً من المرات حتى يتم إتقان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57120" y="10713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ختيار أنسب الأساليب الإحصائية الملائمة لتحليل البيانات التجريبي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يتوقف اختيارنا للأساليب الاحصائية على نوع الفروض و طبيعة البيانات التي حصلنا علي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حدود تعميم النتائج في ضوء مطابقة خصائص العينة التجريبية للمجتمع الأصلي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ar-SA" sz="2600" spc="-1" strike="noStrike">
                <a:solidFill>
                  <a:srgbClr val="000000"/>
                </a:solidFill>
                <a:latin typeface="Gill Sans MT"/>
                <a:cs typeface="Arial"/>
              </a:rPr>
              <a:t>اذا جاءت خصائص العينة مطابقة لخصائص المجتمع الأصلي يصبح تعميم نتائج الدراسة على أفراد المجتمع الأصلي ممكن، مع الوضع في الاعتبار أنه من الصعب جدا التوفيق الكامل بين العينة و مجتمع الدراسة حتى في حال الالتزام بشروط اختيار العينة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9:49:48Z</dcterms:created>
  <dc:creator>Ru</dc:creator>
  <dc:description/>
  <dc:language>en-US</dc:language>
  <cp:lastModifiedBy>Albandri oti</cp:lastModifiedBy>
  <dcterms:modified xsi:type="dcterms:W3CDTF">2017-02-26T15:12:16Z</dcterms:modified>
  <cp:revision>110</cp:revision>
  <dc:subject/>
  <dc:title>Slide 1</dc:title>
</cp:coreProperties>
</file>