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B76-3254-46E3-93F5-9CB75021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4E7-F526-4358-A6BD-890621F2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BA5-62E9-4D1C-ACEE-ED73AD0D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582-3A9E-49D2-9439-A962E0C3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319-0723-455B-90D2-A342BD8C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CC8-ED71-4138-A768-F573B604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505-CB41-4E99-8447-1DAD84B1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FB1A-9AA4-4DC4-9DBC-156C35C7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907-8120-4A75-94E3-D21C1F86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225-FCCB-4C4E-9A71-D22C21F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823-DE85-462D-94D1-5F34ABC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DCA-7725-4D3E-B6FD-A931091C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7510-9CCD-473E-A8C5-37A7DE6CB50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sia.ru/images/target/photo/51170673/Test_Tube.jpg&amp;imgrefurl=http://www.asia.ru/en/ProductInfo/935677.html&amp;usg=__eyYddrPMqJ6p_cXq23wFLhQ0NRo=&amp;h=360&amp;w=360&amp;sz=11&amp;hl=ar&amp;start=3&amp;zoom=1&amp;um=1&amp;itbs=1&amp;tbnid=mgFghLRmj3jAmM:&amp;tbnh=121&amp;tbnw=121&amp;prev=/images%3Fq%3Dtest%2Btube%26um%3D1%26hl%3Dar%26safe%3Dactive%26sa%3DN%26tbs%3Disch:1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785880" y="23572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drolytic activity of salivary amylase on st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وان فرعي 2"/>
          <p:cNvSpPr/>
          <p:nvPr/>
        </p:nvSpPr>
        <p:spPr>
          <a:xfrm>
            <a:off x="6072120" y="285840"/>
            <a:ext cx="278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S 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periment N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2400" y="33336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10"/>
          <p:cNvSpPr/>
          <p:nvPr/>
        </p:nvSpPr>
        <p:spPr>
          <a:xfrm>
            <a:off x="0" y="1112760"/>
            <a:ext cx="93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t a pH of about 6-7 and in the presence of chloride ions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ylases </a:t>
            </a: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atalyses the hydrolysis of starch to maltose with the intermediate formation of variou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tri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xtrins </a:t>
            </a: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re polysaccharide produced by the hydrolysis of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ربع نص 4"/>
          <p:cNvSpPr/>
          <p:nvPr/>
        </p:nvSpPr>
        <p:spPr>
          <a:xfrm>
            <a:off x="0" y="1749600"/>
            <a:ext cx="91090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Steps of the reaction</a:t>
            </a: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 + Higher dextrins                     blue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d dextrins                          reddish brown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dextrins + maltose                           colourl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point known as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hromic point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ime taken to reach the point at which the reaction mixture no longer gives a colour with iod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رابط كسهم مستقيم 10"/>
          <p:cNvCxnSpPr/>
          <p:nvPr/>
        </p:nvCxnSpPr>
        <p:spPr>
          <a:xfrm>
            <a:off x="5500800" y="2857680"/>
            <a:ext cx="10720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رابط كسهم مستقيم 11"/>
          <p:cNvCxnSpPr/>
          <p:nvPr/>
        </p:nvCxnSpPr>
        <p:spPr>
          <a:xfrm>
            <a:off x="4000680" y="3573000"/>
            <a:ext cx="1072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رابط كسهم مستقيم 12"/>
          <p:cNvCxnSpPr/>
          <p:nvPr/>
        </p:nvCxnSpPr>
        <p:spPr>
          <a:xfrm>
            <a:off x="4404960" y="435780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"/>
          <p:cNvSpPr/>
          <p:nvPr/>
        </p:nvSpPr>
        <p:spPr>
          <a:xfrm>
            <a:off x="202320" y="620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                       maltose + 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dextr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3"/>
          <p:cNvCxnSpPr/>
          <p:nvPr/>
        </p:nvCxnSpPr>
        <p:spPr>
          <a:xfrm>
            <a:off x="3643200" y="856800"/>
            <a:ext cx="1253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Rectangle 4"/>
          <p:cNvSpPr/>
          <p:nvPr/>
        </p:nvSpPr>
        <p:spPr>
          <a:xfrm>
            <a:off x="55677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434480" y="3817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080240" y="30672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367800" y="22147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34640" y="61920"/>
            <a:ext cx="12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">
            <a:hlinkClick r:id="rId1"/>
          </p:cNvPr>
          <p:cNvSpPr/>
          <p:nvPr/>
        </p:nvSpPr>
        <p:spPr>
          <a:xfrm>
            <a:off x="7656480" y="-54756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808760" y="-39528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122480" y="1030320"/>
            <a:ext cx="1038240" cy="2685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800640" y="708120"/>
            <a:ext cx="187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Stock sali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-293040" y="20048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 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 flipV="1">
            <a:off x="1100160" y="2188800"/>
            <a:ext cx="61200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6332400" y="66204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ontrol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895560" y="1181160"/>
            <a:ext cx="1036800" cy="268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6529320" y="1101600"/>
            <a:ext cx="1036800" cy="268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3992760" y="696960"/>
            <a:ext cx="97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es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8"/>
          <p:cNvCxnSpPr/>
          <p:nvPr/>
        </p:nvCxnSpPr>
        <p:spPr>
          <a:xfrm flipV="1">
            <a:off x="1700280" y="2916000"/>
            <a:ext cx="25027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9"/>
          <p:cNvSpPr/>
          <p:nvPr/>
        </p:nvSpPr>
        <p:spPr>
          <a:xfrm>
            <a:off x="1996200" y="321300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5ml sal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510640" y="2000160"/>
            <a:ext cx="15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5ml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24"/>
          <p:cNvCxnSpPr/>
          <p:nvPr/>
        </p:nvCxnSpPr>
        <p:spPr>
          <a:xfrm flipV="1">
            <a:off x="3714480" y="2214360"/>
            <a:ext cx="57996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26"/>
          <p:cNvCxnSpPr/>
          <p:nvPr/>
        </p:nvCxnSpPr>
        <p:spPr>
          <a:xfrm flipV="1">
            <a:off x="4584600" y="2707920"/>
            <a:ext cx="2463120" cy="68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27"/>
          <p:cNvSpPr/>
          <p:nvPr/>
        </p:nvSpPr>
        <p:spPr>
          <a:xfrm>
            <a:off x="5459400" y="3197160"/>
            <a:ext cx="63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19224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est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en incubate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ontrol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boiled for 2 min, cooled and then placed in the water bath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048000" y="430200"/>
            <a:ext cx="106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es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6012000" y="10317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3549600" y="1028880"/>
            <a:ext cx="1036800" cy="2496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333600" y="41760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ontrol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45840" y="352584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ml st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l phosph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l Na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450080" y="4910040"/>
            <a:ext cx="616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Mix well, then incubate at 37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⁰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C X 5-10 m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8"/>
          <p:cNvCxnSpPr/>
          <p:nvPr/>
        </p:nvCxnSpPr>
        <p:spPr>
          <a:xfrm flipV="1">
            <a:off x="5808600" y="3274560"/>
            <a:ext cx="35784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 flipH="1" flipV="1">
            <a:off x="4501800" y="323964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TextBox 1"/>
          <p:cNvSpPr/>
          <p:nvPr/>
        </p:nvSpPr>
        <p:spPr>
          <a:xfrm>
            <a:off x="264600" y="2476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5857920" y="15159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033800" y="150336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4100400" y="436392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718240" y="4363920"/>
            <a:ext cx="1036440" cy="2494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4258080" y="99540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861520" y="37368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11720" y="9954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304160" y="373536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rved Right Arrow 13"/>
          <p:cNvSpPr/>
          <p:nvPr/>
        </p:nvSpPr>
        <p:spPr>
          <a:xfrm>
            <a:off x="3786120" y="3448080"/>
            <a:ext cx="428760" cy="2000160"/>
          </a:xfrm>
          <a:custGeom>
            <a:avLst/>
            <a:gdLst>
              <a:gd name="textAreaLeft" fmla="*/ 57240 w 428760"/>
              <a:gd name="textAreaRight" fmla="*/ 371520 w 428760"/>
              <a:gd name="textAreaTop" fmla="*/ 459720 h 2000160"/>
              <a:gd name="textAreaBottom" fmla="*/ 1486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32" stAng="-5400000" swAng="-5400000"/>
                <a:lnTo>
                  <a:pt x="0" y="11090"/>
                </a:lnTo>
                <a:arcTo wR="21600" hR="9932" stAng="10800000" swAng="-3641074"/>
                <a:lnTo>
                  <a:pt x="16200" y="21285"/>
                </a:lnTo>
                <a:lnTo>
                  <a:pt x="21600" y="20443"/>
                </a:lnTo>
                <a:lnTo>
                  <a:pt x="16200" y="18971"/>
                </a:lnTo>
                <a:lnTo>
                  <a:pt x="16200" y="19549"/>
                </a:lnTo>
                <a:arcTo wR="21600" hR="9932" stAng="7158926" swAng="3548789"/>
                <a:lnTo>
                  <a:pt x="37" y="10511"/>
                </a:lnTo>
                <a:arcTo wR="21600" hR="9932" stAng="-10707714" swAng="5307714"/>
                <a:close/>
              </a:path>
              <a:path fill="darkenLess" w="21600" h="21600">
                <a:moveTo>
                  <a:pt x="21600" y="0"/>
                </a:moveTo>
                <a:arcTo wR="21600" hR="9932" stAng="-5400000" swAng="-5400000"/>
                <a:lnTo>
                  <a:pt x="0" y="9932"/>
                </a:lnTo>
                <a:arcTo wR="21600" hR="9932" stAng="10800000" swAng="-92286"/>
                <a:lnTo>
                  <a:pt x="37" y="10511"/>
                </a:lnTo>
                <a:arcTo wR="21600" hR="9932" stAng="-10707714" swAng="53077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rved Left Arrow 16"/>
          <p:cNvSpPr/>
          <p:nvPr/>
        </p:nvSpPr>
        <p:spPr>
          <a:xfrm>
            <a:off x="6715080" y="3211560"/>
            <a:ext cx="357120" cy="2000160"/>
          </a:xfrm>
          <a:custGeom>
            <a:avLst/>
            <a:gdLst>
              <a:gd name="textAreaLeft" fmla="*/ 47880 w 357120"/>
              <a:gd name="textAreaRight" fmla="*/ 309240 w 357120"/>
              <a:gd name="textAreaTop" fmla="*/ 466560 h 2000160"/>
              <a:gd name="textAreaBottom" fmla="*/ 1488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3662193"/>
                <a:lnTo>
                  <a:pt x="5400" y="21280"/>
                </a:lnTo>
                <a:lnTo>
                  <a:pt x="0" y="20636"/>
                </a:lnTo>
                <a:lnTo>
                  <a:pt x="5400" y="19351"/>
                </a:lnTo>
                <a:lnTo>
                  <a:pt x="5400" y="19833"/>
                </a:lnTo>
                <a:arcTo wR="21600" hR="10077" stAng="3662193" swAng="-3585325"/>
                <a:lnTo>
                  <a:pt x="21575" y="10559"/>
                </a:lnTo>
                <a:arcTo wR="21600" hR="10077" stAng="-76868" swAng="-5323132"/>
                <a:close/>
              </a:path>
              <a:path fill="darkenLess"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-76868"/>
                <a:lnTo>
                  <a:pt x="21575" y="10559"/>
                </a:lnTo>
                <a:arcTo wR="21600" hR="10077" stAng="-76868" swAng="-532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3125880" y="251316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095960" y="257184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519840" y="4448160"/>
            <a:ext cx="184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incuba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93320" y="7444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incub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82800" y="1429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otting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00720" y="1357200"/>
            <a:ext cx="1928520" cy="4786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5857920" y="51436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5786280" y="157176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786200" y="150012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857920" y="42148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857920" y="32860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78628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478620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786200" y="321480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4786200" y="41432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714920" y="50720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4733640" y="85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742720" y="85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921680" y="50004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dd 1 drop of iodine solution in 2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800720" y="15001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657800" y="2214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1385640" y="30718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385640" y="50007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184040" y="40719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72160" y="50720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429240" y="2143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500880" y="30718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572160" y="40719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512760" y="1571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tube  -&gt;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lue col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</a:t>
            </a: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reddish  brown    col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colorless (A chromic point 4-40 minute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tube -&gt; </a:t>
            </a: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blue col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; identify  the time to reach the A chromic point for each tub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en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nt on each resul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zard of chemical 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940480" y="264312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1"/>
          <p:cNvSpPr/>
          <p:nvPr/>
        </p:nvSpPr>
        <p:spPr>
          <a:xfrm>
            <a:off x="371520" y="8571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2"/>
          <p:cNvSpPr/>
          <p:nvPr/>
        </p:nvSpPr>
        <p:spPr>
          <a:xfrm>
            <a:off x="0" y="142920"/>
            <a:ext cx="900108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hydrolytic enzyme which breaks down many polysaccharides such as starch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polymer of D- glucose units linked by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bond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ch is made up of two polysacchar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pectin (branched-chain polysaccharid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se (unbranched-chain polysaccha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7120" y="4714920"/>
            <a:ext cx="4143600" cy="179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3765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2920" y="214200"/>
            <a:ext cx="885816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rtl="1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 hydrolytic effect of amylase on starch results in yielding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malt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d of two D-glucose molecules )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s the end product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re are two broad groups of amylases: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nd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1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apidly hydrolyse the amylose portion of starch to maltose by acting on residues at the non reducing terminal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57168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 hydrolys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links in polysaccharides so as to remove successive maltose units from the non-reducing ends of the chain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mylase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, in contrast to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, cause a rapid loss of the capacity of amylase to give a blue colour with iodine, also the rate of appearance of maltose is much slower in the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mylases catalysed reaction than in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 catalysed one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42876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– human amylase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mylases – bacteria and plant amy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retion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or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7120" y="642960"/>
            <a:ext cx="821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amylas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secretion of amylase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 Causes of Hyperamylasemia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ancreatitis, Salivary gland lesion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85840" y="301680"/>
            <a:ext cx="8502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ssa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y enzyme assay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the rea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by measuring the amount of substrate (s)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d or the amount of product (s) that is formed i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, it also called enzyme u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In the case of amylase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substrate is starch (colourless)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product is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converted to coloured products b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ربع نص 3"/>
          <p:cNvSpPr/>
          <p:nvPr/>
        </p:nvSpPr>
        <p:spPr>
          <a:xfrm>
            <a:off x="255240" y="35712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Amylase                    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42920" y="207180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 + Amylase + Iodine                 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 colour                         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l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رابط كسهم مستقيم 8"/>
          <p:cNvCxnSpPr/>
          <p:nvPr/>
        </p:nvCxnSpPr>
        <p:spPr>
          <a:xfrm>
            <a:off x="3285720" y="64296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رابط كسهم مستقيم 8"/>
          <p:cNvCxnSpPr/>
          <p:nvPr/>
        </p:nvCxnSpPr>
        <p:spPr>
          <a:xfrm>
            <a:off x="4428720" y="242892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9-20T07:21:42Z</dcterms:modified>
  <cp:revision>50</cp:revision>
  <dc:subject/>
  <dc:title>Qualitative determination of Amylase activity</dc:title>
</cp:coreProperties>
</file>