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86B-323A-41E2-83DE-2049537B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C3A-E369-4FC4-8A91-130BE8E3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689-50AE-41EE-9628-DC519C27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AE5-E649-439E-B3FE-E0F9246F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055-71E0-436F-B04B-7E9503A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E50-0963-4567-9E8E-11EC9BA1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C5C-AC8F-4F92-BE3C-54D0F42F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BE8-2238-44C0-886C-174A906E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E93-A7CC-42C1-A743-FBB68767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3D6-C923-4480-A4F1-EEF74376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51F-9AE9-4EAE-BCAE-BFF2CDE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964-E967-4B85-9FBC-8C1BFC5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AE2B-DF0B-48CB-A9D5-0CAFCF140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ing is a sequence of characters treated as a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lready used some string liter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na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tr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are important in many programming contex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objects (numbers, identifier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an array of a size large enough to hold the string (plus 1 extra value for the delimi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s (with initializ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1[6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2[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3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4[6] = {‘H’,’e’,’l’,’l’,’o’,’\0’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4[] = {‘H’,’e’,’l’,’l’,’o’,’\0’};/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 we must add ‘\0’ if we don’t put th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4[20] = {‘H’,’e’,’l’,’l’,’o’}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/ the remaining is ‘\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, each variable is considered a constant in that the space it is connected to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1 = str2; /* not allowable, but we can copy th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tr2 to str1 (more later)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Strin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 space string variables connected to, but can u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 that can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1 = “hello”;   /* str1 unchangeab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2 = “goodbye”; /* str2 unchangeab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3; /* Not tied to spac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3 = str1; /* str3 points to same space s1 connected t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3 = st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String Variable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hange parts of a string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1[6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1[0] = ‘y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tr1 is now “yello”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1[4] = 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str1 is now “yell”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to retain delimiter (replacing str1[5] in the original string with something other than ‘\0’ makes a string that does not 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sta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limits of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%s field specification in scanf to read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s leading whit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characters unti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white sp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stores null (\0) char after last non-white space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into array (no &amp; before name, array is a 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Name[1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s”,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no limit on number of characters read (need one for delimiter), if too many characters for array, problems may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Input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the width value in the field specification to limit the number of characters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Name[1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f(“%10s”,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you need one space for the \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th should be one less than size of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shorter than the field specification are read normally, but C always stops after reading 10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762120" y="2940120"/>
            <a:ext cx="86756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/Outpu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Name[1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Name[1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Enter your name (last , first)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f("%10s%10s",LastName,First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Nice to meet you %s %s\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,Last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provides a wide range of string functions for performing different string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len(str) - calculate string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dst,src) - copy string at src to d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ome from the utility library string.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&lt;string.h&gt;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   int strlen(char *s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integer) of the string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s the number of characters until an \0 encou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unt \0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1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len(str1) would retur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cpy(char *dst, char *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the characters (including the \0) from the source string (src) to the destination string (d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t should have enough space to receive entire string (if not, other data may get written o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two strings overlap (e.g., copying a string onto itself) the results are unpredi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value is the destination string (d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strncpy(char *dst, char *src, 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strcpy, but the copy stops after n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 non-null (not \0) characters are copied, then no \0 is co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in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/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, scan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len, strcpy, strnc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1066680" y="15289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ncpy(result, </a:t>
            </a:r>
            <a:r>
              <a:rPr b="1" lang="en-US" sz="2400" spc="-1" strike="noStrike">
                <a:solidFill>
                  <a:srgbClr val="b2b2b2"/>
                </a:solidFill>
                <a:latin typeface="Courier New"/>
              </a:rPr>
              <a:t>&amp;s1[5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763272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plicit type, instead strings are maintained as arrays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string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d in arrays of characters (of typ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an be of a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string is indicated by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im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zero character ‘\0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5800" y="5181480"/>
          <a:ext cx="77724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81480"/>
                    <a:ext cx="77724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7162920" y="152280"/>
            <a:ext cx="17110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8001000" cy="226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766800" y="3084480"/>
            <a:ext cx="728964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literal values are represented by sequences of characters between double quotes (“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5131080" cy="3551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609480" y="47242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tring containing a single character takes up 2 bytes of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vs.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2058840"/>
            <a:ext cx="77724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” versus ‘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is a single character value (stored in 1 byte) as the ASCII value f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 is an array with two characters, the first is a, the second is the character value \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4267080"/>
            <a:ext cx="89917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c1fe"/>
                </a:solidFill>
                <a:latin typeface="Courier New"/>
                <a:ea typeface="新細明體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s1[2]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"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Courier New"/>
                <a:ea typeface="新細明體"/>
              </a:rPr>
              <a:t>//Takes two bytes of storage.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新細明體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the other hand, the character, in single qu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c1fe"/>
                </a:solidFill>
                <a:latin typeface="Courier New"/>
                <a:ea typeface="新細明體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s2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`a`; </a:t>
            </a:r>
            <a:r>
              <a:rPr b="1" lang="en-US" sz="2400" spc="-1" strike="noStrike">
                <a:solidFill>
                  <a:srgbClr val="66ff33"/>
                </a:solidFill>
                <a:latin typeface="Courier New"/>
                <a:ea typeface="新細明體"/>
              </a:rPr>
              <a:t>//Takes only one byte of storage.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新細明體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00200" y="4800600"/>
          <a:ext cx="1143000" cy="4572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676520" y="6172200"/>
          <a:ext cx="457200" cy="5176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80535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ring to String Lit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literal is an array, can refer to a single character from the literal as a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“%c”,”hello”[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 the character ‘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pilation, C creates space for each string literal (# of characters in the literal +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ring to the literal refers to that space (as if it is an arr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String Lit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ring literal in a C program is stored at a diffe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even if the string literals contain the same string, they are not equal (in the == s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ing1[6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string2[6] = “hell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tring1 does not equal string2 (they are stored at different lo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04:34:36Z</dcterms:created>
  <dc:creator>Richard Maclin</dc:creator>
  <dc:description/>
  <dc:language>en-US</dc:language>
  <cp:lastModifiedBy>User</cp:lastModifiedBy>
  <dcterms:modified xsi:type="dcterms:W3CDTF">2015-02-22T07:57:40Z</dcterms:modified>
  <cp:revision>18</cp:revision>
  <dc:subject/>
  <dc:title>Str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d.umn.edu/~rmaclin/</vt:lpwstr>
  </property>
  <property fmtid="{D5CDD505-2E9C-101B-9397-08002B2CF9AE}" pid="9" name="LinkColor">
    <vt:r8>16711782</vt:r8>
  </property>
  <property fmtid="{D5CDD505-2E9C-101B-9397-08002B2CF9AE}" pid="10" name="MailAddress">
    <vt:lpwstr>rmaclin@d.um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CS 162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