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5EA8-AC40-4479-A36A-3F49340D2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D7E1-0C28-427B-92D8-77C9A1A2F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4E67-5547-486C-836A-B2B488A4D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B488-FE74-490D-AD88-1D03DC919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A847-23B1-4B32-B6C6-170ADAFE6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A53E-FABF-4905-977E-6DD64DABB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3394-2F59-4033-8200-A5D302925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5531-217C-4730-9A64-CF2D5EB6B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59A5-BBCE-4489-812B-20CF3E2C6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F602-13CC-4668-979C-76598FF8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3765-B3D4-4A98-85A2-E4EFA0217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DBC4-4C3D-4BB7-9CE2-B8B8B273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71801-74B5-494F-ACA5-9AF9988ACB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tring is a sequence of characters treated as a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have already used some string liter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nam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 str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s are important in many programming contex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objects (numbers, identifiers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ing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cate an array of a size large enough to hold the string (plus 1 extra value for the delimit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s (with initialization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 str1[6] = “Hello”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 str2[] = “Hello”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 *str3 = “Hello”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 str4[6] = {‘H’,’e’,’l’,’l’,’o’,’\0’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 str4[] = {‘H’,’e’,’l’,’l’,’o’,’\0’};/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 we must add ‘\0’ if we don’t put the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 str4[20] = {‘H’,’e’,’l’,’l’,’o’};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/ the remaining is ‘\0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, each variable is considered a constant in that the space it is connected to cannot be chan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1 = str2; /* not allowable, but we can copy the cont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str2 to str1 (more later)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nging String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not change space string variables connected to, but can us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in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ariables that can be chan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 *str1 = “hello”;   /* str1 unchangeable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 *str2 = “goodbye”; /* str2 unchangeable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 *str3; /* Not tied to space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3 = str1; /* str3 points to same space s1 connected to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3 = str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nging String Variables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hange parts of a string var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 str1[6] = “hello”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1[0] = ‘y’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str1 is now “yello”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1[4] = ‘\0’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str1 is now “yell”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ant to retain delimiter (replacing str1[5] in the original string with something other than ‘\0’ makes a string that does not en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to sta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thin limits of arr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ing Inp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%s field specification in scanf to read st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gnores leading white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characters unti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xt white spac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ou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stores null (\0) char after last non-white space ch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into array (no &amp; before name, array is a poin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 Name[1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f(“%s”,Nam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: no limit on number of characters read (need one for delimiter), if too many characters for array, problems may occ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ing Input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use the width value in the field specification to limit the number of characters rea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 Name[1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f(“%10s”,Nam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ember, you need one space for the \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th should be one less than size of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s shorter than the field specification are read normally, but C always stops after reading 10 charac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762120" y="2940120"/>
            <a:ext cx="8675640" cy="21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put/Output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main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 LastName[1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 FirstName[1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f("Enter your name (last , first): 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f("%10s%10s",LastName,FirstNam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f("Nice to meet you %s %s\n"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rstName,LastNam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ing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provides a wide range of string functions for performing different string ta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len(str) - calculate string 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cpy(dst,src) - copy string at src to d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s come from the utility library string.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include &lt;string.h&gt; to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ing Leng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tax:   int strlen(char *st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s t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gth (integer) of the string arg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s the number of characters until an \0 encou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count \0 ch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 str1 = “hello”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len(str1) would return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pying a 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 *strcpy(char *dst, char *sr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pies the characters (including the \0) from the source string (src) to the destination string (d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st should have enough space to receive entire string (if not, other data may get written ov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he two strings overlap (e.g., copying a string onto itself) the results are unpredic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value is the destination string (d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 *strncpy(char *dst, char *src, int 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ilar to strcpy, but the copy stops after n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n non-null (not \0) characters are copied, then no \0 is cop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resentation in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 Liter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 Input/Out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tf, scan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len, strcpy, strnc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3"/>
          <p:cNvSpPr/>
          <p:nvPr/>
        </p:nvSpPr>
        <p:spPr>
          <a:xfrm>
            <a:off x="1066680" y="152892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.g.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ncpy(result, </a:t>
            </a:r>
            <a:r>
              <a:rPr b="1" lang="en-US" sz="2400" spc="-1" strike="noStrike">
                <a:solidFill>
                  <a:srgbClr val="b2b2b2"/>
                </a:solidFill>
                <a:latin typeface="Courier New"/>
              </a:rPr>
              <a:t>&amp;s1[5]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609480" y="2057400"/>
            <a:ext cx="763272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ings in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explicit type, instead strings are maintained as arrays of charac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esenting strings in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red in arrays of characters (of typ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 can be of any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string is indicated by 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elimi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the zero character ‘\0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Object 4"/>
          <p:cNvGraphicFramePr/>
          <p:nvPr/>
        </p:nvGraphicFramePr>
        <p:xfrm>
          <a:off x="685800" y="5181480"/>
          <a:ext cx="7772400" cy="65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5181480"/>
                    <a:ext cx="7772400" cy="6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" name="Picture 7" descr=""/>
          <p:cNvPicPr/>
          <p:nvPr/>
        </p:nvPicPr>
        <p:blipFill>
          <a:blip r:embed="rId3"/>
          <a:stretch/>
        </p:blipFill>
        <p:spPr>
          <a:xfrm>
            <a:off x="7162920" y="152280"/>
            <a:ext cx="171108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762120" y="457200"/>
            <a:ext cx="8001000" cy="2263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3"/>
          <a:stretch/>
        </p:blipFill>
        <p:spPr>
          <a:xfrm>
            <a:off x="766800" y="3084480"/>
            <a:ext cx="7289640" cy="29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ing Liter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 literal values are represented by sequences of characters between double quotes (“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”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empty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ll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3352680" y="3048120"/>
            <a:ext cx="5131080" cy="35510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"/>
          <p:cNvSpPr/>
          <p:nvPr/>
        </p:nvSpPr>
        <p:spPr>
          <a:xfrm>
            <a:off x="609480" y="4724280"/>
            <a:ext cx="274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string containing a single character takes up 2 bytes of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haracter vs. 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09480" y="2058840"/>
            <a:ext cx="777240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” versus ‘a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 is a single character value (stored in 1 byte) as the ASCII value fo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 is an array with two characters, the first is a, the second is the character value \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457200" y="4267080"/>
            <a:ext cx="8991720" cy="29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2c1fe"/>
                </a:solidFill>
                <a:latin typeface="Courier New"/>
                <a:ea typeface="新細明體"/>
              </a:rPr>
              <a:t>cha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s1[2]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";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1" lang="en-US" sz="2400" spc="-1" strike="noStrike">
                <a:solidFill>
                  <a:srgbClr val="66ff33"/>
                </a:solidFill>
                <a:latin typeface="Courier New"/>
                <a:ea typeface="新細明體"/>
              </a:rPr>
              <a:t>//Takes two bytes of storage.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  <a:ea typeface="新細明體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n the other hand, the character, in single quot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2c1fe"/>
                </a:solidFill>
                <a:latin typeface="Courier New"/>
                <a:ea typeface="新細明體"/>
              </a:rPr>
              <a:t>cha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s2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`a`; </a:t>
            </a:r>
            <a:r>
              <a:rPr b="1" lang="en-US" sz="2400" spc="-1" strike="noStrike">
                <a:solidFill>
                  <a:srgbClr val="66ff33"/>
                </a:solidFill>
                <a:latin typeface="Courier New"/>
                <a:ea typeface="新細明體"/>
              </a:rPr>
              <a:t>//Takes only one byte of storage.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  <a:ea typeface="新細明體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2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600200" y="4800600"/>
          <a:ext cx="1143000" cy="45720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\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1676520" y="6172200"/>
          <a:ext cx="457200" cy="51768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2"/>
          <a:stretch/>
        </p:blipFill>
        <p:spPr>
          <a:xfrm>
            <a:off x="380880" y="2895480"/>
            <a:ext cx="8053560" cy="15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erring to String Liter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 literal is an array, can refer to a single character from the literal as a charac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tf(“%c”,”hello”[1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s the character ‘e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pilation, C creates space for each string literal (# of characters in the literal + 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ring to the literal refers to that space (as if it is an arra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uplicate String Liter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string literal in a C program is stored at a different 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 even if the string literals contain the same string, they are not equal (in the == sen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 string1[6] = “hello”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 string2[6] = “hello”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string1 does not equal string2 (they are stored at different loca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4T04:34:36Z</dcterms:created>
  <dc:creator>Richard Maclin</dc:creator>
  <dc:description/>
  <dc:language>en-US</dc:language>
  <cp:lastModifiedBy>User</cp:lastModifiedBy>
  <dcterms:modified xsi:type="dcterms:W3CDTF">2015-02-22T07:57:40Z</dcterms:modified>
  <cp:revision>18</cp:revision>
  <dc:subject/>
  <dc:title>String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d.umn.edu/~rmaclin/</vt:lpwstr>
  </property>
  <property fmtid="{D5CDD505-2E9C-101B-9397-08002B2CF9AE}" pid="9" name="LinkColor">
    <vt:r8>16711782</vt:r8>
  </property>
  <property fmtid="{D5CDD505-2E9C-101B-9397-08002B2CF9AE}" pid="10" name="MailAddress">
    <vt:lpwstr>rmaclin@d.umn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CS 1622</vt:lpwstr>
  </property>
  <property fmtid="{D5CDD505-2E9C-101B-9397-08002B2CF9AE}" pid="14" name="ScreenSize">
    <vt:r8>1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