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4BD80-F798-45AA-86FC-0AE750120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49A55-3E3A-4EA3-B204-034DF9180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7751A-165D-4636-9CBF-42B6ED608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8F250-355D-4384-A85A-9EC4ADC8F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2BE0A-886C-429E-AF68-9DC2C9D03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E05B5-A227-4058-9C2F-4E1C9E12B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65229-6E8E-40CF-8B74-ED2977100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9AA47-7AF1-42E2-8596-46EDDC615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93E99-2874-41D5-B4CC-773D4A4EC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0504B-3A9C-4219-8F87-6F4995B9D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0B1AA-CEB7-43F8-B811-C504A5747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28CAE-2FB6-4C77-925B-D0C2AD7F0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7357-0E6B-46B2-87BB-AE28E5EF92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066680" y="507960"/>
            <a:ext cx="4724640" cy="420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actor Analysi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0" y="228600"/>
            <a:ext cx="6705720" cy="853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914400" y="831960"/>
            <a:ext cx="5486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ble of Total Variance Explained displays the total variance explained in three stages. At the initial stage, it shows that the factors and their associated eigenvalues, the percentage of variance explained and the cumulative percentages. In reference to eigenvalues, we would expect that three factors to be extracted because they have eigenvalues greater than 1. If three factors were extracted, then 80% of the variance would be explai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reen plot graphically displays the eigenvalues for each fact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536400" y="609480"/>
            <a:ext cx="6019920" cy="819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igenvalu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factors with eigenvalues of 1 or greater are considered to be significant; all factors with eigenvalues less than 1 are ignored. Eigenvalue, also called the characteristic roots</a:t>
            </a:r>
            <a:r>
              <a:rPr b="0" i="1" lang="en-US" sz="2800" spc="-1" strike="noStrike">
                <a:solidFill>
                  <a:srgbClr val="000000"/>
                </a:solidFill>
                <a:latin typeface="Times New Roman"/>
              </a:rPr>
              <a:t>, </a:t>
            </a:r>
            <a:r>
              <a:rPr b="0" lang="en-US" sz="2800" spc="-1" strike="noStrike">
                <a:solidFill>
                  <a:srgbClr val="000000"/>
                </a:solidFill>
                <a:latin typeface="Times New Roman"/>
              </a:rPr>
              <a:t>is a ratio between the explained and unexplained variation in a model. For a good model the eigen value must be more than one. The rationale for using the eigenvalue criterion is that the amount of common variance explained by an extracted factor should be at least equal to the variance explained by a single variable (unique variance), if that factor is to be retained for interpretation. An eigenvalue greater than 1 indicates that more common variance than unique variance is explained by that fac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304920" y="1066680"/>
            <a:ext cx="6324480" cy="678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433440" y="1295280"/>
            <a:ext cx="5991120" cy="624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762120" y="457200"/>
            <a:ext cx="5715000" cy="814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ctor matrix is the matrix of loadings or correlations between the variables and factors. Pure varialbles have loadings of 0.3 or greater on only one factor. Complex variables may have high loadings on more than one factor, and they make interpretation of the output difficult. Rotation may therefore be necess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max rotation, where the factor axes are kept at right angles to each other, is the most frequently chosen. Ordinarily, rotation reduces the number of complex variables and improves interpretation.  Factor 1 comprises of 4 items. Factor 2 comprises of 4 items and Factor 3 comprises of 2 items. Some items have dual (or sometimes triple/multiple) loadings greater than 0.3 on more than one factor. These items must be interpreted with caution, because simple structure in not appar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685800" y="685800"/>
            <a:ext cx="5410080" cy="3962520"/>
          </a:xfrm>
          <a:prstGeom prst="rect">
            <a:avLst/>
          </a:prstGeom>
          <a:ln w="0">
            <a:noFill/>
          </a:ln>
        </p:spPr>
      </p:pic>
      <p:pic>
        <p:nvPicPr>
          <p:cNvPr id="67" name="Picture 3" descr=""/>
          <p:cNvPicPr/>
          <p:nvPr/>
        </p:nvPicPr>
        <p:blipFill>
          <a:blip r:embed="rId2"/>
          <a:stretch/>
        </p:blipFill>
        <p:spPr>
          <a:xfrm>
            <a:off x="685800" y="5334120"/>
            <a:ext cx="5334120" cy="3267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1"/>
          <p:cNvSpPr/>
          <p:nvPr/>
        </p:nvSpPr>
        <p:spPr>
          <a:xfrm>
            <a:off x="457200" y="609480"/>
            <a:ext cx="5715000" cy="814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nal step in factor analysis involves determining how many factors to interpret and then assigning a label to these factors. The number of factors to be interpreted largely depends on the underlying purpose of the analys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ing at the rotated component matrix, we notice that variable nos. 4, 5, 6 and 7 have loadings of 0.97, 0.96, 0.94 and 0.97 on factor 1 (we look down the Factor 1 column, and look for high loadings close to 1.00). This suggests that Factor 1 is a combination of these four original variables. It also suggests a similar grouping. Therefore, there is no problem interpreting factor 1 as a combination of “a man’s vehicle” (statement in variable 4), “feeling of power” (variable 5), “others are jealous of me” (variable 6) and “feel good when I see my 2-wheeler ads” (variable 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609480" y="457200"/>
            <a:ext cx="54864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is point, the researcher’s task is to find a suitable phrase which captures the essence of the original variables which form the underlying concept or “factor”. In this case, factor 1 could be named “male ego”, or “machismo”, or “pride of ownership” or something similar. With the same mathematical output, interpretations of different researchers may diff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228600" y="1158840"/>
            <a:ext cx="6172200" cy="6802200"/>
          </a:xfrm>
          <a:prstGeom prst="rect">
            <a:avLst/>
          </a:prstGeom>
          <a:noFill/>
          <a:ln w="0">
            <a:noFill/>
          </a:ln>
        </p:spPr>
        <p:style>
          <a:lnRef idx="0"/>
          <a:fillRef idx="0"/>
          <a:effectRef idx="0"/>
          <a:fontRef idx="minor"/>
        </p:style>
        <p:txBody>
          <a:bodyPr lIns="90000" rIns="90000" tIns="46800" bIns="46800" anchor="t">
            <a:spAutoFit/>
          </a:bodyPr>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will attempt to interpret factor 2. We look in  the column for Factor 2, and find that variables 8 and 9 have high loadings of 0.85 and 0.88, respectively. Variable 2 has a loading of -0.64. This indicates that factor 2 is a combination of these three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if we look at the table, the unrotated factor matrix, a slightly different picture emerges. Here, variable 3 also has a high loading on factor 2, along with variables 8 and 9. It is left to the researcher which interpretation he wants to use, as there are no hard and fast rules. Assuming we decide to use all four variables, the related statements are “sense of freedom”, “low maintenance”, “comfort” and “safety” (from statements 2, 3, 8 and 9). We may combine these variables into a factor called “utility” or “functional features” or any other similar word or phrase which captures the essence of these four statements /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Text Box 4"/>
          <p:cNvSpPr/>
          <p:nvPr/>
        </p:nvSpPr>
        <p:spPr>
          <a:xfrm>
            <a:off x="5546880" y="8853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5"/>
          <p:cNvSpPr/>
          <p:nvPr/>
        </p:nvSpPr>
        <p:spPr>
          <a:xfrm>
            <a:off x="4861080" y="880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53960" y="228600"/>
            <a:ext cx="6023160" cy="839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troduc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Factor Analysis is a set of techniques used for understanding variables by grouping them into “factors” consisting of similar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It can also be used to confirm whether a hypothesized set of variables groups into a factor or no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It is most useful when a large number of variables needs to be reduced to a smaller set of “factors” that contain most of the variance of the original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Generally, Factor Analysis is done in two stages, called </a:t>
            </a:r>
            <a:endParaRPr b="0" lang="en-US" sz="2000" spc="-1" strike="noStrike">
              <a:solidFill>
                <a:srgbClr val="000000"/>
              </a:solidFill>
              <a:latin typeface="Times New Roman"/>
            </a:endParaRPr>
          </a:p>
          <a:p>
            <a:pPr lvl="3" marL="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traction of Factors and </a:t>
            </a:r>
            <a:endParaRPr b="0" lang="en-US" sz="2000" spc="-1" strike="noStrike">
              <a:solidFill>
                <a:srgbClr val="000000"/>
              </a:solidFill>
              <a:latin typeface="Times New Roman"/>
            </a:endParaRPr>
          </a:p>
          <a:p>
            <a:pPr lvl="3" marL="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otation of the Solution obtained in stag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a:t>
            </a:r>
            <a:r>
              <a:rPr b="0" lang="en-US" sz="2000" spc="-1" strike="noStrike">
                <a:solidFill>
                  <a:srgbClr val="000000"/>
                </a:solidFill>
                <a:latin typeface="Times New Roman"/>
              </a:rPr>
              <a:t>Factor Analysis is best performed with interval or ratio-scaled 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Factor analysis is based on the assumption that all variables correlate to some degree. Consequently, those variables that share similar underlying dimensions should be highly correlated, and those variables that measure dissimilar dimensions should yield low correlations.</a:t>
            </a:r>
            <a:endParaRPr b="0" lang="en-US" sz="2000" spc="-1" strike="noStrike">
              <a:solidFill>
                <a:srgbClr val="000000"/>
              </a:solidFill>
              <a:latin typeface="Times New Roman"/>
            </a:endParaRPr>
          </a:p>
        </p:txBody>
      </p:sp>
      <p:sp>
        <p:nvSpPr>
          <p:cNvPr id="43" name="Text Box 4"/>
          <p:cNvSpPr/>
          <p:nvPr/>
        </p:nvSpPr>
        <p:spPr>
          <a:xfrm>
            <a:off x="3413160" y="75582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09480" y="1600200"/>
            <a:ext cx="7010280" cy="521460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nterpreting Factor 3, we look at the column labelled factor 3 in the table and find that variables 1 and 10 are loaded high on factor 3. According to the unrotated factor matrix, only variable 10 loads high on factor 3. Supposing we stick to rotated matrix, then the combination of “affordability’ and “cost saving by 3 people legally riding on a 2-wheeler” give the impression that factor 3 could be “economy” or “low cos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now completed interpretation of the 3 factors with eigen values of 1 or more. We will now look at some additional issues which may be of importance in using factor analy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304920" y="380880"/>
            <a:ext cx="5943600" cy="8509320"/>
          </a:xfrm>
          <a:prstGeom prst="rect">
            <a:avLst/>
          </a:prstGeom>
          <a:noFill/>
          <a:ln w="0">
            <a:noFill/>
          </a:ln>
        </p:spPr>
        <p:style>
          <a:lnRef idx="0"/>
          <a:fillRef idx="0"/>
          <a:effectRef idx="0"/>
          <a:fontRef idx="minor"/>
        </p:style>
        <p:txBody>
          <a:bodyPr lIns="90000" rIns="90000" tIns="46800" bIns="46800" anchor="t">
            <a:spAutoFit/>
          </a:bodyPr>
          <a:p>
            <a:pPr lvl="2" marL="91440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lvl="2" marL="9144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Additional Issues in Interpreting Solutions</a:t>
            </a:r>
            <a:endParaRPr b="0" lang="en-US" sz="2000" spc="-1" strike="noStrike">
              <a:solidFill>
                <a:srgbClr val="000000"/>
              </a:solidFill>
              <a:latin typeface="Times New Roman"/>
            </a:endParaRPr>
          </a:p>
          <a:p>
            <a:pPr lvl="2" marL="9144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must guard against the possibility that a variable may load highly on more than one factors. Strictly speaking, a variable should load close to 1.00 on one and only one factor, and load close to 0 on the other factors. If this is not the case, it indicates that either the sample of respondents have more than one opinion about the variable, or that the question/ variable may be unclear in its phrasing.</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issue important in practical use of factor analysis is the answer to the question ‘what should be considered a high loading and what is not a high loading?” Here, unfortunately, there is no clear-cut guideline, and many a time, we must look at relative values in the factor matrix. Sometimes, 0.6 may be treated as a high value, while sometimes 0.9 could be the cutoff for high value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Text Box 3"/>
          <p:cNvSpPr/>
          <p:nvPr/>
        </p:nvSpPr>
        <p:spPr>
          <a:xfrm>
            <a:off x="4937040" y="8853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0" y="39600"/>
            <a:ext cx="6705720" cy="8338680"/>
          </a:xfrm>
          <a:prstGeom prst="rect">
            <a:avLst/>
          </a:prstGeom>
          <a:noFill/>
          <a:ln w="0">
            <a:noFill/>
          </a:ln>
        </p:spPr>
        <p:style>
          <a:lnRef idx="0"/>
          <a:fillRef idx="0"/>
          <a:effectRef idx="0"/>
          <a:fontRef idx="minor"/>
        </p:style>
        <p:txBody>
          <a:bodyPr lIns="90000" rIns="90000" tIns="46800" bIns="46800" anchor="t">
            <a:spAutoFit/>
          </a:bodyPr>
          <a:p>
            <a:pPr lvl="2" marL="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pplication Areas/Example</a:t>
            </a:r>
            <a:endParaRPr b="0" lang="en-US" sz="2000" spc="-1" strike="noStrike">
              <a:solidFill>
                <a:srgbClr val="000000"/>
              </a:solidFill>
              <a:latin typeface="Times New Roman"/>
            </a:endParaRPr>
          </a:p>
          <a:p>
            <a:pPr lvl="2" marL="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jor purpose of factor analysis is the orderly  simplification of a large number of inter-correlated measures to a few representative constructs or factors. In marketing research, a common application area of Factor Analysis is to understand underlying motives of consumers who buy a product category or a brand.</a:t>
            </a: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orked out example will help clarify the use of Factor Analysis in Marketing Research.</a:t>
            </a: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example, we assume that a two wheeler manufacturer is interested in determining which variables his potential customers think about when they consider his product.</a:t>
            </a: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assume that twenty two-wheeler owners were surveyed by this manufacturer (or by a marketing research company on his behalf). They were asked to indicate on a seven point scale (1=Completely Agree, 7=Completely Disagree), their agreement or disagreement with a set of ten statements relating to their perceptions and some attributes of the two-wheelers.</a:t>
            </a:r>
            <a:endParaRPr b="0" lang="en-US" sz="2000" spc="-1" strike="noStrike">
              <a:solidFill>
                <a:srgbClr val="000000"/>
              </a:solidFill>
              <a:latin typeface="Times New Roman"/>
            </a:endParaRPr>
          </a:p>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bjective of doing Factor Analysis is to find underlying "factors" which would be fewer than 10 in number, but would be linear combinations of some of the original 10 variabl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Text Box 4"/>
          <p:cNvSpPr/>
          <p:nvPr/>
        </p:nvSpPr>
        <p:spPr>
          <a:xfrm>
            <a:off x="3657600" y="7008840"/>
            <a:ext cx="20160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533520" y="762120"/>
            <a:ext cx="5867280" cy="771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earch design for data collection can be stated as follow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enty 2-wheeler users were surveyed about their perceptions and image attributes of the vehicles they owned. Ten questions were asked to each of them, all answered on a scale of 1 to 7 (1= completely agree, 7= completely disagre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 use a 2-wheeler because it is affordable.</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t gives me a sense of freedom to own a 2-wheeler.</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Low maintenance cost makes a 2-wheeler very economical in the long run.</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 2-wheeler is essentially a man’s vehicle.</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I feel very powerful when I am on my 2-wheeler.</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ome of my friends who don’t have their own vehicle are jealous of me.</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I feel good whenever I see the ad for 2-wheeler on T.V., in a magazine or on a hoarding.</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My vehicle gives me a comfortable ride.</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I think 2-wheelers are a safe way to travel.</a:t>
            </a:r>
            <a:endParaRPr b="0" lang="en-US" sz="2000" spc="-1" strike="noStrike">
              <a:solidFill>
                <a:srgbClr val="000000"/>
              </a:solidFill>
              <a:latin typeface="Times New Roman"/>
            </a:endParaRPr>
          </a:p>
          <a:p>
            <a:pPr lvl="2" marL="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Three people should be legally allowed to travel on a 2-wheel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Text Box 4"/>
          <p:cNvSpPr/>
          <p:nvPr/>
        </p:nvSpPr>
        <p:spPr>
          <a:xfrm>
            <a:off x="4403880" y="83962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6"/>
          <p:cNvGraphicFramePr/>
          <p:nvPr/>
        </p:nvGraphicFramePr>
        <p:xfrm>
          <a:off x="378000" y="614520"/>
          <a:ext cx="6134040" cy="6306840"/>
        </p:xfrm>
        <a:graphic>
          <a:graphicData uri="http://schemas.openxmlformats.org/presentationml/2006/ole">
            <p:oleObj progId="Word.Document.12" r:id="rId1" spid="">
              <p:embed/>
              <p:pic>
                <p:nvPicPr>
                  <p:cNvPr id="49" name="Object 6" descr=""/>
                  <p:cNvPicPr/>
                  <p:nvPr/>
                </p:nvPicPr>
                <p:blipFill>
                  <a:blip r:embed="rId2"/>
                  <a:stretch/>
                </p:blipFill>
                <p:spPr>
                  <a:xfrm>
                    <a:off x="378000" y="614520"/>
                    <a:ext cx="6134040" cy="6306840"/>
                  </a:xfrm>
                  <a:prstGeom prst="rect">
                    <a:avLst/>
                  </a:prstGeom>
                  <a:ln w="0">
                    <a:noFill/>
                  </a:ln>
                </p:spPr>
              </p:pic>
            </p:oleObj>
          </a:graphicData>
        </a:graphic>
      </p:graphicFrame>
      <p:sp>
        <p:nvSpPr>
          <p:cNvPr id="50" name="Text Box 7"/>
          <p:cNvSpPr/>
          <p:nvPr/>
        </p:nvSpPr>
        <p:spPr>
          <a:xfrm>
            <a:off x="2968920" y="6975360"/>
            <a:ext cx="349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 contd on next slide...</a:t>
            </a:r>
            <a:endParaRPr b="0" lang="en-US" sz="2400" spc="-1" strike="noStrike">
              <a:solidFill>
                <a:srgbClr val="000000"/>
              </a:solidFill>
              <a:latin typeface="Times New Roman"/>
            </a:endParaRPr>
          </a:p>
        </p:txBody>
      </p:sp>
      <p:sp>
        <p:nvSpPr>
          <p:cNvPr id="51" name="Text Box 8"/>
          <p:cNvSpPr/>
          <p:nvPr/>
        </p:nvSpPr>
        <p:spPr>
          <a:xfrm>
            <a:off x="4556160" y="880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Object 2"/>
          <p:cNvGraphicFramePr/>
          <p:nvPr/>
        </p:nvGraphicFramePr>
        <p:xfrm>
          <a:off x="380880" y="2286000"/>
          <a:ext cx="6248520" cy="3581280"/>
        </p:xfrm>
        <a:graphic>
          <a:graphicData uri="http://schemas.openxmlformats.org/presentationml/2006/ole">
            <p:oleObj progId="Word.Document.12" r:id="rId1" spid="">
              <p:embed/>
              <p:pic>
                <p:nvPicPr>
                  <p:cNvPr id="53" name="Object 2" descr=""/>
                  <p:cNvPicPr/>
                  <p:nvPr/>
                </p:nvPicPr>
                <p:blipFill>
                  <a:blip r:embed="rId2"/>
                  <a:stretch/>
                </p:blipFill>
                <p:spPr>
                  <a:xfrm>
                    <a:off x="380880" y="2286000"/>
                    <a:ext cx="6248520" cy="3581280"/>
                  </a:xfrm>
                  <a:prstGeom prst="rect">
                    <a:avLst/>
                  </a:prstGeom>
                  <a:ln w="0">
                    <a:noFill/>
                  </a:ln>
                </p:spPr>
              </p:pic>
            </p:oleObj>
          </a:graphicData>
        </a:graphic>
      </p:graphicFrame>
      <p:graphicFrame>
        <p:nvGraphicFramePr>
          <p:cNvPr id="54" name="Object 4"/>
          <p:cNvGraphicFramePr/>
          <p:nvPr/>
        </p:nvGraphicFramePr>
        <p:xfrm>
          <a:off x="380880" y="1238400"/>
          <a:ext cx="6324840" cy="1199880"/>
        </p:xfrm>
        <a:graphic>
          <a:graphicData uri="http://schemas.openxmlformats.org/presentationml/2006/ole">
            <p:oleObj progId="Word.Document.12" r:id="rId3" spid="">
              <p:embed/>
              <p:pic>
                <p:nvPicPr>
                  <p:cNvPr id="55" name="Object 4" descr=""/>
                  <p:cNvPicPr/>
                  <p:nvPr/>
                </p:nvPicPr>
                <p:blipFill>
                  <a:blip r:embed="rId4"/>
                  <a:stretch/>
                </p:blipFill>
                <p:spPr>
                  <a:xfrm>
                    <a:off x="380880" y="1238400"/>
                    <a:ext cx="6324840" cy="119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533520" y="380880"/>
            <a:ext cx="5867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Data Reduction : Factor – Variables: variables 001 to 010; Descriptives : Statistics box – check Initial solution; Correlation Matrix box: check coefficients, KMO &amp; Bartlett’s test of sphericity, Anti-image; Continue; Click Extraction : select Method – Principal axis factoring, radio button correlation matrix, In extract box radio button Eigenvalues over 1, Display both unrotated factor solution and Screen plot; Continue; Rotation – Method : Varimax radio button, Display box check Rotated solution; Continue; Options – In the Coefficient Display Format box, select Sorted by size and Suppress absolute values less than .3; Continue;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457200" y="533520"/>
            <a:ext cx="586728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amination of correlation matrix in the output indicates that a considerable number of correlations are  more than 0.3 and so the matrix is suitable for facto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tart factor analysis assuming  that the number of factors must be equal to the number of variables. Each factor is assigned an eigen value of 1. We then run factor analysis model and decide the relevant number of fa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portion of variance in any one of the original variables which is captured by the extracted factors is known as Communality. The same is presented in the table of communal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228600" y="533520"/>
            <a:ext cx="6400800" cy="604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rtlett test of sphericity is a goodness of fit test.  The null hypothesis is that the population correlation matrix is identity matrix. The coefficient is statistically validated by a chi-square test. The hypotheses 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The factor analysis is not val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The factor analysis is val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aiser-Meyer-Olkin measure of sampling adequacy is greater than 0.5.  This implies that the factor analysis for data reduction is effective. The measures of sampling adequacy are printed on the diagonal in the anti-image correlation matrix (see next slide). We can observe the most of the measures are well above the acceptable level of 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59" name=""/>
          <p:cNvGraphicFramePr/>
          <p:nvPr/>
        </p:nvGraphicFramePr>
        <p:xfrm>
          <a:off x="571680" y="6904080"/>
          <a:ext cx="5715000" cy="1866960"/>
        </p:xfrm>
        <a:graphic>
          <a:graphicData uri="http://schemas.openxmlformats.org/drawingml/2006/table">
            <a:tbl>
              <a:tblPr/>
              <a:tblGrid>
                <a:gridCol w="2365200"/>
                <a:gridCol w="2365200"/>
                <a:gridCol w="984600"/>
              </a:tblGrid>
              <a:tr h="365040">
                <a:tc gridSpan="3">
                  <a:txBody>
                    <a:bodyPr lIns="0" rIns="0" tIns="0" bIns="0" anchor="ctr">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MO and Bartlett's Test</a:t>
                      </a:r>
                      <a:endParaRPr b="0" lang="en-US" sz="1800" spc="-1" strike="noStrike">
                        <a:solidFill>
                          <a:srgbClr val="000000"/>
                        </a:solidFill>
                        <a:latin typeface="Times New Roman"/>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6440">
                <a:tc gridSpan="2">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aiser-Meyer-Olkin Measure of Sampling Adequacy</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618</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r>
              <a:tr h="365040">
                <a:tc rowSpan="3">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rtlett's Test of Sphericity</a:t>
                      </a:r>
                      <a:endParaRPr b="0" lang="en-US" sz="1800" spc="-1" strike="noStrike">
                        <a:solidFill>
                          <a:srgbClr val="000000"/>
                        </a:solidFill>
                        <a:latin typeface="Times New Roman"/>
                      </a:endParaRPr>
                    </a:p>
                  </a:txBody>
                  <a:tcPr anchor="t">
                    <a:lnL w="13680">
                      <a:solidFill>
                        <a:srgbClr val="000000"/>
                      </a:solidFill>
                    </a:lnL>
                    <a:lnR>
                      <a:noFill/>
                    </a:lnR>
                    <a:lnT>
                      <a:no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prox. Chi-Square</a:t>
                      </a:r>
                      <a:endParaRPr b="0" lang="en-US" sz="1800" spc="-1" strike="noStrike">
                        <a:solidFill>
                          <a:srgbClr val="000000"/>
                        </a:solidFill>
                        <a:latin typeface="Times New Roman"/>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4.098</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365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f</a:t>
                      </a:r>
                      <a:endParaRPr b="0" lang="en-US" sz="1800" spc="-1" strike="noStrike">
                        <a:solidFill>
                          <a:srgbClr val="000000"/>
                        </a:solidFill>
                        <a:latin typeface="Times New Roman"/>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5</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a:noFill/>
                    </a:lnB>
                    <a:solidFill>
                      <a:srgbClr val="ffffff"/>
                    </a:solidFill>
                  </a:tcPr>
                </a:tc>
              </a:tr>
              <a:tr h="365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g</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000</a:t>
                      </a:r>
                      <a:endParaRPr b="0" lang="en-US" sz="1800" spc="-1" strike="noStrike">
                        <a:solidFill>
                          <a:srgbClr val="000000"/>
                        </a:solidFill>
                        <a:latin typeface="Times New Roman"/>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04:10:02Z</dcterms:created>
  <dc:creator>TMH</dc:creator>
  <dc:description/>
  <dc:language>en-US</dc:language>
  <cp:lastModifiedBy>User</cp:lastModifiedBy>
  <cp:lastPrinted>2015-11-15T09:00:10Z</cp:lastPrinted>
  <dcterms:modified xsi:type="dcterms:W3CDTF">2015-12-06T09:51:29Z</dcterms:modified>
  <cp:revision>51</cp:revision>
  <dc:subject/>
  <dc:title>No Slide Title</dc:title>
</cp:coreProperties>
</file>