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BB32B-61CD-40C3-BBB2-A509E52C0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6062-6691-4ECC-A8C3-8A27F056F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E9DF6-8B0D-4F37-8F31-5F621E1A5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CCDAD-08DF-495F-A8D2-152149217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9CF6-C8E1-40DC-8690-89DE35740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BBEAE-1563-45FF-A8BA-4949771A9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66F70-FC6A-41DC-8518-DC0EB7232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DBE8C-9002-46AE-9480-3D57F1D1E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DF55E-1B5B-47C3-9DCD-3AE5A7CB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5CCB-E1B1-47D4-901C-BFD8231BA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D37A-4043-47EE-96BA-CD380636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7D98E-AB80-46A8-BB62-B1E021274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C7D6-368A-4A86-B435-07F95C8AA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20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actor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304920" y="533520"/>
            <a:ext cx="6248160" cy="838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228600" y="533520"/>
            <a:ext cx="6400800" cy="604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The null hypothesis is that the population correlation matrix is identity matrix. The coefficient is statistically validated by a chi-square test. The hypotheses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The factor analysis is not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The factor analysis is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factor analysis for data reduction is effective. The measures of sampling adequacy are printed on the diagonal in the anti-image correlation matrix (see next slide). We can observe that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62" name=""/>
          <p:cNvGraphicFramePr/>
          <p:nvPr/>
        </p:nvGraphicFramePr>
        <p:xfrm>
          <a:off x="571680" y="6515280"/>
          <a:ext cx="5715000" cy="1866600"/>
        </p:xfrm>
        <a:graphic>
          <a:graphicData uri="http://schemas.openxmlformats.org/drawingml/2006/table">
            <a:tbl>
              <a:tblPr/>
              <a:tblGrid>
                <a:gridCol w="2365200"/>
                <a:gridCol w="2365200"/>
                <a:gridCol w="984600"/>
              </a:tblGrid>
              <a:tr h="36504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MO and Bartlett's Test</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644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aiser-Meyer-Olkin Measure of Sampling Adequacy</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61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65040">
                <a:tc rowSpan="3">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rtlett's Test of Sphericity</a:t>
                      </a:r>
                      <a:endParaRPr b="0" lang="en-US" sz="18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 Chi-Square</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4.09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f</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00</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228600"/>
            <a:ext cx="6705720" cy="853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304920" y="533520"/>
            <a:ext cx="61722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tart factor analysis assuming  that the number of factors must be equal to the number of variables. Each factor is assigned an eigen value of 1. Eigenvalue, also called the characteristic roots</a:t>
            </a:r>
            <a:r>
              <a:rPr b="0" i="1" lang="en-US" sz="2400" spc="-1" strike="noStrike">
                <a:solidFill>
                  <a:srgbClr val="000000"/>
                </a:solidFill>
                <a:latin typeface="Times New Roman"/>
              </a:rPr>
              <a:t>, </a:t>
            </a:r>
            <a:r>
              <a:rPr b="0" lang="en-US" sz="2400" spc="-1" strike="noStrike">
                <a:solidFill>
                  <a:srgbClr val="000000"/>
                </a:solidFill>
                <a:latin typeface="Times New Roman"/>
              </a:rPr>
              <a:t>is a ratio between the explained and unexplained variation in a model. We then run factor analysis model and decide the relevant number of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ortion of variance in any one of the original variables which is captured by the extracted factors is known as Communality. The same is presented in the table of communalities. For example, over 95% of the variance in VAR00007 is accounted 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2" descr=""/>
          <p:cNvPicPr/>
          <p:nvPr/>
        </p:nvPicPr>
        <p:blipFill>
          <a:blip r:embed="rId1"/>
          <a:stretch/>
        </p:blipFill>
        <p:spPr>
          <a:xfrm>
            <a:off x="1447920" y="6095880"/>
            <a:ext cx="3581280" cy="288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609480" y="831960"/>
            <a:ext cx="59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factors and their associated eigenvalues, the percentage of variance explained and the cumulative percentages. In reference to eigenvalues, we would expect that three factors to be extracted because they have eigenvalues greater than 1. If three factors were extracted, then about 72% of the variance would be explained. </a:t>
            </a:r>
            <a:endParaRPr b="0" lang="en-US" sz="2400" spc="-1" strike="noStrike">
              <a:solidFill>
                <a:srgbClr val="000000"/>
              </a:solidFill>
              <a:latin typeface="Times New Roman"/>
            </a:endParaRPr>
          </a:p>
        </p:txBody>
      </p:sp>
      <p:pic>
        <p:nvPicPr>
          <p:cNvPr id="67" name="Picture 3" descr=""/>
          <p:cNvPicPr/>
          <p:nvPr/>
        </p:nvPicPr>
        <p:blipFill>
          <a:blip r:embed="rId1"/>
          <a:stretch/>
        </p:blipFill>
        <p:spPr>
          <a:xfrm>
            <a:off x="152280" y="4618080"/>
            <a:ext cx="6629400" cy="441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36400" y="609480"/>
            <a:ext cx="601992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igen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nly factors with eigenvalues of 1 or greater are considered to be significant; all factors with eigenvalues less than 1 are ignored</a:t>
            </a:r>
            <a:r>
              <a:rPr b="0" lang="en-US" sz="2800" spc="-1" strike="noStrike">
                <a:solidFill>
                  <a:srgbClr val="000000"/>
                </a:solidFill>
                <a:latin typeface="Times New Roman"/>
              </a:rPr>
              <a:t>. Eigenvalue, also called the characteristic roots</a:t>
            </a:r>
            <a:r>
              <a:rPr b="0" i="1" lang="en-US" sz="2800" spc="-1" strike="noStrike">
                <a:solidFill>
                  <a:srgbClr val="000000"/>
                </a:solidFill>
                <a:latin typeface="Times New Roman"/>
              </a:rPr>
              <a:t>, </a:t>
            </a:r>
            <a:r>
              <a:rPr b="0" lang="en-US" sz="2800" spc="-1" strike="noStrike">
                <a:solidFill>
                  <a:srgbClr val="000000"/>
                </a:solidFill>
                <a:latin typeface="Times New Roman"/>
              </a:rPr>
              <a:t>is a ratio between the explained and unexplained variation in a model. For a good model the eigen value must be more than one. The rationale for using the eigenvalue criterion is that the amount of common variance explained by an extracted factor should be at least equal to the variance explained by a single variable (unique variance), if that factor is to be retained for interpretation. An eigenvalue greater than 1 indicates that more common variance than unique variance is explained by that fa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228600" y="4724280"/>
            <a:ext cx="6400800" cy="4114800"/>
          </a:xfrm>
          <a:prstGeom prst="rect">
            <a:avLst/>
          </a:prstGeom>
          <a:ln w="0">
            <a:noFill/>
          </a:ln>
        </p:spPr>
      </p:pic>
      <p:sp>
        <p:nvSpPr>
          <p:cNvPr id="70" name="Rectangle 1"/>
          <p:cNvSpPr/>
          <p:nvPr/>
        </p:nvSpPr>
        <p:spPr>
          <a:xfrm>
            <a:off x="434880" y="380880"/>
            <a:ext cx="5791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factor. It is a graph of the eigenvalues against all the factors. The graph is useful for determining how many factors to retain. The point of interest is where the curve starts to flatten. It can be seen that the curve begins to flatten between factors 3 and 4. Also note that from factor 4 onwards the eigenvalues are less than 1; so only three factors are reta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762120" y="45720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 matrix is the matrix of loadings or correlations between the variables and factors. Pure varialbles have loadings of 0.3 or greater on only one factor. Complex variables may have high loadings on more than one factor,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factor axes are kept at right angles to each other, is the most frequently chosen. Ordinarily, rotation reduces the number of complex variables and improves interpretation.  Factor 1 comprises of 4 items. Factor 2 comprises of 4 items and Factor 3 comprises of 2 items. Some items have dual (or sometimes triple/multiple) loadings greater than 0.3 on more than one factor.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685800" y="685800"/>
            <a:ext cx="5410080" cy="3962520"/>
          </a:xfrm>
          <a:prstGeom prst="rect">
            <a:avLst/>
          </a:prstGeom>
          <a:ln w="0">
            <a:noFill/>
          </a:ln>
        </p:spPr>
      </p:pic>
      <p:pic>
        <p:nvPicPr>
          <p:cNvPr id="73" name="Picture 3" descr=""/>
          <p:cNvPicPr/>
          <p:nvPr/>
        </p:nvPicPr>
        <p:blipFill>
          <a:blip r:embed="rId2"/>
          <a:stretch/>
        </p:blipFill>
        <p:spPr>
          <a:xfrm>
            <a:off x="685800" y="5334120"/>
            <a:ext cx="5334120" cy="32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457200" y="60948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tep in factor analysis involves determining how many factors to interpret and then assigning a label to these factors. The number of factors to be interpreted largely depends on the underlying purpose of the analys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at the rotated component matrix, we notice that variable nos. 4, 5, 6 and 7 have loadings of 0.97, 0.95, 0.93 and 0.97 on factor 1 (we look down the Factor 1 column, and look for high loadings close to 1.00). This suggests that Factor 1 is a combination of these four original variables. It also suggests a similar grouping. Therefore, there is no problem interpreting factor 1 as a combination of “a man’s vehicle” (statement in variable 4), “feeling of power” (variable 5), “others are jealous of me” (variable 6) and “feel good when I see my 2-wheeler ads” (variable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53960" y="228600"/>
            <a:ext cx="6023160" cy="83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rodu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Factor Analysis is a set of techniques used for understanding variables by grouping them into “factors” consisting of similar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It can also be used to confirm whether a hypothesized set of variables groups into a factor or no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t is most useful when a large number of variables needs to be reduced to a smaller set of “factors” that contain most of the variance of the original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Generally, Factor Analysis is done in two stages, called </a:t>
            </a:r>
            <a:endParaRPr b="0" lang="en-US" sz="2000" spc="-1" strike="noStrike">
              <a:solidFill>
                <a:srgbClr val="000000"/>
              </a:solidFill>
              <a:latin typeface="Times New Roman"/>
            </a:endParaRPr>
          </a:p>
          <a:p>
            <a:pPr lvl="3" marL="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raction of Factors and </a:t>
            </a:r>
            <a:endParaRPr b="0" lang="en-US" sz="2000" spc="-1" strike="noStrike">
              <a:solidFill>
                <a:srgbClr val="000000"/>
              </a:solidFill>
              <a:latin typeface="Times New Roman"/>
            </a:endParaRPr>
          </a:p>
          <a:p>
            <a:pPr lvl="3" marL="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tation of the Solution obtained in stag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Factor Analysis is best performed with interval or ratio-scaled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Factor analysis is based on the assumption that all variables correlate to some degree. Consequently, those variables that share similar underlying dimensions should be highly correlated, and those variables that measure dissimilar dimensions should yield low correlations.</a:t>
            </a:r>
            <a:endParaRPr b="0" lang="en-US" sz="2000" spc="-1" strike="noStrike">
              <a:solidFill>
                <a:srgbClr val="000000"/>
              </a:solidFill>
              <a:latin typeface="Times New Roman"/>
            </a:endParaRPr>
          </a:p>
        </p:txBody>
      </p:sp>
      <p:sp>
        <p:nvSpPr>
          <p:cNvPr id="43" name="Text Box 4"/>
          <p:cNvSpPr/>
          <p:nvPr/>
        </p:nvSpPr>
        <p:spPr>
          <a:xfrm>
            <a:off x="3413160" y="75582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609480" y="457200"/>
            <a:ext cx="5486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 the researcher’s task is to find a suitable phrase which captures the essence of the original variables which form the underlying concept or “factor”. In this case, factor 1 could be named “male ego”, or “machismo”, or “pride of ownership” or something similar. With the same mathematical output, interpretations of different researchers may diff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28600" y="1158840"/>
            <a:ext cx="6172200" cy="7107120"/>
          </a:xfrm>
          <a:prstGeom prst="rect">
            <a:avLst/>
          </a:prstGeom>
          <a:noFill/>
          <a:ln w="0">
            <a:noFill/>
          </a:ln>
        </p:spPr>
        <p:style>
          <a:lnRef idx="0"/>
          <a:fillRef idx="0"/>
          <a:effectRef idx="0"/>
          <a:fontRef idx="minor"/>
        </p:style>
        <p:txBody>
          <a:bodyPr lIns="90000" rIns="90000" tIns="46800" bIns="46800" anchor="t">
            <a:spAutoFit/>
          </a:bodyPr>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will attempt to interpret factor 2. We look in  the column for Factor 2, and find that variables 8 and 9 have high loadings of 0.85 and 0.91, respectively. Variable 2 has a loading of -0.41. This indicates that factor 2 is a combination of these three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we look at the table of unrotated factor matrix, a slightly different picture emerges. Here, variable 3 also has a high loading on factor 2, along with variables 8 and 9. However, if we look at the rotated factor matrix, variable 3 has a higher loading on factor 3 as compared to factor 2. </a:t>
            </a:r>
            <a:r>
              <a:rPr b="0" lang="en-US" sz="2000" spc="-1" strike="noStrike">
                <a:solidFill>
                  <a:srgbClr val="ff0000"/>
                </a:solidFill>
                <a:latin typeface="Times New Roman"/>
              </a:rPr>
              <a:t>It is left to the researcher which interpretation he wants to use, as there are no hard and fast rules. </a:t>
            </a:r>
            <a:r>
              <a:rPr b="0" lang="en-US" sz="2000" spc="-1" strike="noStrike">
                <a:solidFill>
                  <a:srgbClr val="000000"/>
                </a:solidFill>
                <a:latin typeface="Times New Roman"/>
              </a:rPr>
              <a:t>Assuming we decide to use the three variables, the related statements are “sense of freedom”,  “comfort” and “safety” (from statements 2, 8 and 9). We may combine these variables into a factor called “utility” or “functional features” or any other similar word or phrase which captures the essence of these four statements /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 Box 4"/>
          <p:cNvSpPr/>
          <p:nvPr/>
        </p:nvSpPr>
        <p:spPr>
          <a:xfrm>
            <a:off x="55468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28600" y="457200"/>
            <a:ext cx="6629400" cy="704340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terpreting Factor 3, we look at the column labelled factor 3 in the table and find that variables 1, 3 and 10 are loaded high on factor 3. According to the unrotated factor matrix, only variable 10 loads high on factor 3. Supposing we stick to rotated matrix, then the combination of “affordability’, “low maintenance” and “cost saving by 3 people legally riding on a 2-wheeler” give the impression that factor 3 could be “economy” or “low cos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now completed interpretation of the 3 factors with eigen values of 1 or more. We will now look at some additional issues which may be of importance in using factor analysis.</a:t>
            </a: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Transformation Matrix</a:t>
            </a:r>
            <a:r>
              <a:rPr b="0" lang="en-US" sz="2000" spc="-1" strike="noStrike">
                <a:solidFill>
                  <a:srgbClr val="000000"/>
                </a:solidFill>
                <a:latin typeface="Times New Roman"/>
              </a:rPr>
              <a:t> - This is the matrix by which you multiply the unrotated factor matrix to get the rotated factor matrix.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04920" y="380880"/>
            <a:ext cx="5943600" cy="8326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Issues in Interpreting Solution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guard against the possibility that a variable may load highly on more than one factors. Strictly speaking, a variable should load close to 1.00 on one and only one factor, and load close to 0 on the other factors. If this is not the case, it indicates that either the sample of respondents have more than one opinion about the variable, or that the question/ variable may be unclear in its phra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issue important in practical use of factor analysis is the answer to the question ‘what should be considered a high loading and what is not a high loading?” Here, unfortunately, there is no clear-cut guideline, and many a time, we must look at relative values in the factor matrix. Sometimes, 0.6 may be treated as a high value, while sometimes 0.9 could be the cutoff for high valu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Text Box 3"/>
          <p:cNvSpPr/>
          <p:nvPr/>
        </p:nvSpPr>
        <p:spPr>
          <a:xfrm>
            <a:off x="49370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45" name="PlaceHolder 2"/>
          <p:cNvSpPr>
            <a:spLocks noGrp="1"/>
          </p:cNvSpPr>
          <p:nvPr>
            <p:ph/>
          </p:nvPr>
        </p:nvSpPr>
        <p:spPr>
          <a:xfrm>
            <a:off x="342720" y="2133720"/>
            <a:ext cx="61722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it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only to the extent that skewness/outliers affect observed correl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f significance tests are performed (r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sampling requir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should be linearly related to one another (in pairs) </a:t>
            </a:r>
            <a:endParaRPr b="0" lang="en-US" sz="3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variables should be correlated at a moderate level </a:t>
            </a:r>
            <a:r>
              <a:rPr b="0" lang="en-US" sz="2000" spc="-1" strike="noStrike">
                <a:solidFill>
                  <a:srgbClr val="000000"/>
                </a:solidFill>
                <a:latin typeface="Times New Roman"/>
              </a:rPr>
              <a:t>(</a:t>
            </a:r>
            <a:r>
              <a:rPr b="0" i="1" lang="en-US" sz="2000" spc="-1" strike="noStrike">
                <a:solidFill>
                  <a:srgbClr val="000000"/>
                </a:solidFill>
                <a:latin typeface="Times New Roman"/>
              </a:rPr>
              <a:t>test with Bartlett’s test of spher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0" y="39600"/>
            <a:ext cx="6705720" cy="80337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pplication Areas/Example</a:t>
            </a:r>
            <a:endParaRPr b="0" lang="en-US" sz="20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jor purpose of factor analysis is the orderly  simplification of a large number of inter-correlated measures to a few representative constructs or factors. In business, a common application area of Factor Analysis is to understand underlying motives of consumers who buy a product category or a brand.</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ked out example will help clarify the use of Factor Analysis in Marketing Research.</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we assume that a two wheeler manufacturer is interested in determining which variables his potential customers think about when they consider his product.</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assume that twenty two-wheeler owners were surveyed by this manufacturer. They were asked to indicate on a seven point scale (1=Completely Agree, 7=Completely Disagree), their agreement or disagreement with a set of ten statements relating to their perceptions and some attributes of the two-wheelers.</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of doing Factor Analysis is to find underlying "factors" which would be fewer than 10 in number, but would be linear combinations of some of the original 10 variabl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Text Box 4"/>
          <p:cNvSpPr/>
          <p:nvPr/>
        </p:nvSpPr>
        <p:spPr>
          <a:xfrm>
            <a:off x="3657600" y="7008840"/>
            <a:ext cx="2016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3520" y="762120"/>
            <a:ext cx="5867280" cy="77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 design for data collection can be stat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 2-wheeler users were surveyed about their perceptions and image attributes of the vehicles they owned. Ten questions were asked to each of them, all answered on a scale of 1 to 7 (1= completely agree, 7= completely disagre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use a 2-wheeler because it is affordabl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t gives me a sense of freedom to own a 2-wheeler.</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Low maintenance cost makes a 2-wheeler very economical in the long run.</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2-wheeler is essentially a man’s vehicl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 feel very powerful when I am on my 2-wheeler.</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ome of my friends who don’t have their own vehicle are jealous of m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I feel good whenever I see the ad for 2-wheeler on T.V., in a magazine or on a hoarding.</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My vehicle gives me a comfortable ride.</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I think 2-wheelers are a safe way to travel.</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Three people should be legally allowed to travel on a 2-wheel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Text Box 4"/>
          <p:cNvSpPr/>
          <p:nvPr/>
        </p:nvSpPr>
        <p:spPr>
          <a:xfrm>
            <a:off x="440388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Object 6"/>
          <p:cNvGraphicFramePr/>
          <p:nvPr/>
        </p:nvGraphicFramePr>
        <p:xfrm>
          <a:off x="378000" y="614520"/>
          <a:ext cx="6134040" cy="6306840"/>
        </p:xfrm>
        <a:graphic>
          <a:graphicData uri="http://schemas.openxmlformats.org/presentationml/2006/ole">
            <p:oleObj progId="Word.Document.12" r:id="rId1" spid="">
              <p:embed/>
              <p:pic>
                <p:nvPicPr>
                  <p:cNvPr id="51" name="Object 6" descr=""/>
                  <p:cNvPicPr/>
                  <p:nvPr/>
                </p:nvPicPr>
                <p:blipFill>
                  <a:blip r:embed="rId2"/>
                  <a:stretch/>
                </p:blipFill>
                <p:spPr>
                  <a:xfrm>
                    <a:off x="378000" y="614520"/>
                    <a:ext cx="6134040" cy="6306840"/>
                  </a:xfrm>
                  <a:prstGeom prst="rect">
                    <a:avLst/>
                  </a:prstGeom>
                  <a:ln w="0">
                    <a:noFill/>
                  </a:ln>
                </p:spPr>
              </p:pic>
            </p:oleObj>
          </a:graphicData>
        </a:graphic>
      </p:graphicFrame>
      <p:sp>
        <p:nvSpPr>
          <p:cNvPr id="52" name="Text Box 7"/>
          <p:cNvSpPr/>
          <p:nvPr/>
        </p:nvSpPr>
        <p:spPr>
          <a:xfrm>
            <a:off x="2968920" y="6975360"/>
            <a:ext cx="349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on next slide...</a:t>
            </a:r>
            <a:endParaRPr b="0" lang="en-US" sz="2400" spc="-1" strike="noStrike">
              <a:solidFill>
                <a:srgbClr val="000000"/>
              </a:solidFill>
              <a:latin typeface="Times New Roman"/>
            </a:endParaRPr>
          </a:p>
        </p:txBody>
      </p:sp>
      <p:sp>
        <p:nvSpPr>
          <p:cNvPr id="53" name="Text Box 8"/>
          <p:cNvSpPr/>
          <p:nvPr/>
        </p:nvSpPr>
        <p:spPr>
          <a:xfrm>
            <a:off x="45561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380880" y="2286000"/>
          <a:ext cx="6248520" cy="3581280"/>
        </p:xfrm>
        <a:graphic>
          <a:graphicData uri="http://schemas.openxmlformats.org/presentationml/2006/ole">
            <p:oleObj progId="Word.Document.12" r:id="rId1" spid="">
              <p:embed/>
              <p:pic>
                <p:nvPicPr>
                  <p:cNvPr id="55" name="Object 2" descr=""/>
                  <p:cNvPicPr/>
                  <p:nvPr/>
                </p:nvPicPr>
                <p:blipFill>
                  <a:blip r:embed="rId2"/>
                  <a:stretch/>
                </p:blipFill>
                <p:spPr>
                  <a:xfrm>
                    <a:off x="380880" y="2286000"/>
                    <a:ext cx="6248520" cy="3581280"/>
                  </a:xfrm>
                  <a:prstGeom prst="rect">
                    <a:avLst/>
                  </a:prstGeom>
                  <a:ln w="0">
                    <a:noFill/>
                  </a:ln>
                </p:spPr>
              </p:pic>
            </p:oleObj>
          </a:graphicData>
        </a:graphic>
      </p:graphicFrame>
      <p:graphicFrame>
        <p:nvGraphicFramePr>
          <p:cNvPr id="56" name="Object 4"/>
          <p:cNvGraphicFramePr/>
          <p:nvPr/>
        </p:nvGraphicFramePr>
        <p:xfrm>
          <a:off x="380880" y="1238400"/>
          <a:ext cx="6324840" cy="1199880"/>
        </p:xfrm>
        <a:graphic>
          <a:graphicData uri="http://schemas.openxmlformats.org/presentationml/2006/ole">
            <p:oleObj progId="Word.Document.12" r:id="rId3" spid="">
              <p:embed/>
              <p:pic>
                <p:nvPicPr>
                  <p:cNvPr id="57" name="Object 4" descr=""/>
                  <p:cNvPicPr/>
                  <p:nvPr/>
                </p:nvPicPr>
                <p:blipFill>
                  <a:blip r:embed="rId4"/>
                  <a:stretch/>
                </p:blipFill>
                <p:spPr>
                  <a:xfrm>
                    <a:off x="380880" y="1238400"/>
                    <a:ext cx="6324840" cy="119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imension Reduction : Factor – Variables: variables 001 to 010; Descriptives : Statistics box – check Initial solution; Correlation Matrix box: check coefficients, KMO &amp; Bartlett’s test of sphericity, Anti-image; Continue; Click Extraction : select Method – Principal axis factoring,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414360" y="762120"/>
            <a:ext cx="5867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ination of correlation matrix (see next slide) in the output indicates that a considerable number of correlations are  more than 0.3 and so the matrix is suitable for fact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With respect to Correlation Matrix if any pair of variables has a value less than 0.3, we can consider dropping one of them from the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5-11-15T09:00:10Z</cp:lastPrinted>
  <dcterms:modified xsi:type="dcterms:W3CDTF">2017-01-08T07:53:58Z</dcterms:modified>
  <cp:revision>72</cp:revision>
  <dc:subject/>
  <dc:title>No Slide Title</dc:title>
</cp:coreProperties>
</file>