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56E4-3777-49DF-B301-11DAB06F0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CF11-F4A1-4251-A332-972D6AA67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1D7A-6AB7-4E69-AD8A-F29C4EDAD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F676-6DC9-42FB-B51F-5E0D0DCAF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7768-4A0C-4A77-AE23-F3B0EB171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2E93-73F2-4307-9A4C-667F140E5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CC6C-B062-4721-95A0-55D231743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D6E0-3884-41A3-AC9B-029C5B77F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139E-0790-4E3C-A287-75591A573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0033-53AD-4D5E-BF48-624D2C07C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F12E-DD40-4EEE-B2E6-67EEA1DB3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6AF2-DE3B-4935-BF9C-BCEFAF17A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C1BC-02BF-4072-98E7-85B90D40F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640D-6DC8-4851-8FAF-F845AAC05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30C8-6441-4B38-A111-8140CB834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D71C-A45D-40CB-81F8-8013E1CC3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32C6-5469-4F8A-9DE5-B72824C7F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6673-0BD1-4CB8-AF1E-0D867AA95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6251-6EB2-4387-B94B-94FF6D9B9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F59D-BCB5-4739-AA33-98EEC4A6C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EE8F-178F-4CD9-9B7E-9FD0487B4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0864-D4CB-4B85-A67A-2F7530BD3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6CC1-A5E2-42C8-9021-2F316067E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5BCB-B5E8-43FC-B972-2EB38DF21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3811-EE5C-457A-B5A8-AED233630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5F6-0F1C-4DF9-B408-D115E378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1C6B-2D34-4AD1-A8D2-A0231738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1A2-3956-4EC7-913A-BD51CBBC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F4E-FC32-4FD0-9031-DBE5065F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8D5-0782-418E-9E0C-47A75361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6CA3-C5F0-4A64-8699-339C15DE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E39-C3C4-4500-A5CD-5E73E4C1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5E6-85CB-4BFE-9547-24E3C447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B76-4293-4A09-8944-A01528CE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F77-624A-4F04-909A-CDF59577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0045-A36A-4540-BD2B-C3F35867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5709-D40D-4283-B34F-85D356BA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2763-5449-4950-A0D3-B7C76E7467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684360" y="435780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1371600" y="4425840"/>
            <a:ext cx="644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entury Gothic"/>
              </a:rPr>
              <a:t>Family 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59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C207F4A-C020-486F-A8AA-1F33296D943F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26" descr="شعار الكلية"/>
          <p:cNvPicPr/>
          <p:nvPr/>
        </p:nvPicPr>
        <p:blipFill>
          <a:blip r:embed="rId2"/>
          <a:stretch/>
        </p:blipFill>
        <p:spPr>
          <a:xfrm>
            <a:off x="3295800" y="550800"/>
            <a:ext cx="2261880" cy="20750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0" y="29224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inical Application of Community Health Nursing (NUR 417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2"/>
          <p:cNvSpPr/>
          <p:nvPr/>
        </p:nvSpPr>
        <p:spPr>
          <a:xfrm>
            <a:off x="179280" y="141300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8604360" y="1341360"/>
            <a:ext cx="306360" cy="122400"/>
            <a:chOff x="8604360" y="1341360"/>
            <a:chExt cx="306360" cy="122400"/>
          </a:xfrm>
        </p:grpSpPr>
        <p:sp>
          <p:nvSpPr>
            <p:cNvPr id="170" name="AutoShape 7"/>
            <p:cNvSpPr/>
            <p:nvPr/>
          </p:nvSpPr>
          <p:spPr>
            <a:xfrm>
              <a:off x="8604360" y="134136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8"/>
            <p:cNvSpPr/>
            <p:nvPr/>
          </p:nvSpPr>
          <p:spPr>
            <a:xfrm>
              <a:off x="8690040" y="1341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>
              <a:off x="8775720" y="1341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Line 12"/>
          <p:cNvSpPr/>
          <p:nvPr/>
        </p:nvSpPr>
        <p:spPr>
          <a:xfrm>
            <a:off x="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468360" y="404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mportance of family heal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250920" y="1571760"/>
            <a:ext cx="88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as a unit of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 of the family health on individual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 of family on community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7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21A5229-D164-42D6-8A76-71F7128FE06E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2"/>
          <p:cNvSpPr/>
          <p:nvPr/>
        </p:nvSpPr>
        <p:spPr>
          <a:xfrm>
            <a:off x="250920" y="11253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6"/>
          <p:cNvGrpSpPr/>
          <p:nvPr/>
        </p:nvGrpSpPr>
        <p:grpSpPr>
          <a:xfrm>
            <a:off x="8604360" y="1052640"/>
            <a:ext cx="306360" cy="122040"/>
            <a:chOff x="8604360" y="1052640"/>
            <a:chExt cx="306360" cy="122040"/>
          </a:xfrm>
        </p:grpSpPr>
        <p:sp>
          <p:nvSpPr>
            <p:cNvPr id="184" name="AutoShape 7"/>
            <p:cNvSpPr/>
            <p:nvPr/>
          </p:nvSpPr>
          <p:spPr>
            <a:xfrm>
              <a:off x="8604360" y="105264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869004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9"/>
            <p:cNvSpPr/>
            <p:nvPr/>
          </p:nvSpPr>
          <p:spPr>
            <a:xfrm>
              <a:off x="877572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611280" y="404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onceptual frame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285840" y="1571760"/>
            <a:ext cx="86072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ceptual framework is a set of concepts integrated into meaningful explanation that helps one interpret human behavior or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frameworks that are particularly useful in community health nursing are presente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al frame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al-functional frame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al frame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92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4186F54-D924-47AD-A389-AC3ED3A42E3A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Line 2"/>
          <p:cNvSpPr/>
          <p:nvPr/>
        </p:nvSpPr>
        <p:spPr>
          <a:xfrm>
            <a:off x="0" y="11253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6"/>
          <p:cNvGrpSpPr/>
          <p:nvPr/>
        </p:nvGrpSpPr>
        <p:grpSpPr>
          <a:xfrm>
            <a:off x="8532720" y="1052640"/>
            <a:ext cx="306360" cy="122040"/>
            <a:chOff x="8532720" y="1052640"/>
            <a:chExt cx="306360" cy="122040"/>
          </a:xfrm>
        </p:grpSpPr>
        <p:sp>
          <p:nvSpPr>
            <p:cNvPr id="198" name="AutoShape 7"/>
            <p:cNvSpPr/>
            <p:nvPr/>
          </p:nvSpPr>
          <p:spPr>
            <a:xfrm>
              <a:off x="8532720" y="105264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8"/>
            <p:cNvSpPr/>
            <p:nvPr/>
          </p:nvSpPr>
          <p:spPr>
            <a:xfrm>
              <a:off x="861840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>
              <a:off x="870408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468360" y="404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eractiona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755640" y="1571760"/>
            <a:ext cx="7888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- Interactional Fra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the family as a unit of interacting personalities and emphasizes communication, roles, conflict, coping  patterns, and decision-mak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20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7CFFCBA-4F60-47BF-A212-1994785A3615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2"/>
          <p:cNvSpPr/>
          <p:nvPr/>
        </p:nvSpPr>
        <p:spPr>
          <a:xfrm>
            <a:off x="0" y="11253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8532720" y="1052640"/>
            <a:ext cx="306360" cy="122040"/>
            <a:chOff x="8532720" y="1052640"/>
            <a:chExt cx="306360" cy="122040"/>
          </a:xfrm>
        </p:grpSpPr>
        <p:sp>
          <p:nvSpPr>
            <p:cNvPr id="212" name="AutoShape 7"/>
            <p:cNvSpPr/>
            <p:nvPr/>
          </p:nvSpPr>
          <p:spPr>
            <a:xfrm>
              <a:off x="8532720" y="105264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>
              <a:off x="861840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9"/>
            <p:cNvSpPr/>
            <p:nvPr/>
          </p:nvSpPr>
          <p:spPr>
            <a:xfrm>
              <a:off x="870408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468360" y="404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eractiona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395280" y="1341360"/>
            <a:ext cx="7888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- Structural-functional Fra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the family as a social system relating to other social systems in the external environment, such as school, work, and the health car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- Developmental Framewor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ies families from a life-cycle perspective by examining members’ changing roles and tasks in each progressive life-cycle stag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22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FC16CD2-2BE1-4E75-A13A-6AE626F688DA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2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family developmental ta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285840" y="1571760"/>
            <a:ext cx="835812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eginning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ing a mutually satisfying marri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 to have or not have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hildbearing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and adjusting to inf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needs of all thre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Family with pre- school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ng to needs of pre-school children to stimulate growth an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234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D2467D8-4DE6-4C3A-94D1-62538EA132EB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40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395280" y="981000"/>
            <a:ext cx="83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Family with school age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ing to the activity of growing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ing joint decision making between children and par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ing and supporting children’s educational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Family with teenagers and young ad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 open communication among memb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ing ethical and moral values within the fam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ing freedom with responsibility of teenag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247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6C6989E-09F0-443E-A265-4DA73519368E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53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24000" y="765000"/>
            <a:ext cx="83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ost- parental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ing for reti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 ties with younger and older gen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ging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ing to ret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ing to loss of spo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26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8C14F6A-3658-41AD-B666-07D3D77E5038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6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4"/>
          <p:cNvSpPr/>
          <p:nvPr/>
        </p:nvSpPr>
        <p:spPr>
          <a:xfrm>
            <a:off x="214200" y="928800"/>
            <a:ext cx="842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uidelines for family health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Focus on the family as a total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Ask goal-direct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Collect data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Combine quantitative and qualit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Exercise professional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Slide Number Placeholder 7"/>
          <p:cNvGrpSpPr/>
          <p:nvPr/>
        </p:nvGrpSpPr>
        <p:grpSpPr>
          <a:xfrm>
            <a:off x="8326440" y="6351480"/>
            <a:ext cx="878040" cy="665280"/>
            <a:chOff x="8326440" y="6351480"/>
            <a:chExt cx="878040" cy="665280"/>
          </a:xfrm>
        </p:grpSpPr>
        <p:pic>
          <p:nvPicPr>
            <p:cNvPr id="27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51480"/>
              <a:ext cx="8780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2F368D2-B53D-4C74-884D-5A7A6E4A2E1F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8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4"/>
          <p:cNvSpPr/>
          <p:nvPr/>
        </p:nvSpPr>
        <p:spPr>
          <a:xfrm>
            <a:off x="179280" y="765000"/>
            <a:ext cx="896472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 and intervention for families must be in partnership with family members, not imposed from by CH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 and intervention for families by CHN must used the three level of preven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with the family collectivel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where the family i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t nursing intervention to the family stage of developmen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validity of family structural varia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ze family strength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Slide Number Placeholder 7"/>
          <p:cNvGrpSpPr/>
          <p:nvPr/>
        </p:nvGrpSpPr>
        <p:grpSpPr>
          <a:xfrm>
            <a:off x="8326440" y="6351480"/>
            <a:ext cx="878040" cy="665280"/>
            <a:chOff x="8326440" y="6351480"/>
            <a:chExt cx="878040" cy="665280"/>
          </a:xfrm>
        </p:grpSpPr>
        <p:pic>
          <p:nvPicPr>
            <p:cNvPr id="289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51480"/>
              <a:ext cx="8780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B8D99B7-6FC4-4A33-B787-C69CFC4E7646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1"/>
          <p:cNvSpPr/>
          <p:nvPr/>
        </p:nvSpPr>
        <p:spPr>
          <a:xfrm>
            <a:off x="2283120" y="98280"/>
            <a:ext cx="52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amily Health Practice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Line 2"/>
          <p:cNvSpPr/>
          <p:nvPr/>
        </p:nvSpPr>
        <p:spPr>
          <a:xfrm>
            <a:off x="179280" y="90792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8604360" y="836640"/>
            <a:ext cx="306360" cy="122040"/>
            <a:chOff x="8604360" y="836640"/>
            <a:chExt cx="306360" cy="122040"/>
          </a:xfrm>
        </p:grpSpPr>
        <p:sp>
          <p:nvSpPr>
            <p:cNvPr id="296" name="AutoShape 7"/>
            <p:cNvSpPr/>
            <p:nvPr/>
          </p:nvSpPr>
          <p:spPr>
            <a:xfrm>
              <a:off x="8604360" y="83664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8"/>
            <p:cNvSpPr/>
            <p:nvPr/>
          </p:nvSpPr>
          <p:spPr>
            <a:xfrm>
              <a:off x="8690040" y="836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9"/>
            <p:cNvSpPr/>
            <p:nvPr/>
          </p:nvSpPr>
          <p:spPr>
            <a:xfrm>
              <a:off x="8775720" y="836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4"/>
          <p:cNvSpPr/>
          <p:nvPr/>
        </p:nvSpPr>
        <p:spPr>
          <a:xfrm>
            <a:off x="179280" y="1268280"/>
            <a:ext cx="8831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Many different methods are used to assess fami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These methods serve to generate information about selected  aspects of family structure and function; the methods must match the purpose for assess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Slide Number Placeholder 7"/>
          <p:cNvGrpSpPr/>
          <p:nvPr/>
        </p:nvGrpSpPr>
        <p:grpSpPr>
          <a:xfrm>
            <a:off x="8296200" y="6370560"/>
            <a:ext cx="908280" cy="669960"/>
            <a:chOff x="8296200" y="6370560"/>
            <a:chExt cx="908280" cy="669960"/>
          </a:xfrm>
        </p:grpSpPr>
        <p:pic>
          <p:nvPicPr>
            <p:cNvPr id="304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7056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8358120" y="6399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D47E297-03DA-4E51-A695-4665371813F8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15"/>
          <p:cNvSpPr/>
          <p:nvPr/>
        </p:nvSpPr>
        <p:spPr>
          <a:xfrm>
            <a:off x="1667880" y="189000"/>
            <a:ext cx="42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ssessmen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324000" y="105264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6"/>
          <p:cNvGrpSpPr/>
          <p:nvPr/>
        </p:nvGrpSpPr>
        <p:grpSpPr>
          <a:xfrm>
            <a:off x="8604360" y="981000"/>
            <a:ext cx="306360" cy="122400"/>
            <a:chOff x="8604360" y="981000"/>
            <a:chExt cx="306360" cy="122400"/>
          </a:xfrm>
        </p:grpSpPr>
        <p:sp>
          <p:nvSpPr>
            <p:cNvPr id="67" name="AutoShape 7"/>
            <p:cNvSpPr/>
            <p:nvPr/>
          </p:nvSpPr>
          <p:spPr>
            <a:xfrm>
              <a:off x="8604360" y="98100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8"/>
            <p:cNvSpPr/>
            <p:nvPr/>
          </p:nvSpPr>
          <p:spPr>
            <a:xfrm>
              <a:off x="8690040" y="98100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9"/>
            <p:cNvSpPr/>
            <p:nvPr/>
          </p:nvSpPr>
          <p:spPr>
            <a:xfrm>
              <a:off x="8775720" y="98100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10"/>
          <p:cNvSpPr/>
          <p:nvPr/>
        </p:nvSpPr>
        <p:spPr>
          <a:xfrm>
            <a:off x="468360" y="208080"/>
            <a:ext cx="86058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395280" y="404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fter completion the lecture the students en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250920" y="1628640"/>
            <a:ext cx="857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roles and functions of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different types of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Characteristics of healthy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Family Health Practice Guide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family health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llection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line for family health assess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7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973ACB7-FD2B-40D8-A216-289B7A503147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Line 2"/>
          <p:cNvSpPr/>
          <p:nvPr/>
        </p:nvSpPr>
        <p:spPr>
          <a:xfrm>
            <a:off x="179280" y="90792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6"/>
          <p:cNvGrpSpPr/>
          <p:nvPr/>
        </p:nvGrpSpPr>
        <p:grpSpPr>
          <a:xfrm>
            <a:off x="8604360" y="836640"/>
            <a:ext cx="306360" cy="122040"/>
            <a:chOff x="8604360" y="836640"/>
            <a:chExt cx="306360" cy="122040"/>
          </a:xfrm>
        </p:grpSpPr>
        <p:sp>
          <p:nvSpPr>
            <p:cNvPr id="311" name="AutoShape 7"/>
            <p:cNvSpPr/>
            <p:nvPr/>
          </p:nvSpPr>
          <p:spPr>
            <a:xfrm>
              <a:off x="8604360" y="83664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8"/>
            <p:cNvSpPr/>
            <p:nvPr/>
          </p:nvSpPr>
          <p:spPr>
            <a:xfrm>
              <a:off x="8690040" y="836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9"/>
            <p:cNvSpPr/>
            <p:nvPr/>
          </p:nvSpPr>
          <p:spPr>
            <a:xfrm>
              <a:off x="8775720" y="836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4"/>
          <p:cNvSpPr/>
          <p:nvPr/>
        </p:nvSpPr>
        <p:spPr>
          <a:xfrm>
            <a:off x="324000" y="907920"/>
            <a:ext cx="8686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co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diagram of the connection between a family and the other system in its ecological environment or its A picture of the family’s patter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es can use an ecomap to identi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resources that are pre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n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s that are present or ab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lance or lack of balance between a family's needs and the resources available to the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Slide Number Placeholder 7"/>
          <p:cNvGrpSpPr/>
          <p:nvPr/>
        </p:nvGrpSpPr>
        <p:grpSpPr>
          <a:xfrm>
            <a:off x="8296200" y="6370560"/>
            <a:ext cx="908280" cy="669960"/>
            <a:chOff x="8296200" y="6370560"/>
            <a:chExt cx="908280" cy="669960"/>
          </a:xfrm>
        </p:grpSpPr>
        <p:pic>
          <p:nvPicPr>
            <p:cNvPr id="319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7056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358120" y="6399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95EDB76-840B-4446-AA45-EC186641411E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15"/>
          <p:cNvSpPr/>
          <p:nvPr/>
        </p:nvSpPr>
        <p:spPr>
          <a:xfrm>
            <a:off x="1667880" y="189000"/>
            <a:ext cx="42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ssessmen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Line 2"/>
          <p:cNvSpPr/>
          <p:nvPr/>
        </p:nvSpPr>
        <p:spPr>
          <a:xfrm>
            <a:off x="179280" y="90792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6"/>
          <p:cNvGrpSpPr/>
          <p:nvPr/>
        </p:nvGrpSpPr>
        <p:grpSpPr>
          <a:xfrm>
            <a:off x="8604360" y="836640"/>
            <a:ext cx="306360" cy="122040"/>
            <a:chOff x="8604360" y="836640"/>
            <a:chExt cx="306360" cy="122040"/>
          </a:xfrm>
        </p:grpSpPr>
        <p:sp>
          <p:nvSpPr>
            <p:cNvPr id="326" name="AutoShape 7"/>
            <p:cNvSpPr/>
            <p:nvPr/>
          </p:nvSpPr>
          <p:spPr>
            <a:xfrm>
              <a:off x="8604360" y="83664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8"/>
            <p:cNvSpPr/>
            <p:nvPr/>
          </p:nvSpPr>
          <p:spPr>
            <a:xfrm>
              <a:off x="8690040" y="836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9"/>
            <p:cNvSpPr/>
            <p:nvPr/>
          </p:nvSpPr>
          <p:spPr>
            <a:xfrm>
              <a:off x="8775720" y="836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4"/>
          <p:cNvSpPr/>
          <p:nvPr/>
        </p:nvSpPr>
        <p:spPr>
          <a:xfrm>
            <a:off x="539640" y="907920"/>
            <a:ext cx="81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Slide Number Placeholder 7"/>
          <p:cNvGrpSpPr/>
          <p:nvPr/>
        </p:nvGrpSpPr>
        <p:grpSpPr>
          <a:xfrm>
            <a:off x="8296200" y="6370560"/>
            <a:ext cx="908280" cy="669960"/>
            <a:chOff x="8296200" y="6370560"/>
            <a:chExt cx="908280" cy="669960"/>
          </a:xfrm>
        </p:grpSpPr>
        <p:pic>
          <p:nvPicPr>
            <p:cNvPr id="334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7056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358120" y="6399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0C714A5-11B1-4389-8A55-7FB6C35B7463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Picture 16" descr="Ecomap - Effects of Depressi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4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214200" y="928800"/>
            <a:ext cx="842976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Gen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graphic picture of family history, usually used over three or more generatio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ogram maps such information as/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s among family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 life ev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of resi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such as race, culture and religious affili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Slide Number Placeholder 7"/>
          <p:cNvGrpSpPr/>
          <p:nvPr/>
        </p:nvGrpSpPr>
        <p:grpSpPr>
          <a:xfrm>
            <a:off x="8296200" y="6370560"/>
            <a:ext cx="908280" cy="669960"/>
            <a:chOff x="8296200" y="6370560"/>
            <a:chExt cx="908280" cy="669960"/>
          </a:xfrm>
        </p:grpSpPr>
        <p:pic>
          <p:nvPicPr>
            <p:cNvPr id="349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7056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8358120" y="6399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F7EED3C-CF70-4A74-9547-D45443C70F62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15"/>
          <p:cNvSpPr/>
          <p:nvPr/>
        </p:nvSpPr>
        <p:spPr>
          <a:xfrm>
            <a:off x="1810800" y="44280"/>
            <a:ext cx="42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ssessmen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5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Slide Number Placeholder 7"/>
          <p:cNvGrpSpPr/>
          <p:nvPr/>
        </p:nvGrpSpPr>
        <p:grpSpPr>
          <a:xfrm>
            <a:off x="8296200" y="6370560"/>
            <a:ext cx="908280" cy="669960"/>
            <a:chOff x="8296200" y="6370560"/>
            <a:chExt cx="908280" cy="669960"/>
          </a:xfrm>
        </p:grpSpPr>
        <p:pic>
          <p:nvPicPr>
            <p:cNvPr id="36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7056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8358120" y="6399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C422FEC-F1BB-42AC-90A7-64C9CC31FDE7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5" name="Picture 14" descr="http://www.genopro.com/genogram/SampleGenogramWithoutEmotionalRelationships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70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4"/>
          <p:cNvSpPr/>
          <p:nvPr/>
        </p:nvSpPr>
        <p:spPr>
          <a:xfrm>
            <a:off x="214200" y="928800"/>
            <a:ext cx="842976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Social Network Support Map or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ives details about the quality and quantity of social conn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s within the system can be elaborated with words, or numbers, or a combination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uses this tool to help the family understand its sources of support and relationships and to form a basis for nursing care planning and interven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Slide Number Placeholder 7"/>
          <p:cNvGrpSpPr/>
          <p:nvPr/>
        </p:nvGrpSpPr>
        <p:grpSpPr>
          <a:xfrm>
            <a:off x="8296200" y="6370560"/>
            <a:ext cx="908280" cy="669960"/>
            <a:chOff x="8296200" y="6370560"/>
            <a:chExt cx="908280" cy="669960"/>
          </a:xfrm>
        </p:grpSpPr>
        <p:pic>
          <p:nvPicPr>
            <p:cNvPr id="37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7056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8358120" y="6399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A7627DB-3E68-44C6-8C33-A6D821BF956E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15"/>
          <p:cNvSpPr/>
          <p:nvPr/>
        </p:nvSpPr>
        <p:spPr>
          <a:xfrm>
            <a:off x="1810800" y="44280"/>
            <a:ext cx="42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ssessmen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85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4"/>
          <p:cNvSpPr/>
          <p:nvPr/>
        </p:nvSpPr>
        <p:spPr>
          <a:xfrm>
            <a:off x="214200" y="928800"/>
            <a:ext cx="8429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Family Health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record of diseases that occur in a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used to trac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s that have genetic b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al health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Slide Number Placeholder 7"/>
          <p:cNvGrpSpPr/>
          <p:nvPr/>
        </p:nvGrpSpPr>
        <p:grpSpPr>
          <a:xfrm>
            <a:off x="8326440" y="6351480"/>
            <a:ext cx="878040" cy="665280"/>
            <a:chOff x="8326440" y="6351480"/>
            <a:chExt cx="878040" cy="665280"/>
          </a:xfrm>
        </p:grpSpPr>
        <p:pic>
          <p:nvPicPr>
            <p:cNvPr id="39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51480"/>
              <a:ext cx="8780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47D6361-2CBD-4A27-A30E-690E6CBF2C10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15"/>
          <p:cNvSpPr/>
          <p:nvPr/>
        </p:nvSpPr>
        <p:spPr>
          <a:xfrm>
            <a:off x="1810800" y="44280"/>
            <a:ext cx="42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ssessmen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2"/>
          <p:cNvSpPr/>
          <p:nvPr/>
        </p:nvSpPr>
        <p:spPr>
          <a:xfrm>
            <a:off x="179280" y="141300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6"/>
          <p:cNvGrpSpPr/>
          <p:nvPr/>
        </p:nvGrpSpPr>
        <p:grpSpPr>
          <a:xfrm>
            <a:off x="8532720" y="1341360"/>
            <a:ext cx="306360" cy="122400"/>
            <a:chOff x="8532720" y="1341360"/>
            <a:chExt cx="306360" cy="122400"/>
          </a:xfrm>
        </p:grpSpPr>
        <p:sp>
          <p:nvSpPr>
            <p:cNvPr id="82" name="AutoShape 7"/>
            <p:cNvSpPr/>
            <p:nvPr/>
          </p:nvSpPr>
          <p:spPr>
            <a:xfrm>
              <a:off x="8532720" y="134136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8"/>
            <p:cNvSpPr/>
            <p:nvPr/>
          </p:nvSpPr>
          <p:spPr>
            <a:xfrm>
              <a:off x="8618400" y="1341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9"/>
            <p:cNvSpPr/>
            <p:nvPr/>
          </p:nvSpPr>
          <p:spPr>
            <a:xfrm>
              <a:off x="8704080" y="1341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Line 12"/>
          <p:cNvSpPr/>
          <p:nvPr/>
        </p:nvSpPr>
        <p:spPr>
          <a:xfrm>
            <a:off x="312840" y="6237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177840" y="784080"/>
            <a:ext cx="896616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in a community setting generally involves working with fami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N (Community Health Nursing) must there for understand the interactions and  dynamics of families so that they can provide appropriate family assessment , planning, intervention and evalu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 an understanding of family dynamics and the context of the community assists the nurse in planning ca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89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B5DD2E9-1E80-44DD-9E4C-FE4B58045D05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179280" y="126828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8604360" y="1197000"/>
            <a:ext cx="306360" cy="122040"/>
            <a:chOff x="8604360" y="1197000"/>
            <a:chExt cx="306360" cy="122040"/>
          </a:xfrm>
        </p:grpSpPr>
        <p:sp>
          <p:nvSpPr>
            <p:cNvPr id="95" name="AutoShape 7"/>
            <p:cNvSpPr/>
            <p:nvPr/>
          </p:nvSpPr>
          <p:spPr>
            <a:xfrm>
              <a:off x="8604360" y="11970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>
              <a:off x="8690040" y="11970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9"/>
            <p:cNvSpPr/>
            <p:nvPr/>
          </p:nvSpPr>
          <p:spPr>
            <a:xfrm>
              <a:off x="8775720" y="11970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Line 12"/>
          <p:cNvSpPr/>
          <p:nvPr/>
        </p:nvSpPr>
        <p:spPr>
          <a:xfrm>
            <a:off x="312840" y="652464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755640" y="47628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empus Sans ITC"/>
              </a:rPr>
              <a:t>Defini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85840" y="1571760"/>
            <a:ext cx="835812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amil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 two or more persons related by birth, marriage, or adoption who reside together in a househ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is a structural unit composed of a man and women who are married and have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lly married or traditionally married. It’s the only form accepted culturally in our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0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7C5DB0E-0AF6-486E-B69A-859E6BB501DA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2"/>
          <p:cNvSpPr/>
          <p:nvPr/>
        </p:nvSpPr>
        <p:spPr>
          <a:xfrm>
            <a:off x="250920" y="11253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"/>
          <p:cNvGrpSpPr/>
          <p:nvPr/>
        </p:nvGrpSpPr>
        <p:grpSpPr>
          <a:xfrm>
            <a:off x="8604360" y="1052640"/>
            <a:ext cx="306360" cy="122040"/>
            <a:chOff x="8604360" y="1052640"/>
            <a:chExt cx="306360" cy="122040"/>
          </a:xfrm>
        </p:grpSpPr>
        <p:sp>
          <p:nvSpPr>
            <p:cNvPr id="109" name="AutoShape 7"/>
            <p:cNvSpPr/>
            <p:nvPr/>
          </p:nvSpPr>
          <p:spPr>
            <a:xfrm>
              <a:off x="8604360" y="105264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8"/>
            <p:cNvSpPr/>
            <p:nvPr/>
          </p:nvSpPr>
          <p:spPr>
            <a:xfrm>
              <a:off x="869004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9"/>
            <p:cNvSpPr/>
            <p:nvPr/>
          </p:nvSpPr>
          <p:spPr>
            <a:xfrm>
              <a:off x="877572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10"/>
          <p:cNvSpPr/>
          <p:nvPr/>
        </p:nvSpPr>
        <p:spPr>
          <a:xfrm>
            <a:off x="684360" y="361800"/>
            <a:ext cx="838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395280" y="404640"/>
            <a:ext cx="8424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haracteristics of the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family is a social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family has a it’s own cultural values and ru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first social group to which the individual is expo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family has a structu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family have certain basic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family moves through stages in its life cyc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17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598A2F0-8FD4-4D5B-9150-0A675C363E51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250920" y="119700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6"/>
          <p:cNvGrpSpPr/>
          <p:nvPr/>
        </p:nvGrpSpPr>
        <p:grpSpPr>
          <a:xfrm>
            <a:off x="8604360" y="1125360"/>
            <a:ext cx="306360" cy="122400"/>
            <a:chOff x="8604360" y="1125360"/>
            <a:chExt cx="306360" cy="122400"/>
          </a:xfrm>
        </p:grpSpPr>
        <p:sp>
          <p:nvSpPr>
            <p:cNvPr id="123" name="AutoShape 7"/>
            <p:cNvSpPr/>
            <p:nvPr/>
          </p:nvSpPr>
          <p:spPr>
            <a:xfrm>
              <a:off x="8604360" y="112536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8"/>
            <p:cNvSpPr/>
            <p:nvPr/>
          </p:nvSpPr>
          <p:spPr>
            <a:xfrm>
              <a:off x="8690040" y="1125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9"/>
            <p:cNvSpPr/>
            <p:nvPr/>
          </p:nvSpPr>
          <p:spPr>
            <a:xfrm>
              <a:off x="8775720" y="112536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12"/>
          <p:cNvSpPr/>
          <p:nvPr/>
        </p:nvSpPr>
        <p:spPr>
          <a:xfrm>
            <a:off x="31284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684360" y="40464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ypes of family stru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326880" y="1190520"/>
            <a:ext cx="8358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mily group consisting of a pair of adults and their child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e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mily that extends beyond the immediate family, consisting of grandparents, aunts, uncles, and cousins all living nearby or in the same househ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entional community of people living together, sharing common interests, property, possessions, resources, and, in some communes, work and inco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31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80C2959-C489-4C24-B531-09E49D65C5AD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71160" y="1483920"/>
            <a:ext cx="85215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of procre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amily that is formed when a couple have their first chi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nded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mily here one parent has children that are not genetically related to the other parent. Either one or both parents may have children from a previous relation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parent fami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parent, not living with a spouse or partner, who has most of the day-to-day responsibilities in raising the child or childr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84360" y="40464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ypes of family stru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"/>
          <p:cNvSpPr/>
          <p:nvPr/>
        </p:nvSpPr>
        <p:spPr>
          <a:xfrm>
            <a:off x="250920" y="119700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312840" y="6453360"/>
            <a:ext cx="883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"/>
          <p:cNvSpPr/>
          <p:nvPr/>
        </p:nvSpPr>
        <p:spPr>
          <a:xfrm>
            <a:off x="324000" y="105264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8604360" y="981000"/>
            <a:ext cx="306360" cy="122400"/>
            <a:chOff x="8604360" y="981000"/>
            <a:chExt cx="306360" cy="122400"/>
          </a:xfrm>
        </p:grpSpPr>
        <p:sp>
          <p:nvSpPr>
            <p:cNvPr id="141" name="AutoShape 7"/>
            <p:cNvSpPr/>
            <p:nvPr/>
          </p:nvSpPr>
          <p:spPr>
            <a:xfrm>
              <a:off x="8604360" y="981000"/>
              <a:ext cx="134640" cy="122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8"/>
            <p:cNvSpPr/>
            <p:nvPr/>
          </p:nvSpPr>
          <p:spPr>
            <a:xfrm>
              <a:off x="8690040" y="98100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9"/>
            <p:cNvSpPr/>
            <p:nvPr/>
          </p:nvSpPr>
          <p:spPr>
            <a:xfrm>
              <a:off x="8775720" y="981000"/>
              <a:ext cx="135000" cy="122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10"/>
          <p:cNvSpPr/>
          <p:nvPr/>
        </p:nvSpPr>
        <p:spPr>
          <a:xfrm>
            <a:off x="1357200" y="361800"/>
            <a:ext cx="771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755640" y="26028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Function of the fami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250920" y="1317600"/>
            <a:ext cx="835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ection, love, care, an emotional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ili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nse of belonging and of history  and p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rituals for rejoicing and grie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 for earning money , supporting partners and child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of labor, chores required to keep the family ru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5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1EAFCF4-35FD-47AA-8915-A58E535788E3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2"/>
          <p:cNvSpPr/>
          <p:nvPr/>
        </p:nvSpPr>
        <p:spPr>
          <a:xfrm>
            <a:off x="179280" y="1125360"/>
            <a:ext cx="8471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8532720" y="1052640"/>
            <a:ext cx="306360" cy="122040"/>
            <a:chOff x="8532720" y="1052640"/>
            <a:chExt cx="306360" cy="122040"/>
          </a:xfrm>
        </p:grpSpPr>
        <p:sp>
          <p:nvSpPr>
            <p:cNvPr id="156" name="AutoShape 7"/>
            <p:cNvSpPr/>
            <p:nvPr/>
          </p:nvSpPr>
          <p:spPr>
            <a:xfrm>
              <a:off x="8532720" y="105264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"/>
            <p:cNvSpPr/>
            <p:nvPr/>
          </p:nvSpPr>
          <p:spPr>
            <a:xfrm>
              <a:off x="861840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9"/>
            <p:cNvSpPr/>
            <p:nvPr/>
          </p:nvSpPr>
          <p:spPr>
            <a:xfrm>
              <a:off x="8704080" y="105264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395280" y="404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Health tasks of the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290520" y="1341360"/>
            <a:ext cx="8607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ing interruptions of health or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king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Health and non- health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nursing care to the sick, disabled and dependent member of the fam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 a home environment conductive to good health and personal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 a reciprocal relationship with the community and health and instit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Slide Number Placeholder 7"/>
          <p:cNvGrpSpPr/>
          <p:nvPr/>
        </p:nvGrpSpPr>
        <p:grpSpPr>
          <a:xfrm>
            <a:off x="8296200" y="6340320"/>
            <a:ext cx="908280" cy="669960"/>
            <a:chOff x="8296200" y="6340320"/>
            <a:chExt cx="908280" cy="669960"/>
          </a:xfrm>
        </p:grpSpPr>
        <p:pic>
          <p:nvPicPr>
            <p:cNvPr id="164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40320"/>
              <a:ext cx="908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DB9DEC8-8F3A-4FC0-ABE0-0B127E72F12B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7:47:33Z</dcterms:created>
  <dc:creator>Carole Morrison</dc:creator>
  <dc:description/>
  <dc:language>en-US</dc:language>
  <cp:lastModifiedBy>User-PC</cp:lastModifiedBy>
  <cp:lastPrinted>2008-03-05T21:18:32Z</cp:lastPrinted>
  <dcterms:modified xsi:type="dcterms:W3CDTF">2017-02-20T04:27:13Z</dcterms:modified>
  <cp:revision>303</cp:revision>
  <dc:subject/>
  <dc:title>Slide 1</dc:title>
</cp:coreProperties>
</file>