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F315-675D-40DD-88E4-37AAEC90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9C90-0425-461B-B556-32670ACB8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3476-A1EA-4135-97FD-1231E4A97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C38E-BF1D-4CFB-BB4D-C6C5693B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D779-C0B8-4317-ABDF-1EBC595CC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71DB-3F4E-4603-AFFC-793F0A8F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D215-9895-4944-AF63-0CA48AFD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CD45-6FFC-4E7B-AB27-B530090A8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8BB0-1261-4057-9378-5A29E750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C7A9-78DB-46FB-8FA8-79B3EFEF3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349-5BCA-463F-AA62-7DF2404C4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392-141D-4669-A9FE-094FAF53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FD7D-3C0C-4F03-B7D6-7CA708A3F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5737-50CE-4AB5-BAB3-D8502894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323F-FD60-4B21-AF0E-5668D90A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FC87-E769-4898-831E-14D669F6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E156-6A46-44C5-AA43-35C0C70B6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BED2-351E-4281-856E-506917A8F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4F93-3A5B-4B05-8599-BC88145E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376E-8F8C-4DF1-B8F2-80695F05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3E15-2670-479B-A3E9-D9736CCF9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0E0B-BF99-45A6-BB2B-05D3855C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4DAF-63F1-4D66-95F6-1B7A7BE04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8AA2-0440-414F-ACAF-F049B82E9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1AF4-7DFC-4F12-A1C1-80F998397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12B-550D-4760-AF4B-B79DA714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B14-F16E-4E48-9207-A3C6CAED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CB5-82B7-4528-AA60-F3736425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DE5-0917-4F15-8F2F-98523663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613-7532-43CD-8BFE-893C4FF1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7BD-94D8-470D-882C-7E5B9378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440-AA20-455C-AAF1-CFCAA2DB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942-1D4F-4458-B099-0096311A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6CA-3FD1-47EC-8BF2-E64D9E86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3E1-5940-4B08-BBD6-F5AD714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A28-C7D4-41A1-9FD0-83F8A202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FD8-D3A0-4233-AC2D-EF2AEE4D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67BE-E4C9-4924-A11E-67EAF513AC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684360" y="43578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1371600" y="4425840"/>
            <a:ext cx="64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entury Gothic"/>
              </a:rPr>
              <a:t>Family 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5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76A4EFC-9ED8-45A4-B422-62DE4A1DA42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6" descr="شعار الكلية"/>
          <p:cNvPicPr/>
          <p:nvPr/>
        </p:nvPicPr>
        <p:blipFill>
          <a:blip r:embed="rId2"/>
          <a:stretch/>
        </p:blipFill>
        <p:spPr>
          <a:xfrm>
            <a:off x="3295800" y="550800"/>
            <a:ext cx="2261880" cy="2075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0" y="2922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nical Application of Community Health Nursing (NUR 41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2"/>
          <p:cNvSpPr/>
          <p:nvPr/>
        </p:nvSpPr>
        <p:spPr>
          <a:xfrm>
            <a:off x="179280" y="141300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8604360" y="1341360"/>
            <a:ext cx="306360" cy="122400"/>
            <a:chOff x="8604360" y="1341360"/>
            <a:chExt cx="306360" cy="122400"/>
          </a:xfrm>
        </p:grpSpPr>
        <p:sp>
          <p:nvSpPr>
            <p:cNvPr id="170" name="AutoShape 7"/>
            <p:cNvSpPr/>
            <p:nvPr/>
          </p:nvSpPr>
          <p:spPr>
            <a:xfrm>
              <a:off x="8604360" y="1341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>
              <a:off x="869004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877572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12"/>
          <p:cNvSpPr/>
          <p:nvPr/>
        </p:nvSpPr>
        <p:spPr>
          <a:xfrm>
            <a:off x="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46836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mportance of family heal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50920" y="157176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as a unit of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the family health on individu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family on community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7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B6593DA-65BD-4CD1-8A1A-27978E3F1D7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5092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8604360" y="1052640"/>
            <a:ext cx="306360" cy="122040"/>
            <a:chOff x="8604360" y="1052640"/>
            <a:chExt cx="306360" cy="122040"/>
          </a:xfrm>
        </p:grpSpPr>
        <p:sp>
          <p:nvSpPr>
            <p:cNvPr id="184" name="AutoShape 7"/>
            <p:cNvSpPr/>
            <p:nvPr/>
          </p:nvSpPr>
          <p:spPr>
            <a:xfrm>
              <a:off x="860436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869004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"/>
            <p:cNvSpPr/>
            <p:nvPr/>
          </p:nvSpPr>
          <p:spPr>
            <a:xfrm>
              <a:off x="877572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1128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nceptual frame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285840" y="1571760"/>
            <a:ext cx="8607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ceptual framework is a set of concepts integrated into meaningful explanation that helps one interpret human behavior or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frameworks that are particularly useful in community health nursing are presen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al frame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-functional frame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al frame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9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673EB3F-76CC-4B81-A8F9-7E7EB6931E8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2"/>
          <p:cNvSpPr/>
          <p:nvPr/>
        </p:nvSpPr>
        <p:spPr>
          <a:xfrm>
            <a:off x="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8532720" y="1052640"/>
            <a:ext cx="306360" cy="122040"/>
            <a:chOff x="8532720" y="1052640"/>
            <a:chExt cx="306360" cy="122040"/>
          </a:xfrm>
        </p:grpSpPr>
        <p:sp>
          <p:nvSpPr>
            <p:cNvPr id="198" name="AutoShape 7"/>
            <p:cNvSpPr/>
            <p:nvPr/>
          </p:nvSpPr>
          <p:spPr>
            <a:xfrm>
              <a:off x="853272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8"/>
            <p:cNvSpPr/>
            <p:nvPr/>
          </p:nvSpPr>
          <p:spPr>
            <a:xfrm>
              <a:off x="861840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870408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46836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erac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755640" y="1571760"/>
            <a:ext cx="788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- Interactional Fra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the family as a unit of interacting personalities and emphasizes communication, roles, conflict, coping  patterns, and decision-mak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0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747C668-E74F-4951-8926-70F2BC0D271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2"/>
          <p:cNvSpPr/>
          <p:nvPr/>
        </p:nvSpPr>
        <p:spPr>
          <a:xfrm>
            <a:off x="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8532720" y="1052640"/>
            <a:ext cx="306360" cy="122040"/>
            <a:chOff x="8532720" y="1052640"/>
            <a:chExt cx="306360" cy="122040"/>
          </a:xfrm>
        </p:grpSpPr>
        <p:sp>
          <p:nvSpPr>
            <p:cNvPr id="212" name="AutoShape 7"/>
            <p:cNvSpPr/>
            <p:nvPr/>
          </p:nvSpPr>
          <p:spPr>
            <a:xfrm>
              <a:off x="853272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861840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"/>
            <p:cNvSpPr/>
            <p:nvPr/>
          </p:nvSpPr>
          <p:spPr>
            <a:xfrm>
              <a:off x="870408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46836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erac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95280" y="1341360"/>
            <a:ext cx="7888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- Structural-functional Fra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the family as a social system relating to other social systems in the external environment, such as school, work, and the health car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- Developmental Framewo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s families from a life-cycle perspective by examining members’ changing roles and tasks in each progressive life-cycle stag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2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B7F2EA3-93F7-4CAB-B4DC-DD41401C20A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2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developmental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285840" y="1571760"/>
            <a:ext cx="835812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eginning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ing a mutually satisfying marri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to have or not have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hildbearing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and adjusting to inf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needs of all thre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Family with pre- school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to needs of pre-school children to stimulate growt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3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F298FF6-5E4F-4F7F-972E-A89450F9018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40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395280" y="98100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Family with school age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ing to the activity of growing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ing joint decision making between children and par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ing and supporting children’s educational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Family with teenagers and young ad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open communication among mem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 ethical and moral values within the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ing freedom with responsibility of teenag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47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B4B0B1B-8434-44C3-8500-2D6C12ACBEAD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53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24000" y="76500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ost- parental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ing for reti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ties with younger and older gen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ging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ing to ret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ing to loss of spo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658DA40-793E-450D-AE49-4D2BE34687E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214200" y="92880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uidelines for family health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Focus on the family as a tot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sk goal-direct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Collect data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Combine quantitative and qualit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Exercise professional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Slide Number Placeholder 7"/>
          <p:cNvGrpSpPr/>
          <p:nvPr/>
        </p:nvGrpSpPr>
        <p:grpSpPr>
          <a:xfrm>
            <a:off x="8326440" y="6351480"/>
            <a:ext cx="878040" cy="665280"/>
            <a:chOff x="8326440" y="6351480"/>
            <a:chExt cx="878040" cy="665280"/>
          </a:xfrm>
        </p:grpSpPr>
        <p:pic>
          <p:nvPicPr>
            <p:cNvPr id="2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51480"/>
              <a:ext cx="8780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B5D1F64-D71F-4F8E-8D96-22B979BA9CE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179280" y="765000"/>
            <a:ext cx="896472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and intervention for families must be in partnership with family members, not imposed from by CH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and intervention for families by CHN must used the three level of preven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with the family collectivel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here the family 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t nursing intervention to the family stage of developm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validity of family structural vari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family strength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Slide Number Placeholder 7"/>
          <p:cNvGrpSpPr/>
          <p:nvPr/>
        </p:nvGrpSpPr>
        <p:grpSpPr>
          <a:xfrm>
            <a:off x="8326440" y="6351480"/>
            <a:ext cx="878040" cy="665280"/>
            <a:chOff x="8326440" y="6351480"/>
            <a:chExt cx="878040" cy="665280"/>
          </a:xfrm>
        </p:grpSpPr>
        <p:pic>
          <p:nvPicPr>
            <p:cNvPr id="2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51480"/>
              <a:ext cx="8780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43C6F2F-7E73-4783-91D3-787D1DDB733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"/>
          <p:cNvSpPr/>
          <p:nvPr/>
        </p:nvSpPr>
        <p:spPr>
          <a:xfrm>
            <a:off x="2283120" y="98280"/>
            <a:ext cx="52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amily Health Practic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2"/>
          <p:cNvSpPr/>
          <p:nvPr/>
        </p:nvSpPr>
        <p:spPr>
          <a:xfrm>
            <a:off x="179280" y="90792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8604360" y="836640"/>
            <a:ext cx="306360" cy="122040"/>
            <a:chOff x="8604360" y="836640"/>
            <a:chExt cx="306360" cy="122040"/>
          </a:xfrm>
        </p:grpSpPr>
        <p:sp>
          <p:nvSpPr>
            <p:cNvPr id="296" name="AutoShape 7"/>
            <p:cNvSpPr/>
            <p:nvPr/>
          </p:nvSpPr>
          <p:spPr>
            <a:xfrm>
              <a:off x="8604360" y="836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8"/>
            <p:cNvSpPr/>
            <p:nvPr/>
          </p:nvSpPr>
          <p:spPr>
            <a:xfrm>
              <a:off x="869004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9"/>
            <p:cNvSpPr/>
            <p:nvPr/>
          </p:nvSpPr>
          <p:spPr>
            <a:xfrm>
              <a:off x="877572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4"/>
          <p:cNvSpPr/>
          <p:nvPr/>
        </p:nvSpPr>
        <p:spPr>
          <a:xfrm>
            <a:off x="179280" y="1268280"/>
            <a:ext cx="8831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any different methods are used to assess fami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These methods serve to generate information about selected  aspects of family structure and function; the methods must match the purpose for asse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0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AFFB2BC-5D13-4C89-9936-63E42106E63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15"/>
          <p:cNvSpPr/>
          <p:nvPr/>
        </p:nvSpPr>
        <p:spPr>
          <a:xfrm>
            <a:off x="1667880" y="18900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24000" y="105264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8604360" y="981000"/>
            <a:ext cx="306360" cy="122400"/>
            <a:chOff x="8604360" y="981000"/>
            <a:chExt cx="306360" cy="122400"/>
          </a:xfrm>
        </p:grpSpPr>
        <p:sp>
          <p:nvSpPr>
            <p:cNvPr id="67" name="AutoShape 7"/>
            <p:cNvSpPr/>
            <p:nvPr/>
          </p:nvSpPr>
          <p:spPr>
            <a:xfrm>
              <a:off x="8604360" y="98100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8"/>
            <p:cNvSpPr/>
            <p:nvPr/>
          </p:nvSpPr>
          <p:spPr>
            <a:xfrm>
              <a:off x="869004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"/>
            <p:cNvSpPr/>
            <p:nvPr/>
          </p:nvSpPr>
          <p:spPr>
            <a:xfrm>
              <a:off x="877572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10"/>
          <p:cNvSpPr/>
          <p:nvPr/>
        </p:nvSpPr>
        <p:spPr>
          <a:xfrm>
            <a:off x="468360" y="208080"/>
            <a:ext cx="8605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9528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fter completion the lecture the students en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250920" y="1628640"/>
            <a:ext cx="857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roles and function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different types of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Characteristics of healthy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Family Health Practice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family health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 for family health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7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C56B96B-1655-408D-BE53-D973E8228EE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"/>
          <p:cNvSpPr/>
          <p:nvPr/>
        </p:nvSpPr>
        <p:spPr>
          <a:xfrm>
            <a:off x="179280" y="90792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6"/>
          <p:cNvGrpSpPr/>
          <p:nvPr/>
        </p:nvGrpSpPr>
        <p:grpSpPr>
          <a:xfrm>
            <a:off x="8604360" y="836640"/>
            <a:ext cx="306360" cy="122040"/>
            <a:chOff x="8604360" y="836640"/>
            <a:chExt cx="306360" cy="122040"/>
          </a:xfrm>
        </p:grpSpPr>
        <p:sp>
          <p:nvSpPr>
            <p:cNvPr id="311" name="AutoShape 7"/>
            <p:cNvSpPr/>
            <p:nvPr/>
          </p:nvSpPr>
          <p:spPr>
            <a:xfrm>
              <a:off x="8604360" y="836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8"/>
            <p:cNvSpPr/>
            <p:nvPr/>
          </p:nvSpPr>
          <p:spPr>
            <a:xfrm>
              <a:off x="869004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9"/>
            <p:cNvSpPr/>
            <p:nvPr/>
          </p:nvSpPr>
          <p:spPr>
            <a:xfrm>
              <a:off x="877572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4"/>
          <p:cNvSpPr/>
          <p:nvPr/>
        </p:nvSpPr>
        <p:spPr>
          <a:xfrm>
            <a:off x="324000" y="9079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o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diagram of the connection between a family and the other system in its ecological environment or its A picture of the family’s patter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 can use an ecomap to ident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resources that are pre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s that are present or ab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lance or lack of balance between a family's needs and the resources available to the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1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1371FEF-62E2-402E-9407-9D8DDCD3F56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15"/>
          <p:cNvSpPr/>
          <p:nvPr/>
        </p:nvSpPr>
        <p:spPr>
          <a:xfrm>
            <a:off x="1667880" y="18900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2"/>
          <p:cNvSpPr/>
          <p:nvPr/>
        </p:nvSpPr>
        <p:spPr>
          <a:xfrm>
            <a:off x="179280" y="90792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8604360" y="836640"/>
            <a:ext cx="306360" cy="122040"/>
            <a:chOff x="8604360" y="836640"/>
            <a:chExt cx="306360" cy="122040"/>
          </a:xfrm>
        </p:grpSpPr>
        <p:sp>
          <p:nvSpPr>
            <p:cNvPr id="326" name="AutoShape 7"/>
            <p:cNvSpPr/>
            <p:nvPr/>
          </p:nvSpPr>
          <p:spPr>
            <a:xfrm>
              <a:off x="8604360" y="836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8"/>
            <p:cNvSpPr/>
            <p:nvPr/>
          </p:nvSpPr>
          <p:spPr>
            <a:xfrm>
              <a:off x="869004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9"/>
            <p:cNvSpPr/>
            <p:nvPr/>
          </p:nvSpPr>
          <p:spPr>
            <a:xfrm>
              <a:off x="877572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539640" y="907920"/>
            <a:ext cx="81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3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8AB2AD2-EB7E-4607-8907-1A1DBCF5C5A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16" descr="Ecomap - Effects of Depressi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4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214200" y="928800"/>
            <a:ext cx="842976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Ge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graphic picture of family history, usually used over three or more generati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ogram maps such information as/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s among 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life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of res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such as race, culture and religious affili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4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362FA54-D163-46C6-83D7-3BC49C2E323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15"/>
          <p:cNvSpPr/>
          <p:nvPr/>
        </p:nvSpPr>
        <p:spPr>
          <a:xfrm>
            <a:off x="1810800" y="44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5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6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7A681CD-81EE-4A3F-BFF3-00F95861C61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Picture 14" descr="http://www.genopro.com/genogram/SampleGenogramWithoutEmotionalRelationship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70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4"/>
          <p:cNvSpPr/>
          <p:nvPr/>
        </p:nvSpPr>
        <p:spPr>
          <a:xfrm>
            <a:off x="214200" y="928800"/>
            <a:ext cx="84297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Social Network Support Map o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ives details about the quality and quantity of social conn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s within the system can be elaborated with words, or numbers, or a combination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uses this tool to help the family understand its sources of support and relationships and to form a basis for nursing care planning and interven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7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5850259-70E5-4EF1-BBA0-D9AAAD635C2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15"/>
          <p:cNvSpPr/>
          <p:nvPr/>
        </p:nvSpPr>
        <p:spPr>
          <a:xfrm>
            <a:off x="1810800" y="44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8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214200" y="928800"/>
            <a:ext cx="842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Family Healt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record of diseases that occur in a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to tr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that have genetic b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al health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Slide Number Placeholder 7"/>
          <p:cNvGrpSpPr/>
          <p:nvPr/>
        </p:nvGrpSpPr>
        <p:grpSpPr>
          <a:xfrm>
            <a:off x="8326440" y="6351480"/>
            <a:ext cx="878040" cy="665280"/>
            <a:chOff x="8326440" y="6351480"/>
            <a:chExt cx="878040" cy="665280"/>
          </a:xfrm>
        </p:grpSpPr>
        <p:pic>
          <p:nvPicPr>
            <p:cNvPr id="39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51480"/>
              <a:ext cx="8780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160C069-D29E-4340-8399-3C098C200DA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15"/>
          <p:cNvSpPr/>
          <p:nvPr/>
        </p:nvSpPr>
        <p:spPr>
          <a:xfrm>
            <a:off x="1810800" y="44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>
            <a:off x="179280" y="141300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8532720" y="1341360"/>
            <a:ext cx="306360" cy="122400"/>
            <a:chOff x="8532720" y="1341360"/>
            <a:chExt cx="306360" cy="122400"/>
          </a:xfrm>
        </p:grpSpPr>
        <p:sp>
          <p:nvSpPr>
            <p:cNvPr id="82" name="AutoShape 7"/>
            <p:cNvSpPr/>
            <p:nvPr/>
          </p:nvSpPr>
          <p:spPr>
            <a:xfrm>
              <a:off x="8532720" y="1341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8"/>
            <p:cNvSpPr/>
            <p:nvPr/>
          </p:nvSpPr>
          <p:spPr>
            <a:xfrm>
              <a:off x="861840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>
              <a:off x="870408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12"/>
          <p:cNvSpPr/>
          <p:nvPr/>
        </p:nvSpPr>
        <p:spPr>
          <a:xfrm>
            <a:off x="312840" y="6237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177840" y="784080"/>
            <a:ext cx="89661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in a community setting generally involves working with fami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N (Community Health Nursing) must there for understand the interactions and  dynamics of families so that they can provide appropriate family assessment , planning, intervention and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an understanding of family dynamics and the context of the community assists the nurse in planning c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B71455E-48A0-4811-9952-725F53355B6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179280" y="126828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604360" y="1197000"/>
            <a:ext cx="306360" cy="122040"/>
            <a:chOff x="8604360" y="1197000"/>
            <a:chExt cx="306360" cy="122040"/>
          </a:xfrm>
        </p:grpSpPr>
        <p:sp>
          <p:nvSpPr>
            <p:cNvPr id="95" name="AutoShape 7"/>
            <p:cNvSpPr/>
            <p:nvPr/>
          </p:nvSpPr>
          <p:spPr>
            <a:xfrm>
              <a:off x="8604360" y="11970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8690040" y="11970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8775720" y="11970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Line 12"/>
          <p:cNvSpPr/>
          <p:nvPr/>
        </p:nvSpPr>
        <p:spPr>
          <a:xfrm>
            <a:off x="312840" y="652464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755640" y="476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Defin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85840" y="1571760"/>
            <a:ext cx="835812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mil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 two or more persons related by birth, marriage, or adoption who reside together in a househ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is a structural unit composed of a man and women who are married and have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ly married or traditionally married. It’s the only form accepted culturally in our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0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3CD34F9-9934-43BB-AC50-CB28C0A12B4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25092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8604360" y="1052640"/>
            <a:ext cx="306360" cy="122040"/>
            <a:chOff x="8604360" y="1052640"/>
            <a:chExt cx="306360" cy="122040"/>
          </a:xfrm>
        </p:grpSpPr>
        <p:sp>
          <p:nvSpPr>
            <p:cNvPr id="109" name="AutoShape 7"/>
            <p:cNvSpPr/>
            <p:nvPr/>
          </p:nvSpPr>
          <p:spPr>
            <a:xfrm>
              <a:off x="860436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"/>
            <p:cNvSpPr/>
            <p:nvPr/>
          </p:nvSpPr>
          <p:spPr>
            <a:xfrm>
              <a:off x="869004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"/>
            <p:cNvSpPr/>
            <p:nvPr/>
          </p:nvSpPr>
          <p:spPr>
            <a:xfrm>
              <a:off x="877572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0"/>
          <p:cNvSpPr/>
          <p:nvPr/>
        </p:nvSpPr>
        <p:spPr>
          <a:xfrm>
            <a:off x="684360" y="361800"/>
            <a:ext cx="838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95280" y="404640"/>
            <a:ext cx="8424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racteristic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is a social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has a it’s own cultural values and ru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first social group to which the individual is expo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has a structu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have certain basic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moves through stages in its life cyc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17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80125FA-4F15-40BD-BA05-AA7B4F3509E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250920" y="119700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"/>
          <p:cNvGrpSpPr/>
          <p:nvPr/>
        </p:nvGrpSpPr>
        <p:grpSpPr>
          <a:xfrm>
            <a:off x="8604360" y="1125360"/>
            <a:ext cx="306360" cy="122400"/>
            <a:chOff x="8604360" y="1125360"/>
            <a:chExt cx="306360" cy="122400"/>
          </a:xfrm>
        </p:grpSpPr>
        <p:sp>
          <p:nvSpPr>
            <p:cNvPr id="123" name="AutoShape 7"/>
            <p:cNvSpPr/>
            <p:nvPr/>
          </p:nvSpPr>
          <p:spPr>
            <a:xfrm>
              <a:off x="8604360" y="1125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8690040" y="1125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8775720" y="1125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684360" y="4046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ypes of family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326880" y="1190520"/>
            <a:ext cx="8358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mily group consisting of a pair of adults and their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mily that extends beyond the immediate family, consisting of grandparents, aunts, uncles, and cousins all living nearby or in the same house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ntional community of people living together, sharing common interests, property, possessions, resources, and, in some communes, work and in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3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3CAA6C8-DC15-4477-B22A-0FF96DA9361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71160" y="1483920"/>
            <a:ext cx="8521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mily that is formed when a couple have their first chi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nded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mily here one parent has children that are not genetically related to the other parent. Either one or both parents may have children from a previous relatio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arent fami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arent, not living with a spouse or partner, who has most of the day-to-day responsibilities in raising the child or child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84360" y="4046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ypes of family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"/>
          <p:cNvSpPr/>
          <p:nvPr/>
        </p:nvSpPr>
        <p:spPr>
          <a:xfrm>
            <a:off x="250920" y="119700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324000" y="105264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8604360" y="981000"/>
            <a:ext cx="306360" cy="122400"/>
            <a:chOff x="8604360" y="981000"/>
            <a:chExt cx="306360" cy="122400"/>
          </a:xfrm>
        </p:grpSpPr>
        <p:sp>
          <p:nvSpPr>
            <p:cNvPr id="141" name="AutoShape 7"/>
            <p:cNvSpPr/>
            <p:nvPr/>
          </p:nvSpPr>
          <p:spPr>
            <a:xfrm>
              <a:off x="8604360" y="98100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8"/>
            <p:cNvSpPr/>
            <p:nvPr/>
          </p:nvSpPr>
          <p:spPr>
            <a:xfrm>
              <a:off x="869004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9"/>
            <p:cNvSpPr/>
            <p:nvPr/>
          </p:nvSpPr>
          <p:spPr>
            <a:xfrm>
              <a:off x="877572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0"/>
          <p:cNvSpPr/>
          <p:nvPr/>
        </p:nvSpPr>
        <p:spPr>
          <a:xfrm>
            <a:off x="1357200" y="361800"/>
            <a:ext cx="771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755640" y="260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unction of the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250920" y="13176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on, love, care, an emotional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il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nse of belonging and of history  and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rituals for rejoicing and grie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for earning money , supporting partners and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of labor, chores required to keep the family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5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57689F4-41B4-4001-951F-B765D6C8E9E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>
            <a:off x="179280" y="112536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8532720" y="1052640"/>
            <a:ext cx="306360" cy="122040"/>
            <a:chOff x="8532720" y="1052640"/>
            <a:chExt cx="306360" cy="122040"/>
          </a:xfrm>
        </p:grpSpPr>
        <p:sp>
          <p:nvSpPr>
            <p:cNvPr id="156" name="AutoShape 7"/>
            <p:cNvSpPr/>
            <p:nvPr/>
          </p:nvSpPr>
          <p:spPr>
            <a:xfrm>
              <a:off x="853272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>
              <a:off x="861840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>
              <a:off x="870408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9528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ealth task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290520" y="1341360"/>
            <a:ext cx="8607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ing interruptions of health or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king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Health and non- health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nursing care to the sick, disabled and dependent member of the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a home environment conductive to good health and personal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a reciprocal relationship with the community and health and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6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AB84F9E-2C21-4656-9165-D65D40A4B57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47:33Z</dcterms:created>
  <dc:creator>Carole Morrison</dc:creator>
  <dc:description/>
  <dc:language>en-US</dc:language>
  <cp:lastModifiedBy>User-PC</cp:lastModifiedBy>
  <cp:lastPrinted>2008-03-05T21:18:32Z</cp:lastPrinted>
  <dcterms:modified xsi:type="dcterms:W3CDTF">2017-02-20T04:27:13Z</dcterms:modified>
  <cp:revision>303</cp:revision>
  <dc:subject/>
  <dc:title>Slide 1</dc:title>
</cp:coreProperties>
</file>