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2.jpeg" ContentType="image/jpeg"/>
  <Override PartName="/ppt/media/image14.png" ContentType="image/png"/>
  <Override PartName="/ppt/media/image18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EAF8-D0EB-47E3-838F-177B74EE9E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1B90-8A9D-43D4-ADC9-4146E66B4C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A9CE-1EE3-4CD1-B3AD-E5A3649E7B0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09FB-6D86-409B-B0BD-2EBE9A5072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BF22-3F6E-422E-A781-8773737C29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71BD-4747-41F0-9DB9-F3F491882A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B096-45F9-420F-84AF-28D6AC35FC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4A16-F63B-4D69-91F6-89E3B05978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087F-86C8-40EF-8FA4-410B18DE6E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28E3-0A29-4EB1-8225-C27C26CFE0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284C-AC70-43ED-81CE-4B2E74375B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7143-9FA1-4EE6-ABD2-E1AC952CA1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1058-8E1E-4E24-A4BA-7FA1634786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1F3C-B612-49C8-92E8-D0EC8C52D2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C3D-5FEF-41BB-8F79-AC534EE5B8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0DE0-720F-464C-B647-9CA947E2FF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3E0C-21F0-4BBC-9D8F-C7F7461D7A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2CB-350D-4F48-BDBC-0F036FB1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985-37CB-40C2-AC44-BF4D003C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54A-FD3F-4072-AE1F-6807A933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894-2476-4B4D-A1D2-BA5C3B95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6472-57C0-4988-A20A-FA6C7A51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31EF-2D29-4CEE-B77A-904A376A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3A91-D5C5-469A-822E-08A6DA94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E49E-0D95-4868-B94F-99519936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56CA-57C2-450A-9128-4280467A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8368-0167-4AB7-818E-3B8ABD4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A0E6-DFB0-4EEA-B796-251D10F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92B-C123-46EB-9E77-F963798A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38D0-A69A-48F6-97FA-210AC9B9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0147-75EC-4162-8220-ED5FDC6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CAB5-8C1D-478D-A336-D1FBE08C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2057-9222-4148-933A-80EFE0C2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ED24-EA0D-4149-B69C-E474F3C1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393-539B-4D3E-9409-978E222E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E53-699B-489D-9252-33F8F95B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B8F-1C77-4FB5-92C3-DABE5492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9A2-31B4-49DC-8E32-AC9AC7B0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461-6028-4990-8DE1-C88101B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C7B-7768-4C4A-8E05-C6BE1C0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651-D4E4-4823-A01B-18EB4065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1984-309A-4C26-9EC2-5DCD8BB6D27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64FE-66E7-4710-981D-F4BDFC9F714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Handout%20for%20oversea%20students/Nemotodes/materials/Filaeial%20parasites/life%20cycle.jp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عنصر نائب للتذييل 4"/>
          <p:cNvSpPr/>
          <p:nvPr/>
        </p:nvSpPr>
        <p:spPr>
          <a:xfrm>
            <a:off x="1066680" y="541008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Ali Bbdullah M. Al mar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D student at KS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301-7351-460D-B571-2DF7A06C13C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219320" y="1676520"/>
            <a:ext cx="71247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ymphatic Filariasis / Elephantias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عنصر نائب للتذييل 4"/>
          <p:cNvSpPr/>
          <p:nvPr/>
        </p:nvSpPr>
        <p:spPr>
          <a:xfrm>
            <a:off x="1371600" y="35812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  <a:cs typeface="PT Bold Dusky"/>
              </a:rPr>
              <a:t>الفيلاريا الليمفاوية / داء الفي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8396-5B35-45CD-A7F4-CA12CA7DF23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2286000"/>
            <a:ext cx="815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Host: Mosqutoes (intermediate ho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Human (final ho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Location: Lymphatics and lymph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Infective stage: Infective larva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stage: Microfilaria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Diagnostic stage: Microfilaria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219320" y="609480"/>
            <a:ext cx="74674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aracteristic of life cyc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A628-DFE4-4659-ACB5-1648C5FF28A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308160" y="1295280"/>
            <a:ext cx="850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  <a:hlinkClick r:id="rId1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3" descr="B_malayi_LifeCycle"/>
          <p:cNvPicPr/>
          <p:nvPr/>
        </p:nvPicPr>
        <p:blipFill>
          <a:blip r:embed="rId2"/>
          <a:stretch/>
        </p:blipFill>
        <p:spPr>
          <a:xfrm>
            <a:off x="1295280" y="228600"/>
            <a:ext cx="7543800" cy="60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250B-272E-42C1-8514-D25E6D8F56E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Wuchereria Life Cycl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W_bancrofti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أعراض الإصابة الحادة بداء الفيل هي:</a:t>
            </a:r>
            <a:br>
              <a:rPr sz="3600"/>
            </a:b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ارتفاع درجة الحرار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لم بالمنطقة أسفل الحوض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وجود رعش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وجود عر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صداع وقيئ و آلا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ضخم بالغدد الليمفاو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DF18-7DEF-4DDC-903E-50AFD1768FF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قرح بالجل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لم بالعظام والمفاص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شعور بالتعب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قد تحدث خطوط حمراء على الذراع أو السا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قد تظهر خراريج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scesses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على الجلد أو بالغدد الليمفاوية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98DE-4CCD-4DD6-872D-8D8DE7BAAF1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306A-142D-4AD2-A362-A9DA226FBFF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9807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Phenomen which the number of microfilariae in peripherial blood is very low density during daytime, but increase from evening to midnight and reach the greatest density at 10p.m to 2 a.m.May be related to cerebral activity and vasoactivity of pulmonary vessel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1066680" y="687240"/>
            <a:ext cx="769644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cturnal periodi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237-71A0-4A3A-9A4F-CD57456D232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04920" y="762120"/>
            <a:ext cx="868680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va deposited by mosquito b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ravel through dermis to lymphatic vess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Growth (approx 9 months) to mature worms(20-100mm lo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orms live 5-7 years (occasionally up to15 yea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Mate-&gt;Microfilariae (1st stage larv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Females-&gt;release up to 10,000 microfilariae/day into bloodstr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Microfilarie taken up by mosquito b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evelop into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stage larva over 10-14 days inside mosquito v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83F4-C4A9-4CF1-8F8A-D9508D98DF6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5238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vessels that collect fluid that leaks out of the blood into tissues (lymp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irects lymph back into the blood stre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5" descr="lymphatic system"/>
          <p:cNvPicPr/>
          <p:nvPr/>
        </p:nvPicPr>
        <p:blipFill>
          <a:blip r:embed="rId1"/>
          <a:stretch/>
        </p:blipFill>
        <p:spPr>
          <a:xfrm>
            <a:off x="5781600" y="2819520"/>
            <a:ext cx="336240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1371600" y="68580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ymphatic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61AC-9DCA-4873-B5AC-0CCC28CCA4D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33520" y="168768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ly asymptoma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ptoms develop with increasing numbers of w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than 1/3 of infected individuals have acute sympt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nical Course is 3 pha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symptomatic Microfilarem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cute Adenolymphangitis (AD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hronic/Irreversible lymphed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uperimposed upon repeated episodes of A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400800" y="6477120"/>
            <a:ext cx="2743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1066680" y="609480"/>
            <a:ext cx="762012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linical Cour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عنصر نائب لرقم الشريحة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AEFF-EE34-48E3-86E7-D84A03463FC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57200" y="177012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ents with sudden onset of fever and painful lymphadenopat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rograde Lymphangit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ammation spreads distally away from lymph node gro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mune mediated response to dying wo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common areas: Inguinal nodes and Lower extrem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WordArt 6"/>
          <p:cNvSpPr txBox="1"/>
          <p:nvPr/>
        </p:nvSpPr>
        <p:spPr>
          <a:xfrm>
            <a:off x="1447920" y="609480"/>
            <a:ext cx="723888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ute AD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1676520" y="61722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وهو يصف المتلازمة التي تتضخم فيها الأرجل والذراعين والأعضاء التناسلية بصورة واضحة للعين إلى أحجام تشبه الأحجام في الفي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EF1-F5C8-45A8-B11B-A3E08FD7BE5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41911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C891-6A4B-443D-BA62-6C44E7DEC18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302680" cy="548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ammation spontaneously resolve after 4-7 days but can recur frequen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rences usually 1-4 times/year with increasing severity of lymphed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ary bacterial infections in edematous(elephantatic) 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rial fever (fever w/o lymphangit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opical Pulmonary Eosinophil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perresponsiveness to microfilariae trapped in lu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cturnal Wheez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85DF-6451-45DF-9165-442B691DAD4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28240" y="182736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7320" indent="-380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ymphed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80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ly LE and inguinal, but can affect UE and brea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80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itially pitting edema, with gradual hardening of tissu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hyperpigmentation &amp; hyperkerato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80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itali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droce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400800" y="6521400"/>
            <a:ext cx="27432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1371600" y="4572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ronic Manifest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88CF-850C-4620-BFDE-A951E2072D1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1827360"/>
            <a:ext cx="815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nal involve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yluria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ymph discharge into ur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ss of fat and protei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hypoproteinemia &amp; anem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maturia, proteinuria from ?immune complex nephrit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bacterial/fungal inf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371600" y="4572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ronic Manifest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01A-7479-4B76-B412-3C9D3DA4FF7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elephantiasis5"/>
          <p:cNvPicPr/>
          <p:nvPr/>
        </p:nvPicPr>
        <p:blipFill>
          <a:blip r:embed="rId1"/>
          <a:stretch/>
        </p:blipFill>
        <p:spPr>
          <a:xfrm>
            <a:off x="5486400" y="342900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phantiasis: accumulation of lymph in extremeties, fibrosis, and thickening of sk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6" descr="DSC01835"/>
          <p:cNvPicPr/>
          <p:nvPr/>
        </p:nvPicPr>
        <p:blipFill>
          <a:blip r:embed="rId2"/>
          <a:stretch/>
        </p:blipFill>
        <p:spPr>
          <a:xfrm>
            <a:off x="0" y="3429000"/>
            <a:ext cx="5133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ABD5-B2C1-464C-A89D-8A1B90F90DA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8580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icrofilariae are seen in blood smears and are DIAGNOSTIC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wucheria micro"/>
          <p:cNvPicPr/>
          <p:nvPr/>
        </p:nvPicPr>
        <p:blipFill>
          <a:blip r:embed="rId1"/>
          <a:stretch/>
        </p:blipFill>
        <p:spPr>
          <a:xfrm>
            <a:off x="457200" y="3048120"/>
            <a:ext cx="4114800" cy="275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Wuchereria_bancrofti_1_DPDX"/>
          <p:cNvPicPr/>
          <p:nvPr/>
        </p:nvPicPr>
        <p:blipFill>
          <a:blip r:embed="rId2"/>
          <a:stretch/>
        </p:blipFill>
        <p:spPr>
          <a:xfrm>
            <a:off x="4800600" y="3048120"/>
            <a:ext cx="370188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CFA3-87AA-4478-86C6-49F1C06B9B9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2" descr="Filaria-bloodfilm-3"/>
          <p:cNvPicPr/>
          <p:nvPr/>
        </p:nvPicPr>
        <p:blipFill>
          <a:blip r:embed="rId1"/>
          <a:stretch/>
        </p:blipFill>
        <p:spPr>
          <a:xfrm>
            <a:off x="304920" y="17002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lood Smear - Microfilaria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5000" y="182736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e wavy microfilarial worm in the thick part of blood film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rk blue structures are nucle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ail end tapering (no nucle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eath covering worm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5"/>
          <p:cNvSpPr/>
          <p:nvPr/>
        </p:nvSpPr>
        <p:spPr>
          <a:xfrm flipH="1" flipV="1">
            <a:off x="3886200" y="3124080"/>
            <a:ext cx="18288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6"/>
          <p:cNvSpPr/>
          <p:nvPr/>
        </p:nvSpPr>
        <p:spPr>
          <a:xfrm flipH="1" flipV="1">
            <a:off x="2361960" y="4114440"/>
            <a:ext cx="3352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1600200" y="4647960"/>
            <a:ext cx="411480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BCA7-4EED-4242-BF3F-F471754B4D9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Filaria-bloodfilm-2"/>
          <p:cNvPicPr/>
          <p:nvPr/>
        </p:nvPicPr>
        <p:blipFill>
          <a:blip r:embed="rId1"/>
          <a:stretch/>
        </p:blipFill>
        <p:spPr>
          <a:xfrm>
            <a:off x="380880" y="17334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lood Smear - Microfilaria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86040" y="1827360"/>
            <a:ext cx="319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e wavy microfilarial worm in the thick part of blood film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d end of the wor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rounded (no nucle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Sheath is not clearly see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4267080" y="3505320"/>
            <a:ext cx="15242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0A59-50D8-4CEE-B363-B45B39DC505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" descr="Filaria-bloodfilm-1"/>
          <p:cNvPicPr/>
          <p:nvPr/>
        </p:nvPicPr>
        <p:blipFill>
          <a:blip r:embed="rId1"/>
          <a:stretch/>
        </p:blipFill>
        <p:spPr>
          <a:xfrm>
            <a:off x="457200" y="19051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lood Smear - Microfilaria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410080" y="1827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e wavy microfilarial worm in the thick part of blood film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rk blue structures are nucle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ail end - tapering sheath (no nucle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5"/>
          <p:cNvSpPr/>
          <p:nvPr/>
        </p:nvSpPr>
        <p:spPr>
          <a:xfrm flipH="1" flipV="1">
            <a:off x="3885840" y="3124080"/>
            <a:ext cx="16002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6"/>
          <p:cNvSpPr/>
          <p:nvPr/>
        </p:nvSpPr>
        <p:spPr>
          <a:xfrm flipH="1" flipV="1">
            <a:off x="1905120" y="3429000"/>
            <a:ext cx="35812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B903-860C-439A-8F3F-FAFC7423DFB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Filaria-hydrocele-4"/>
          <p:cNvPicPr/>
          <p:nvPr/>
        </p:nvPicPr>
        <p:blipFill>
          <a:blip r:embed="rId1"/>
          <a:stretch/>
        </p:blipFill>
        <p:spPr>
          <a:xfrm>
            <a:off x="380880" y="17002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Hydrocele fluid – cell block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486040" y="1523880"/>
            <a:ext cx="319716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e wavy microfilarial worm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ammatory cel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ymphocy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morrhagic fluid sedi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5"/>
          <p:cNvSpPr/>
          <p:nvPr/>
        </p:nvSpPr>
        <p:spPr>
          <a:xfrm flipH="1">
            <a:off x="4495680" y="4267080"/>
            <a:ext cx="106704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6"/>
          <p:cNvSpPr/>
          <p:nvPr/>
        </p:nvSpPr>
        <p:spPr>
          <a:xfrm flipH="1">
            <a:off x="4191120" y="3048120"/>
            <a:ext cx="1371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7"/>
          <p:cNvSpPr/>
          <p:nvPr/>
        </p:nvSpPr>
        <p:spPr>
          <a:xfrm flipH="1">
            <a:off x="1905120" y="1828800"/>
            <a:ext cx="3581280" cy="1828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صر نائب للتذييل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عنصر نائب لرقم الشريحة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4FB6-94FB-4C04-933F-97445500B6B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Filaria-hydrocele-1"/>
          <p:cNvPicPr/>
          <p:nvPr/>
        </p:nvPicPr>
        <p:blipFill>
          <a:blip r:embed="rId1"/>
          <a:stretch/>
        </p:blipFill>
        <p:spPr>
          <a:xfrm>
            <a:off x="457200" y="1981080"/>
            <a:ext cx="5105520" cy="3829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Hydrocele fluid – cell block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932080" y="1827360"/>
            <a:ext cx="32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lammatory cell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ymphocy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B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5"/>
          <p:cNvSpPr/>
          <p:nvPr/>
        </p:nvSpPr>
        <p:spPr>
          <a:xfrm flipH="1">
            <a:off x="3657240" y="2286000"/>
            <a:ext cx="2438280" cy="609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6"/>
          <p:cNvSpPr/>
          <p:nvPr/>
        </p:nvSpPr>
        <p:spPr>
          <a:xfrm flipH="1">
            <a:off x="4419720" y="3276720"/>
            <a:ext cx="1752480" cy="38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 flipH="1">
            <a:off x="4572000" y="3809880"/>
            <a:ext cx="144792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5791680" y="3581280"/>
            <a:ext cx="22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filari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مناطق وجود داء الفيل - الفيلاريا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6580-9B16-494F-995F-E465AD8097D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مناطق وجود مرض داء الفيل - الفيلاريا"/>
          <p:cNvPicPr/>
          <p:nvPr/>
        </p:nvPicPr>
        <p:blipFill>
          <a:blip r:embed="rId1"/>
          <a:stretch/>
        </p:blipFill>
        <p:spPr>
          <a:xfrm>
            <a:off x="1066680" y="1946160"/>
            <a:ext cx="7239240" cy="4454640"/>
          </a:xfrm>
          <a:prstGeom prst="rect">
            <a:avLst/>
          </a:prstGeom>
          <a:ln w="0">
            <a:noFill/>
          </a:ln>
        </p:spPr>
      </p:pic>
      <p:sp>
        <p:nvSpPr>
          <p:cNvPr id="107" name="مستطيل 6"/>
          <p:cNvSpPr/>
          <p:nvPr/>
        </p:nvSpPr>
        <p:spPr>
          <a:xfrm>
            <a:off x="1523880" y="1523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Verdana"/>
              </a:rPr>
              <a:t>ويوجد المرض في أمريكا الجنوبية، وسط أفريقيا، وآسيا، وجزر المحيط الهادي، والكاريبي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E02D-949D-4851-8651-2AB7EEF0E03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4920" y="1827360"/>
            <a:ext cx="837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with malaria, the most effective method of controlling the spread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.bancroft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.malay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o avoid mosquito bi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DC recommends that anyone in at-risk area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eep under a bed n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ar long sleeves and tro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ar insect repellent on exposed skin, especially at n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1371600" y="380880"/>
            <a:ext cx="73152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tr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0117-A43A-4E15-B162-81E603BBAB0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22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vering water-storage containers and improving waste-water and solid-waste treatment systems can help by reducing the amount of standing water in which mosquitoes can lay egg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illing eggs (oviciding) and killing or disrupting larva (larviciding) in bodies of stagnant water can further reduce mosquito popul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WordArt 4"/>
          <p:cNvSpPr txBox="1"/>
          <p:nvPr/>
        </p:nvSpPr>
        <p:spPr>
          <a:xfrm>
            <a:off x="1219320" y="520560"/>
            <a:ext cx="71625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ctor contr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7D09-C4F9-46BB-813E-CABA566F640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ment of filariasis involves two compon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tting rid of the microfilariae in people's bloo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ing careful hygiene in infected persons to reduce the incidence and severity of secondary (e.g., bacterial) infection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1143000" y="609480"/>
            <a:ext cx="6629400" cy="9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eat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عنصر نائب للتذييل 4"/>
          <p:cNvSpPr/>
          <p:nvPr/>
        </p:nvSpPr>
        <p:spPr>
          <a:xfrm>
            <a:off x="1447920" y="609588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Verdana"/>
              </a:rPr>
              <a:t>AL mareed  A.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Verdana"/>
              </a:rPr>
              <a:t>PhD student at KS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2FF5-3ADA-4F28-8311-2B13489D09CE}" type="slidenum">
              <a:rPr b="0" lang="ar-S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6133i43ctlcwie"/>
          <p:cNvPicPr/>
          <p:nvPr/>
        </p:nvPicPr>
        <p:blipFill>
          <a:blip r:embed="rId1"/>
          <a:stretch/>
        </p:blipFill>
        <p:spPr>
          <a:xfrm>
            <a:off x="762120" y="83808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255" name="WordArt 6"/>
          <p:cNvSpPr txBox="1"/>
          <p:nvPr/>
        </p:nvSpPr>
        <p:spPr>
          <a:xfrm rot="19809000">
            <a:off x="3672000" y="4290840"/>
            <a:ext cx="3657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 you for your atten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CC91-EBCC-41FC-94A5-8FB3DD95C4B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1964880"/>
            <a:ext cx="792504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uchereria bancroft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rugia malay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ilarial nemat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read by several species of night - feeding mosquito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uses lymphatic filariasis, also known as Elephantia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only and incorrectly referred to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phant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371600" y="533520"/>
            <a:ext cx="68580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s it 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8CF-F1D6-4598-845C-2928AF78011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742840"/>
            <a:ext cx="800100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umans are the definitive host for the worms that cause lymphatic filaria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forgot1"/>
          <p:cNvPicPr/>
          <p:nvPr/>
        </p:nvPicPr>
        <p:blipFill>
          <a:blip r:embed="rId1"/>
          <a:stretch/>
        </p:blipFill>
        <p:spPr>
          <a:xfrm>
            <a:off x="5719680" y="152280"/>
            <a:ext cx="342432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8"/>
          <p:cNvSpPr txBox="1"/>
          <p:nvPr/>
        </p:nvSpPr>
        <p:spPr>
          <a:xfrm>
            <a:off x="914400" y="533520"/>
            <a:ext cx="480060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finitive Hos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38080" y="15238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000"/>
                </a:solidFill>
                <a:latin typeface="Verdana"/>
              </a:rPr>
              <a:t>العائل النهائي</a:t>
            </a:r>
            <a:r>
              <a:rPr b="0" lang="ar-SA" sz="3200" spc="-1" strike="noStrike">
                <a:solidFill>
                  <a:srgbClr val="ffc000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B491-F6C9-4E9B-9744-47D6B915E22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3047760"/>
            <a:ext cx="66294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tted by Culex, Aedes, and Anopheles spe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.malay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ransmitted by Anopheles and Mansonia speci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250px-Aedes_aegypti_biting_human"/>
          <p:cNvPicPr/>
          <p:nvPr/>
        </p:nvPicPr>
        <p:blipFill>
          <a:blip r:embed="rId1"/>
          <a:stretch/>
        </p:blipFill>
        <p:spPr>
          <a:xfrm>
            <a:off x="7238880" y="2209680"/>
            <a:ext cx="1905120" cy="979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300px-Anopheles_stephensi"/>
          <p:cNvPicPr/>
          <p:nvPr/>
        </p:nvPicPr>
        <p:blipFill>
          <a:blip r:embed="rId2"/>
          <a:stretch/>
        </p:blipFill>
        <p:spPr>
          <a:xfrm>
            <a:off x="7232760" y="609480"/>
            <a:ext cx="1911240" cy="1024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240px-CulexNil"/>
          <p:cNvPicPr/>
          <p:nvPr/>
        </p:nvPicPr>
        <p:blipFill>
          <a:blip r:embed="rId3"/>
          <a:stretch/>
        </p:blipFill>
        <p:spPr>
          <a:xfrm>
            <a:off x="7245360" y="3733920"/>
            <a:ext cx="1898640" cy="125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7396200" y="1522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phe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698240" y="17524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775280" y="3276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2" descr="mansonia_uniformis"/>
          <p:cNvPicPr/>
          <p:nvPr/>
        </p:nvPicPr>
        <p:blipFill>
          <a:blip r:embed="rId4"/>
          <a:stretch/>
        </p:blipFill>
        <p:spPr>
          <a:xfrm>
            <a:off x="7238880" y="5607000"/>
            <a:ext cx="1905120" cy="1251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7394400" y="51055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son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1143000" y="457200"/>
            <a:ext cx="45720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mediate Ho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838080" y="16765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000"/>
                </a:solidFill>
                <a:latin typeface="Verdana"/>
              </a:rPr>
              <a:t>العائل المتوسط</a:t>
            </a:r>
            <a:r>
              <a:rPr b="0" lang="ar-SA" sz="3200" spc="-1" strike="noStrike">
                <a:solidFill>
                  <a:srgbClr val="ffc000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F6A3-7897-4DED-B85B-9988211033D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827360"/>
            <a:ext cx="807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emic in 83 count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.2 billion at ris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than 120 million people infe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than 25 million men suffer from genital sympto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than 15 million people suffer from lymphoedema or elephantiasis of the le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WordArt 1028"/>
          <p:cNvSpPr txBox="1"/>
          <p:nvPr/>
        </p:nvSpPr>
        <p:spPr>
          <a:xfrm>
            <a:off x="1295280" y="533520"/>
            <a:ext cx="7467840" cy="11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ymphatic Filariasis by the number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5D4-CD0E-4E4F-AFC6-965EFAF833B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59984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Adult: White and thread-like. Two rings of small papillae on the hea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Female:5~10cm in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Male: 2.5~4cm and a curved tail with two copulatory spicu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rc018"/>
          <p:cNvPicPr/>
          <p:nvPr/>
        </p:nvPicPr>
        <p:blipFill>
          <a:blip r:embed="rId1"/>
          <a:stretch/>
        </p:blipFill>
        <p:spPr>
          <a:xfrm>
            <a:off x="2438280" y="4395960"/>
            <a:ext cx="3429000" cy="24620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1371600" y="380880"/>
            <a:ext cx="68580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Narrow"/>
              </a:rPr>
              <a:t>Morphology 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para-lab  by l. wafa menaw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9B4E-17B9-41B9-8327-383F01003ED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5998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Microfilaria: 177~296 µm  in length, a sheath with free endings. Bluntly rounded anteriorly and tapers to a point posteriorly. A nerve ring with no nuclei at anterior 1/5 of the bod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rc019"/>
          <p:cNvPicPr/>
          <p:nvPr/>
        </p:nvPicPr>
        <p:blipFill>
          <a:blip r:embed="rId1"/>
          <a:stretch/>
        </p:blipFill>
        <p:spPr>
          <a:xfrm>
            <a:off x="6400800" y="4572000"/>
            <a:ext cx="23623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0" name="Picture 5" descr="rc020"/>
          <p:cNvPicPr/>
          <p:nvPr/>
        </p:nvPicPr>
        <p:blipFill>
          <a:blip r:embed="rId2"/>
          <a:stretch/>
        </p:blipFill>
        <p:spPr>
          <a:xfrm>
            <a:off x="762120" y="4626000"/>
            <a:ext cx="230976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1" name="Picture 6" descr="wuchereria_2"/>
          <p:cNvPicPr/>
          <p:nvPr/>
        </p:nvPicPr>
        <p:blipFill>
          <a:blip r:embed="rId3"/>
          <a:stretch/>
        </p:blipFill>
        <p:spPr>
          <a:xfrm>
            <a:off x="3227400" y="4549680"/>
            <a:ext cx="3097080" cy="2308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62120" y="64152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uchereria bancrof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629400" y="646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rugia malay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1447920" y="457200"/>
            <a:ext cx="693396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rinda"/>
              </a:rPr>
              <a:t>Morphology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rinda"/>
              <a:ea typeface="Vrind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7:13:53Z</dcterms:created>
  <dc:creator>Winona State ITS</dc:creator>
  <dc:description/>
  <dc:language>en-US</dc:language>
  <cp:lastModifiedBy>hp</cp:lastModifiedBy>
  <dcterms:modified xsi:type="dcterms:W3CDTF">2012-10-07T09:04:04Z</dcterms:modified>
  <cp:revision>133</cp:revision>
  <dc:subject/>
  <dc:title>Lymphatic Filariasis / Elephantiasis</dc:title>
</cp:coreProperties>
</file>