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2.jpeg" ContentType="image/jpeg"/>
  <Override PartName="/ppt/media/image14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08EE-4CDC-4DF1-8FC2-F27CFB0779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D5A-8C4D-40F4-A312-EFE0F2C86C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D91-2FE8-4756-9A13-4D57D80735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A30C-F080-4B59-ADDC-9DB0F35015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499-109F-44EB-A739-7D9513D40C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3AE-980A-4627-818B-4CADB89527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FE7-314F-453E-9D6D-98F5FF963A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4BB-60C3-438D-979C-90303D06EA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A42A-11D1-4188-B774-90744A4E07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03B-D2E4-4096-B0E5-8EE76594C7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DAA-44B9-449A-B04E-3541C473F0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EE82-14EF-4D97-AA73-C64F911124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C96E-56BD-4B90-B7DD-47A07BF3C4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42CD-268F-4CE3-A0DC-053A956D30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EB7-8B7F-495F-BA85-1DD436E54A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C4A-B121-4794-9A9F-B0A8C3F2F2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5EF-BFBA-428E-AB09-C3BE25B9EC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620-C221-4396-A6CD-FAFA5F29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FC1-B50A-4144-AB34-A44FB31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B97-BA4B-49AA-9D90-97791DEF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745-DFC1-4871-9CEA-1F83B7E4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68F0-7278-4A4B-B2E9-AF0B6E10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CBC-2A2E-4A2C-A020-A8A5176B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5F98-FC29-4B06-A0E2-2C7FBAC5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C47-776B-400F-BF11-501EB68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248-FC70-4C73-9FFA-22B14289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3A6-B87D-42F4-ADCF-787D7156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74A-464A-4B7B-AED8-7F779EB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405-A64D-4928-A1B6-FFAD1372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A2A3-85FB-4052-AAA2-FE464B73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29A-3060-4F19-A6F4-B3546F4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25D8-FD74-46AD-9EA2-0EB59FD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E63F-2AEA-4F0C-8D4B-689DB33D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62CE-017B-4006-9078-AE1C6F5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C56-4CD9-4716-A89E-89750703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A91-4252-45E5-B9D5-696F154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D8F-58A8-4E2A-A610-CB3FCBA5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1F3-FEA4-47AF-8951-FE7281C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5F5-7AAF-4D95-99CD-F0802A3D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B9B-51E1-4C58-82EE-B3B49BD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DCE-F778-4DEA-B60F-6F9CB9A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28C-F799-4F13-9AB0-CEF9680F566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AFE1-8857-48C8-97F0-9014F629B4C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Handout%20for%20oversea%20students/Nemotodes/materials/Filaeial%20parasites/life%20cycle.jp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عنصر نائب للتذييل 4"/>
          <p:cNvSpPr/>
          <p:nvPr/>
        </p:nvSpPr>
        <p:spPr>
          <a:xfrm>
            <a:off x="1066680" y="54100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Ali Bbdullah M. Al mar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D student at KS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61D-AB3E-46AC-8AB3-991952A14DF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219320" y="1676520"/>
            <a:ext cx="7124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Filariasis / Elephantias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عنصر نائب للتذييل 4"/>
          <p:cNvSpPr/>
          <p:nvPr/>
        </p:nvSpPr>
        <p:spPr>
          <a:xfrm>
            <a:off x="1371600" y="3581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PT Bold Dusky"/>
              </a:rPr>
              <a:t>الفيلاريا الليمفاوية / داء الفي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772C-9FBD-40BB-A24D-8D3A9B54E68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228600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ost: Mosqutoes (intermediate ho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uman (final ho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Location: Lymphatics and lymph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Infective stage: Infective larv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stage: Microfilari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Diagnostic stage: Microfilari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219320" y="609480"/>
            <a:ext cx="74674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racteristic of life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F58B-932A-42EF-BFFF-0F3A0ECDC65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08160" y="1295280"/>
            <a:ext cx="850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  <a:hlinkClick r:id="rId1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3" descr="B_malayi_LifeCycle"/>
          <p:cNvPicPr/>
          <p:nvPr/>
        </p:nvPicPr>
        <p:blipFill>
          <a:blip r:embed="rId2"/>
          <a:stretch/>
        </p:blipFill>
        <p:spPr>
          <a:xfrm>
            <a:off x="1295280" y="228600"/>
            <a:ext cx="7543800" cy="60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D73-E737-404D-9122-87862CFB0F1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uchereria Life Cycl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W_bancrofti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أعراض الإصابة الحادة بداء الفيل هي:</a:t>
            </a: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ارتفاع درجة الحرار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لم بالمنطقة أسفل الحوض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وجود رعش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وجود عر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صداع وقيئ و آلا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ضخم بالغدد الليمفاو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B055-F878-4FA5-B90F-502C6E30764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رح بالجل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لم بالعظام والمفاص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شعور بالتعب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د تحدث خطوط حمراء على الذراع أو السا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د تظهر خراريج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scesses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على الجلد أو بالغدد الليمفاو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EED9-9B7A-49F2-8DD4-2AFE3050C72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97A-E561-435E-AF4F-4E0D2084EA3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Phenomen which the number of microfilariae in peripherial blood is very low density during daytime, but increase from evening to midnight and reach the greatest density at 10p.m to 2 a.m.May be related to cerebral activity and vasoactivity of pulmonary vessel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066680" y="687240"/>
            <a:ext cx="769644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cturnal period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3278-6B68-4B9E-BEDE-C3C5CE723B7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04920" y="762120"/>
            <a:ext cx="86868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va deposited by mosquito b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ravel through dermis to lymphatic vess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rowth (approx 9 months) to mature worms(20-100mm lo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orms live 5-7 years (occasionally up to15 ye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Mate-&gt;Microfilariae (1st stage larv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Females-&gt;release up to 10,000 microfilariae/day into bloodst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Microfilarie taken up by mosquito b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evelop into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tage larva over 10-14 days inside mosquito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F91B-BF42-4232-8F60-2CEF3AAC11E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523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vessels that collect fluid that leaks out of the blood into tissues (lymp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irects lymph back into the blood stre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lymphatic system"/>
          <p:cNvPicPr/>
          <p:nvPr/>
        </p:nvPicPr>
        <p:blipFill>
          <a:blip r:embed="rId1"/>
          <a:stretch/>
        </p:blipFill>
        <p:spPr>
          <a:xfrm>
            <a:off x="5781600" y="2819520"/>
            <a:ext cx="336240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1371600" y="6858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7D8-54BE-4DB2-B4BC-97EE4FC22CB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3520" y="1687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ly asympto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develop with increasing numbers of w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1/3 of infected individuals have acute sympt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nical Course is 3 pha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symptomatic Microfilar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ute Adenolymphangitis (AD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ronic/Irreversible lymphed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uperimposed upon repeated episodes of A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400800" y="6477120"/>
            <a:ext cx="2743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066680" y="609480"/>
            <a:ext cx="762012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inical Cou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22C-0A27-4970-B6BB-12516DC1A3C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57200" y="17701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s with sudden onset of fever and painful lymphadenopat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rograde Lymphangit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ammation spreads distally away from lymph node gro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mune mediated response to dying wo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areas: Inguinal nodes and Lower extrem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1447920" y="609480"/>
            <a:ext cx="723888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ute AD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1676520" y="61722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هو يصف المتلازمة التي تتضخم فيها الأرجل والذراعين والأعضاء التناسلية بصورة واضحة للعين إلى أحجام تشبه الأحجام في الفي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5BF-EA33-4234-8023-57B5322C079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41911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42CE-62CD-482A-99CC-5A8A542CFB8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302680" cy="548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ammation spontaneously resolve after 4-7 days but can recur frequen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rences usually 1-4 times/year with increasing severity of lymphed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ary bacterial infections in edematous(elephantatic) 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rial fever (fever w/o lymphang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opical Pulmonary Eosinophil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perresponsiveness to microfilariae trapped in lu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cturnal Wh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280E-BA95-4581-B3FE-B2D64803D19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18273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7320" indent="-380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ymphed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ly LE and inguinal, but can affect UE and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ly pitting edema, with gradual hardening of tissu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hyperpigmentation &amp; hyperkerat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itali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droce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400800" y="6521400"/>
            <a:ext cx="27432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1371600" y="4572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ronic Manifest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0D5-B35E-4E02-99BB-1ABFA557268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al involv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yluri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ymph discharge into u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ss of fat and protei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hypoproteinemia &amp; anem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maturia, proteinuria from ?immune complex nephrit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bacterial/fungal inf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371600" y="4572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ronic Manifest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E8F-5F54-451F-8F68-86398D57F49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elephantiasis5"/>
          <p:cNvPicPr/>
          <p:nvPr/>
        </p:nvPicPr>
        <p:blipFill>
          <a:blip r:embed="rId1"/>
          <a:stretch/>
        </p:blipFill>
        <p:spPr>
          <a:xfrm>
            <a:off x="5486400" y="34290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phantiasis: accumulation of lymph in extremeties, fibrosis, and thickening of sk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6" descr="DSC01835"/>
          <p:cNvPicPr/>
          <p:nvPr/>
        </p:nvPicPr>
        <p:blipFill>
          <a:blip r:embed="rId2"/>
          <a:stretch/>
        </p:blipFill>
        <p:spPr>
          <a:xfrm>
            <a:off x="0" y="3429000"/>
            <a:ext cx="5133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CE3-D815-41DB-8243-DC514B623F9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58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filariae are seen in blood smears and are DIAGNOSTI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wucheria micro"/>
          <p:cNvPicPr/>
          <p:nvPr/>
        </p:nvPicPr>
        <p:blipFill>
          <a:blip r:embed="rId1"/>
          <a:stretch/>
        </p:blipFill>
        <p:spPr>
          <a:xfrm>
            <a:off x="457200" y="3048120"/>
            <a:ext cx="4114800" cy="275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Wuchereria_bancrofti_1_DPDX"/>
          <p:cNvPicPr/>
          <p:nvPr/>
        </p:nvPicPr>
        <p:blipFill>
          <a:blip r:embed="rId2"/>
          <a:stretch/>
        </p:blipFill>
        <p:spPr>
          <a:xfrm>
            <a:off x="4800600" y="3048120"/>
            <a:ext cx="370188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C84-CF41-4690-87CE-AD31164D44B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2" descr="Filaria-bloodfilm-3"/>
          <p:cNvPicPr/>
          <p:nvPr/>
        </p:nvPicPr>
        <p:blipFill>
          <a:blip r:embed="rId1"/>
          <a:stretch/>
        </p:blipFill>
        <p:spPr>
          <a:xfrm>
            <a:off x="304920" y="1700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5000" y="182736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rk blue structures are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il end tapering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eath covering wor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5"/>
          <p:cNvSpPr/>
          <p:nvPr/>
        </p:nvSpPr>
        <p:spPr>
          <a:xfrm flipH="1" flipV="1">
            <a:off x="3886200" y="3124080"/>
            <a:ext cx="18288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6"/>
          <p:cNvSpPr/>
          <p:nvPr/>
        </p:nvSpPr>
        <p:spPr>
          <a:xfrm flipH="1" flipV="1">
            <a:off x="2361960" y="4114440"/>
            <a:ext cx="3352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1600200" y="4647960"/>
            <a:ext cx="41148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2805-1A47-41A2-B2B2-8760EDA1573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Filaria-bloodfilm-2"/>
          <p:cNvPicPr/>
          <p:nvPr/>
        </p:nvPicPr>
        <p:blipFill>
          <a:blip r:embed="rId1"/>
          <a:stretch/>
        </p:blipFill>
        <p:spPr>
          <a:xfrm>
            <a:off x="380880" y="17334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86040" y="1827360"/>
            <a:ext cx="319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d end of the wor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rounded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Sheath is not clearly see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4267080" y="3505320"/>
            <a:ext cx="15242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412-F54C-4A7B-A054-8DA1280B454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" descr="Filaria-bloodfilm-1"/>
          <p:cNvPicPr/>
          <p:nvPr/>
        </p:nvPicPr>
        <p:blipFill>
          <a:blip r:embed="rId1"/>
          <a:stretch/>
        </p:blipFill>
        <p:spPr>
          <a:xfrm>
            <a:off x="457200" y="19051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410080" y="1827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rk blue structures are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il end - tapering sheath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5"/>
          <p:cNvSpPr/>
          <p:nvPr/>
        </p:nvSpPr>
        <p:spPr>
          <a:xfrm flipH="1" flipV="1">
            <a:off x="3885840" y="3124080"/>
            <a:ext cx="16002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"/>
          <p:cNvSpPr/>
          <p:nvPr/>
        </p:nvSpPr>
        <p:spPr>
          <a:xfrm flipH="1" flipV="1">
            <a:off x="1905120" y="3429000"/>
            <a:ext cx="35812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04B5-D607-46C2-9543-94DA97480B1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Filaria-hydrocele-4"/>
          <p:cNvPicPr/>
          <p:nvPr/>
        </p:nvPicPr>
        <p:blipFill>
          <a:blip r:embed="rId1"/>
          <a:stretch/>
        </p:blipFill>
        <p:spPr>
          <a:xfrm>
            <a:off x="380880" y="17002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Hydrocele fluid – cell block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86040" y="1523880"/>
            <a:ext cx="319716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ammatory cel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ymphocy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morrhagic fluid sedi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4495680" y="4267080"/>
            <a:ext cx="106704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6"/>
          <p:cNvSpPr/>
          <p:nvPr/>
        </p:nvSpPr>
        <p:spPr>
          <a:xfrm flipH="1">
            <a:off x="4191120" y="3048120"/>
            <a:ext cx="1371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7"/>
          <p:cNvSpPr/>
          <p:nvPr/>
        </p:nvSpPr>
        <p:spPr>
          <a:xfrm flipH="1">
            <a:off x="1905120" y="1828800"/>
            <a:ext cx="358128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166-40C1-4091-8BFE-7F4102552FF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Filaria-hydrocele-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Hydrocele fluid – cell block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932080" y="1827360"/>
            <a:ext cx="32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ammatory cel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ymphocy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B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5"/>
          <p:cNvSpPr/>
          <p:nvPr/>
        </p:nvSpPr>
        <p:spPr>
          <a:xfrm flipH="1">
            <a:off x="3657240" y="2286000"/>
            <a:ext cx="243828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4419720" y="3276720"/>
            <a:ext cx="1752480" cy="38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 flipH="1">
            <a:off x="4572000" y="3809880"/>
            <a:ext cx="144792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791680" y="3581280"/>
            <a:ext cx="22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filari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ناطق وجود داء الفيل - الفيلاريا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47E-ADB5-4231-8808-546B56EC46C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مناطق وجود مرض داء الفيل - الفيلاريا"/>
          <p:cNvPicPr/>
          <p:nvPr/>
        </p:nvPicPr>
        <p:blipFill>
          <a:blip r:embed="rId1"/>
          <a:stretch/>
        </p:blipFill>
        <p:spPr>
          <a:xfrm>
            <a:off x="1066680" y="1946160"/>
            <a:ext cx="7239240" cy="4454640"/>
          </a:xfrm>
          <a:prstGeom prst="rect">
            <a:avLst/>
          </a:prstGeom>
          <a:ln w="0">
            <a:noFill/>
          </a:ln>
        </p:spPr>
      </p:pic>
      <p:sp>
        <p:nvSpPr>
          <p:cNvPr id="107" name="مستطيل 6"/>
          <p:cNvSpPr/>
          <p:nvPr/>
        </p:nvSpPr>
        <p:spPr>
          <a:xfrm>
            <a:off x="1523880" y="1523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Verdana"/>
              </a:rPr>
              <a:t>ويوجد المرض في أمريكا الجنوبية، وسط أفريقيا، وآسيا، وجزر المحيط الهادي، والكاريبي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853-0131-4C5A-ACD8-614573C9A2E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827360"/>
            <a:ext cx="837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ith malaria, the most effective method of controlling the spread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.bancroft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.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o avoid mosquito bi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DC recommends that anyone in at-risk area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eep under a bed 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r long sleeves and tro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r insect repellent on exposed skin, especially at n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371600" y="380880"/>
            <a:ext cx="73152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0795-31B5-496A-9B6A-6325BE051DD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22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ing water-storage containers and improving waste-water and solid-waste treatment systems can help by reducing the amount of standing water in which mosquitoes can lay egg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illing eggs (oviciding) and killing or disrupting larva (larviciding) in bodies of stagnant water can further reduce mosquito popu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1219320" y="520560"/>
            <a:ext cx="71625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ctor 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6951-74FC-4325-BD82-87062929F2F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ment of filariasis involves two compon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ting rid of the microfilariae in people's bloo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careful hygiene in infected persons to reduce the incidence and severity of secondary (e.g., bacterial) infection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1143000" y="609480"/>
            <a:ext cx="662940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eat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عنصر نائب للتذييل 4"/>
          <p:cNvSpPr/>
          <p:nvPr/>
        </p:nvSpPr>
        <p:spPr>
          <a:xfrm>
            <a:off x="1447920" y="60958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</a:rPr>
              <a:t>AL mareed  A.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</a:rPr>
              <a:t>PhD student at KS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D4D-7478-468D-B09B-9407154E91E3}" type="slidenum">
              <a:rPr b="0" lang="ar-S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6133i43ctlcwie"/>
          <p:cNvPicPr/>
          <p:nvPr/>
        </p:nvPicPr>
        <p:blipFill>
          <a:blip r:embed="rId1"/>
          <a:stretch/>
        </p:blipFill>
        <p:spPr>
          <a:xfrm>
            <a:off x="762120" y="8380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255" name="WordArt 6"/>
          <p:cNvSpPr txBox="1"/>
          <p:nvPr/>
        </p:nvSpPr>
        <p:spPr>
          <a:xfrm rot="19809000">
            <a:off x="3672000" y="429084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BA74-B858-4A79-808B-D5EB6C1ACBE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964880"/>
            <a:ext cx="792504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uchereria bancroft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rugia 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ilarial nemat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read by several species of night - feeding mosquito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uses lymphatic filariasis, also known as Elephanti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only and incorrectly referred to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phant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371600" y="533520"/>
            <a:ext cx="68580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it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EC0C-8456-4FAC-9FCA-1D4E73CECBA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742840"/>
            <a:ext cx="80010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mans are the definitive host for the worms that cause lymphatic filari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forgot1"/>
          <p:cNvPicPr/>
          <p:nvPr/>
        </p:nvPicPr>
        <p:blipFill>
          <a:blip r:embed="rId1"/>
          <a:stretch/>
        </p:blipFill>
        <p:spPr>
          <a:xfrm>
            <a:off x="5719680" y="152280"/>
            <a:ext cx="342432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914400" y="533520"/>
            <a:ext cx="480060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finitive Hos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38080" y="15238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العائل النهائي</a:t>
            </a: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302-F138-4EAD-92D1-91238C3812C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3047760"/>
            <a:ext cx="66294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tted by Culex, Aedes, and Anopheles spe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.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ransmitted by Anopheles and Mansonia spec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250px-Aedes_aegypti_biting_human"/>
          <p:cNvPicPr/>
          <p:nvPr/>
        </p:nvPicPr>
        <p:blipFill>
          <a:blip r:embed="rId1"/>
          <a:stretch/>
        </p:blipFill>
        <p:spPr>
          <a:xfrm>
            <a:off x="7238880" y="2209680"/>
            <a:ext cx="1905120" cy="979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300px-Anopheles_stephensi"/>
          <p:cNvPicPr/>
          <p:nvPr/>
        </p:nvPicPr>
        <p:blipFill>
          <a:blip r:embed="rId2"/>
          <a:stretch/>
        </p:blipFill>
        <p:spPr>
          <a:xfrm>
            <a:off x="7232760" y="609480"/>
            <a:ext cx="1911240" cy="102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40px-CulexNil"/>
          <p:cNvPicPr/>
          <p:nvPr/>
        </p:nvPicPr>
        <p:blipFill>
          <a:blip r:embed="rId3"/>
          <a:stretch/>
        </p:blipFill>
        <p:spPr>
          <a:xfrm>
            <a:off x="7245360" y="3733920"/>
            <a:ext cx="1898640" cy="125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7396200" y="1522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phe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698240" y="17524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775280" y="3276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2" descr="mansonia_uniformis"/>
          <p:cNvPicPr/>
          <p:nvPr/>
        </p:nvPicPr>
        <p:blipFill>
          <a:blip r:embed="rId4"/>
          <a:stretch/>
        </p:blipFill>
        <p:spPr>
          <a:xfrm>
            <a:off x="7238880" y="5607000"/>
            <a:ext cx="1905120" cy="1251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7394400" y="51055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so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1143000" y="457200"/>
            <a:ext cx="45720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mediate H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83808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العائل المتوسط</a:t>
            </a: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5983-0C0B-4E44-A2F6-3C7EAF2D86D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emic in 83 count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2 billion at ri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120 million people inf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25 million men suffer from genital sympto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15 million people suffer from lymphoedema or elephantiasis of the le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WordArt 1028"/>
          <p:cNvSpPr txBox="1"/>
          <p:nvPr/>
        </p:nvSpPr>
        <p:spPr>
          <a:xfrm>
            <a:off x="1295280" y="533520"/>
            <a:ext cx="746784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Filariasis by the number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32C-1049-4BE6-95A5-F8AABD69423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5998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Adult: White and thread-like. Two rings of small papillae on the h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Female:5~10cm in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Male: 2.5~4cm and a curved tail with two copulatory spicu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rc018"/>
          <p:cNvPicPr/>
          <p:nvPr/>
        </p:nvPicPr>
        <p:blipFill>
          <a:blip r:embed="rId1"/>
          <a:stretch/>
        </p:blipFill>
        <p:spPr>
          <a:xfrm>
            <a:off x="2438280" y="4395960"/>
            <a:ext cx="3429000" cy="24620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1371600" y="380880"/>
            <a:ext cx="68580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Narrow"/>
              </a:rPr>
              <a:t>Morphology 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72B-1805-42A3-9084-23F26FFFF4E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5998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Microfilaria: 177~296 µm  in length, a sheath with free endings. Bluntly rounded anteriorly and tapers to a point posteriorly. A nerve ring with no nuclei at anterior 1/5 of the bod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rc019"/>
          <p:cNvPicPr/>
          <p:nvPr/>
        </p:nvPicPr>
        <p:blipFill>
          <a:blip r:embed="rId1"/>
          <a:stretch/>
        </p:blipFill>
        <p:spPr>
          <a:xfrm>
            <a:off x="6400800" y="4572000"/>
            <a:ext cx="23623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0" name="Picture 5" descr="rc020"/>
          <p:cNvPicPr/>
          <p:nvPr/>
        </p:nvPicPr>
        <p:blipFill>
          <a:blip r:embed="rId2"/>
          <a:stretch/>
        </p:blipFill>
        <p:spPr>
          <a:xfrm>
            <a:off x="762120" y="4626000"/>
            <a:ext cx="230976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1" name="Picture 6" descr="wuchereria_2"/>
          <p:cNvPicPr/>
          <p:nvPr/>
        </p:nvPicPr>
        <p:blipFill>
          <a:blip r:embed="rId3"/>
          <a:stretch/>
        </p:blipFill>
        <p:spPr>
          <a:xfrm>
            <a:off x="3227400" y="4549680"/>
            <a:ext cx="3097080" cy="2308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62120" y="6415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uchereria bancrof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62940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rugia malay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1447920" y="457200"/>
            <a:ext cx="693396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rinda"/>
              </a:rPr>
              <a:t>Morphology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rinda"/>
              <a:ea typeface="Vrind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7:13:53Z</dcterms:created>
  <dc:creator>Winona State ITS</dc:creator>
  <dc:description/>
  <dc:language>en-US</dc:language>
  <cp:lastModifiedBy>hp</cp:lastModifiedBy>
  <dcterms:modified xsi:type="dcterms:W3CDTF">2012-10-07T09:04:04Z</dcterms:modified>
  <cp:revision>133</cp:revision>
  <dc:subject/>
  <dc:title>Lymphatic Filariasis / Elephantiasis</dc:title>
</cp:coreProperties>
</file>