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AE27-0C5A-4623-A505-B21B8BF0B0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8585-A776-4520-98D7-86E2B4CD2E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0BE6-2CA7-44BB-A1D4-62B102B3E5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9B4D-7ACF-47FA-B327-FADD036229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9.  Of course, you got 83, which excludes the 1926 return.  To include 1926, add one.  This is because the 1926 return uses year-end 1925 prices.  So, 2009 – 1925 = 8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2EBD-62DD-42E5-945A-4516F78EE3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0357-FB07-492C-8B12-394B09C67E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949C-668C-4852-98AC-3F5EA4E3C1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A63F-7E9F-4AB3-B2A8-78FEAAA8C3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5B8E-2961-40A2-952B-C6A22EDEBD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8C3B-E1DC-42E6-90A4-6A20FA8639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C0A0-D4A6-4358-97E3-1FBAD27A2E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06DB-15CB-4264-9DE3-6F0312749B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0F42-370A-40D9-A98E-2002226429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45E5-B5A6-44EE-BD23-8D47B467BA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3918-40F7-4AF7-87B9-29BB77E18D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3AED-E3D5-43DD-84CB-972AA37B3B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8180-C470-43BB-A818-22E117717F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E798-FD52-464A-8858-3FBA26FA670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1508-B388-4945-8275-40CA3F8B19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3A5D-BC59-4C3C-90ED-312014EF57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4F7F-7783-49E1-A093-DF50EE5924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" name="Text Box 24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25"/>
          <p:cNvSpPr/>
          <p:nvPr/>
        </p:nvSpPr>
        <p:spPr>
          <a:xfrm>
            <a:off x="3809880" y="2270160"/>
            <a:ext cx="4572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A Brief History of Risk and Retur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/>
            <a:ahLst/>
            <a:rect l="l" t="t" r="r" b="b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/>
            <a:ahLst/>
            <a:rect l="l" t="t" r="r" b="b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/>
            <a:ahLst/>
            <a:rect l="l" t="t" r="r" b="b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6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010C17FB-4B29-43C9-BB8C-56CEC50BE4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780876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will examine different categories of financial investments(portfolios) from 1929 to 2009 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1. Large company stock “large cap”: contains largest companies in terms of market value of outstanding stock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2. Small company stock “mall cap”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 Long term government bonds (20 years to maturity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4. Treasury bills (three months to maturity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2895480" y="3049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 $1 Investment in Different Types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f Portfolios, 1926—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8" name="Picture 5" descr="jor30719_0101"/>
          <p:cNvPicPr/>
          <p:nvPr/>
        </p:nvPicPr>
        <p:blipFill>
          <a:blip r:embed="rId1"/>
          <a:stretch/>
        </p:blipFill>
        <p:spPr>
          <a:xfrm>
            <a:off x="685800" y="1066680"/>
            <a:ext cx="792468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Historical Average Retur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data in Table 1.1, if you add up the returns for large-company stocks from 1926 through 2009, you get about 987 percent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ecause there are 84 returns, the average return is about 11.75%.  How do you use this number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f you are making a guess about the size of the return for a year selected at random, your best guess is 11.75%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905120" y="4876920"/>
                <a:ext cx="511164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storical Average Return 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early return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verage Annual Returns for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Five Portfolios and Infl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3" name="Picture 5" descr="Chapter1_6"/>
          <p:cNvPicPr/>
          <p:nvPr/>
        </p:nvPicPr>
        <p:blipFill>
          <a:blip r:embed="rId1"/>
          <a:stretch/>
        </p:blipFill>
        <p:spPr>
          <a:xfrm>
            <a:off x="1066680" y="1828800"/>
            <a:ext cx="7020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verage Returns: The First Less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ate of return on a riskless certain investment.(Treasury bill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extra return on a risky asset over the risk-free rate; or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is a reward, on average, for bearing risk. 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verage Annual Risk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emiums for Five Portfolio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7" name="Picture 5" descr="Chapter1_2"/>
          <p:cNvPicPr/>
          <p:nvPr/>
        </p:nvPicPr>
        <p:blipFill>
          <a:blip r:embed="rId1"/>
          <a:stretch/>
        </p:blipFill>
        <p:spPr>
          <a:xfrm>
            <a:off x="1219320" y="2193840"/>
            <a:ext cx="69339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turn Variability Review and Concep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know how much the actual return differs from the average return in a typical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quare root of the variance is used because the variance is measured in squared percentages and thus its hard to interpret. However, the standard deviation is an ordinary percentage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turn Variability: The Statistical Tool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heck the example on page 2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3124080" y="2286000"/>
                <a:ext cx="323244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3352680" y="4724280"/>
                <a:ext cx="27957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σ 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Historical Varianc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d Standard Devi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et</a:t>
            </a:r>
            <a:r>
              <a:rPr b="0" lang="ja-JP" sz="20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 use data from Table 1.1 for Large-Company Stock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1981080" y="320040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0040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is useful for describing the probability of ending up in a given range of retur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obability that we end up within one SD of the average is 68%. (the average# +or – 1SD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obability that we end up within two SD of the average is 95% (the average # = or – 2SD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obability that we end up with more  three SD  of the average is 1% (the average# + or – 3SD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historical risk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Normal Distribution a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Large Company Stock Return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1" name="Picture 5" descr="jor30719_0110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Historical Returns, Standard Deviations, and Frequency Distributions: 1926—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3" name="Picture 5" descr="jor30719_0109"/>
          <p:cNvPicPr/>
          <p:nvPr/>
        </p:nvPicPr>
        <p:blipFill>
          <a:blip r:embed="rId1"/>
          <a:stretch/>
        </p:blipFill>
        <p:spPr>
          <a:xfrm>
            <a:off x="1219320" y="1089000"/>
            <a:ext cx="6705360" cy="51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2216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the investor is unwilling to bear any risk but is willing to forgo the use of money for a while, then they can invest in a risk free rat asse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the investor is willing to bear the risk , then they should accept risk premiums when investing in risky asse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isky investment do not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pay more than risk free investments (that</a:t>
            </a:r>
            <a:r>
              <a:rPr b="0" lang="fr-FR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what makes them risky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other words, there is a risk premium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on average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ut over any particular time, there is no guarante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3276720" y="228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&amp;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Historical Risk and Return Trade-Off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7" name="Picture 5" descr="jor30719_0111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 Brief History of Risk and Retur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se observations are important investment guidelin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ollar Retur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ain or (loss) you get if you buy an asset is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alled the return on an investmen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turn on investment has two component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ash received while owning the investment (dividend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change in the value of the asset(stock) will be either a capital gain or a capital loss of your investmen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649440" y="4768920"/>
                <a:ext cx="7808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tal Dollar Return on a Stock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ividend Incom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            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Capital Gain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Los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xample: suppose you purchased 200 shares of stock in Sabic on January 1. At that time, Sabic was selling for $50 per share, so your cost will be $10,000. at the end of the year, you want to see how you did with your investment. Knowing that the company paid dividend of $0.40 per share (Assuming we have two scenarios 1,2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tal dollar return (case 1) = 80+1120= $1,20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523880" y="2895480"/>
          <a:ext cx="5867640" cy="2560680"/>
        </p:xfrm>
        <a:graphic>
          <a:graphicData uri="http://schemas.openxmlformats.org/drawingml/2006/table">
            <a:tbl>
              <a:tblPr/>
              <a:tblGrid>
                <a:gridCol w="2273400"/>
                <a:gridCol w="1638360"/>
                <a:gridCol w="19558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r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1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 stock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5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9.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ember 31 val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dend inco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gain or 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,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ercent Retur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Dividend Yield: The annual stock dividend as a percentage of the initial stock price.( D /pt)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Capital gain yield: the change in stock price as a percentage of the initial stock price (Pt+1 – Pt / Pt)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1295280" y="4340160"/>
                <a:ext cx="6096240" cy="20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ercent Return on a Stock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vidend Income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apital Gain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r Loss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Percent Return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Total Dollar Return on a Stoc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eginning Stock Price 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e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Beginning Investmen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Total Dollar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d Total Percent Return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2b2c0e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400800" y="4343400"/>
            <a:ext cx="19810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,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nnualizing Returns, 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buy 200 shares of Lowe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 Companies, Inc. at $18 per share. Three months later, you sell these shares for $19 per share. You received no dividends. What is your return? What is your annualized return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urn: (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+1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– 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 / 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($19 - $18) / $18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.0556 = 5.56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turn on an investment expressed on an 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nualized</a:t>
            </a:r>
            <a:r>
              <a:rPr b="0" lang="ja-JP" sz="24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basi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Key Question: What is the number of holding periods in a year?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6629400" y="3352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nnualizing Returns, I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example, m = 4 (12 months / 3 months). Therefore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 + EAR = (1 + .0556)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1.2416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EAR = .2416 or 24.16%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win</cp:lastModifiedBy>
  <dcterms:modified xsi:type="dcterms:W3CDTF">2015-09-09T12:02:44Z</dcterms:modified>
  <cp:revision>110</cp:revision>
  <dc:subject/>
  <dc:title>Slide 1</dc:title>
</cp:coreProperties>
</file>