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0581-EF55-430D-9A8D-5A74C655DB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C444-88B3-4E75-8FBF-D816A60110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8900-0C31-4C4F-BFBD-4E0E174CD9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524B-9A59-415C-9B42-BEAC47337F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9.  Of course, you got 83, which excludes the 1926 return.  To include 1926, add one.  This is because the 1926 return uses year-end 1925 prices.  So, 2009 – 1925 = 8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F387-23A8-4CCE-A220-E94B07AF31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96B3-2BAB-4817-8393-37D53D53A4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05DA-CF84-4794-A50A-E0D794C451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3EE7-D117-4E4E-8708-AC72BA694B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E7D6-5F40-4B48-81DF-BAD38DF86B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3ED1-6C01-441E-9C0A-9740011986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338E-EA3C-43B6-BF8E-BE42B57F9B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616E-1B16-482B-85AD-7F47099EA5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D35D-47C9-4E92-9DBF-E7F0764602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9B73-ECE3-40E5-8BFD-ABA16B3468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3944-6276-4051-A12B-06667014D5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326D-2CA8-4554-B4D9-6707AEAD4F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EE9B-6C43-40D5-A7F4-0440415B12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A1BA-5CEF-4C37-8797-D24EF05D89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566B-9DC6-4F9D-8B2D-022886A3B2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A437-FBC7-431F-BFFF-338A7EAFA8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3632-7B29-4CC9-8D10-F1BE72762B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" name="Text Box 24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25"/>
          <p:cNvSpPr/>
          <p:nvPr/>
        </p:nvSpPr>
        <p:spPr>
          <a:xfrm>
            <a:off x="3809880" y="2270160"/>
            <a:ext cx="4572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A Brief History of Risk and Retur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/>
            <a:ahLst/>
            <a:rect l="l" t="t" r="r" b="b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/>
            <a:ahLst/>
            <a:rect l="l" t="t" r="r" b="b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/>
            <a:ahLst/>
            <a:rect l="l" t="t" r="r" b="b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6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CBAA05C8-EC91-4115-9520-ABF64B413E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78087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will examine different categories of financial investments(portfolios) from 1929 to 2009 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1. Large company stock “large cap”: contains largest companies in terms of market value of outstanding stock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2. Small company stock “mall cap”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 Long term government bonds (20 years to maturity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4. Treasury bills (three months to maturity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289548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$1 Investment in Different Types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f Portfolios,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8" name="Picture 5" descr="jor30719_0101"/>
          <p:cNvPicPr/>
          <p:nvPr/>
        </p:nvPicPr>
        <p:blipFill>
          <a:blip r:embed="rId1"/>
          <a:stretch/>
        </p:blipFill>
        <p:spPr>
          <a:xfrm>
            <a:off x="685800" y="1066680"/>
            <a:ext cx="792468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Historical Average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data in Table 1.1, if you add up the returns for large-company stocks from 1926 through 2009, you get about 987 percent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ecause there are 84 returns, the average return is about 11.75%.  How do you use this number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f you are making a guess about the size of the return for a year selected at random, your best guess is 11.75%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905120" y="4876920"/>
                <a:ext cx="51116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verage Annual Returns for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Five Portfolios and Infl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3" name="Picture 5" descr="Chapter1_6"/>
          <p:cNvPicPr/>
          <p:nvPr/>
        </p:nvPicPr>
        <p:blipFill>
          <a:blip r:embed="rId1"/>
          <a:stretch/>
        </p:blipFill>
        <p:spPr>
          <a:xfrm>
            <a:off x="1066680" y="1828800"/>
            <a:ext cx="7020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verage Returns: The First Less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ate of return on a riskless certain investment.(Treasury bill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extra return on a risky asset over the risk-free rate; or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is a reward, on average, for bearing risk. 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verage Annual Risk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emiums for Five Portfolio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7" name="Picture 5" descr="Chapter1_2"/>
          <p:cNvPicPr/>
          <p:nvPr/>
        </p:nvPicPr>
        <p:blipFill>
          <a:blip r:embed="rId1"/>
          <a:stretch/>
        </p:blipFill>
        <p:spPr>
          <a:xfrm>
            <a:off x="1219320" y="2193840"/>
            <a:ext cx="69339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turn Variability Review and Concep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know how much the actual return differs from the average return in a typical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uare root of the variance is used because the variance is measured in squared percentages and thus its hard to interpret. However, the standard deviation is an ordinary percentage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turn Variability: The Statistical Tool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heck the example on page 2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3124080" y="228600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3352680" y="4724280"/>
                <a:ext cx="27957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Historical Varianc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d Standard Devi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et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 use data from Table 1.1 for Large-Company Stock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1981080" y="320040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0040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useful for describing the probability of ending up in a given range of retur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obability that we end up within one SD of the average is 68%. (the average# +or – 1SD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obability that we end up within two SD of the average is 95% (the average # = or – 2SD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obability that we end up with more  three SD  of the average is 1% (the average# + or – 3SD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historical risk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Normal Distribution a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Large Company Stock Return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1" name="Picture 5" descr="jor30719_0110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Historical Returns, Standard Deviations, and Frequency Distributions: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3" name="Picture 5" descr="jor30719_0109"/>
          <p:cNvPicPr/>
          <p:nvPr/>
        </p:nvPicPr>
        <p:blipFill>
          <a:blip r:embed="rId1"/>
          <a:stretch/>
        </p:blipFill>
        <p:spPr>
          <a:xfrm>
            <a:off x="1219320" y="1089000"/>
            <a:ext cx="670536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2216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the investor is unwilling to bear any risk but is willing to forgo the use of money for a while, then they can invest in a risk free rat asse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the investor is willing to bear the risk , then they should accept risk premiums when investing in risky asse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isky investment do not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pay more than risk free investments (that</a:t>
            </a:r>
            <a:r>
              <a:rPr b="0" lang="fr-FR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what makes them risky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other words, there is a risk premium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on average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ut over any particular time, there is no guarante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3276720" y="228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&amp;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Historical Risk and Return Trade-Off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7" name="Picture 5" descr="jor30719_0111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 Brief History of Risk and Retur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se observations are important investment guidelin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ollar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ain or (loss) you get if you buy an asset is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alled the return on an investmen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urn on investment has two component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ash received while owning the investment (dividend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change in the value of the asset(stock) will be either a capital gain or a capital loss of your investmen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649440" y="4768920"/>
                <a:ext cx="7808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xample: suppose you purchased 200 shares of stock in Sabic on January 1. At that time, Sabic was selling for $50 per share, so your cost will be $10,000. at the end of the year, you want to see how you did with your investment. Knowing that the company paid dividend of $0.40 per share (Assuming we have two scenarios 1,2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tal dollar return (case 1) = 80+1120= $1,20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3880" y="2895480"/>
          <a:ext cx="5867640" cy="2560680"/>
        </p:xfrm>
        <a:graphic>
          <a:graphicData uri="http://schemas.openxmlformats.org/drawingml/2006/table">
            <a:tbl>
              <a:tblPr/>
              <a:tblGrid>
                <a:gridCol w="2273400"/>
                <a:gridCol w="1638360"/>
                <a:gridCol w="1955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1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 stock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5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9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31 val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nd inco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gain or 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,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ercent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Dividend Yield: The annual stock dividend as a percentage of the initial stock price.( D /pt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Capital gain yield: the change in stock price as a percentage of the initial stock price (Pt+1 – Pt / Pt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295280" y="4340160"/>
                <a:ext cx="609624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Total Dollar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d Total Percent Return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2b2c0e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400800" y="4343400"/>
            <a:ext cx="19810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,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nualizing Returns, 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buy 200 shares of Lowe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Companies, Inc. at $18 per share. Three months later, you sell these shares for $19 per share. You received no dividends. What is your return? What is your annualized return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urn: (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+1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– 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/ 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($19 - $18) / $18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.0556 = 5.56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turn on an investment expressed on an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nualized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basi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Key Question: What is the number of holding periods in a year?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6629400" y="3352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nualizing Returns, I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example, m = 4 (12 months / 3 months). Therefore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 + EAR = (1 + .0556)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1.2416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EAR = .2416 or 24.16%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win</cp:lastModifiedBy>
  <dcterms:modified xsi:type="dcterms:W3CDTF">2015-09-09T12:02:44Z</dcterms:modified>
  <cp:revision>110</cp:revision>
  <dc:subject/>
  <dc:title>Slide 1</dc:title>
</cp:coreProperties>
</file>