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E022-C55C-45C9-8060-EAB43BA1C7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48B-36CC-44CD-AD49-D9FAF2B2B4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886-676B-46E8-ACE2-95A0E09899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E0BA-47C0-4020-859B-AA65B7BC96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D2CF-2E7F-483A-9653-51D5D47803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E636-B1DD-4BF3-8C2B-43E7D7190C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EF0-9EA6-4DCB-A5F8-3E313E0FE7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99D-A5C3-4C7E-AB36-DBCD380E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B72-BC6F-4E56-B163-F4057170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175-2690-48AA-A85F-C99634AE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A7B-53DA-495B-A17A-12C4B606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86A-9CB9-4827-8831-5F269049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9FD-FC0F-4B59-9975-40109E88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3D8-D6B7-441C-9686-02B17697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FC3-F719-45C1-88C3-FE098A98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1AA-4DBB-4746-84B3-38D07F35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7C1-47DB-4337-A722-FB565293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4FE-ADEE-44FA-AAB6-62826D22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CC4-A8B1-4688-A7A4-49A37F2D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DC51-A94A-4F45-8088-66C4F3104D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4464-231A-4C8D-86C5-F1FB9CAEFF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341360"/>
            <a:ext cx="7561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tritional epidemi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CHS 269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cture NO 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1B22-6EE6-41F6-A9BD-C432240153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oals of nutritional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5788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food consumption, nutrient intake and nutritional status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ing new hypotheses about diet and disease,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evidence that supports or refutes existing hypoth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 the strength of diet-disease associ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ing to prevention of disease and improvement of public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B9A2-7C20-48CF-BE5A-EFA0A4F3BD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58480"/>
            <a:ext cx="820908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 of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direct relevance to human heal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ists study real li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o not need to extrapolate from animal models or in vitro syst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s of their work can be translated into specific recommendations for changes in nutrient intakes or food consumption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from nutritional epidemiology can have direct implications for food processing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ical studies showed that there is an associating between high intak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ty acids (found in margarine and other processed vegetable fats) with increased risks of coronary heart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probably prompt margarine manufacturers to seek out ways to reformulate their products to reduce thei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ty acid con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A354-B791-4E86-82CE-AE94BF67B2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3E99-D3EC-4144-A488-E39C31C6ED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tential for many kinds of b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as systematic error, resulting in over- or underestimation of the strength of association between exposure and out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50560" y="14436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advantages of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8546-BE0A-4B73-8184-F1C959642F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1840" y="980640"/>
            <a:ext cx="8464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in determining whether observed associations are caus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60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ssociation between a factor and a disease is not causal, efforts to modify exposure to that factor will not reduce disease r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6040" algn="just">
              <a:lnSpc>
                <a:spcPct val="90000"/>
              </a:lnSpc>
              <a:spcBef>
                <a:spcPts val="624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For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60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ough drinking of alcohol is associated with lung cancer risk, efforts to discourage alcohol consumption would not be likely to reduce the lung cancer death ra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180720" algn="just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 relationship is not caus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60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reflects the association of both alcohol intake and lung cancer with a third factor which is cigarette smo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0920" y="144360"/>
            <a:ext cx="8713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advantages of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6FBA-BF2B-428A-803B-E0C20F8AA6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678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arent simplicity and “real life” relevance of epidemiological find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specially true when preliminary or unconfirmed findings come to the attention of the news media and the general pub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For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of an association between margarine intake and cardiovascular disease have prompted some consumers to switch back to butt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experts believe that this action would not be beneficial to cardiovascular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144360"/>
            <a:ext cx="8713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advantages of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258E-6080-4F5A-8CD8-C694A3F6A2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modern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Major diseases throughout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steopo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Cata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t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Neural tube def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4BBE-2645-421F-832B-1E9A291185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3680" y="867960"/>
            <a:ext cx="85359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Multiple determinants (factors) (multicaus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diet, genetic, psychosocial,levels of physical activ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Long latent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cumulative exposure over many yea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Not readily 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May result f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excessive and/or insufficient in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of dietar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85480" y="189000"/>
            <a:ext cx="8358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Characteristics of modern nutrition-related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A9FE-7966-4E61-888A-4B691F5F6F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850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ies facing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remely complex nature of d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is complexity, it is helpful to compare diet with another exposure such as cigarette sm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A666-6072-44D8-BA16-704157115E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588600"/>
            <a:ext cx="85694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pidemiologist who is studying tobacco can obtain useful information simply by asking peopl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Do you smoke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llecting a few additional pieces of information such a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igarettes smoked per da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r brands of cigarettes smok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at which the person began (or stopped) smok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archer can obtain a clear, reasonably accurate picture of an individual's smoking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trast, 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 much by asking peopl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Do you eat?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trast, every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veryon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o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 varying degrees, to most dietary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 algn="r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idemiology is defined as follows: It is the study of the frequency, distribution and determinants of health related phenomena in human pop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96F-3FAB-4B79-B778-507463A196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0220-9346-4741-9566-D7ECAF9D09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400" y="283680"/>
            <a:ext cx="860724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patterns often evolve slowly over periods of years and people may not remember when their habits chang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ods that people eat consist of complex mixtures of compounds, with substantial differences even among seemingly similar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eat more of one type of food must eat less of other types of foods, thus creating a complex set of inter- correlations among dietary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habits may be correlated with other factors that influence disease risk, such as ethnic background, socioeconomic status and tobacco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method of preparation of foods may be impor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For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iled coffee may raise blood cholesterol level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ed coffee does not raise blood cholesterol because filtering removes the components that may have cholesterol-raising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7059-FA0C-4F24-BB35-587FB8D87E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of food, nutrients and other substances ther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es by which the organism ingests food, digests, absorbs nutrients, transports, utilizes and excretes waste or undigested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ir action, interaction and balance in relation to health and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371A-801F-48E7-A8CC-E1DFED62C0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Nutritional epidemiolog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81584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tudy of the nutritional determinants of disease in human popula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AF82-3E51-4B3A-A422-3DEA37B67E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58320" y="27432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trition in Epidemiolog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ield of Epidemiology , nutrition can be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in which the human body reacts with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t to which the diet influences levels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1C52-E773-4DFA-9C8F-0F03811FAC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98100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questions about diet and disease remain unres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tritional epidemiology will  enable us to understand the relationship between diet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well as diet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r understanding of biologic mechanisms remains incomplete to predict confidently the ultimate consequences of eating a particular food or nutr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11592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TRITIONAL EPIDEM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185-742A-44CA-8B22-9343B0E129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1123920"/>
            <a:ext cx="8351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take of fruits and vegetables has been shown to be related to increased risk of cardiovascular dise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ing saturated and trans fats with unsaturated fats can play an important role in the prevention of coronary heart disease and type 2 diab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seases—as cataracts, neural-tube defects, and macular degeneration—that were not thought to be nutritionally related have been found to have important dietary determin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11592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 indent="-176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al epidemiology has contributed to understanding the etiology of many dise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arly 1990s, epidemiological studies established that women could substantially reduce their risk of bearing a child with a neural tube birth defect by increasing their intake of the B vitamin folic ac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rganizations in many nations have recommended increased intakes of folic acid for women of childbearing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agencies in several countries are planning to fortify staple foods with fol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F57B-6A36-4C6B-B102-E05C52AD3A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theless, much more needs to be learned regarding other diet and disease rel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more, new products are constantly being introduced into the food supply requiring continued epidemiologic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C04A-2C34-4C62-90ED-D56CC1F4E4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5:27:52Z</dcterms:created>
  <dc:creator>user</dc:creator>
  <dc:description/>
  <dc:language>en-US</dc:language>
  <cp:lastModifiedBy>ksu</cp:lastModifiedBy>
  <dcterms:modified xsi:type="dcterms:W3CDTF">2012-02-05T06:06:03Z</dcterms:modified>
  <cp:revision>53</cp:revision>
  <dc:subject/>
  <dc:title>Nutritional epidemiology</dc:title>
</cp:coreProperties>
</file>