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S269_Lecture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3F0D-F211-488B-AEE7-33D28B8B95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S269_Lecture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8944-7E62-485C-A6B8-459A65AB1F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S269_Lecture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08B9-A0CA-4B9C-BEAB-0B8A73086D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35AC-7EF1-4F51-A830-7203533D56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S269_Lecture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991E-B658-466C-B926-82E6A1B916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9668-3145-431C-B2A4-1934CF7B7F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S269_Lecture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C125-DB8B-4AA7-A551-33D2A71B48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487-58EE-4CB7-8586-A0527C59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57B-DAC3-46E3-959B-E58CE261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FBC-E3B3-4379-BA15-0833B05D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058-C3FC-4D97-9899-9474EA76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0259-50A8-4A94-AC01-890A4603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E01-1BC0-49B9-88FB-E2553329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AD2-3225-4564-84CF-28C8B9DC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411-FFB4-4D6B-8C6F-D1C88BBB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303B-F3A8-477C-9BE5-A79DCD75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E04-24C6-4455-B82E-2CD641C5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EB3-3AD8-4CEB-B736-1B99540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8C15-A02A-4B82-90A7-FE408642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5725-0249-4570-B076-3B06F53AB6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6B7E-07AD-4E84-B4E5-B8A2196E29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341360"/>
            <a:ext cx="7561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utritional epidemi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CHS 269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cture NO (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4975-BFD0-48C2-A9DA-6F56CB6EBB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oals of nutritional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7120" y="1214280"/>
            <a:ext cx="857880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food consumption, nutrient intake and nutritional status of a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ing new hypotheses about diet and disease,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evidence that supports or refutes existing hypoth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 the strength of diet-disease associ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ing to prevention of disease and improvement of public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64A9-6C93-4F7A-88C0-E2F9682D77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58480"/>
            <a:ext cx="820908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vantages of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direct relevance to human heal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ists study real lif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do not need to extrapolate from animal models or in vitro syst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s of their work can be translated into specific recommendations for changes in nutrient intakes or food consumption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s from nutritional epidemiology can have direct implications for food processing an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ical studies showed that there is an associating between high intak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ty acids (found in margarine and other processed vegetable fats) with increased risks of coronary heart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probably prompt margarine manufacturers to seek out ways to reformulate their products to reduce thei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ty acid cont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2B8C-234B-4A16-8468-8CD82CFFB0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F99E-07BF-4C9A-B167-1FD93BDAF2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6072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tential for many kinds of b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2620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as systematic error, resulting in over- or underestimation of the strength of association between exposure and out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50560" y="144360"/>
            <a:ext cx="871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advantages of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2141-8D80-4637-BD4F-63F9EF1E07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21840" y="980640"/>
            <a:ext cx="8464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in determining whether observed associations are caus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60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ssociation between a factor and a disease is not causal, efforts to modify exposure to that factor will not reduce disease ri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6040" algn="just">
              <a:lnSpc>
                <a:spcPct val="90000"/>
              </a:lnSpc>
              <a:spcBef>
                <a:spcPts val="624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For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60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though drinking of alcohol is associated with lung cancer risk, efforts to discourage alcohol consumption would not be likely to reduce the lung cancer death ra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1000" indent="-180720" algn="just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the relationship is not caus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17604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reflects the association of both alcohol intake and lung cancer with a third factor which is cigarette smo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250920" y="144360"/>
            <a:ext cx="8713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advantages of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BA4E-01A6-4C2E-96F2-A67ED5C4D6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678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arent simplicity and “real life” relevance of epidemiological find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especially true when preliminary or unconfirmed findings come to the attention of the news media and the general publ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144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Arial"/>
              </a:rPr>
              <a:t>For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of an association between margarine intake and cardiovascular disease have prompted some consumers to switch back to butt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experts believe that this action would not be beneficial to cardiovascular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144360"/>
            <a:ext cx="87138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sadvantages of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7465-DD3C-45EF-ADDF-297DADF780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modern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Major diseases throughout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Osteopo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Cata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Str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Diab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Neural tube def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A8F6-0746-4A40-88EE-C486C3039A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83680" y="867960"/>
            <a:ext cx="85359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Multiple determinants (factors) (multicaus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diet, genetic, psychosocial,levels of physical activ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Long latent peri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cumulative exposure over many yea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Not readily 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May result fr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excessive and/or insufficient int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 of dietar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85480" y="189000"/>
            <a:ext cx="8358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Characteristics of modern nutrition-related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C765-26BD-4AB5-8AEB-171A2B9087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850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iculties facing nutrition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xtremely complex nature of d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this complexity, it is helpful to compare diet with another exposure such as cigarette smo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C51D-48E6-4521-A55C-A0D5290466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588600"/>
            <a:ext cx="85694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 algn="just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pidemiologist who is studying tobacco can obtain useful information simply by asking peopl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Do you smoke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llecting a few additional pieces of information such a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igarettes smoked per da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r brands of cigarettes smok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 at which the person began (or stopped) smok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earcher can obtain a clear, reasonably accurate picture of an individual's smoking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trast, 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 much by asking peopl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Do you eat?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9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ntrast, every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veryon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o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 varying degrees, to most dietary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 algn="just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0" algn="r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idemiology is defined as follows: It is the study of the frequency, distribution and determinants of health related phenomena in human pop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275F-0307-4D23-9367-9D53C4E0B33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C8E3-6007-430B-9DBA-A898ACE8C1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12400" y="283680"/>
            <a:ext cx="860724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ing patterns often evolve slowly over periods of years and people may not remember when their habits chang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ods that people eat consist of complex mixtures of compounds, with substantial differences even among seemingly similar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eat more of one type of food must eat less of other types of foods, thus creating a complex set of inter- correlations among dietary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ing habits may be correlated with other factors that influence disease risk, such as ethnic background, socioeconomic status and tobacco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method of preparation of foods may be impor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cc"/>
                </a:solidFill>
                <a:latin typeface="Arial"/>
              </a:rPr>
              <a:t>For 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iled coffee may raise blood cholesterol level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ed coffee does not raise blood cholesterol because filtering removes the components that may have cholesterol-raising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717F-0711-4D2E-8214-8FA84D92B3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of food, nutrients and other substances there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es by which the organism ingests food, digests, absorbs nutrients, transports, utilizes and excretes waste or undigested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ir action, interaction and balance in relation to health and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B66D-2486-4C04-88FC-744DB97826D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Nutritional epidemiolog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81584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study of the nutritional determinants of disease in human popula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8A8D-4C89-4DFD-93B5-9EEA3D2512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58320" y="27432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trition in Epidemiolog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ield of Epidemiology , nutrition can be defin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in which the human body reacts with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ent to which the diet influences levels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BCDE-0BF0-48DE-B23B-20E615EA5C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98100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questions about diet and disease remain unresol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tritional epidemiology will  enable us to understand the relationship between diet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well as diet an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r understanding of biologic mechanisms remains incomplete to predict confidently the ultimate consequences of eating a particular food or nutr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7200" y="11592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UTRITIONAL EPIDEM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1669-5F8B-474C-8125-876DCD86C8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000" y="1123920"/>
            <a:ext cx="83516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take of fruits and vegetables has been shown to be related to increased risk of cardiovascular dise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ing saturated and trans fats with unsaturated fats can play an important role in the prevention of coronary heart disease and type 2 diabe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iseases—as cataracts, neural-tube defects, and macular degeneration—that were not thought to be nutritionally related have been found to have important dietary determin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11592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6040" indent="-176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al epidemiology has contributed to understanding the etiology of many dise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arly 1990s, epidemiological studies established that women could substantially reduce their risk of bearing a child with a neural tube birth defect by increasing their intake of the B vitamin folic ac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rganizations in many nations have recommended increased intakes of folic acid for women of childbearing pot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agencies in several countries are planning to fortify staple foods with fol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719B-5DED-449B-BE63-586DC8D45B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theless, much more needs to be learned regarding other diet and disease rel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more, new products are constantly being introduced into the food supply requiring continued epidemiologic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S 269_Lecture 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FA5E-910C-4907-B664-D5D2124D3A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05:27:52Z</dcterms:created>
  <dc:creator>user</dc:creator>
  <dc:description/>
  <dc:language>en-US</dc:language>
  <cp:lastModifiedBy>ksu</cp:lastModifiedBy>
  <dcterms:modified xsi:type="dcterms:W3CDTF">2012-02-05T06:06:03Z</dcterms:modified>
  <cp:revision>53</cp:revision>
  <dc:subject/>
  <dc:title>Nutritional epidemiology</dc:title>
</cp:coreProperties>
</file>