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4DB2-4A5D-4E20-BD7E-DC138FE96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688B-668B-491A-9397-C0D41A6DB9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DE55-DFD0-43E9-BE76-089591E445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795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7954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4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5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6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7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8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3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4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5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6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7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8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79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0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81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sp>
          <p:nvSpPr>
            <p:cNvPr id="82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83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4680" y="76176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Black"/>
              </a:rPr>
              <a:t>The Five-Paragraph Essay</a:t>
            </a:r>
            <a:endParaRPr b="0" lang="en-US" sz="44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3000" y="40384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 Framework for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Expository Wri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5120" y="837720"/>
            <a:ext cx="670536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You already have your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first paragraph done!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Pretty easy, huh?</a:t>
            </a:r>
            <a:br>
              <a:rPr sz="40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make it even easier look at this organizational plan using color-coding.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1327320" y="609480"/>
          <a:ext cx="88236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7320" y="609480"/>
                    <a:ext cx="88236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4568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1: The Introduction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Introduction or Topic Sentence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(Use key words from the promp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irst Subtopic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A “Showing” 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Second Subtopic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A “Showing” 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Third Subtopic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(A “Showing” 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1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Conclusion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Restates Introdu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84160" y="228600"/>
            <a:ext cx="8259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1: Example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My favorite pet is my dog, Romeo.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e is beautiful and easy to care for.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laying with him is lots of fun.</a:t>
            </a:r>
            <a:r>
              <a:rPr b="1" lang="en-US" sz="3600" spc="-1" strike="noStrike">
                <a:solidFill>
                  <a:srgbClr val="00ff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He always takes care of me.</a:t>
            </a:r>
            <a:r>
              <a:rPr b="1" lang="en-US" sz="36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I have never had a better pe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94920" y="533160"/>
            <a:ext cx="723924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tate each subtopic as the topic sentence for each of the next three paragraphs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irst Subtopic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Example #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He is beautiful and easy to care for.”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 topic sentence you will restate for your next paragrap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2: Example #1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opic Sentenc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(Restates Example #1 from the Introduction “He is beautiful and easy to care for.”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 Example Sentences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ve your Topic Sent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oncluding Sentence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(Restates Topic Sentence from Example #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2: Example #1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Romeo is beautiful and easy to care for. He is a tricolor Sheltie, mostly black with white and a bit of brown. Caring for him is easy because I simply have to make sure he has fresh water and food every day. I exercise him by throwing his toys. Because he is good looking and doesn’t require much care Romeo is a good pe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457200"/>
            <a:ext cx="79250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tate the second subtopic as the topic sentence for the next paragraph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Second Subtopic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Example #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 “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laying with him is lots of fun.”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 topic sentence you will restate for your next paragrap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954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3: Example #2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Topic Sentence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Restate Example #2 from the Introduction “Playing with him is lots of fun.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3 Example Sentences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Prove your Topic Sent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Concluding Sentence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Restates   Topic Sentence from Example #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3: Example #2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Romeo is lots of fun to play with. He loves to play catch. He follows me around the house with a toy and drops it on my foot so I will toss it. He can catch just about anything, but his favorite is chasing a Frisbee. I really have fun playing with Romeo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90720" y="380880"/>
            <a:ext cx="80769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 the third subtopic (example) as the topic sentence for the next paragraph.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Third Subtopic</a:t>
            </a:r>
            <a:r>
              <a:rPr b="1" lang="en-US" sz="40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(Example #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He always takes care of me.”</a:t>
            </a:r>
            <a:r>
              <a:rPr b="0" lang="en-US" sz="36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the topic sentence for your next paragrap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write for fun. We write letters, stories, jokes, and to share information with our family or friend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school writing, however, i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xpository writ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fits into a different category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Different Kinds of Writing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457200"/>
            <a:ext cx="7486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4: Example #3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Topic Sentence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(Restates Example #3 from the Introduction “Romeo takes care of me.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3 Example Sentences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(That prove your Topic _x0008_Sent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Concluding Sentence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(Restates Topic Sentence from Example #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4: Example #3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Romeo takes care of me. He always follows me when I leave a room. When I am sitting on a couch he plops down right beside me. On sunny days when we are hiking in the woods he always makes sure that I keep up with the rest of the family. He always watches out for 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54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5: Conclus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states Paragraph 1: Introduction)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8960" y="2133360"/>
            <a:ext cx="7391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Introd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irst Subtopic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Second Subtopic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(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Third Sentence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(Exampl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954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graph 5: Conclus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states Paragraph 1: Introduction)</a:t>
            </a:r>
            <a:endParaRPr b="0" lang="en-US" sz="32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As you can see, Romeo is a great pet.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 am proud of him and he doesn’t require much care. </a:t>
            </a:r>
            <a:r>
              <a:rPr b="1" lang="en-US" sz="36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Playing with him is very pleasurable.</a:t>
            </a:r>
            <a:r>
              <a:rPr b="1" lang="en-US" sz="36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I am always safe because he watches over me.</a:t>
            </a:r>
            <a:r>
              <a:rPr b="1" lang="en-US" sz="3600" spc="-1" strike="noStrike">
                <a:solidFill>
                  <a:srgbClr val="ffcc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Romeo is a wonderful pet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6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re you have it!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ository writing isn’t that difficult when you hav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pl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make it even easier you may want to use a graphic organizer like the following ones to organize your though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575640" cy="69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76320" y="61920"/>
            <a:ext cx="912492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ve fun with your writing &amp; remember, you only need</a:t>
            </a: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 </a:t>
            </a:r>
            <a:r>
              <a:rPr b="0" i="1" lang="en-US" sz="4000" spc="-1" strike="noStrike">
                <a:solidFill>
                  <a:srgbClr val="003366"/>
                </a:solidFill>
                <a:latin typeface="Arial Black"/>
              </a:rPr>
              <a:t>THREE IDEAS</a:t>
            </a: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 a great expository essay!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2971800" y="3276720"/>
          <a:ext cx="3486240" cy="35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276720"/>
                    <a:ext cx="348624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3619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Expository Writing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520" y="34286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s information about a top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lains ide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s dire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ws how to do someth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523880" y="30492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urpose of most expository writing is to communicate ideas or answer questions.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Expository Writing Uses Transition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7560" y="21337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riter’s Expr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ay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ository writing uses transition words (such as first, second, and most importantly). These words help guide the reader through the explanation.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riter’s Express - A Handbook for Young Writers, Thinkers, and Learner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©199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So, your teacher gives you a prompt and tells you to write an expository essay:</a:t>
            </a:r>
            <a:r>
              <a:rPr b="1" lang="en-US" sz="3600" spc="-1" strike="noStrike">
                <a:solidFill>
                  <a:srgbClr val="003366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81080" y="31240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do??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n’t panic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llow this pla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atch for the color-coding, it will help you organize your idea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1143000" y="2895480"/>
          <a:ext cx="145260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95480"/>
                    <a:ext cx="145260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6"/>
          <p:cNvSpPr/>
          <p:nvPr/>
        </p:nvSpPr>
        <p:spPr>
          <a:xfrm>
            <a:off x="1601280" y="2133720"/>
            <a:ext cx="686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Write about your favorite pet.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54120" y="304560"/>
            <a:ext cx="6827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It’s Easy!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1143000" y="2133720"/>
            <a:ext cx="7620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You ONLY Need </a:t>
            </a:r>
            <a:r>
              <a:rPr b="0" i="1" lang="en-US" sz="3200" spc="-1" strike="noStrike">
                <a:solidFill>
                  <a:srgbClr val="003366"/>
                </a:solidFill>
                <a:latin typeface="Arial Black"/>
              </a:rPr>
              <a:t>Three</a:t>
            </a: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 Ideas..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371600" y="1227240"/>
            <a:ext cx="71629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 with your main idea or topic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se key words from the prompt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1295280" y="297180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reasons that show your topic sentence is tru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hree examples for each of your reasons (Remember to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not tell.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</a:rPr>
              <a:t>That’s all you need for the start of a great essay!!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95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Use Correct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Paragraph Form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7920" y="2666520"/>
            <a:ext cx="4800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pic Sente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ree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219320" y="5105520"/>
            <a:ext cx="7543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448"/>
                </a:solidFill>
                <a:latin typeface="Arial Black"/>
              </a:rPr>
              <a:t>No paragraph should be l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448"/>
                </a:solidFill>
                <a:latin typeface="Arial Black"/>
              </a:rPr>
              <a:t>than five sentences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371600" y="1752480"/>
            <a:ext cx="67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paragraph must include: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 with a topic sentence that uses the </a:t>
            </a:r>
            <a:r>
              <a:rPr b="1" i="1" lang="en-US" sz="3200" spc="-1" strike="noStrike">
                <a:solidFill>
                  <a:srgbClr val="002448"/>
                </a:solidFill>
                <a:latin typeface="Arial"/>
                <a:ea typeface="Times New Roman"/>
              </a:rPr>
              <a:t>key wor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from the prompt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n write </a:t>
            </a:r>
            <a:r>
              <a:rPr b="1" i="1" lang="en-US" sz="3200" spc="-1" strike="noStrike">
                <a:solidFill>
                  <a:srgbClr val="002448"/>
                </a:solidFill>
                <a:latin typeface="Arial"/>
              </a:rPr>
              <a:t>three reaso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t prove the topic sentence is tru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favorite pet is my dog, Romeo. He is a beautiful and easy to care for. Playing with him is lots of fun. He always takes care of m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The Beginning -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Your First Sentences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 Black"/>
              </a:rPr>
              <a:t>Now end with a conclusion:</a:t>
            </a:r>
            <a:endParaRPr b="0" lang="en-US" sz="40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ember, each paragraph must have a concluding sentence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ish with a sentence that restates your topic sentenc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y favorite pet is my dog, Romeo.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different word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have never had a better pet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4T22:19:58Z</dcterms:created>
  <dc:creator>Paula Barnard</dc:creator>
  <dc:description/>
  <dc:language>en-US</dc:language>
  <cp:lastModifiedBy>MU8</cp:lastModifiedBy>
  <cp:lastPrinted>2000-05-05T18:45:21Z</cp:lastPrinted>
  <dcterms:modified xsi:type="dcterms:W3CDTF">2015-08-17T09:23:12Z</dcterms:modified>
  <cp:revision>71</cp:revision>
  <dc:subject/>
  <dc:title>The Five-Paragraph Essay</dc:title>
</cp:coreProperties>
</file>