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0173E-276C-471C-A6BC-FE101E9B33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1B702-A457-410C-9EBF-A9232F7698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E2572-6EBD-4931-8B35-B57384D307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E879-A247-4A3B-82D4-8A7EA1643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E5D2-36A0-476C-B94D-49FAAE4A4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23F7-819A-45AD-A083-0BA13DDB3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1A1D-4323-489E-8090-F83E3CF36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52D6-3E06-4D83-9351-72A264A48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EDF0-CB3B-4FE2-BC44-F0ADC0772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A4FA-4A59-4C32-8B91-5DEDC03DC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9DCC-513D-4251-B616-399FADA1F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CF82-3C1C-446F-BCBC-265A7A485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3C9D-71A5-464D-8FCA-4FF7B28B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C3DC-6D75-4D1C-AF61-2A27AA39D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7706-44CE-45B0-9219-639F66BD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890BA-859F-4C23-81C9-48935D67387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3132000" y="836640"/>
            <a:ext cx="237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ood Safe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سلامة الغذا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6429240" y="214308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2060"/>
                </a:solidFill>
                <a:uFillTx/>
                <a:latin typeface="Calibri"/>
                <a:cs typeface="Times New Roman"/>
              </a:rPr>
              <a:t>مقدم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1000080" y="2714760"/>
            <a:ext cx="5946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 الاهتمام بسلامة الغذاء ناتج طبيعي للحياة المرفهة التي يعيشها العالم المتحض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 ولكن نشأ هذا الاهتمام بعيد الحرب العالمية الأول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 الاهتمام بسلامة الغذاء ليس جديدا ونواجهه بشكل شبه يوم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Diagram 2"/>
          <p:cNvSpPr/>
          <p:nvPr/>
        </p:nvSpPr>
        <p:spPr>
          <a:xfrm>
            <a:off x="2084400" y="993600"/>
            <a:ext cx="5492880" cy="45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928800" y="1487520"/>
            <a:ext cx="7143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من المسئول عن سلامة الغذا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* إدارة الغذاء والدواء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FDA</a:t>
            </a: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والهيئات المتخصصة الأخر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* الشركات الغذائ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* الدول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* الاستفتاء الذي أجري على المستهلكين أفاد أن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" name="Group 1"/>
          <p:cNvGrpSpPr/>
          <p:nvPr/>
        </p:nvGrpSpPr>
        <p:grpSpPr>
          <a:xfrm>
            <a:off x="2857680" y="5103720"/>
            <a:ext cx="3214440" cy="1974960"/>
            <a:chOff x="2857680" y="5103720"/>
            <a:chExt cx="3214440" cy="1974960"/>
          </a:xfrm>
        </p:grpSpPr>
        <p:grpSp>
          <p:nvGrpSpPr>
            <p:cNvPr id="74" name="Down Arrow 4"/>
            <p:cNvGrpSpPr/>
            <p:nvPr/>
          </p:nvGrpSpPr>
          <p:grpSpPr>
            <a:xfrm>
              <a:off x="4486680" y="5139720"/>
              <a:ext cx="804600" cy="870480"/>
              <a:chOff x="4486680" y="5139720"/>
              <a:chExt cx="804600" cy="870480"/>
            </a:xfrm>
          </p:grpSpPr>
          <p:pic>
            <p:nvPicPr>
              <p:cNvPr id="75" name="Down Arrow 4" descr=""/>
              <p:cNvPicPr/>
              <p:nvPr/>
            </p:nvPicPr>
            <p:blipFill>
              <a:blip r:embed="rId1"/>
              <a:stretch/>
            </p:blipFill>
            <p:spPr>
              <a:xfrm>
                <a:off x="4486680" y="5139720"/>
                <a:ext cx="804600" cy="870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" name=""/>
              <p:cNvSpPr/>
              <p:nvPr/>
            </p:nvSpPr>
            <p:spPr>
              <a:xfrm rot="19254600">
                <a:off x="4788360" y="5159520"/>
                <a:ext cx="151560" cy="76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7" name="Down Arrow 11"/>
            <p:cNvGrpSpPr/>
            <p:nvPr/>
          </p:nvGrpSpPr>
          <p:grpSpPr>
            <a:xfrm>
              <a:off x="4303800" y="5229720"/>
              <a:ext cx="383760" cy="954720"/>
              <a:chOff x="4303800" y="5229720"/>
              <a:chExt cx="383760" cy="954720"/>
            </a:xfrm>
          </p:grpSpPr>
          <p:pic>
            <p:nvPicPr>
              <p:cNvPr id="78" name="Down Arrow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4303800" y="5229720"/>
                <a:ext cx="383760" cy="954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"/>
              <p:cNvSpPr/>
              <p:nvPr/>
            </p:nvSpPr>
            <p:spPr>
              <a:xfrm>
                <a:off x="4426560" y="5261040"/>
                <a:ext cx="137880" cy="77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0" name="Down Arrow 12"/>
            <p:cNvGrpSpPr/>
            <p:nvPr/>
          </p:nvGrpSpPr>
          <p:grpSpPr>
            <a:xfrm>
              <a:off x="3627000" y="5103720"/>
              <a:ext cx="847080" cy="954720"/>
              <a:chOff x="3627000" y="5103720"/>
              <a:chExt cx="847080" cy="954720"/>
            </a:xfrm>
          </p:grpSpPr>
          <p:pic>
            <p:nvPicPr>
              <p:cNvPr id="81" name="Down Arrow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3627000" y="5103720"/>
                <a:ext cx="847080" cy="954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" name=""/>
              <p:cNvSpPr/>
              <p:nvPr/>
            </p:nvSpPr>
            <p:spPr>
              <a:xfrm rot="2182200">
                <a:off x="3990600" y="5137560"/>
                <a:ext cx="166320" cy="82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3" name="TextBox 13"/>
            <p:cNvSpPr/>
            <p:nvPr/>
          </p:nvSpPr>
          <p:spPr>
            <a:xfrm>
              <a:off x="5000760" y="5472360"/>
              <a:ext cx="1071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KW" sz="18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8%</a:t>
              </a:r>
              <a:r>
                <a:rPr b="1" lang="ar-KW" sz="18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 الشركات الغذائية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14"/>
            <p:cNvSpPr/>
            <p:nvPr/>
          </p:nvSpPr>
          <p:spPr>
            <a:xfrm>
              <a:off x="2857680" y="5613120"/>
              <a:ext cx="10713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KW" sz="18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48%</a:t>
              </a:r>
              <a:r>
                <a:rPr b="1" lang="ar-KW" sz="18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 مسئولية المستهلك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TextBox 15"/>
            <p:cNvSpPr/>
            <p:nvPr/>
          </p:nvSpPr>
          <p:spPr>
            <a:xfrm>
              <a:off x="3929040" y="6105600"/>
              <a:ext cx="107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KW" sz="18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29%</a:t>
              </a:r>
              <a:r>
                <a:rPr b="1" lang="ar-KW" sz="18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 الدولة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" name="TextBox 8"/>
          <p:cNvSpPr/>
          <p:nvPr/>
        </p:nvSpPr>
        <p:spPr>
          <a:xfrm>
            <a:off x="2786040" y="57240"/>
            <a:ext cx="351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2060"/>
                </a:solidFill>
                <a:uFillTx/>
                <a:latin typeface="Calibri"/>
                <a:cs typeface="Times New Roman"/>
              </a:rPr>
              <a:t>التحقق من سلامة مكونات الغذا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7"/>
          <p:cNvSpPr/>
          <p:nvPr/>
        </p:nvSpPr>
        <p:spPr>
          <a:xfrm>
            <a:off x="3635280" y="193680"/>
            <a:ext cx="439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من الذي يقرر أن الغذاء آمن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* قديما (ذواقي الأغذية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* حديثاً (علماء السموم)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Diagram 2"/>
          <p:cNvSpPr/>
          <p:nvPr/>
        </p:nvSpPr>
        <p:spPr>
          <a:xfrm>
            <a:off x="1494000" y="255600"/>
            <a:ext cx="6297480" cy="53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857160" y="1357200"/>
            <a:ext cx="6946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ar-KW" sz="2400" spc="-1" strike="noStrike">
                <a:solidFill>
                  <a:srgbClr val="c00000"/>
                </a:solidFill>
                <a:latin typeface="Calibri"/>
              </a:rPr>
              <a:t>من غير المنطقي أن تكون مسئولية المستهلك لأنه غير قادر على معرفة التالي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* </a:t>
            </a:r>
            <a:r>
              <a:rPr b="1" lang="ar-KW" sz="2400" spc="-1" strike="noStrike">
                <a:solidFill>
                  <a:srgbClr val="002060"/>
                </a:solidFill>
                <a:latin typeface="Calibri"/>
              </a:rPr>
              <a:t>البكتيريا الممرض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* </a:t>
            </a:r>
            <a:r>
              <a:rPr b="1" lang="ar-KW" sz="2400" spc="-1" strike="noStrike">
                <a:solidFill>
                  <a:srgbClr val="002060"/>
                </a:solidFill>
                <a:latin typeface="Calibri"/>
              </a:rPr>
              <a:t>المواد المشع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* </a:t>
            </a:r>
            <a:r>
              <a:rPr b="1" lang="ar-KW" sz="2400" spc="-1" strike="noStrike">
                <a:solidFill>
                  <a:srgbClr val="002060"/>
                </a:solidFill>
                <a:latin typeface="Calibri"/>
              </a:rPr>
              <a:t>المبيدات أو الملوثا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8"/>
          <p:cNvSpPr/>
          <p:nvPr/>
        </p:nvSpPr>
        <p:spPr>
          <a:xfrm>
            <a:off x="4857840" y="1071720"/>
            <a:ext cx="316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2060"/>
                </a:solidFill>
                <a:uFillTx/>
                <a:latin typeface="Calibri"/>
                <a:cs typeface="Times New Roman"/>
              </a:rPr>
              <a:t>كيفية اجراء اختبارات السم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Diagram 3"/>
          <p:cNvSpPr/>
          <p:nvPr/>
        </p:nvSpPr>
        <p:spPr>
          <a:xfrm>
            <a:off x="1504800" y="1390680"/>
            <a:ext cx="7010640" cy="40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Diagram 7" descr=""/>
          <p:cNvPicPr/>
          <p:nvPr/>
        </p:nvPicPr>
        <p:blipFill>
          <a:blip r:embed="rId1"/>
          <a:stretch/>
        </p:blipFill>
        <p:spPr>
          <a:xfrm>
            <a:off x="1468440" y="2109960"/>
            <a:ext cx="6084720" cy="4462200"/>
          </a:xfrm>
          <a:prstGeom prst="rect">
            <a:avLst/>
          </a:prstGeom>
          <a:ln w="0">
            <a:noFill/>
          </a:ln>
        </p:spPr>
      </p:pic>
      <p:sp>
        <p:nvSpPr>
          <p:cNvPr id="93" name="TextBox 8"/>
          <p:cNvSpPr/>
          <p:nvPr/>
        </p:nvSpPr>
        <p:spPr>
          <a:xfrm>
            <a:off x="5715000" y="404640"/>
            <a:ext cx="23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 u="sng">
                <a:solidFill>
                  <a:srgbClr val="002060"/>
                </a:solidFill>
                <a:uFillTx/>
                <a:latin typeface="Calibri"/>
                <a:cs typeface="Times New Roman"/>
              </a:rPr>
              <a:t>اختبارات سمية الغذا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8"/>
          <p:cNvSpPr/>
          <p:nvPr/>
        </p:nvSpPr>
        <p:spPr>
          <a:xfrm>
            <a:off x="4214880" y="857160"/>
            <a:ext cx="423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2060"/>
                </a:solidFill>
                <a:uFillTx/>
                <a:latin typeface="Calibri"/>
                <a:cs typeface="Times New Roman"/>
              </a:rPr>
              <a:t>مستوى ونوع التعرض للمادة الكيميائ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285920" y="1643040"/>
          <a:ext cx="6148440" cy="4286160"/>
        </p:xfrm>
        <a:graphic>
          <a:graphicData uri="http://schemas.openxmlformats.org/drawingml/2006/table">
            <a:tbl>
              <a:tblPr/>
              <a:tblGrid>
                <a:gridCol w="2233440"/>
                <a:gridCol w="1954440"/>
                <a:gridCol w="1960560"/>
              </a:tblGrid>
              <a:tr h="857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c00000"/>
                          </a:solidFill>
                          <a:latin typeface="Calibri"/>
                          <a:cs typeface="Times New Roman"/>
                        </a:rPr>
                        <a:t>زمن التعر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c00000"/>
                          </a:solidFill>
                          <a:latin typeface="Calibri"/>
                          <a:cs typeface="Times New Roman"/>
                        </a:rPr>
                        <a:t>الجرع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c00000"/>
                          </a:solidFill>
                          <a:latin typeface="Calibri"/>
                          <a:cs typeface="Times New Roman"/>
                        </a:rPr>
                        <a:t>مستوى التأثي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857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2060"/>
                          </a:solidFill>
                          <a:latin typeface="Calibri"/>
                          <a:cs typeface="Times New Roman"/>
                        </a:rPr>
                        <a:t>عدة أيا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2060"/>
                          </a:solidFill>
                          <a:latin typeface="Calibri"/>
                          <a:cs typeface="Times New Roman"/>
                        </a:rPr>
                        <a:t>عالي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2060"/>
                          </a:solidFill>
                          <a:latin typeface="Calibri"/>
                          <a:cs typeface="Times New Roman"/>
                        </a:rPr>
                        <a:t>حا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2060"/>
                          </a:solidFill>
                          <a:latin typeface="Calibri"/>
                          <a:cs typeface="Times New Roman"/>
                        </a:rPr>
                        <a:t>شه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2060"/>
                          </a:solidFill>
                          <a:latin typeface="Calibri"/>
                          <a:cs typeface="Times New Roman"/>
                        </a:rPr>
                        <a:t>متوسط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2060"/>
                          </a:solidFill>
                          <a:latin typeface="Calibri"/>
                          <a:cs typeface="Times New Roman"/>
                        </a:rPr>
                        <a:t>تحت حا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1-3</a:t>
                      </a:r>
                      <a:r>
                        <a:rPr b="1" lang="ar-SA" sz="24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 شهو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2060"/>
                          </a:solidFill>
                          <a:latin typeface="Calibri"/>
                          <a:cs typeface="Times New Roman"/>
                        </a:rPr>
                        <a:t>منخفض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2060"/>
                          </a:solidFill>
                          <a:latin typeface="Calibri"/>
                          <a:cs typeface="Times New Roman"/>
                        </a:rPr>
                        <a:t>تحت مزم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2060"/>
                          </a:solidFill>
                          <a:latin typeface="Calibri"/>
                          <a:cs typeface="Times New Roman"/>
                        </a:rPr>
                        <a:t>أكثر من </a:t>
                      </a:r>
                      <a:r>
                        <a:rPr b="1" lang="ar-SA" sz="24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r>
                        <a:rPr b="1" lang="ar-SA" sz="24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 شهو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2060"/>
                          </a:solidFill>
                          <a:latin typeface="Calibri"/>
                          <a:cs typeface="Times New Roman"/>
                        </a:rPr>
                        <a:t>منخفضة جدا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2060"/>
                          </a:solidFill>
                          <a:latin typeface="Calibri"/>
                          <a:cs typeface="Times New Roman"/>
                        </a:rPr>
                        <a:t>مزم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7"/>
          <p:cNvSpPr/>
          <p:nvPr/>
        </p:nvSpPr>
        <p:spPr>
          <a:xfrm>
            <a:off x="1571760" y="1214280"/>
            <a:ext cx="6089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No Observable Effect Level (NOE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* </a:t>
            </a:r>
            <a:r>
              <a:rPr b="1" lang="ar-SA" sz="2400" spc="-1" strike="noStrike">
                <a:solidFill>
                  <a:srgbClr val="002060"/>
                </a:solidFill>
                <a:latin typeface="Calibri"/>
                <a:cs typeface="Times New Roman"/>
              </a:rPr>
              <a:t>يستخدم لوضع المستويات المسموح بها من مضافات الأغذية والمبيدات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	</a:t>
            </a:r>
            <a:r>
              <a:rPr b="1" lang="ar-SA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* تقسم هذه القيمة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NOEL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 على </a:t>
            </a:r>
            <a:r>
              <a:rPr b="1" lang="ar-SA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* النتيجة هي القيمة القصوى التي يجب استهلاكها من قبل الإنسا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7"/>
          <p:cNvSpPr/>
          <p:nvPr/>
        </p:nvSpPr>
        <p:spPr>
          <a:xfrm>
            <a:off x="928800" y="1928880"/>
            <a:ext cx="6518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* </a:t>
            </a:r>
            <a:r>
              <a:rPr b="1" lang="ar-SA" sz="2400" spc="-1" strike="noStrike">
                <a:solidFill>
                  <a:srgbClr val="002060"/>
                </a:solidFill>
                <a:latin typeface="Calibri"/>
                <a:cs typeface="Times New Roman"/>
              </a:rPr>
              <a:t>تجرى لمدة </a:t>
            </a:r>
            <a:r>
              <a:rPr b="1" lang="ar-SA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 سنوات على أقل تقدي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	</a:t>
            </a:r>
            <a:r>
              <a:rPr b="1" lang="ar-SA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* تكلفة اختبارات السمية الحادة والمزمنة حوالي ½ دولا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* تكلفة اختبارات الطفرات والتشوهات مابين ¼ - ½ مليون دولا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000240" y="1214280"/>
            <a:ext cx="430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2060"/>
                </a:solidFill>
                <a:uFillTx/>
                <a:latin typeface="Calibri"/>
                <a:cs typeface="Times New Roman"/>
              </a:rPr>
              <a:t>التكاليف المالية والوقت لهذه الاختبارا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8"/>
          <p:cNvSpPr/>
          <p:nvPr/>
        </p:nvSpPr>
        <p:spPr>
          <a:xfrm>
            <a:off x="5143680" y="1214280"/>
            <a:ext cx="216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2060"/>
                </a:solidFill>
                <a:uFillTx/>
                <a:latin typeface="Calibri"/>
                <a:cs typeface="Times New Roman"/>
              </a:rPr>
              <a:t>الدراسات الوبائ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7"/>
          <p:cNvSpPr/>
          <p:nvPr/>
        </p:nvSpPr>
        <p:spPr>
          <a:xfrm>
            <a:off x="928800" y="1928880"/>
            <a:ext cx="6518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* </a:t>
            </a:r>
            <a:r>
              <a:rPr b="1" lang="ar-SA" sz="2400" spc="-1" strike="noStrike">
                <a:solidFill>
                  <a:srgbClr val="002060"/>
                </a:solidFill>
                <a:latin typeface="Calibri"/>
                <a:cs typeface="Times New Roman"/>
              </a:rPr>
              <a:t>معلومات عن الأشخاص تعرضوا للمادة من السجلات المتوفرة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	</a:t>
            </a:r>
            <a:r>
              <a:rPr b="1" lang="ar-SA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* التعرض إما عرضياً أو تطوعياً (سرطان المثانة والسكارين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* مقارنة المعلومات المتحصل عليها بالنتائج المتحصل عليها من حيوانات التجارب (يؤخذ في الاعتبار طريقة التعرض للماد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8"/>
          <p:cNvSpPr/>
          <p:nvPr/>
        </p:nvSpPr>
        <p:spPr>
          <a:xfrm>
            <a:off x="2214720" y="928800"/>
            <a:ext cx="558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2060"/>
                </a:solidFill>
                <a:uFillTx/>
                <a:latin typeface="Calibri"/>
                <a:cs typeface="Times New Roman"/>
              </a:rPr>
              <a:t>تحديد ومراقبة المستويات الآمنة للإستخدام في الغذا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857160" y="1857240"/>
            <a:ext cx="6518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* ا</a:t>
            </a:r>
            <a:r>
              <a:rPr b="1" lang="ar-SA" sz="2400" spc="-1" strike="noStrike">
                <a:solidFill>
                  <a:srgbClr val="002060"/>
                </a:solidFill>
                <a:latin typeface="Calibri"/>
                <a:cs typeface="Times New Roman"/>
              </a:rPr>
              <a:t>لمعلومات السابقة أساس لتحديد المتناول اليومي المسموح 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cceptable Daily Intake (AD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	</a:t>
            </a:r>
            <a:r>
              <a:rPr b="1" lang="ar-SA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* 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DI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كمية المادة التي يمكن استهلاكها يوميا على مدى الحياة مع التيقن العملي طبقا للحقائق المعروفة بأنها لن تؤدي إلى حدوث أضرار على المستهل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* لضمان حيز من الأمان يقسم مستوى التاثير غير الملحوظ / </a:t>
            </a: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100</a:t>
            </a: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 أو </a:t>
            </a: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9"/>
          <p:cNvSpPr/>
          <p:nvPr/>
        </p:nvSpPr>
        <p:spPr>
          <a:xfrm>
            <a:off x="1285920" y="2428920"/>
            <a:ext cx="537516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 وسائل الإعلام والصحف 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(لا تخلو من قضايا مسألة السلامة ، كتعرض الغذاء لعمليات تصنيعية ، أو احتوائه على كميات كبيرة من الملح.........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الأكاديميون وعلماء التغذية 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(هذه الاتهامات لا يمكن الأخذ بها على الإطلاق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4286160" y="1428840"/>
            <a:ext cx="400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2060"/>
                </a:solidFill>
                <a:uFillTx/>
                <a:latin typeface="Calibri"/>
                <a:cs typeface="Times New Roman"/>
              </a:rPr>
              <a:t>آراء متضاربة حول سلامة الغذا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8"/>
          <p:cNvSpPr/>
          <p:nvPr/>
        </p:nvSpPr>
        <p:spPr>
          <a:xfrm>
            <a:off x="4572000" y="714240"/>
            <a:ext cx="351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2060"/>
                </a:solidFill>
                <a:uFillTx/>
                <a:latin typeface="Calibri"/>
              </a:rPr>
              <a:t>الغذاء والعلم في عصر المعلوما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7"/>
          <p:cNvSpPr/>
          <p:nvPr/>
        </p:nvSpPr>
        <p:spPr>
          <a:xfrm>
            <a:off x="1285920" y="1571760"/>
            <a:ext cx="5946840" cy="33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 يمكن قياس مستويات المركبات المختلفة 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( الكيمياء التحليلية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 العلماء والأكاديميون ان أزمة سلامة الغذاء ما هي إلا تخيلات 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(معلومات غير دقيقة ، حماية المستهلك والشركات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 الأخذ في الاعتبار جميع الحقائق التي تتعلق بسلامة الغذاء والوصول إلى قرا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Diagram 5" descr=""/>
          <p:cNvPicPr/>
          <p:nvPr/>
        </p:nvPicPr>
        <p:blipFill>
          <a:blip r:embed="rId1"/>
          <a:stretch/>
        </p:blipFill>
        <p:spPr>
          <a:xfrm>
            <a:off x="1773360" y="4595760"/>
            <a:ext cx="531000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7"/>
          <p:cNvSpPr/>
          <p:nvPr/>
        </p:nvSpPr>
        <p:spPr>
          <a:xfrm>
            <a:off x="1571760" y="1714680"/>
            <a:ext cx="5946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 في دراسة استطلاعية أجريت </a:t>
            </a: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1986</a:t>
            </a: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م عن اكثر القضايا الأكثر أهمية لدى المستهلك كان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بقايا المبيدات </a:t>
            </a: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76</a:t>
            </a: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المضافات الغذائ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أهم قضايا سلامة الغذا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 المضافات والملونات والمنكها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 المضادات الحيو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 المخصبا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 تشعيع الأغذ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8"/>
          <p:cNvSpPr/>
          <p:nvPr/>
        </p:nvSpPr>
        <p:spPr>
          <a:xfrm>
            <a:off x="6143760" y="92880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2060"/>
                </a:solidFill>
                <a:uFillTx/>
                <a:latin typeface="Calibri"/>
              </a:rPr>
              <a:t>قضايا سلامة الغذا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7"/>
          <p:cNvSpPr/>
          <p:nvPr/>
        </p:nvSpPr>
        <p:spPr>
          <a:xfrm>
            <a:off x="4643280" y="1857240"/>
            <a:ext cx="3375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 rtl="1">
              <a:buClr>
                <a:srgbClr val="00206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التلوث الميكروب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 rtl="1">
              <a:buClr>
                <a:srgbClr val="00206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 السموم الطبيع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 rtl="1">
              <a:buClr>
                <a:srgbClr val="00206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 التغذ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 rtl="1">
              <a:buClr>
                <a:srgbClr val="00206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 بقايا المبيدا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 rtl="1">
              <a:buClr>
                <a:srgbClr val="00206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 التصنيع والتعبئ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 rtl="1">
              <a:buClr>
                <a:srgbClr val="00206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 التلاعب بعبوات الأغذ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http://t3.gstatic.com/images?q=tbn:ANd9GcRRDiVGGoUTIA8ZzJDeoySSipvKjX3v4UpfUp7fAlsn9ld8bjJ6mA"/>
          <p:cNvPicPr/>
          <p:nvPr/>
        </p:nvPicPr>
        <p:blipFill>
          <a:blip r:embed="rId1"/>
          <a:stretch/>
        </p:blipFill>
        <p:spPr>
          <a:xfrm>
            <a:off x="18072000" y="-1314360"/>
            <a:ext cx="1876680" cy="2438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http://t3.gstatic.com/images?q=tbn:ANd9GcRRDiVGGoUTIA8ZzJDeoySSipvKjX3v4UpfUp7fAlsn9ld8bjJ6mA"/>
          <p:cNvPicPr/>
          <p:nvPr/>
        </p:nvPicPr>
        <p:blipFill>
          <a:blip r:embed="rId2"/>
          <a:stretch/>
        </p:blipFill>
        <p:spPr>
          <a:xfrm>
            <a:off x="18072000" y="-1314360"/>
            <a:ext cx="1876680" cy="243828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8"/>
          <p:cNvSpPr/>
          <p:nvPr/>
        </p:nvSpPr>
        <p:spPr>
          <a:xfrm>
            <a:off x="18078480" y="-642960"/>
            <a:ext cx="226692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10" descr="http://t2.gstatic.com/images?q=tbn:ANd9GcTam_hGx33QAQnDlWH-vpHERB9M6L8oS6YDPNP-W__neHE9SFI8M_SoWaTL"/>
          <p:cNvPicPr/>
          <p:nvPr/>
        </p:nvPicPr>
        <p:blipFill>
          <a:blip r:embed="rId3"/>
          <a:stretch/>
        </p:blipFill>
        <p:spPr>
          <a:xfrm>
            <a:off x="18078480" y="-642960"/>
            <a:ext cx="2266920" cy="1038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" descr="C:\Users\dtrabzuni\Pictures\ss_02_101248169.jpg"/>
          <p:cNvPicPr/>
          <p:nvPr/>
        </p:nvPicPr>
        <p:blipFill>
          <a:blip r:embed="rId4"/>
          <a:stretch/>
        </p:blipFill>
        <p:spPr>
          <a:xfrm>
            <a:off x="571680" y="1857240"/>
            <a:ext cx="34290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7"/>
          <p:cNvSpPr/>
          <p:nvPr/>
        </p:nvSpPr>
        <p:spPr>
          <a:xfrm>
            <a:off x="1500120" y="1071720"/>
            <a:ext cx="6089760" cy="58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 الملاحظ أن أكثر قضيا سلامة الغذاء خطرا هي التلوث الميكروبي </a:t>
            </a:r>
            <a:r>
              <a:rPr b="1" lang="ar-SA" sz="2200" spc="-1" strike="noStrike">
                <a:solidFill>
                  <a:srgbClr val="002060"/>
                </a:solidFill>
                <a:latin typeface="Calibri"/>
              </a:rPr>
              <a:t>(بالرغم من أنه لم يشكل قلقا أو اهتماما لدى كثير من المستهلكين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 إحصائية ذكرت أن </a:t>
            </a: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6</a:t>
            </a: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% من حالات التسمم الغذائي سببها تلوث ميكروبي من أغذية مصنعة ، بينما </a:t>
            </a: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94</a:t>
            </a: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% من الحالات سببها تلوث غذائي في المنز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 إدارة الغذاء والدواء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FDA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مهتمة بدرجة كبيرة بالسلامة الميكروبية لمنتجاتها ومنع وصول المواد الخارجية إلى المنتجات(المخاطر الميكروبية والفيزيائية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8"/>
          <p:cNvSpPr/>
          <p:nvPr/>
        </p:nvSpPr>
        <p:spPr>
          <a:xfrm>
            <a:off x="5500800" y="1214280"/>
            <a:ext cx="266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2060"/>
                </a:solidFill>
                <a:uFillTx/>
                <a:latin typeface="Calibri"/>
                <a:cs typeface="Times New Roman"/>
              </a:rPr>
              <a:t>من قضايا سلامة الغذا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7"/>
          <p:cNvSpPr/>
          <p:nvPr/>
        </p:nvSpPr>
        <p:spPr>
          <a:xfrm>
            <a:off x="1357200" y="2286000"/>
            <a:ext cx="6089760" cy="37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التلاعب بمحتويات العبوة الغذائ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ar-SA" sz="2400" spc="-1" strike="noStrike">
                <a:solidFill>
                  <a:srgbClr val="002060"/>
                </a:solidFill>
                <a:latin typeface="Calibri"/>
                <a:cs typeface="Times New Roman"/>
              </a:rPr>
              <a:t>منع التلاعب بمكونات العبوة الغذائية عن طريق وضع غلاف حول فتحة العبو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 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بقايا المبيدا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	</a:t>
            </a:r>
            <a:r>
              <a:rPr b="1" lang="ar-SA" sz="2400" spc="-1" strike="noStrike">
                <a:solidFill>
                  <a:srgbClr val="002060"/>
                </a:solidFill>
                <a:latin typeface="Calibri"/>
                <a:cs typeface="Times New Roman"/>
              </a:rPr>
              <a:t>ذكرت التقارير أن العديد من الكيميائيات الموجودة في المبيدات لم تجرى عليها التجارب الكاف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8"/>
          <p:cNvSpPr/>
          <p:nvPr/>
        </p:nvSpPr>
        <p:spPr>
          <a:xfrm>
            <a:off x="5500800" y="1214280"/>
            <a:ext cx="266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2060"/>
                </a:solidFill>
                <a:uFillTx/>
                <a:latin typeface="Calibri"/>
                <a:cs typeface="Times New Roman"/>
              </a:rPr>
              <a:t>من قضايا سلامة الغذا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7"/>
          <p:cNvSpPr/>
          <p:nvPr/>
        </p:nvSpPr>
        <p:spPr>
          <a:xfrm>
            <a:off x="1357200" y="1928880"/>
            <a:ext cx="60897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التغذية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* </a:t>
            </a:r>
            <a:r>
              <a:rPr b="1" lang="ar-SA" sz="2400" spc="-1" strike="noStrike">
                <a:solidFill>
                  <a:srgbClr val="002060"/>
                </a:solidFill>
                <a:latin typeface="Calibri"/>
                <a:cs typeface="Times New Roman"/>
              </a:rPr>
              <a:t>في الماضي لم يكن هناك اهتمام بهذا الجان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	</a:t>
            </a:r>
            <a:r>
              <a:rPr b="1" lang="ar-SA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* في العقود الأخيرة ازداد اهتمام الشركات </a:t>
            </a: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على توفير المعلومات التغذو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* نتيجة لاهتمام المستهلك وهيئة الغذاء والدواء والشركا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* سوء التغذية نتيجة زيادة أو نفص العناصر الغذائية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8"/>
          <p:cNvSpPr/>
          <p:nvPr/>
        </p:nvSpPr>
        <p:spPr>
          <a:xfrm>
            <a:off x="5500800" y="1214280"/>
            <a:ext cx="266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2060"/>
                </a:solidFill>
                <a:uFillTx/>
                <a:latin typeface="Calibri"/>
                <a:cs typeface="Times New Roman"/>
              </a:rPr>
              <a:t>من قضايا سلامة الغذا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7"/>
          <p:cNvSpPr/>
          <p:nvPr/>
        </p:nvSpPr>
        <p:spPr>
          <a:xfrm>
            <a:off x="1571760" y="1857240"/>
            <a:ext cx="6089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السموم الموجودة طبيعيا في الغذاء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* تحتوي الأغذية على سموم طبيعية لايعيرها المستهلك وبالتالي لا يعيرها أي اهتما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* أما الشركات و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FDA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 تهتم بهذا الموضو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* وسائل الإعلام لا تركز على هذا الموضوع بل تركز على المضافات الغذائ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* كما يعتقد الشخص العادي ان الأغذية الطبيعية لا تسبب أي مخاطر صح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8T16:29:03Z</dcterms:created>
  <dc:creator>Daniah Trabzuni</dc:creator>
  <dc:description/>
  <dc:language>en-US</dc:language>
  <cp:lastModifiedBy>win7</cp:lastModifiedBy>
  <dcterms:modified xsi:type="dcterms:W3CDTF">2013-05-11T17:49:27Z</dcterms:modified>
  <cp:revision>31</cp:revision>
  <dc:subject/>
  <dc:title>PowerPoint Presentation</dc:title>
</cp:coreProperties>
</file>