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AE5A-915B-4DC7-B580-A546BD465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0BF5-1496-4136-92A5-9DCD9FC4C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D91A-8123-4F96-B631-E9E604EF7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F70-5324-41E2-BE59-655DF4C2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DE2-5387-4BE7-BEF3-28603C37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49D-38D2-4DC6-B62D-FBB3CBE6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7E3-2132-4FB0-9F29-50ACF747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3FB-8D68-49F7-BFB1-FD1A6BE1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95F-4EB1-4FF9-A450-DC8753E1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557-E89C-4F51-96A4-5C35AD95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710-8875-4747-8F54-F898D526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3F8-63A1-434A-A217-88C7CBDF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B27-D339-4BA8-A61F-1B72FCE6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545-8C8E-4D17-A7B4-65AF5D4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3E2-5FB2-46CA-8F62-1381E479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E221-E561-438B-ABDC-5941FF3667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132000" y="836640"/>
            <a:ext cx="23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od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سلامة الغذ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429240" y="21430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قد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000080" y="2714760"/>
            <a:ext cx="594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اهتمام بسلامة الغذاء ناتج طبيعي للحياة المرفهة التي يعيشها العالم المتحض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ولكن نشأ هذا الاهتمام بعيد الحرب العالمية الأول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اهتمام بسلامة الغذاء ليس جديدا ونواجهه بشكل شبه ي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iagram 2"/>
          <p:cNvSpPr/>
          <p:nvPr/>
        </p:nvSpPr>
        <p:spPr>
          <a:xfrm>
            <a:off x="2084400" y="993600"/>
            <a:ext cx="549288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928800" y="1487520"/>
            <a:ext cx="7143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 المسئول عن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إدارة الغذاء والدواء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DA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والهيئات المتخصصة الأ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شركات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دول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استفتاء الذي أجري على المستهلكين أفاد أ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1"/>
          <p:cNvGrpSpPr/>
          <p:nvPr/>
        </p:nvGrpSpPr>
        <p:grpSpPr>
          <a:xfrm>
            <a:off x="2857680" y="5103720"/>
            <a:ext cx="3214440" cy="1974960"/>
            <a:chOff x="2857680" y="5103720"/>
            <a:chExt cx="3214440" cy="1974960"/>
          </a:xfrm>
        </p:grpSpPr>
        <p:grpSp>
          <p:nvGrpSpPr>
            <p:cNvPr id="74" name="Down Arrow 4"/>
            <p:cNvGrpSpPr/>
            <p:nvPr/>
          </p:nvGrpSpPr>
          <p:grpSpPr>
            <a:xfrm>
              <a:off x="4486680" y="5139720"/>
              <a:ext cx="804600" cy="870480"/>
              <a:chOff x="4486680" y="5139720"/>
              <a:chExt cx="804600" cy="870480"/>
            </a:xfrm>
          </p:grpSpPr>
          <p:pic>
            <p:nvPicPr>
              <p:cNvPr id="75" name="Down Arrow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486680" y="5139720"/>
                <a:ext cx="804600" cy="87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 rot="19254600">
                <a:off x="4788360" y="5159520"/>
                <a:ext cx="15156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Down Arrow 11"/>
            <p:cNvGrpSpPr/>
            <p:nvPr/>
          </p:nvGrpSpPr>
          <p:grpSpPr>
            <a:xfrm>
              <a:off x="4303800" y="5229720"/>
              <a:ext cx="383760" cy="954720"/>
              <a:chOff x="4303800" y="5229720"/>
              <a:chExt cx="383760" cy="954720"/>
            </a:xfrm>
          </p:grpSpPr>
          <p:pic>
            <p:nvPicPr>
              <p:cNvPr id="78" name="Down Arrow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3800" y="5229720"/>
                <a:ext cx="383760" cy="95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4426560" y="5261040"/>
                <a:ext cx="13788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Down Arrow 12"/>
            <p:cNvGrpSpPr/>
            <p:nvPr/>
          </p:nvGrpSpPr>
          <p:grpSpPr>
            <a:xfrm>
              <a:off x="3627000" y="5103720"/>
              <a:ext cx="847080" cy="954720"/>
              <a:chOff x="3627000" y="5103720"/>
              <a:chExt cx="847080" cy="954720"/>
            </a:xfrm>
          </p:grpSpPr>
          <p:pic>
            <p:nvPicPr>
              <p:cNvPr id="81" name="Down Arrow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627000" y="5103720"/>
                <a:ext cx="847080" cy="95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2182200">
                <a:off x="3990600" y="5137560"/>
                <a:ext cx="16632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TextBox 13"/>
            <p:cNvSpPr/>
            <p:nvPr/>
          </p:nvSpPr>
          <p:spPr>
            <a:xfrm>
              <a:off x="5000760" y="5472360"/>
              <a:ext cx="107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%</a:t>
              </a: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الشركات الغذائي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4"/>
            <p:cNvSpPr/>
            <p:nvPr/>
          </p:nvSpPr>
          <p:spPr>
            <a:xfrm>
              <a:off x="2857680" y="5613120"/>
              <a:ext cx="1071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48%</a:t>
              </a: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مسئولية المستهل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15"/>
            <p:cNvSpPr/>
            <p:nvPr/>
          </p:nvSpPr>
          <p:spPr>
            <a:xfrm>
              <a:off x="3929040" y="610560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9%</a:t>
              </a: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الدو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8"/>
          <p:cNvSpPr/>
          <p:nvPr/>
        </p:nvSpPr>
        <p:spPr>
          <a:xfrm>
            <a:off x="2786040" y="5724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لتحقق من سلامة مكونات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3635280" y="19368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 الذي يقرر أن الغذاء آم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قديما (ذواقي الأغذية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حديثاً (علماء السموم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iagram 2"/>
          <p:cNvSpPr/>
          <p:nvPr/>
        </p:nvSpPr>
        <p:spPr>
          <a:xfrm>
            <a:off x="1494000" y="255600"/>
            <a:ext cx="629748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857160" y="1357200"/>
            <a:ext cx="694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KW" sz="2400" spc="-1" strike="noStrike">
                <a:solidFill>
                  <a:srgbClr val="c00000"/>
                </a:solidFill>
                <a:latin typeface="Calibri"/>
              </a:rPr>
              <a:t>من غير المنطقي أن تكون مسئولية المستهلك لأنه غير قادر على معرفة التال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KW" sz="2400" spc="-1" strike="noStrike">
                <a:solidFill>
                  <a:srgbClr val="002060"/>
                </a:solidFill>
                <a:latin typeface="Calibri"/>
              </a:rPr>
              <a:t>البكتيريا الممرض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KW" sz="2400" spc="-1" strike="noStrike">
                <a:solidFill>
                  <a:srgbClr val="002060"/>
                </a:solidFill>
                <a:latin typeface="Calibri"/>
              </a:rPr>
              <a:t>المواد المش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KW" sz="2400" spc="-1" strike="noStrike">
                <a:solidFill>
                  <a:srgbClr val="002060"/>
                </a:solidFill>
                <a:latin typeface="Calibri"/>
              </a:rPr>
              <a:t>المبيدات أو الملوث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8"/>
          <p:cNvSpPr/>
          <p:nvPr/>
        </p:nvSpPr>
        <p:spPr>
          <a:xfrm>
            <a:off x="4857840" y="1071720"/>
            <a:ext cx="31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كيفية اجراء اختبارات الس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iagram 3"/>
          <p:cNvSpPr/>
          <p:nvPr/>
        </p:nvSpPr>
        <p:spPr>
          <a:xfrm>
            <a:off x="1504800" y="1390680"/>
            <a:ext cx="70106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Diagram 7" descr=""/>
          <p:cNvPicPr/>
          <p:nvPr/>
        </p:nvPicPr>
        <p:blipFill>
          <a:blip r:embed="rId1"/>
          <a:stretch/>
        </p:blipFill>
        <p:spPr>
          <a:xfrm>
            <a:off x="1468440" y="2109960"/>
            <a:ext cx="6084720" cy="4462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5715000" y="40464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ختبارات سمي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8"/>
          <p:cNvSpPr/>
          <p:nvPr/>
        </p:nvSpPr>
        <p:spPr>
          <a:xfrm>
            <a:off x="4214880" y="857160"/>
            <a:ext cx="42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ستوى ونوع التعرض للمادة الكيمي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85920" y="1643040"/>
          <a:ext cx="6148440" cy="4286160"/>
        </p:xfrm>
        <a:graphic>
          <a:graphicData uri="http://schemas.openxmlformats.org/drawingml/2006/table">
            <a:tbl>
              <a:tblPr/>
              <a:tblGrid>
                <a:gridCol w="2233440"/>
                <a:gridCol w="1954440"/>
                <a:gridCol w="1960560"/>
              </a:tblGrid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Calibri"/>
                          <a:cs typeface="Times New Roman"/>
                        </a:rPr>
                        <a:t>زمن التعر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Calibri"/>
                          <a:cs typeface="Times New Roman"/>
                        </a:rPr>
                        <a:t>الجر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Calibri"/>
                          <a:cs typeface="Times New Roman"/>
                        </a:rPr>
                        <a:t>مستوى التأثي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عدة أي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ع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ح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شه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توسط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تحت ح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1-3</a:t>
                      </a: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ش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نخفض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تحت مزم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أكثر من </a:t>
                      </a: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ش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نخفضة جد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زم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7"/>
          <p:cNvSpPr/>
          <p:nvPr/>
        </p:nvSpPr>
        <p:spPr>
          <a:xfrm>
            <a:off x="1571760" y="1214280"/>
            <a:ext cx="608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 Observable Effect Level (NO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يستخدم لوضع المستويات المسموح بها من مضافات الأغذية والمبيدا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تقسم هذه القيمة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NOEL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على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نتيجة هي القيمة القصوى التي يجب استهلاكها من قبل الإنس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7"/>
          <p:cNvSpPr/>
          <p:nvPr/>
        </p:nvSpPr>
        <p:spPr>
          <a:xfrm>
            <a:off x="928800" y="1928880"/>
            <a:ext cx="651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تجرى لمدة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سنوات على أقل تقدي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تكلفة اختبارات السمية الحادة والمزمنة حوالي ½ دول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تكلفة اختبارات الطفرات والتشوهات مابين ¼ - ½ مليون دول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000240" y="1214280"/>
            <a:ext cx="43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لتكاليف المالية والوقت لهذه الاختبا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8"/>
          <p:cNvSpPr/>
          <p:nvPr/>
        </p:nvSpPr>
        <p:spPr>
          <a:xfrm>
            <a:off x="5143680" y="12142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لدراسات الوب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928800" y="1928880"/>
            <a:ext cx="651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معلومات عن الأشخاص تعرضوا للمادة من السجلات المتوفر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التعرض إما عرضياً أو تطوعياً (سرطان المثانة والسكاري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مقارنة المعلومات المتحصل عليها بالنتائج المتحصل عليها من حيوانات التجارب (يؤخذ في الاعتبار طريقة التعرض للم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8"/>
          <p:cNvSpPr/>
          <p:nvPr/>
        </p:nvSpPr>
        <p:spPr>
          <a:xfrm>
            <a:off x="2214720" y="92880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تحديد ومراقبة المستويات الآمنة للإستخدام في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857160" y="1857240"/>
            <a:ext cx="651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لمعلومات السابقة أساس لتحديد المتناول اليومي المسموح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ceptable Daily Intake (A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I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كمية المادة التي يمكن استهلاكها يوميا على مدى الحياة مع التيقن العملي طبقا للحقائق المعروفة بأنها لن تؤدي إلى حدوث أضرار على المستهل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لضمان حيز من الأمان يقسم مستوى التاثير غير الملحوظ /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100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أو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9"/>
          <p:cNvSpPr/>
          <p:nvPr/>
        </p:nvSpPr>
        <p:spPr>
          <a:xfrm>
            <a:off x="1285920" y="2428920"/>
            <a:ext cx="5375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وسائل الإعلام والصحف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لا تخلو من قضايا مسألة السلامة ، كتعرض الغذاء لعمليات تصنيعية ، أو احتوائه على كميات كبيرة من الملح.......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لأكاديميون وعلماء التغذية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هذه الاتهامات لا يمكن الأخذ بها على الإطلاق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286160" y="1428840"/>
            <a:ext cx="40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آراء متضاربة حول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4572000" y="71424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</a:rPr>
              <a:t>الغذاء والعلم في عصر المعلوم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285920" y="1571760"/>
            <a:ext cx="59468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يمكن قياس مستويات المركبات المختلفة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 الكيمياء التحليلي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علماء والأكاديميون ان أزمة سلامة الغذاء ما هي إلا تخيلات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معلومات غير دقيقة ، حماية المستهلك والشركات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أخذ في الاعتبار جميع الحقائق التي تتعلق بسلامة الغذاء والوصول إلى قر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iagram 5" descr=""/>
          <p:cNvPicPr/>
          <p:nvPr/>
        </p:nvPicPr>
        <p:blipFill>
          <a:blip r:embed="rId1"/>
          <a:stretch/>
        </p:blipFill>
        <p:spPr>
          <a:xfrm>
            <a:off x="1773360" y="4595760"/>
            <a:ext cx="5310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7"/>
          <p:cNvSpPr/>
          <p:nvPr/>
        </p:nvSpPr>
        <p:spPr>
          <a:xfrm>
            <a:off x="1571760" y="1714680"/>
            <a:ext cx="59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في دراسة استطلاعية أجريت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1986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م عن اكثر القضايا الأكثر أهمية لدى المستهلك كان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بقايا المبيدات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76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لمضافات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أهم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ضافات والملونات والمنكه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ضادات الحي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خصب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تشعيع الأغذ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6143760" y="9288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</a:rPr>
              <a:t>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7"/>
          <p:cNvSpPr/>
          <p:nvPr/>
        </p:nvSpPr>
        <p:spPr>
          <a:xfrm>
            <a:off x="4643280" y="1857240"/>
            <a:ext cx="337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لتلوث الميكروب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سموم الطبي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تغذ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بقايا المبي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تصنيع والتعبئ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تلاعب بعبوات الأغذ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t3.gstatic.com/images?q=tbn:ANd9GcRRDiVGGoUTIA8ZzJDeoySSipvKjX3v4UpfUp7fAlsn9ld8bjJ6mA"/>
          <p:cNvPicPr/>
          <p:nvPr/>
        </p:nvPicPr>
        <p:blipFill>
          <a:blip r:embed="rId1"/>
          <a:stretch/>
        </p:blipFill>
        <p:spPr>
          <a:xfrm>
            <a:off x="18072000" y="-131436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3.gstatic.com/images?q=tbn:ANd9GcRRDiVGGoUTIA8ZzJDeoySSipvKjX3v4UpfUp7fAlsn9ld8bjJ6mA"/>
          <p:cNvPicPr/>
          <p:nvPr/>
        </p:nvPicPr>
        <p:blipFill>
          <a:blip r:embed="rId2"/>
          <a:stretch/>
        </p:blipFill>
        <p:spPr>
          <a:xfrm>
            <a:off x="18072000" y="-1314360"/>
            <a:ext cx="187668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8"/>
          <p:cNvSpPr/>
          <p:nvPr/>
        </p:nvSpPr>
        <p:spPr>
          <a:xfrm>
            <a:off x="18078480" y="-642960"/>
            <a:ext cx="22669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http://t2.gstatic.com/images?q=tbn:ANd9GcTam_hGx33QAQnDlWH-vpHERB9M6L8oS6YDPNP-W__neHE9SFI8M_SoWaTL"/>
          <p:cNvPicPr/>
          <p:nvPr/>
        </p:nvPicPr>
        <p:blipFill>
          <a:blip r:embed="rId3"/>
          <a:stretch/>
        </p:blipFill>
        <p:spPr>
          <a:xfrm>
            <a:off x="18078480" y="-642960"/>
            <a:ext cx="2266920" cy="1038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C:\Users\dtrabzuni\Pictures\ss_02_101248169.jpg"/>
          <p:cNvPicPr/>
          <p:nvPr/>
        </p:nvPicPr>
        <p:blipFill>
          <a:blip r:embed="rId4"/>
          <a:stretch/>
        </p:blipFill>
        <p:spPr>
          <a:xfrm>
            <a:off x="571680" y="185724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"/>
          <p:cNvSpPr/>
          <p:nvPr/>
        </p:nvSpPr>
        <p:spPr>
          <a:xfrm>
            <a:off x="1500120" y="1071720"/>
            <a:ext cx="608976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لاحظ أن أكثر قضيا سلامة الغذاء خطرا هي التلوث الميكروبي </a:t>
            </a:r>
            <a:r>
              <a:rPr b="1" lang="ar-SA" sz="2200" spc="-1" strike="noStrike">
                <a:solidFill>
                  <a:srgbClr val="002060"/>
                </a:solidFill>
                <a:latin typeface="Calibri"/>
              </a:rPr>
              <a:t>(بالرغم من أنه لم يشكل قلقا أو اهتماما لدى كثير من المستهلكين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إحصائية ذكرت أن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% من حالات التسمم الغذائي سببها تلوث ميكروبي من أغذية مصنعة ، بينما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94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% من الحالات سببها تلوث غذائي في المنز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إدارة الغذاء والدواء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DA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مهتمة بدرجة كبيرة بالسلامة الميكروبية لمنتجاتها ومنع وصول المواد الخارجية إلى المنتجات(المخاطر الميكروبية والفيزيائ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8"/>
          <p:cNvSpPr/>
          <p:nvPr/>
        </p:nvSpPr>
        <p:spPr>
          <a:xfrm>
            <a:off x="5500800" y="121428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ن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1357200" y="2286000"/>
            <a:ext cx="60897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تلاعب بمحتويات العبوة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منع التلاعب بمكونات العبوة الغذائية عن طريق وضع غلاف حول فتحة العبو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بقايا المبي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ذكرت التقارير أن العديد من الكيميائيات الموجودة في المبيدات لم تجرى عليها التجارب الكاف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5500800" y="121428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ن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357200" y="1928880"/>
            <a:ext cx="608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تغذ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في الماضي لم يكن هناك اهتمام بهذا الجان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في العقود الأخيرة ازداد اهتمام الشركات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على توفير المعلومات التغذ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نتيجة لاهتمام المستهلك وهيئة الغذاء والدواء والشرك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سوء التغذية نتيجة زيادة أو نفص العناصر الغذائية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8"/>
          <p:cNvSpPr/>
          <p:nvPr/>
        </p:nvSpPr>
        <p:spPr>
          <a:xfrm>
            <a:off x="5500800" y="121428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ن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571760" y="1857240"/>
            <a:ext cx="608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سموم الموجودة طبيعيا في الغذاء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تحتوي الأغذية على سموم طبيعية لايعيرها المستهلك وبالتالي لا يعيرها أي اهتما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أما الشركات و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DA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تهتم بهذا الموض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وسائل الإعلام لا تركز على هذا الموضوع بل تركز على المضافات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كما يعتقد الشخص العادي ان الأغذية الطبيعية لا تسبب أي مخاطر صح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6:29:03Z</dcterms:created>
  <dc:creator>Daniah Trabzuni</dc:creator>
  <dc:description/>
  <dc:language>en-US</dc:language>
  <cp:lastModifiedBy>win7</cp:lastModifiedBy>
  <dcterms:modified xsi:type="dcterms:W3CDTF">2013-05-11T17:49:27Z</dcterms:modified>
  <cp:revision>31</cp:revision>
  <dc:subject/>
  <dc:title>PowerPoint Presentation</dc:title>
</cp:coreProperties>
</file>