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075-801C-4E13-BC09-8C2BB816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E8C1-D79B-4915-89F9-A6C59E218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E720-27E9-4C2D-8A97-1FFB159C8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E6C0-622C-445B-B6C8-DF087F524E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CD2-1B51-4361-93CC-3E53B2F087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08C-08B2-4F97-88E9-5444C30BF9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0A3-A701-47DB-81B1-D4948D1D2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34D-5642-40EC-B8AB-5624FA70CD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72C-12F9-405A-95E3-E06E93C74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9823-623F-42E2-B927-47E1B9582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A774-39F9-4134-BEA9-73593DA374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FC2-8FBA-433F-8341-862EF1CCF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104D-9B71-4834-8C6F-D830E44C6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6B06-448B-456E-9981-686485324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B9EE-5277-403C-B57B-5574FD40F9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78B-8998-4D8B-9A32-6F14AFCF8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3CA-3DAF-4071-812C-5771B151A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840-FFAA-49B8-8D16-D8CD5D7A4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EE61-0D3B-4824-9587-C04ECF1961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45D1-A18F-4948-85A5-4C3CBC1E328C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0"/>
          <p:cNvSpPr/>
          <p:nvPr/>
        </p:nvSpPr>
        <p:spPr>
          <a:xfrm>
            <a:off x="357120" y="428616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How many units to produce from each product type in order to maximize the prof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71680" y="1428840"/>
          <a:ext cx="8286480" cy="2071440"/>
        </p:xfrm>
        <a:graphic>
          <a:graphicData uri="http://schemas.openxmlformats.org/drawingml/2006/table">
            <a:tbl>
              <a:tblPr/>
              <a:tblGrid>
                <a:gridCol w="2071440"/>
                <a:gridCol w="2327400"/>
                <a:gridCol w="1816200"/>
                <a:gridCol w="2071440"/>
              </a:tblGrid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du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n-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0"/>
          <p:cNvSpPr/>
          <p:nvPr/>
        </p:nvSpPr>
        <p:spPr>
          <a:xfrm>
            <a:off x="285840" y="1214280"/>
            <a:ext cx="8858160" cy="54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, 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.2,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.8 and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96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optimal solution consists in allocating 7.2 M to the home type and 4.8 M to commercial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profit is 0.996 M S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81" name="Text Box 80"/>
          <p:cNvSpPr/>
          <p:nvPr/>
        </p:nvSpPr>
        <p:spPr>
          <a:xfrm>
            <a:off x="142920" y="3714840"/>
            <a:ext cx="88581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place transmitters on the sites A,B,…,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mitter covers the two adjacent zones (e.g. if a transmitter is placed on site D, then it will cover both zones 3 and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Zone must be covered with at least one transm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4 must be covered by at least 2 transmi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e minimum number of transmitters to be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should they be pla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87" name="Text Box 80"/>
          <p:cNvSpPr/>
          <p:nvPr/>
        </p:nvSpPr>
        <p:spPr>
          <a:xfrm>
            <a:off x="142920" y="3714840"/>
            <a:ext cx="885816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a transmitter is to be placed on s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,B,…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642960" y="421488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15840 h 571320"/>
              <a:gd name="textAreaBottom" fmla="*/ 55548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9"/>
                  <a:pt x="10800" y="1917"/>
                </a:cubicBezTo>
                <a:lnTo>
                  <a:pt x="10800" y="8883"/>
                </a:lnTo>
                <a:cubicBezTo>
                  <a:pt x="10800" y="9842"/>
                  <a:pt x="5400" y="10800"/>
                  <a:pt x="0" y="10800"/>
                </a:cubicBezTo>
                <a:cubicBezTo>
                  <a:pt x="5400" y="10800"/>
                  <a:pt x="10800" y="11759"/>
                  <a:pt x="10800" y="12717"/>
                </a:cubicBezTo>
                <a:lnTo>
                  <a:pt x="10800" y="19683"/>
                </a:lnTo>
                <a:cubicBezTo>
                  <a:pt x="10800" y="206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94" name="Text Box 80"/>
          <p:cNvSpPr/>
          <p:nvPr/>
        </p:nvSpPr>
        <p:spPr>
          <a:xfrm>
            <a:off x="142920" y="3714840"/>
            <a:ext cx="885816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1                    (Zon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,B,…,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200" name="Text Box 80"/>
          <p:cNvSpPr/>
          <p:nvPr/>
        </p:nvSpPr>
        <p:spPr>
          <a:xfrm>
            <a:off x="142920" y="3714840"/>
            <a:ext cx="885816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optimal solution of the telecommunication problem is to place one transmitter at each of the sites A, D, and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1928880" y="214308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5929200" y="1643040"/>
            <a:ext cx="35748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6858000" y="264312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142920" y="4316400"/>
            <a:ext cx="885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demands must be satis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supplies must be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many units to transport from each source to each destination in order to minimize the total transportation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10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3"/>
          <p:cNvSpPr/>
          <p:nvPr/>
        </p:nvSpPr>
        <p:spPr>
          <a:xfrm>
            <a:off x="6143760" y="421488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 transportatio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4"/>
          <p:cNvSpPr/>
          <p:nvPr/>
        </p:nvSpPr>
        <p:spPr>
          <a:xfrm>
            <a:off x="5500800" y="342900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86"/>
          <p:cNvCxnSpPr>
            <a:stCxn id="237" idx="5"/>
          </p:cNvCxnSpPr>
          <p:nvPr/>
        </p:nvCxnSpPr>
        <p:spPr>
          <a:xfrm>
            <a:off x="5804280" y="3733560"/>
            <a:ext cx="910440" cy="410040"/>
          </a:xfrm>
          <a:prstGeom prst="straightConnector1">
            <a:avLst/>
          </a:prstGeom>
          <a:ln w="4428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142920" y="4675320"/>
            <a:ext cx="88581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number of units transported from Sourc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tina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A,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45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83"/>
          <p:cNvSpPr/>
          <p:nvPr/>
        </p:nvSpPr>
        <p:spPr>
          <a:xfrm>
            <a:off x="6143760" y="421488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 transportatio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4"/>
          <p:cNvSpPr/>
          <p:nvPr/>
        </p:nvSpPr>
        <p:spPr>
          <a:xfrm>
            <a:off x="5500800" y="342900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86"/>
          <p:cNvCxnSpPr>
            <a:stCxn id="272" idx="5"/>
          </p:cNvCxnSpPr>
          <p:nvPr/>
        </p:nvCxnSpPr>
        <p:spPr>
          <a:xfrm>
            <a:off x="5804280" y="3733560"/>
            <a:ext cx="910440" cy="410040"/>
          </a:xfrm>
          <a:prstGeom prst="straightConnector1">
            <a:avLst/>
          </a:prstGeom>
          <a:ln w="4428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0"/>
          <p:cNvSpPr/>
          <p:nvPr/>
        </p:nvSpPr>
        <p:spPr>
          <a:xfrm>
            <a:off x="142920" y="3929040"/>
            <a:ext cx="885816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             (Supply of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9             (Supply of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A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                        (Demand of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                       (Demand of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C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                        (Demand of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80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0"/>
          <p:cNvSpPr/>
          <p:nvPr/>
        </p:nvSpPr>
        <p:spPr>
          <a:xfrm>
            <a:off x="142920" y="4067280"/>
            <a:ext cx="88581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B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1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312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357120" y="3500280"/>
            <a:ext cx="842976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: number of units of product typ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: number of units of product typ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rofit: 2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Power availability: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chine availability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71680" y="1428840"/>
          <a:ext cx="8286480" cy="2071440"/>
        </p:xfrm>
        <a:graphic>
          <a:graphicData uri="http://schemas.openxmlformats.org/drawingml/2006/table">
            <a:tbl>
              <a:tblPr/>
              <a:tblGrid>
                <a:gridCol w="2071440"/>
                <a:gridCol w="2327400"/>
                <a:gridCol w="1816200"/>
                <a:gridCol w="2071440"/>
              </a:tblGrid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du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n-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0"/>
          <p:cNvSpPr/>
          <p:nvPr/>
        </p:nvSpPr>
        <p:spPr>
          <a:xfrm>
            <a:off x="285840" y="1214280"/>
            <a:ext cx="8429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orrespon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progr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P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14680" y="2000160"/>
          <a:ext cx="6072120" cy="3840120"/>
        </p:xfrm>
        <a:graphic>
          <a:graphicData uri="http://schemas.openxmlformats.org/drawingml/2006/table">
            <a:tbl>
              <a:tblPr/>
              <a:tblGrid>
                <a:gridCol w="6072120"/>
              </a:tblGrid>
              <a:tr h="3840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= 25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15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ject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+ 2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+ 4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,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1"/>
          <p:cNvSpPr/>
          <p:nvPr/>
        </p:nvSpPr>
        <p:spPr>
          <a:xfrm>
            <a:off x="1428840" y="2286000"/>
            <a:ext cx="357120" cy="2643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127440 h 2643120"/>
              <a:gd name="textAreaBottom" fmla="*/ 25156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8"/>
                  <a:pt x="10800" y="3336"/>
                </a:cubicBezTo>
                <a:lnTo>
                  <a:pt x="10800" y="7464"/>
                </a:lnTo>
                <a:cubicBezTo>
                  <a:pt x="10800" y="9132"/>
                  <a:pt x="5400" y="10800"/>
                  <a:pt x="0" y="10800"/>
                </a:cubicBezTo>
                <a:cubicBezTo>
                  <a:pt x="5400" y="10800"/>
                  <a:pt x="10800" y="12468"/>
                  <a:pt x="10800" y="14136"/>
                </a:cubicBezTo>
                <a:lnTo>
                  <a:pt x="10800" y="18264"/>
                </a:lnTo>
                <a:cubicBezTo>
                  <a:pt x="10800" y="199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6"/>
          <p:cNvSpPr/>
          <p:nvPr/>
        </p:nvSpPr>
        <p:spPr>
          <a:xfrm>
            <a:off x="6786720" y="1857240"/>
            <a:ext cx="1857240" cy="7146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786720" y="342900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8"/>
          <p:cNvSpPr/>
          <p:nvPr/>
        </p:nvSpPr>
        <p:spPr>
          <a:xfrm>
            <a:off x="1928880" y="564372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0"/>
          <p:cNvCxnSpPr/>
          <p:nvPr/>
        </p:nvCxnSpPr>
        <p:spPr>
          <a:xfrm>
            <a:off x="6000840" y="2286000"/>
            <a:ext cx="714960" cy="216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cxnSp>
        <p:nvCxnSpPr>
          <p:cNvPr id="141" name="Straight Arrow Connector 12"/>
          <p:cNvCxnSpPr/>
          <p:nvPr/>
        </p:nvCxnSpPr>
        <p:spPr>
          <a:xfrm>
            <a:off x="5857920" y="3785760"/>
            <a:ext cx="714960" cy="252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cxnSp>
        <p:nvCxnSpPr>
          <p:cNvPr id="142" name="Straight Arrow Connector 13"/>
          <p:cNvCxnSpPr/>
          <p:nvPr/>
        </p:nvCxnSpPr>
        <p:spPr>
          <a:xfrm flipV="1">
            <a:off x="2784960" y="5072760"/>
            <a:ext cx="1080" cy="49932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sp>
        <p:nvSpPr>
          <p:cNvPr id="143" name="AutoShape 1"/>
          <p:cNvSpPr/>
          <p:nvPr/>
        </p:nvSpPr>
        <p:spPr>
          <a:xfrm flipH="1">
            <a:off x="5429160" y="3071880"/>
            <a:ext cx="285840" cy="1785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101880 h 1785960"/>
              <a:gd name="textAreaBottom" fmla="*/ 168408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5"/>
                  <a:pt x="10800" y="3950"/>
                </a:cubicBezTo>
                <a:lnTo>
                  <a:pt x="10800" y="6850"/>
                </a:lnTo>
                <a:cubicBezTo>
                  <a:pt x="10800" y="8825"/>
                  <a:pt x="5400" y="10800"/>
                  <a:pt x="0" y="10800"/>
                </a:cubicBezTo>
                <a:cubicBezTo>
                  <a:pt x="5400" y="10800"/>
                  <a:pt x="10800" y="12775"/>
                  <a:pt x="10800" y="14750"/>
                </a:cubicBezTo>
                <a:lnTo>
                  <a:pt x="10800" y="17650"/>
                </a:lnTo>
                <a:cubicBezTo>
                  <a:pt x="10800" y="19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18"/>
          <p:cNvCxnSpPr/>
          <p:nvPr/>
        </p:nvCxnSpPr>
        <p:spPr>
          <a:xfrm flipH="1" flipV="1">
            <a:off x="2214360" y="5071320"/>
            <a:ext cx="357840" cy="50076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85840" y="1214280"/>
            <a:ext cx="885816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2 , 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and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80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optimal solution of the toy production problem is to produce 22 units of toy A and 2 units of toy 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profit is 580 S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0"/>
          <p:cNvSpPr/>
          <p:nvPr/>
        </p:nvSpPr>
        <p:spPr>
          <a:xfrm>
            <a:off x="0" y="3071880"/>
            <a:ext cx="885816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ank is in the process to allocate 12 million SR to different types of lo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 with other financial institutions suggests allocating at least 40% of the funds to farm &amp; commercial lo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assist in the housing industry, the home loans must be at least 50% of the personal, car and home lo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nk management requires that the overall bad ratio debt not to exceed 4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nk wants to determine the best loan policy that will maximize its profit 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0"/>
          <p:cNvSpPr/>
          <p:nvPr/>
        </p:nvSpPr>
        <p:spPr>
          <a:xfrm>
            <a:off x="142920" y="3328920"/>
            <a:ext cx="885816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personal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car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home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farm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commercial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0"/>
          <p:cNvSpPr/>
          <p:nvPr/>
        </p:nvSpPr>
        <p:spPr>
          <a:xfrm>
            <a:off x="142920" y="3328920"/>
            <a:ext cx="88581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Z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4(0.90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13(0.93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12(0.97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125(0.95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1 (0.98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7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3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5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02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142920" y="3328920"/>
            <a:ext cx="9001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funds shall not exceed 12 million 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 and commercial loan constra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loans constra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0"/>
          <p:cNvSpPr/>
          <p:nvPr/>
        </p:nvSpPr>
        <p:spPr>
          <a:xfrm>
            <a:off x="142920" y="3328920"/>
            <a:ext cx="9001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on bad debts ru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7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3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5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02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LINEAR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equival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6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3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2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ELL</cp:lastModifiedBy>
  <dcterms:modified xsi:type="dcterms:W3CDTF">2013-09-12T07:49:52Z</dcterms:modified>
  <cp:revision>345</cp:revision>
  <dc:subject/>
  <dc:title>ThemeGallery PowerTemplate</dc:title>
</cp:coreProperties>
</file>