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.jpeg" ContentType="image/jpeg"/>
  <Override PartName="/ppt/media/image3.jpeg" ContentType="image/jpeg"/>
  <Override PartName="/ppt/media/image1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F309-5201-4C35-9327-A5E245AA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9AFB-E148-4FC2-A68D-B5E083A1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639C-17F6-49B2-B407-10BAB8950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5FAA-B178-4509-A4D7-E77505740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684C-C66A-4D68-B76F-9A1F013E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2D57-B9FB-4BFF-9655-F9904DCC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E4E3-327E-4125-A444-D8E422BA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0FD3-FAE2-4D14-83B9-D13575D4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9B0A-BFF3-4E13-A340-DE9B7F1E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04D2-02E3-4180-9AC0-1D2B339A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6C94-45FC-4AFD-B477-72AEB04F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B8B9-6CEA-4D71-8312-34F54677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16AC-8AF2-4D00-84ED-0B9EE8A76B6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iamobravi.it/" TargetMode="External"/><Relationship Id="rId2" Type="http://schemas.openxmlformats.org/officeDocument/2006/relationships/hyperlink" Target="http://www.siamobravi.it/" TargetMode="External"/><Relationship Id="rId3" Type="http://schemas.openxmlformats.org/officeDocument/2006/relationships/hyperlink" Target="http://www.siamobravi.it/" TargetMode="External"/><Relationship Id="rId4" Type="http://schemas.openxmlformats.org/officeDocument/2006/relationships/hyperlink" Target="http://www.siamobravi.it/" TargetMode="External"/><Relationship Id="rId5" Type="http://schemas.openxmlformats.org/officeDocument/2006/relationships/hyperlink" Target="http://www.siamobravi.it/" TargetMode="External"/><Relationship Id="rId6" Type="http://schemas.openxmlformats.org/officeDocument/2006/relationships/hyperlink" Target="http://www.siamobravi.it/" TargetMode="External"/><Relationship Id="rId7" Type="http://schemas.openxmlformats.org/officeDocument/2006/relationships/hyperlink" Target="http://www.siamobravi.it/" TargetMode="External"/><Relationship Id="rId8" Type="http://schemas.openxmlformats.org/officeDocument/2006/relationships/hyperlink" Target="http://www.siamobravi.it/" TargetMode="External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Y_vBIa_VGVM" TargetMode="External"/><Relationship Id="rId2" Type="http://schemas.openxmlformats.org/officeDocument/2006/relationships/hyperlink" Target="http://www.youtube.com/watch?v=Y_vBIa_VGVM" TargetMode="External"/><Relationship Id="rId3" Type="http://schemas.openxmlformats.org/officeDocument/2006/relationships/hyperlink" Target="http://www.youtube.com/watch?v=Y_vBIa_VGVM" TargetMode="External"/><Relationship Id="rId4" Type="http://schemas.openxmlformats.org/officeDocument/2006/relationships/hyperlink" Target="http://www.youtube.com/watch?v=Y_vBIa_VGVM" TargetMode="External"/><Relationship Id="rId5" Type="http://schemas.openxmlformats.org/officeDocument/2006/relationships/hyperlink" Target="http://www.youtube.com/watch?v=Y_vBIa_VGVM" TargetMode="External"/><Relationship Id="rId6" Type="http://schemas.openxmlformats.org/officeDocument/2006/relationships/hyperlink" Target="http://www.youtube.com/watch?v=Y_vBIa_VGVM" TargetMode="External"/><Relationship Id="rId7" Type="http://schemas.openxmlformats.org/officeDocument/2006/relationships/hyperlink" Target="http://www.youtube.com/watch?v=Y_vBIa_VGVM" TargetMode="External"/><Relationship Id="rId8" Type="http://schemas.openxmlformats.org/officeDocument/2006/relationships/hyperlink" Target="http://www.youtube.com/watch?v=Y_vBIa_VGVM" TargetMode="External"/><Relationship Id="rId9" Type="http://schemas.openxmlformats.org/officeDocument/2006/relationships/hyperlink" Target="http://www.youtube.com/watch?v=Y_vBIa_VGVM" TargetMode="External"/><Relationship Id="rId10" Type="http://schemas.openxmlformats.org/officeDocument/2006/relationships/hyperlink" Target="http://www.youtube.com/watch?v=Y_vBIa_VGVM" TargetMode="External"/><Relationship Id="rId11" Type="http://schemas.openxmlformats.org/officeDocument/2006/relationships/hyperlink" Target="http://www.youtube.com/watch?v=Y_vBIa_VGVM" TargetMode="External"/><Relationship Id="rId12" Type="http://schemas.openxmlformats.org/officeDocument/2006/relationships/hyperlink" Target="http://www.youtube.com/watch?v=UZC1q_WrhHc" TargetMode="External"/><Relationship Id="rId13" Type="http://schemas.openxmlformats.org/officeDocument/2006/relationships/hyperlink" Target="http://www.youtube.com/watch?v=UZC1q_WrhHc" TargetMode="External"/><Relationship Id="rId14" Type="http://schemas.openxmlformats.org/officeDocument/2006/relationships/hyperlink" Target="http://www.youtube.com/watch?v=UZC1q_WrhHc" TargetMode="External"/><Relationship Id="rId15" Type="http://schemas.openxmlformats.org/officeDocument/2006/relationships/hyperlink" Target="http://www.youtube.com/watch?v=UZC1q_WrhHc" TargetMode="External"/><Relationship Id="rId16" Type="http://schemas.openxmlformats.org/officeDocument/2006/relationships/hyperlink" Target="http://www.youtube.com/watch?v=UZC1q_WrhHc" TargetMode="External"/><Relationship Id="rId17" Type="http://schemas.openxmlformats.org/officeDocument/2006/relationships/hyperlink" Target="http://www.youtube.com/watch?v=UZC1q_WrhHc" TargetMode="External"/><Relationship Id="rId18" Type="http://schemas.openxmlformats.org/officeDocument/2006/relationships/hyperlink" Target="http://www.youtube.com/watch?v=UZC1q_WrhHc" TargetMode="External"/><Relationship Id="rId19" Type="http://schemas.openxmlformats.org/officeDocument/2006/relationships/hyperlink" Target="http://www.youtube.com/watch?v=UZC1q_WrhHc" TargetMode="External"/><Relationship Id="rId20" Type="http://schemas.openxmlformats.org/officeDocument/2006/relationships/hyperlink" Target="http://www.youtube.com/watch?v=UZC1q_WrhHc" TargetMode="External"/><Relationship Id="rId21" Type="http://schemas.openxmlformats.org/officeDocument/2006/relationships/hyperlink" Target="http://www.youtube.com/watch?v=UZC1q_WrhHc" TargetMode="External"/><Relationship Id="rId22" Type="http://schemas.openxmlformats.org/officeDocument/2006/relationships/hyperlink" Target="http://www.youtube.com/watch?v=UZC1q_WrhHc" TargetMode="External"/><Relationship Id="rId23" Type="http://schemas.openxmlformats.org/officeDocument/2006/relationships/hyperlink" Target="http://www.youtube.com/watch?v=cBkWhkAZ9ds" TargetMode="External"/><Relationship Id="rId24" Type="http://schemas.openxmlformats.org/officeDocument/2006/relationships/hyperlink" Target="http://www.youtube.com/watch?v=cBkWhkAZ9ds" TargetMode="External"/><Relationship Id="rId25" Type="http://schemas.openxmlformats.org/officeDocument/2006/relationships/hyperlink" Target="http://www.youtube.com/watch?v=cBkWhkAZ9ds" TargetMode="External"/><Relationship Id="rId26" Type="http://schemas.openxmlformats.org/officeDocument/2006/relationships/hyperlink" Target="http://www.youtube.com/watch?v=cBkWhkAZ9ds" TargetMode="External"/><Relationship Id="rId27" Type="http://schemas.openxmlformats.org/officeDocument/2006/relationships/hyperlink" Target="http://www.youtube.com/watch?v=cBkWhkAZ9ds" TargetMode="External"/><Relationship Id="rId28" Type="http://schemas.openxmlformats.org/officeDocument/2006/relationships/hyperlink" Target="http://www.youtube.com/watch?v=cBkWhkAZ9ds" TargetMode="External"/><Relationship Id="rId29" Type="http://schemas.openxmlformats.org/officeDocument/2006/relationships/hyperlink" Target="http://www.youtube.com/watch?v=cBkWhkAZ9ds" TargetMode="External"/><Relationship Id="rId30" Type="http://schemas.openxmlformats.org/officeDocument/2006/relationships/hyperlink" Target="http://www.youtube.com/watch?v=cBkWhkAZ9ds" TargetMode="External"/><Relationship Id="rId31" Type="http://schemas.openxmlformats.org/officeDocument/2006/relationships/hyperlink" Target="http://www.youtube.com/watch?v=cBkWhkAZ9ds" TargetMode="External"/><Relationship Id="rId32" Type="http://schemas.openxmlformats.org/officeDocument/2006/relationships/hyperlink" Target="http://www.youtube.com/watch?v=cBkWhkAZ9ds" TargetMode="External"/><Relationship Id="rId33" Type="http://schemas.openxmlformats.org/officeDocument/2006/relationships/hyperlink" Target="http://www.youtube.com/watch?v=cBkWhkAZ9ds" TargetMode="External"/><Relationship Id="rId3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علومات إضافية حول الضفادع والعلاج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620120" cy="616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762012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95640" y="189000"/>
            <a:ext cx="51004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رابط لتشريح الضفد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sect a fr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iamobravi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it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79280" y="189000"/>
            <a:ext cx="8820000" cy="6403680"/>
            <a:chOff x="179280" y="189000"/>
            <a:chExt cx="8820000" cy="640368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214200" y="836640"/>
              <a:ext cx="8785080" cy="573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3706560" y="189000"/>
              <a:ext cx="1657440" cy="642600"/>
            </a:xfrm>
            <a:prstGeom prst="rect">
              <a:avLst/>
            </a:prstGeom>
            <a:solidFill>
              <a:srgbClr val="ffff00"/>
            </a:solidFill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b40000"/>
                  </a:solidFill>
                  <a:latin typeface="Arial"/>
                </a:rPr>
                <a:t>طـــرق الاحتضـــان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443280" y="1484280"/>
              <a:ext cx="79380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b40000"/>
                  </a:solidFill>
                  <a:latin typeface="Arial"/>
                </a:rPr>
                <a:t>إلتصا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95280" y="907920"/>
              <a:ext cx="79380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b40000"/>
                  </a:solidFill>
                  <a:latin typeface="Arial"/>
                </a:rPr>
                <a:t>إبط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79280" y="2060640"/>
              <a:ext cx="7934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b40000"/>
                  </a:solidFill>
                  <a:latin typeface="Arial"/>
                </a:rPr>
                <a:t>إمتطا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140000" y="4149720"/>
              <a:ext cx="79380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b40000"/>
                  </a:solidFill>
                  <a:latin typeface="Arial"/>
                </a:rPr>
                <a:t>تعاكس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019640" y="5950080"/>
              <a:ext cx="79380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b40000"/>
                  </a:solidFill>
                  <a:latin typeface="Arial"/>
                </a:rPr>
                <a:t>رأس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02920" y="4653000"/>
              <a:ext cx="79380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b40000"/>
                  </a:solidFill>
                  <a:latin typeface="Arial"/>
                </a:rPr>
                <a:t>حوض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539640" y="115920"/>
            <a:ext cx="8137800" cy="6305400"/>
            <a:chOff x="539640" y="115920"/>
            <a:chExt cx="8137800" cy="63054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539640" y="620640"/>
              <a:ext cx="8137800" cy="580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635280" y="115920"/>
              <a:ext cx="1586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b40000"/>
                  </a:solidFill>
                  <a:latin typeface="Arial"/>
                </a:rPr>
                <a:t>طـــرق الاحتضـــان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516720" y="1700280"/>
              <a:ext cx="79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b40000"/>
                  </a:solidFill>
                  <a:latin typeface="Arial"/>
                </a:rPr>
                <a:t>إلتصا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40360" y="836640"/>
              <a:ext cx="79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b40000"/>
                  </a:solidFill>
                  <a:latin typeface="Arial"/>
                </a:rPr>
                <a:t>إبط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11280" y="981000"/>
              <a:ext cx="79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b40000"/>
                  </a:solidFill>
                  <a:latin typeface="Arial"/>
                </a:rPr>
                <a:t>إمتطا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40360" y="3933720"/>
              <a:ext cx="79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b40000"/>
                  </a:solidFill>
                  <a:latin typeface="Arial"/>
                </a:rPr>
                <a:t>تعاكس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948360" y="4437000"/>
              <a:ext cx="79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b40000"/>
                  </a:solidFill>
                  <a:latin typeface="Arial"/>
                </a:rPr>
                <a:t>رأس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00000" y="4076640"/>
              <a:ext cx="79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b40000"/>
                  </a:solidFill>
                  <a:latin typeface="Arial"/>
                </a:rPr>
                <a:t>حوض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أصوات الضفادع والعلاج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youtube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com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atch?v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=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Y_vBIa_VG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youtube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com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atch?v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=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UZC1q_WrhH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غريب ونادر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http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www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youtube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com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watch?v</a:t>
            </a:r>
            <a:r>
              <a:rPr b="0" lang="ar-SA" sz="3200" spc="-1" strike="noStrike" u="sng">
                <a:solidFill>
                  <a:srgbClr val="009999"/>
                </a:solidFill>
                <a:uFillTx/>
                <a:latin typeface="Arial"/>
                <a:hlinkClick r:id="rId32"/>
              </a:rPr>
              <a:t>=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3"/>
              </a:rPr>
              <a:t>cBkWhkAZ9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56000" y="1197000"/>
            <a:ext cx="4511520" cy="444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59280" y="476280"/>
            <a:ext cx="3600360" cy="8254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40000"/>
                </a:solidFill>
                <a:latin typeface="Arial"/>
              </a:rPr>
              <a:t>بيــوض جـاهــــزة لـلتـفـقـيـ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27236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55640" y="361800"/>
            <a:ext cx="6840720" cy="5472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59280" y="476280"/>
            <a:ext cx="3600360" cy="4597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b40000"/>
                </a:solidFill>
                <a:latin typeface="Arial"/>
              </a:rPr>
              <a:t>حركة اللسان في الصي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79640" y="981000"/>
            <a:ext cx="5400720" cy="5126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79640" y="981000"/>
            <a:ext cx="540072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58920" y="189000"/>
            <a:ext cx="2879640" cy="8827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تشريح الضفد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1197000"/>
            <a:ext cx="9031320" cy="5344920"/>
            <a:chOff x="0" y="1197000"/>
            <a:chExt cx="9031320" cy="534492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4716360" y="1413000"/>
              <a:ext cx="4314960" cy="508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0" y="1197000"/>
              <a:ext cx="4618080" cy="534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692360" y="115920"/>
            <a:ext cx="662148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71640" y="142920"/>
            <a:ext cx="7367400" cy="67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692360" y="260280"/>
            <a:ext cx="6264360" cy="6453360"/>
            <a:chOff x="1692360" y="260280"/>
            <a:chExt cx="6264360" cy="6453360"/>
          </a:xfrm>
        </p:grpSpPr>
        <p:pic>
          <p:nvPicPr>
            <p:cNvPr id="56" name="" descr=""/>
            <p:cNvPicPr/>
            <p:nvPr/>
          </p:nvPicPr>
          <p:blipFill>
            <a:blip r:embed="rId1"/>
            <a:stretch/>
          </p:blipFill>
          <p:spPr>
            <a:xfrm>
              <a:off x="1692360" y="260280"/>
              <a:ext cx="6143400" cy="645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5940360" y="1201680"/>
              <a:ext cx="1008000" cy="287280"/>
            </a:xfrm>
            <a:prstGeom prst="ellipse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1520" y="1509840"/>
              <a:ext cx="1008360" cy="287280"/>
            </a:xfrm>
            <a:prstGeom prst="ellipse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948360" y="2276640"/>
              <a:ext cx="1008360" cy="287280"/>
            </a:xfrm>
            <a:prstGeom prst="ellipse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77080" y="4586400"/>
              <a:ext cx="1008000" cy="360360"/>
            </a:xfrm>
            <a:prstGeom prst="ellipse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219640" y="404640"/>
              <a:ext cx="1081080" cy="360360"/>
            </a:xfrm>
            <a:prstGeom prst="ellipse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607080" y="4941720"/>
              <a:ext cx="1081080" cy="360360"/>
            </a:xfrm>
            <a:prstGeom prst="ellipse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06:59:18Z</dcterms:created>
  <dc:creator>خالد</dc:creator>
  <dc:description/>
  <dc:language>en-US</dc:language>
  <cp:lastModifiedBy>خالد</cp:lastModifiedBy>
  <dcterms:modified xsi:type="dcterms:W3CDTF">2014-02-24T05:56:03Z</dcterms:modified>
  <cp:revision>9</cp:revision>
  <dc:subject/>
  <dc:title>يتبع</dc:title>
</cp:coreProperties>
</file>