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C93-A66E-498C-8021-69D9528C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357-1E78-4CC8-9B07-9446FDF4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77D-B7CA-439C-AF89-98364B9B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AE4-0325-4D52-952D-3A4F3F33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E64-C44F-470B-9CE4-552CD4AC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6B1-FDBE-4F3C-9B4A-BF6A9361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1B7-C984-4FCA-82B0-6195468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C7C-4250-4693-8EB0-E01C8546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907-3AD8-4766-9CF1-2C2E91C9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5F7-20F8-4595-B864-6F510F8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209-9F81-4805-9B62-470CF6D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D6A-0F32-4ED6-AD17-1A268883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DABE-D11F-442F-A397-C692BDF753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iamobravi.it/" TargetMode="External"/><Relationship Id="rId2" Type="http://schemas.openxmlformats.org/officeDocument/2006/relationships/hyperlink" Target="http://www.siamobravi.it/" TargetMode="External"/><Relationship Id="rId3" Type="http://schemas.openxmlformats.org/officeDocument/2006/relationships/hyperlink" Target="http://www.siamobravi.it/" TargetMode="External"/><Relationship Id="rId4" Type="http://schemas.openxmlformats.org/officeDocument/2006/relationships/hyperlink" Target="http://www.siamobravi.it/" TargetMode="External"/><Relationship Id="rId5" Type="http://schemas.openxmlformats.org/officeDocument/2006/relationships/hyperlink" Target="http://www.siamobravi.it/" TargetMode="External"/><Relationship Id="rId6" Type="http://schemas.openxmlformats.org/officeDocument/2006/relationships/hyperlink" Target="http://www.siamobravi.it/" TargetMode="External"/><Relationship Id="rId7" Type="http://schemas.openxmlformats.org/officeDocument/2006/relationships/hyperlink" Target="http://www.siamobravi.it/" TargetMode="External"/><Relationship Id="rId8" Type="http://schemas.openxmlformats.org/officeDocument/2006/relationships/hyperlink" Target="http://www.siamobravi.it/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_vBIa_VGVM" TargetMode="External"/><Relationship Id="rId2" Type="http://schemas.openxmlformats.org/officeDocument/2006/relationships/hyperlink" Target="http://www.youtube.com/watch?v=Y_vBIa_VGVM" TargetMode="External"/><Relationship Id="rId3" Type="http://schemas.openxmlformats.org/officeDocument/2006/relationships/hyperlink" Target="http://www.youtube.com/watch?v=Y_vBIa_VGVM" TargetMode="External"/><Relationship Id="rId4" Type="http://schemas.openxmlformats.org/officeDocument/2006/relationships/hyperlink" Target="http://www.youtube.com/watch?v=Y_vBIa_VGVM" TargetMode="External"/><Relationship Id="rId5" Type="http://schemas.openxmlformats.org/officeDocument/2006/relationships/hyperlink" Target="http://www.youtube.com/watch?v=Y_vBIa_VGVM" TargetMode="External"/><Relationship Id="rId6" Type="http://schemas.openxmlformats.org/officeDocument/2006/relationships/hyperlink" Target="http://www.youtube.com/watch?v=Y_vBIa_VGVM" TargetMode="External"/><Relationship Id="rId7" Type="http://schemas.openxmlformats.org/officeDocument/2006/relationships/hyperlink" Target="http://www.youtube.com/watch?v=Y_vBIa_VGVM" TargetMode="External"/><Relationship Id="rId8" Type="http://schemas.openxmlformats.org/officeDocument/2006/relationships/hyperlink" Target="http://www.youtube.com/watch?v=Y_vBIa_VGVM" TargetMode="External"/><Relationship Id="rId9" Type="http://schemas.openxmlformats.org/officeDocument/2006/relationships/hyperlink" Target="http://www.youtube.com/watch?v=Y_vBIa_VGVM" TargetMode="External"/><Relationship Id="rId10" Type="http://schemas.openxmlformats.org/officeDocument/2006/relationships/hyperlink" Target="http://www.youtube.com/watch?v=Y_vBIa_VGVM" TargetMode="External"/><Relationship Id="rId11" Type="http://schemas.openxmlformats.org/officeDocument/2006/relationships/hyperlink" Target="http://www.youtube.com/watch?v=Y_vBIa_VGVM" TargetMode="External"/><Relationship Id="rId12" Type="http://schemas.openxmlformats.org/officeDocument/2006/relationships/hyperlink" Target="http://www.youtube.com/watch?v=UZC1q_WrhHc" TargetMode="External"/><Relationship Id="rId13" Type="http://schemas.openxmlformats.org/officeDocument/2006/relationships/hyperlink" Target="http://www.youtube.com/watch?v=UZC1q_WrhHc" TargetMode="External"/><Relationship Id="rId14" Type="http://schemas.openxmlformats.org/officeDocument/2006/relationships/hyperlink" Target="http://www.youtube.com/watch?v=UZC1q_WrhHc" TargetMode="External"/><Relationship Id="rId15" Type="http://schemas.openxmlformats.org/officeDocument/2006/relationships/hyperlink" Target="http://www.youtube.com/watch?v=UZC1q_WrhHc" TargetMode="External"/><Relationship Id="rId16" Type="http://schemas.openxmlformats.org/officeDocument/2006/relationships/hyperlink" Target="http://www.youtube.com/watch?v=UZC1q_WrhHc" TargetMode="External"/><Relationship Id="rId17" Type="http://schemas.openxmlformats.org/officeDocument/2006/relationships/hyperlink" Target="http://www.youtube.com/watch?v=UZC1q_WrhHc" TargetMode="External"/><Relationship Id="rId18" Type="http://schemas.openxmlformats.org/officeDocument/2006/relationships/hyperlink" Target="http://www.youtube.com/watch?v=UZC1q_WrhHc" TargetMode="External"/><Relationship Id="rId19" Type="http://schemas.openxmlformats.org/officeDocument/2006/relationships/hyperlink" Target="http://www.youtube.com/watch?v=UZC1q_WrhHc" TargetMode="External"/><Relationship Id="rId20" Type="http://schemas.openxmlformats.org/officeDocument/2006/relationships/hyperlink" Target="http://www.youtube.com/watch?v=UZC1q_WrhHc" TargetMode="External"/><Relationship Id="rId21" Type="http://schemas.openxmlformats.org/officeDocument/2006/relationships/hyperlink" Target="http://www.youtube.com/watch?v=UZC1q_WrhHc" TargetMode="External"/><Relationship Id="rId22" Type="http://schemas.openxmlformats.org/officeDocument/2006/relationships/hyperlink" Target="http://www.youtube.com/watch?v=UZC1q_WrhHc" TargetMode="External"/><Relationship Id="rId23" Type="http://schemas.openxmlformats.org/officeDocument/2006/relationships/hyperlink" Target="http://www.youtube.com/watch?v=cBkWhkAZ9ds" TargetMode="External"/><Relationship Id="rId24" Type="http://schemas.openxmlformats.org/officeDocument/2006/relationships/hyperlink" Target="http://www.youtube.com/watch?v=cBkWhkAZ9ds" TargetMode="External"/><Relationship Id="rId25" Type="http://schemas.openxmlformats.org/officeDocument/2006/relationships/hyperlink" Target="http://www.youtube.com/watch?v=cBkWhkAZ9ds" TargetMode="External"/><Relationship Id="rId26" Type="http://schemas.openxmlformats.org/officeDocument/2006/relationships/hyperlink" Target="http://www.youtube.com/watch?v=cBkWhkAZ9ds" TargetMode="External"/><Relationship Id="rId27" Type="http://schemas.openxmlformats.org/officeDocument/2006/relationships/hyperlink" Target="http://www.youtube.com/watch?v=cBkWhkAZ9ds" TargetMode="External"/><Relationship Id="rId28" Type="http://schemas.openxmlformats.org/officeDocument/2006/relationships/hyperlink" Target="http://www.youtube.com/watch?v=cBkWhkAZ9ds" TargetMode="External"/><Relationship Id="rId29" Type="http://schemas.openxmlformats.org/officeDocument/2006/relationships/hyperlink" Target="http://www.youtube.com/watch?v=cBkWhkAZ9ds" TargetMode="External"/><Relationship Id="rId30" Type="http://schemas.openxmlformats.org/officeDocument/2006/relationships/hyperlink" Target="http://www.youtube.com/watch?v=cBkWhkAZ9ds" TargetMode="External"/><Relationship Id="rId31" Type="http://schemas.openxmlformats.org/officeDocument/2006/relationships/hyperlink" Target="http://www.youtube.com/watch?v=cBkWhkAZ9ds" TargetMode="External"/><Relationship Id="rId32" Type="http://schemas.openxmlformats.org/officeDocument/2006/relationships/hyperlink" Target="http://www.youtube.com/watch?v=cBkWhkAZ9ds" TargetMode="External"/><Relationship Id="rId33" Type="http://schemas.openxmlformats.org/officeDocument/2006/relationships/hyperlink" Target="http://www.youtube.com/watch?v=cBkWhkAZ9ds" TargetMode="External"/><Relationship Id="rId3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علومات إضافية حول الضفادع والعلاج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6201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100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رابط لتشريح الضفد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ect a fr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amobravi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t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79280" y="189000"/>
            <a:ext cx="8820000" cy="6403680"/>
            <a:chOff x="179280" y="189000"/>
            <a:chExt cx="8820000" cy="640368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14200" y="836640"/>
              <a:ext cx="8785080" cy="57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06560" y="189000"/>
              <a:ext cx="1657440" cy="6426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طـــرق الاحتضـــا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43280" y="148428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لتصا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95280" y="90792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بط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9280" y="2060640"/>
              <a:ext cx="793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متطا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0000" y="414972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تعاكس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9640" y="595008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رأس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2920" y="465300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حوض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39640" y="115920"/>
            <a:ext cx="8137800" cy="6305400"/>
            <a:chOff x="539640" y="115920"/>
            <a:chExt cx="8137800" cy="63054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39640" y="620640"/>
              <a:ext cx="8137800" cy="58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635280" y="115920"/>
              <a:ext cx="158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طـــرق الاحتضـــا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16720" y="1700280"/>
              <a:ext cx="7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لتصا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40360" y="836640"/>
              <a:ext cx="7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بط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1280" y="981000"/>
              <a:ext cx="7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متطا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40360" y="3933720"/>
              <a:ext cx="7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تعاكس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437000"/>
              <a:ext cx="7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رأس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4076640"/>
              <a:ext cx="7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حوض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صوات الضفادع والعلاج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outube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atch?v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Y_vBIa_VG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youtube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com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atch?v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UZC1q_WrhH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ريب وناد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youtube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om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atch?v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cBkWhkAZ9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511520" cy="444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9280" y="476280"/>
            <a:ext cx="360036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40000"/>
                </a:solidFill>
                <a:latin typeface="Arial"/>
              </a:rPr>
              <a:t>بيــوض جـاهــــزة لـلتـفـقـيـ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361800"/>
            <a:ext cx="6840720" cy="54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59280" y="476280"/>
            <a:ext cx="360036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40000"/>
                </a:solidFill>
                <a:latin typeface="Arial"/>
              </a:rPr>
              <a:t>حركة اللسان في الص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5400720" cy="512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5400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58920" y="189000"/>
            <a:ext cx="2879640" cy="882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شريح الضفد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197000"/>
            <a:ext cx="9031320" cy="5344920"/>
            <a:chOff x="0" y="1197000"/>
            <a:chExt cx="9031320" cy="53449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716360" y="1413000"/>
              <a:ext cx="4314960" cy="50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4618080" cy="53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6214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142920"/>
            <a:ext cx="736740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692360" y="260280"/>
            <a:ext cx="6264360" cy="6453360"/>
            <a:chOff x="1692360" y="260280"/>
            <a:chExt cx="6264360" cy="64533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692360" y="260280"/>
              <a:ext cx="614340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940360" y="1201680"/>
              <a:ext cx="1008000" cy="28728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1520" y="1509840"/>
              <a:ext cx="1008360" cy="28728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48360" y="2276640"/>
              <a:ext cx="1008360" cy="28728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77080" y="4586400"/>
              <a:ext cx="1008000" cy="36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19640" y="404640"/>
              <a:ext cx="1081080" cy="36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07080" y="4941720"/>
              <a:ext cx="1081080" cy="36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06:59:18Z</dcterms:created>
  <dc:creator>خالد</dc:creator>
  <dc:description/>
  <dc:language>en-US</dc:language>
  <cp:lastModifiedBy>خالد</cp:lastModifiedBy>
  <dcterms:modified xsi:type="dcterms:W3CDTF">2014-02-24T05:56:03Z</dcterms:modified>
  <cp:revision>9</cp:revision>
  <dc:subject/>
  <dc:title>يتبع</dc:title>
</cp:coreProperties>
</file>