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F205-370E-421C-A93D-55BE1F282E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6EEF-3657-4503-BEB9-C9516C76EE2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D1F8-E1B0-4BCB-A639-48CCE2EC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A56E-445E-417A-A442-C899490C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2EFF-0D46-4600-A915-CC94A43C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2A35-26B6-48A4-A72E-557E9371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AB20-05ED-42F5-A06C-75782440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D114-BF4D-4E90-B46C-DED9CA30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218F-97C0-4712-9856-E689F51C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0E5A-99B4-4210-99C3-51EA4896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5D90-9761-4C2F-A4CC-5A5514CC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42D-C033-4A84-812D-C33CDFCF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5DDE-7F95-44FA-879E-4E1F0513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533B-7E1D-45FA-AE29-8DECA5FC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0CC0-4971-428F-ADC5-A40602FD93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-679680" y="301680"/>
            <a:ext cx="10595880" cy="520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استخلاص البرولين وتقديره في بناتات معرضه للاجهاد الملح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279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3448"/>
          <p:cNvPicPr/>
          <p:nvPr/>
        </p:nvPicPr>
        <p:blipFill>
          <a:blip r:embed="rId1"/>
          <a:stretch/>
        </p:blipFill>
        <p:spPr>
          <a:xfrm>
            <a:off x="1258920" y="3730680"/>
            <a:ext cx="3241800" cy="3127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324000" y="840600"/>
            <a:ext cx="8424720" cy="29592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* البرولين من الاحماض الامينيه البسيطه التي تحتوي على حلقه عطريه او متغايره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Heterocyclic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في بقية الجزيء </a:t>
            </a:r>
            <a:r>
              <a:rPr b="1" lang="ar-SA" sz="2400" spc="-1" strike="noStrike">
                <a:solidFill>
                  <a:srgbClr val="0066ff"/>
                </a:solidFill>
                <a:latin typeface="Arial"/>
                <a:cs typeface="Times New Roman"/>
              </a:rPr>
              <a:t>ويذوب البرولين في كحول ايثيلي </a:t>
            </a:r>
            <a:r>
              <a:rPr b="1" lang="ar-SA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50</a:t>
            </a:r>
            <a:r>
              <a:rPr b="1" lang="ar-SA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-</a:t>
            </a:r>
            <a:r>
              <a:rPr b="1" lang="ar-SA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90</a:t>
            </a:r>
            <a:r>
              <a:rPr b="1" lang="ar-SA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%  وليس الماء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* ويتراكم في الساق والاوراق  للنباتات المتعرضه للاجهاد المائي او الملحي بحيث ترتفع نسبته جدا مقارنه بنباتات الكنترو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7106040" y="519192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عنصر نائب لرقم الشريحة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2489-16DD-480D-B8CF-DA9EC392F3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صر نائب لرقم الشريحة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0413-CEFB-40A5-AC8A-0871C0F3FF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2"/>
          <p:cNvSpPr/>
          <p:nvPr/>
        </p:nvSpPr>
        <p:spPr>
          <a:xfrm>
            <a:off x="250920" y="1052640"/>
            <a:ext cx="8497800" cy="26542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الأهمية البيئية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حمض اميني يحمي الخلية تجاه الضرر او أي اجهاد بيئي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ما له من خصائص طبيعية فقد يغير من طبيعة جدر الخلايا فيجعلها محبة للما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تمسكة بة او يعمل على ضب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التالي يساعد هذا على مقاومة النبات لقساوة البيئ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bubble greenesh"/>
          <p:cNvPicPr/>
          <p:nvPr/>
        </p:nvPicPr>
        <p:blipFill>
          <a:blip r:embed="rId1"/>
          <a:stretch/>
        </p:blipFill>
        <p:spPr>
          <a:xfrm>
            <a:off x="900000" y="3933720"/>
            <a:ext cx="21592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مستطيل 1"/>
          <p:cNvSpPr/>
          <p:nvPr/>
        </p:nvSpPr>
        <p:spPr>
          <a:xfrm>
            <a:off x="1692360" y="1484280"/>
            <a:ext cx="6946920" cy="30808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ff"/>
                </a:solidFill>
                <a:latin typeface="Arial"/>
              </a:rPr>
              <a:t>٭</a:t>
            </a:r>
            <a:r>
              <a:rPr b="1" lang="ar-SA" sz="18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نبات غ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حمض السلفو سلسلي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حمض الخليك الثلج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تلو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ننهايدر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انابيب بايركس حمام مائي/ ماصات  حجم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ثلج/ ورق ترشي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2"/>
          <p:cNvSpPr/>
          <p:nvPr/>
        </p:nvSpPr>
        <p:spPr>
          <a:xfrm>
            <a:off x="5076720" y="765000"/>
            <a:ext cx="3392640" cy="58140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لادو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pink2"/>
          <p:cNvPicPr/>
          <p:nvPr/>
        </p:nvPicPr>
        <p:blipFill>
          <a:blip r:embed="rId1"/>
          <a:stretch/>
        </p:blipFill>
        <p:spPr>
          <a:xfrm>
            <a:off x="468360" y="260280"/>
            <a:ext cx="2663640" cy="259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bubble greenesh"/>
          <p:cNvPicPr/>
          <p:nvPr/>
        </p:nvPicPr>
        <p:blipFill>
          <a:blip r:embed="rId2"/>
          <a:stretch/>
        </p:blipFill>
        <p:spPr>
          <a:xfrm>
            <a:off x="826920" y="4581360"/>
            <a:ext cx="1917720" cy="2276640"/>
          </a:xfrm>
          <a:prstGeom prst="rect">
            <a:avLst/>
          </a:prstGeom>
          <a:ln w="0">
            <a:noFill/>
          </a:ln>
        </p:spPr>
      </p:pic>
      <p:sp>
        <p:nvSpPr>
          <p:cNvPr id="61" name="عنصر نائب لرقم الشريحة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DEBC-FBC9-42DA-9364-00A526A8A0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611280" y="1575360"/>
            <a:ext cx="8281800" cy="18010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قدر المحتوى البروليني تبعا لطريق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tes et al,(1973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وتعتمد على وزن معين حوالي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.5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جم من النبات الغض تطحن في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مل محلول مائي من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lphosalycilic acid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-1062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8"/>
          <p:cNvGrpSpPr/>
          <p:nvPr/>
        </p:nvGrpSpPr>
        <p:grpSpPr>
          <a:xfrm>
            <a:off x="900000" y="5157720"/>
            <a:ext cx="2232000" cy="1413000"/>
            <a:chOff x="900000" y="5157720"/>
            <a:chExt cx="2232000" cy="1413000"/>
          </a:xfrm>
        </p:grpSpPr>
        <p:pic>
          <p:nvPicPr>
            <p:cNvPr id="65" name="Picture 10" descr="Ninhydrin"/>
            <p:cNvPicPr/>
            <p:nvPr/>
          </p:nvPicPr>
          <p:blipFill>
            <a:blip r:embed="rId1"/>
            <a:stretch/>
          </p:blipFill>
          <p:spPr>
            <a:xfrm>
              <a:off x="900000" y="5157720"/>
              <a:ext cx="2035080" cy="98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9"/>
            <p:cNvSpPr/>
            <p:nvPr/>
          </p:nvSpPr>
          <p:spPr>
            <a:xfrm>
              <a:off x="900000" y="6124680"/>
              <a:ext cx="22320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cc"/>
                  </a:solidFill>
                  <a:latin typeface="Arial"/>
                  <a:ea typeface="Times New Roman"/>
                </a:rPr>
                <a:t>Ninhydren Stru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1187280" y="3338640"/>
            <a:ext cx="7704360" cy="19234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ثم يرشح المخلوط خلال ورق ترشيح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atman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,ويخذ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ل من الرشح ويضاف عليه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ل م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lacial acetic ac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جمض الخليك الثلجي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ل نينهايدري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inhydr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في أنبوبة بايرك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-648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mortar_with_pestle_carlo_01 copy"/>
          <p:cNvPicPr/>
          <p:nvPr/>
        </p:nvPicPr>
        <p:blipFill>
          <a:blip r:embed="rId2"/>
          <a:stretch/>
        </p:blipFill>
        <p:spPr>
          <a:xfrm>
            <a:off x="324000" y="1052640"/>
            <a:ext cx="1266840" cy="1096920"/>
          </a:xfrm>
          <a:prstGeom prst="rect">
            <a:avLst/>
          </a:prstGeom>
          <a:ln w="0">
            <a:noFill/>
          </a:ln>
        </p:spPr>
      </p:pic>
      <p:sp>
        <p:nvSpPr>
          <p:cNvPr id="70" name="عنصر نائب لرقم الشريحة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378A-6DEE-4A5F-8D7D-1BB7FAD2AD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مستطيل 10"/>
          <p:cNvSpPr/>
          <p:nvPr/>
        </p:nvSpPr>
        <p:spPr>
          <a:xfrm>
            <a:off x="5508720" y="476280"/>
            <a:ext cx="32907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</a:rPr>
              <a:t>طريقة العمل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-1877400" y="620280"/>
            <a:ext cx="12723120" cy="6426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وتوضع الانبوبة في حمام مائي عند درج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م لمدة ساعة, ثم يبرد المخلوط مباشرة في حمام ثلجي لوقف التفاعل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70130"/>
          <p:cNvPicPr/>
          <p:nvPr/>
        </p:nvPicPr>
        <p:blipFill>
          <a:blip r:embed="rId1"/>
          <a:stretch/>
        </p:blipFill>
        <p:spPr>
          <a:xfrm>
            <a:off x="669960" y="1557360"/>
            <a:ext cx="2101680" cy="1942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4" name="Rectangle 6"/>
          <p:cNvSpPr/>
          <p:nvPr/>
        </p:nvSpPr>
        <p:spPr>
          <a:xfrm>
            <a:off x="0" y="29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170280" y="3715920"/>
            <a:ext cx="9977040" cy="6426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ثم يوضع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مل م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lu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وترج الأنبوبة جيدا  لمد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ثانية وتترك في درجة حرارة الغرف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toluene"/>
          <p:cNvPicPr/>
          <p:nvPr/>
        </p:nvPicPr>
        <p:blipFill>
          <a:blip r:embed="rId2"/>
          <a:stretch/>
        </p:blipFill>
        <p:spPr>
          <a:xfrm>
            <a:off x="900000" y="5013360"/>
            <a:ext cx="2087640" cy="1452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7" name="Picture 10" descr="bubble greenesh"/>
          <p:cNvPicPr/>
          <p:nvPr/>
        </p:nvPicPr>
        <p:blipFill>
          <a:blip r:embed="rId3"/>
          <a:stretch/>
        </p:blipFill>
        <p:spPr>
          <a:xfrm>
            <a:off x="6516720" y="4941720"/>
            <a:ext cx="1346040" cy="1600200"/>
          </a:xfrm>
          <a:prstGeom prst="rect">
            <a:avLst/>
          </a:prstGeom>
          <a:ln w="0">
            <a:noFill/>
          </a:ln>
        </p:spPr>
      </p:pic>
      <p:sp>
        <p:nvSpPr>
          <p:cNvPr id="78" name="عنصر نائب لرقم الشريحة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95C6-DE9A-40EB-BA84-7192E2EEB7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0" y="26640"/>
            <a:ext cx="8893080" cy="37519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سوف تنفصل طبق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lue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وما تحمله من برولين فوق المخلوط . ومن هذه الطبقة العليا يؤخذ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مل وتقرأ درجة امتصاصه باستخدام جهاز قياس الطيف الضوئي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v\visible spectrophotometer-ultrospec 2100pro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) عند طول موجي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520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نانوميتير , ثم يقدر محتوى البرولين باستخدام المعادلة التالي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µ mole proline \g fr.wt= (Reading×4×5\wt.in g ) ×1.4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و يقدر محتوى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البرولين بمقارنة بالمنحنى القياسي للالبيومين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µ mole proline \g fr.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ghg"/>
          <p:cNvPicPr/>
          <p:nvPr/>
        </p:nvPicPr>
        <p:blipFill>
          <a:blip r:embed="rId1"/>
          <a:srcRect l="0" t="19576" r="0" b="27570"/>
          <a:stretch/>
        </p:blipFill>
        <p:spPr>
          <a:xfrm>
            <a:off x="755640" y="4149720"/>
            <a:ext cx="7775640" cy="211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1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EE38-FE4A-4645-9863-7149A044C3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صورة 1" descr="المنحنى القياسي للالبيومين.jpg"/>
          <p:cNvPicPr/>
          <p:nvPr/>
        </p:nvPicPr>
        <p:blipFill>
          <a:blip r:embed="rId1"/>
          <a:stretch/>
        </p:blipFill>
        <p:spPr>
          <a:xfrm>
            <a:off x="324000" y="1441440"/>
            <a:ext cx="5688000" cy="51879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83" name="مربع نص 2"/>
          <p:cNvSpPr/>
          <p:nvPr/>
        </p:nvSpPr>
        <p:spPr>
          <a:xfrm>
            <a:off x="3059280" y="404640"/>
            <a:ext cx="5727600" cy="520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المنحنى القياسي للألبيو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BCC1-27B7-4706-8839-C6B1091973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مستطيل 1"/>
          <p:cNvSpPr/>
          <p:nvPr/>
        </p:nvSpPr>
        <p:spPr>
          <a:xfrm>
            <a:off x="324000" y="1844640"/>
            <a:ext cx="8478720" cy="11912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حتوى العالي من البرولين ربما يدل على اختلال في الايض النيتروجيني او قد يكون بمثابة وسيلة دفاعية للحد من تأثير الأحماض الأمينية الناتجة عن هدم البروت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lblue lequid"/>
          <p:cNvPicPr/>
          <p:nvPr/>
        </p:nvPicPr>
        <p:blipFill>
          <a:blip r:embed="rId1"/>
          <a:stretch/>
        </p:blipFill>
        <p:spPr>
          <a:xfrm>
            <a:off x="1403280" y="3645000"/>
            <a:ext cx="2376720" cy="1728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bubble greenesh"/>
          <p:cNvPicPr/>
          <p:nvPr/>
        </p:nvPicPr>
        <p:blipFill>
          <a:blip r:embed="rId2"/>
          <a:stretch/>
        </p:blipFill>
        <p:spPr>
          <a:xfrm>
            <a:off x="6659640" y="3789360"/>
            <a:ext cx="1346040" cy="1600200"/>
          </a:xfrm>
          <a:prstGeom prst="rect">
            <a:avLst/>
          </a:prstGeom>
          <a:ln w="0">
            <a:noFill/>
          </a:ln>
        </p:spPr>
      </p:pic>
      <p:sp>
        <p:nvSpPr>
          <p:cNvPr id="88" name="عنصر نائب لرقم الشريحة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67A6-5C41-483F-BD38-7CFF8521CA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مستطيل 5"/>
          <p:cNvSpPr/>
          <p:nvPr/>
        </p:nvSpPr>
        <p:spPr>
          <a:xfrm>
            <a:off x="5580000" y="404640"/>
            <a:ext cx="3240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</a:rPr>
              <a:t>المناقشة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1:16:13Z</dcterms:created>
  <dc:creator>مها ابانمي</dc:creator>
  <dc:description/>
  <dc:language>en-US</dc:language>
  <cp:lastModifiedBy>a</cp:lastModifiedBy>
  <dcterms:modified xsi:type="dcterms:W3CDTF">2016-03-28T05:36:16Z</dcterms:modified>
  <cp:revision>19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53552022653FE48B8D1623A866C89FF</vt:lpwstr>
  </property>
  <property fmtid="{D5CDD505-2E9C-101B-9397-08002B2CF9AE}" pid="3" name="Order">
    <vt:lpwstr>40100.000000000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TemplateUrl">
    <vt:lpwstr/>
  </property>
  <property fmtid="{D5CDD505-2E9C-101B-9397-08002B2CF9AE}" pid="7" name="_SharedFileIndex">
    <vt:lpwstr/>
  </property>
  <property fmtid="{D5CDD505-2E9C-101B-9397-08002B2CF9AE}" pid="8" name="_SourceUrl">
    <vt:lpwstr/>
  </property>
  <property fmtid="{D5CDD505-2E9C-101B-9397-08002B2CF9AE}" pid="9" name="xd_ProgID">
    <vt:lpwstr/>
  </property>
  <property fmtid="{D5CDD505-2E9C-101B-9397-08002B2CF9AE}" pid="10" name="xd_Signature">
    <vt:lpwstr/>
  </property>
</Properties>
</file>