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C861-C210-4B09-AE95-ED885CDC82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3D4C-BC62-4810-9E5B-91AAA2AD5E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CCD-869B-4FD4-918E-EB9F3AC9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F6C-58BC-4EB2-A1C6-294D7420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A61-E54D-4B96-8F44-0CC99D98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E7D-EE52-4EAA-AABA-2968BE73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26A-BB8D-40A5-B916-9BE4EF76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3DC-D565-4739-8193-39DCC0A5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AB9-CDCA-4F28-ADA1-380E77E2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5AB-8588-430A-9D7C-AE02A41F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F97-12B8-424B-BE8F-FF7B9A29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685-6A56-4D37-A21D-63A90BD0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E52-BF58-4BCB-A13A-6FCD052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04E-A1B3-4BC8-976A-188918E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B0A-18D7-458C-B054-1BE7056525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679680" y="301680"/>
            <a:ext cx="10595880" cy="520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ستخلاص البرولين وتقديره في بناتات معرضه للاجهاد المل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27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3448"/>
          <p:cNvPicPr/>
          <p:nvPr/>
        </p:nvPicPr>
        <p:blipFill>
          <a:blip r:embed="rId1"/>
          <a:stretch/>
        </p:blipFill>
        <p:spPr>
          <a:xfrm>
            <a:off x="1258920" y="3730680"/>
            <a:ext cx="3241800" cy="3127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324000" y="840600"/>
            <a:ext cx="8424720" cy="29592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* البرولين من الاحماض الامينيه البسيطه التي تحتوي على حلقه عطريه او متغايره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Heterocyclic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في بقية الجزيء 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cs typeface="Times New Roman"/>
              </a:rPr>
              <a:t>ويذوب البرولين في كحول ايثيلي 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50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90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%  وليس الم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* ويتراكم في الساق والاوراق  للنباتات المتعرضه للاجهاد المائي او الملحي بحيث ترتفع نسبته جدا مقارنه بنباتات الكنترو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7106040" y="51919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عنصر نائب لرقم الشريحة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CCD7-EF8A-4C2B-AB1A-E0D14722B2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صر نائب لرقم الشريحة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B76B-A7EE-460F-A386-0B13B3D177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"/>
          <p:cNvSpPr/>
          <p:nvPr/>
        </p:nvSpPr>
        <p:spPr>
          <a:xfrm>
            <a:off x="250920" y="1052640"/>
            <a:ext cx="8497800" cy="2654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أهمية البيئية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حمض اميني يحمي الخلية تجاه الضرر او أي اجهاد بيئي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ما له من خصائص طبيعية فقد يغير من طبيعة جدر الخلايا فيجعلها محبة للما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تمسكة بة او يعمل على ضب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تالي يساعد هذا على مقاومة النبات لقساوة الب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bubble greenesh"/>
          <p:cNvPicPr/>
          <p:nvPr/>
        </p:nvPicPr>
        <p:blipFill>
          <a:blip r:embed="rId1"/>
          <a:stretch/>
        </p:blipFill>
        <p:spPr>
          <a:xfrm>
            <a:off x="900000" y="3933720"/>
            <a:ext cx="2159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مستطيل 1"/>
          <p:cNvSpPr/>
          <p:nvPr/>
        </p:nvSpPr>
        <p:spPr>
          <a:xfrm>
            <a:off x="1692360" y="1484280"/>
            <a:ext cx="6946920" cy="30808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ff"/>
                </a:solidFill>
                <a:latin typeface="Arial"/>
              </a:rPr>
              <a:t>٭</a:t>
            </a:r>
            <a:r>
              <a:rPr b="1" lang="ar-SA" sz="1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نبات غ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حمض السلفو سلسلي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حمض الخليك الثل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لو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ننهايد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نابيب بايركس حمام مائي/ ماصات  حجم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ثلج/ ورق ترشي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"/>
          <p:cNvSpPr/>
          <p:nvPr/>
        </p:nvSpPr>
        <p:spPr>
          <a:xfrm>
            <a:off x="5076720" y="765000"/>
            <a:ext cx="3392640" cy="58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لاد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pink2"/>
          <p:cNvPicPr/>
          <p:nvPr/>
        </p:nvPicPr>
        <p:blipFill>
          <a:blip r:embed="rId1"/>
          <a:stretch/>
        </p:blipFill>
        <p:spPr>
          <a:xfrm>
            <a:off x="468360" y="260280"/>
            <a:ext cx="266364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bubble greenesh"/>
          <p:cNvPicPr/>
          <p:nvPr/>
        </p:nvPicPr>
        <p:blipFill>
          <a:blip r:embed="rId2"/>
          <a:stretch/>
        </p:blipFill>
        <p:spPr>
          <a:xfrm>
            <a:off x="826920" y="4581360"/>
            <a:ext cx="1917720" cy="2276640"/>
          </a:xfrm>
          <a:prstGeom prst="rect">
            <a:avLst/>
          </a:prstGeom>
          <a:ln w="0">
            <a:noFill/>
          </a:ln>
        </p:spPr>
      </p:pic>
      <p:sp>
        <p:nvSpPr>
          <p:cNvPr id="61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2498-B058-4EBD-A697-9AC005633A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11280" y="1575360"/>
            <a:ext cx="8281800" cy="1801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قدر المحتوى البروليني تبعا لطري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tes et al,(1973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وتعتمد على وزن معين حوالي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جم من النبات الغض تطحن في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مل محلول مائي م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lphosalycilic aci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10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900000" y="5157720"/>
            <a:ext cx="2232000" cy="1413000"/>
            <a:chOff x="900000" y="5157720"/>
            <a:chExt cx="2232000" cy="1413000"/>
          </a:xfrm>
        </p:grpSpPr>
        <p:pic>
          <p:nvPicPr>
            <p:cNvPr id="65" name="Picture 10" descr="Ninhydrin"/>
            <p:cNvPicPr/>
            <p:nvPr/>
          </p:nvPicPr>
          <p:blipFill>
            <a:blip r:embed="rId1"/>
            <a:stretch/>
          </p:blipFill>
          <p:spPr>
            <a:xfrm>
              <a:off x="900000" y="5157720"/>
              <a:ext cx="2035080" cy="9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9"/>
            <p:cNvSpPr/>
            <p:nvPr/>
          </p:nvSpPr>
          <p:spPr>
            <a:xfrm>
              <a:off x="900000" y="6124680"/>
              <a:ext cx="22320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cc"/>
                  </a:solidFill>
                  <a:latin typeface="Arial"/>
                  <a:ea typeface="Times New Roman"/>
                </a:rPr>
                <a:t>Ninhydren 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1187280" y="3338640"/>
            <a:ext cx="7704360" cy="1923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ثم يرشح المخلوط خلال ورق ترشيح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man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,ويخذ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ل من الرشح ويضاف عليه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ل م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acial acetic ac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جمض الخليك الثلجي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ل نينهايدر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nhydr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أنبوبة بايرك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-648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ortar_with_pestle_carlo_01 copy"/>
          <p:cNvPicPr/>
          <p:nvPr/>
        </p:nvPicPr>
        <p:blipFill>
          <a:blip r:embed="rId2"/>
          <a:stretch/>
        </p:blipFill>
        <p:spPr>
          <a:xfrm>
            <a:off x="324000" y="1052640"/>
            <a:ext cx="1266840" cy="1096920"/>
          </a:xfrm>
          <a:prstGeom prst="rect">
            <a:avLst/>
          </a:prstGeom>
          <a:ln w="0">
            <a:noFill/>
          </a:ln>
        </p:spPr>
      </p:pic>
      <p:sp>
        <p:nvSpPr>
          <p:cNvPr id="70" name="عنصر نائب لرقم الشريحة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989B-02A2-4DED-93AC-3EC6E0B11A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ستطيل 10"/>
          <p:cNvSpPr/>
          <p:nvPr/>
        </p:nvSpPr>
        <p:spPr>
          <a:xfrm>
            <a:off x="5508720" y="476280"/>
            <a:ext cx="3290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</a:rPr>
              <a:t>طريقة العمل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-1877400" y="620280"/>
            <a:ext cx="1272312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وتوضع الانبوبة في حمام مائي عند درج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 لمدة ساعة, ثم يبرد المخلوط مباشرة في حمام ثلجي لوقف التفاعل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70130"/>
          <p:cNvPicPr/>
          <p:nvPr/>
        </p:nvPicPr>
        <p:blipFill>
          <a:blip r:embed="rId1"/>
          <a:stretch/>
        </p:blipFill>
        <p:spPr>
          <a:xfrm>
            <a:off x="669960" y="1557360"/>
            <a:ext cx="2101680" cy="194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4" name="Rectangle 6"/>
          <p:cNvSpPr/>
          <p:nvPr/>
        </p:nvSpPr>
        <p:spPr>
          <a:xfrm>
            <a:off x="0" y="29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170280" y="3715920"/>
            <a:ext cx="997704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ثم يوضع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مل م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lu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وترج الأنبوبة جيدا  لمد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ثانية وتترك في درجة حرارة الغرف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toluene"/>
          <p:cNvPicPr/>
          <p:nvPr/>
        </p:nvPicPr>
        <p:blipFill>
          <a:blip r:embed="rId2"/>
          <a:stretch/>
        </p:blipFill>
        <p:spPr>
          <a:xfrm>
            <a:off x="900000" y="5013360"/>
            <a:ext cx="2087640" cy="145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" name="Picture 10" descr="bubble greenesh"/>
          <p:cNvPicPr/>
          <p:nvPr/>
        </p:nvPicPr>
        <p:blipFill>
          <a:blip r:embed="rId3"/>
          <a:stretch/>
        </p:blipFill>
        <p:spPr>
          <a:xfrm>
            <a:off x="6516720" y="4941720"/>
            <a:ext cx="134604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عنصر نائب لرقم الشريحة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AF1C-7B19-4531-962C-9BD0716D73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0" y="26640"/>
            <a:ext cx="8893080" cy="3751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سوف تنفصل طب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lue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وما تحمله من برولين فوق المخلوط . ومن هذه الطبقة العليا يؤخذ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مل وتقرأ درجة امتصاصه باستخدام جهاز قياس الطيف الضوئي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v\visible spectrophotometer-ultrospec 2100pro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) عند طول موجي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52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نانوميتير , ثم يقدر محتوى البرولين باستخدام المعادلة التال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µ mole proline \g fr.wt= (Reading×4×5\wt.in g ) ×1.4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و يقدر محتوى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برولين بمقارنة بالمنحنى القياسي للالبيومين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µ mole proline \g fr.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ghg"/>
          <p:cNvPicPr/>
          <p:nvPr/>
        </p:nvPicPr>
        <p:blipFill>
          <a:blip r:embed="rId1"/>
          <a:srcRect l="0" t="19576" r="0" b="27570"/>
          <a:stretch/>
        </p:blipFill>
        <p:spPr>
          <a:xfrm>
            <a:off x="755640" y="4149720"/>
            <a:ext cx="777564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5900-EA3D-449E-B802-22B9E0479F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صورة 1" descr="المنحنى القياسي للالبيومين.jpg"/>
          <p:cNvPicPr/>
          <p:nvPr/>
        </p:nvPicPr>
        <p:blipFill>
          <a:blip r:embed="rId1"/>
          <a:stretch/>
        </p:blipFill>
        <p:spPr>
          <a:xfrm>
            <a:off x="324000" y="1441440"/>
            <a:ext cx="5688000" cy="5187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83" name="مربع نص 2"/>
          <p:cNvSpPr/>
          <p:nvPr/>
        </p:nvSpPr>
        <p:spPr>
          <a:xfrm>
            <a:off x="3059280" y="404640"/>
            <a:ext cx="5727600" cy="520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منحنى القياسي للألبيو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1D89-1132-4834-8AC4-D4B883B748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مستطيل 1"/>
          <p:cNvSpPr/>
          <p:nvPr/>
        </p:nvSpPr>
        <p:spPr>
          <a:xfrm>
            <a:off x="324000" y="1844640"/>
            <a:ext cx="847872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حتوى العالي من البرولين ربما يدل على اختلال في الايض النيتروجيني او قد يكون بمثابة وسيلة دفاعية للحد من تأثير الأحماض الأمينية الناتجة عن هدم البروت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lblue lequid"/>
          <p:cNvPicPr/>
          <p:nvPr/>
        </p:nvPicPr>
        <p:blipFill>
          <a:blip r:embed="rId1"/>
          <a:stretch/>
        </p:blipFill>
        <p:spPr>
          <a:xfrm>
            <a:off x="1403280" y="3645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bubble greenesh"/>
          <p:cNvPicPr/>
          <p:nvPr/>
        </p:nvPicPr>
        <p:blipFill>
          <a:blip r:embed="rId2"/>
          <a:stretch/>
        </p:blipFill>
        <p:spPr>
          <a:xfrm>
            <a:off x="6659640" y="3789360"/>
            <a:ext cx="1346040" cy="1600200"/>
          </a:xfrm>
          <a:prstGeom prst="rect">
            <a:avLst/>
          </a:prstGeom>
          <a:ln w="0">
            <a:noFill/>
          </a:ln>
        </p:spPr>
      </p:pic>
      <p:sp>
        <p:nvSpPr>
          <p:cNvPr id="88" name="عنصر نائب لرقم الشريحة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C8A8-1331-41BF-AD70-7E3408AF56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5"/>
          <p:cNvSpPr/>
          <p:nvPr/>
        </p:nvSpPr>
        <p:spPr>
          <a:xfrm>
            <a:off x="5580000" y="404640"/>
            <a:ext cx="3240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</a:rPr>
              <a:t>المناقشة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1:16:13Z</dcterms:created>
  <dc:creator>مها ابانمي</dc:creator>
  <dc:description/>
  <dc:language>en-US</dc:language>
  <cp:lastModifiedBy>a</cp:lastModifiedBy>
  <dcterms:modified xsi:type="dcterms:W3CDTF">2016-03-28T05:36:16Z</dcterms:modified>
  <cp:revision>19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53552022653FE48B8D1623A866C89FF</vt:lpwstr>
  </property>
  <property fmtid="{D5CDD505-2E9C-101B-9397-08002B2CF9AE}" pid="3" name="Order">
    <vt:lpwstr>40100.000000000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_SharedFileIndex">
    <vt:lpwstr/>
  </property>
  <property fmtid="{D5CDD505-2E9C-101B-9397-08002B2CF9AE}" pid="8" name="_SourceUrl">
    <vt:lpwstr/>
  </property>
  <property fmtid="{D5CDD505-2E9C-101B-9397-08002B2CF9AE}" pid="9" name="xd_ProgID">
    <vt:lpwstr/>
  </property>
  <property fmtid="{D5CDD505-2E9C-101B-9397-08002B2CF9AE}" pid="10" name="xd_Signature">
    <vt:lpwstr/>
  </property>
</Properties>
</file>