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CD9-B0D0-4400-894F-B111927C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A78-16C8-4E88-9EA8-5B3769B4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2B7-906E-41B4-BF30-DA2A6DB7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A1F-249F-4A14-9454-D587C2D7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A7F8-7B0D-4F34-A0E2-77FEC624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AE7-B742-4CBC-8FD5-63B67AA2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837F-FAF2-4734-BE6C-92582E3E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2C40-E1D4-4BEE-BAE4-64653A51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291A-ADA3-4521-8764-61C7C466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EDCF-8478-4D7E-BEAF-0A9298CA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4CC5-4B18-4942-89EF-30D3E5B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055-3F6D-455E-8C20-60610211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1D9B-BBCB-446D-9D6A-6B5F2A2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52CC-9569-418F-B1AB-DFD268E8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9B78-769B-45ED-A89F-C2D87C4A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44F9-46E1-4E68-8AED-C9EF25C8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92A3-4FDB-4D86-BA63-56D017AD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ED2-8A40-45D7-9083-D477167C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7FE-FD2F-40E9-AF73-6BC239E1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349-B30D-4131-BD8A-7D7EFDCA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FAC-6302-4F7A-97CF-A07F59B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F8B-5EA0-463C-A48F-281632E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54C-8834-4A76-B466-58A5CA19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372-DE8E-46D4-B216-62DB956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193-7A0B-4CB1-803E-0F8708E03A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104E-E4B3-40C6-BBFD-4347438C0A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94160" y="264240"/>
            <a:ext cx="398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إجهاد التلو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ution st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6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الضرر الدي يصيب النبات نتيجة تواجد مادة </a:t>
            </a:r>
            <a:r>
              <a:rPr b="1" lang="ar-SA" sz="2400" spc="-1" strike="noStrike">
                <a:solidFill>
                  <a:srgbClr val="99ff33"/>
                </a:solidFill>
                <a:latin typeface="Arial"/>
              </a:rPr>
              <a:t>غازية أو سائلة أو صلب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كميات تسبب الضرر للن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30002524" descr=""/>
          <p:cNvPicPr/>
          <p:nvPr/>
        </p:nvPicPr>
        <p:blipFill>
          <a:blip r:embed="rId1"/>
          <a:stretch/>
        </p:blipFill>
        <p:spPr>
          <a:xfrm>
            <a:off x="826920" y="2163600"/>
            <a:ext cx="3384720" cy="2276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87640" y="250560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imes New Roman"/>
              </a:rPr>
              <a:t>مصادر التلوث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imes New Roman"/>
              </a:rPr>
              <a:t>ملوثات غاز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99ff33"/>
                </a:solidFill>
                <a:latin typeface="Arial"/>
              </a:rPr>
              <a:t>من الصناعات والمصان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cow" descr=""/>
          <p:cNvPicPr/>
          <p:nvPr/>
        </p:nvPicPr>
        <p:blipFill>
          <a:blip r:embed="rId2"/>
          <a:srcRect l="0" t="11514" r="0" b="0"/>
          <a:stretch/>
        </p:blipFill>
        <p:spPr>
          <a:xfrm>
            <a:off x="1763640" y="5924520"/>
            <a:ext cx="5545080" cy="93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78520" y="3849840"/>
            <a:ext cx="378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اولا: أكاسيد الكربون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62960"/>
            <a:ext cx="914400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مثل غاز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99ff33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فزيادته عن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0.0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% في الغلاف الجوي قد يسبب الضرر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وأول اكسيد الكربون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صدره الإحتراق ، والصورة الثابتة لمركبات الكربون هو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CO</a:t>
            </a:r>
            <a:r>
              <a:rPr b="1" lang="en-US" sz="3200" spc="-1" strike="noStrike" baseline="-30000">
                <a:solidFill>
                  <a:srgbClr val="ff00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حيث يتأكسد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إلى </a:t>
            </a: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99ff33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في وجود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لذا يعتبر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صدراً لـــ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4590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70920"/>
            <a:ext cx="882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وقد يكون مصدر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99ff33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هو تنفس الكائنات الحية جميعها إلا أن النباتات تقلل من تركيزه باستهلاكه ( اختزاله ) في عملية البناء الضوئي ، ويعتبر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أكثر ضرراً من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99ff33"/>
                </a:solidFill>
                <a:latin typeface="Arial"/>
                <a:cs typeface="Times New Roman"/>
              </a:rPr>
              <a:t>والسبب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أن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يستهل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ليتحول إلى الصورة الثابتة </a:t>
            </a:r>
            <a:r>
              <a:rPr b="1" lang="en-US" sz="3200" spc="-1" strike="noStrike">
                <a:solidFill>
                  <a:srgbClr val="99ff33"/>
                </a:solidFill>
                <a:latin typeface="Arial"/>
                <a:ea typeface="Times New Roman"/>
              </a:rPr>
              <a:t>CO</a:t>
            </a:r>
            <a:r>
              <a:rPr b="1" lang="en-US" sz="3200" spc="-1" strike="noStrike" baseline="-30000">
                <a:solidFill>
                  <a:srgbClr val="99ff33"/>
                </a:solidFill>
                <a:latin typeface="Arial"/>
                <a:ea typeface="Times New Roman"/>
              </a:rPr>
              <a:t>2</a:t>
            </a:r>
            <a:r>
              <a:rPr b="1" lang="ar-SA" sz="3200" spc="-1" strike="noStrike">
                <a:solidFill>
                  <a:srgbClr val="99ff3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h" descr=""/>
          <p:cNvPicPr/>
          <p:nvPr/>
        </p:nvPicPr>
        <p:blipFill>
          <a:blip r:embed="rId1"/>
          <a:srcRect l="0" t="19008" r="0" b="18823"/>
          <a:stretch/>
        </p:blipFill>
        <p:spPr>
          <a:xfrm>
            <a:off x="1332000" y="3141720"/>
            <a:ext cx="6464160" cy="128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2100240"/>
            <a:ext cx="89647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Times New Roman"/>
              </a:rPr>
              <a:t>عند تحوله إلى الصورة الثابتة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قد يذوب في الماء ليتحول إلى حامض الكربوني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ow" descr=""/>
          <p:cNvPicPr/>
          <p:nvPr/>
        </p:nvPicPr>
        <p:blipFill>
          <a:blip r:embed="rId1"/>
          <a:srcRect l="0" t="15202" r="0" b="19505"/>
          <a:stretch/>
        </p:blipFill>
        <p:spPr>
          <a:xfrm>
            <a:off x="1619280" y="2682720"/>
            <a:ext cx="6553080" cy="1487520"/>
          </a:xfrm>
          <a:prstGeom prst="rect">
            <a:avLst/>
          </a:prstGeom>
          <a:ln w="0">
            <a:noFill/>
          </a:ln>
        </p:spPr>
      </p:pic>
      <p:pic>
        <p:nvPicPr>
          <p:cNvPr id="110" name="s" descr=""/>
          <p:cNvPicPr/>
          <p:nvPr/>
        </p:nvPicPr>
        <p:blipFill>
          <a:blip r:embed="rId2"/>
          <a:stretch/>
        </p:blipFill>
        <p:spPr>
          <a:xfrm>
            <a:off x="1908000" y="4476600"/>
            <a:ext cx="6048720" cy="124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99400" y="548640"/>
            <a:ext cx="556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ثانيا : أكاسيد الكبريت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1680" y="1292760"/>
            <a:ext cx="85723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أهمها غا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 الكبريتات ) ، يشكل خطراً حقيقياً على النبات لأنه يعمل على نزع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ن أنسجتها ليتحول إلى الصورة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 الكبريتيد ) وهي الصورة الثابتة للكبري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36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144000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resize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-338760"/>
            <a:ext cx="874872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عند تلوث النبات بذلك الغاز فانه يحرم من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أولاً ثم يتشكل حامض الكبريتيك الحارق الذي من شأنه بالإضافة إلى الاضرار الكبيرة التي يسببها للنبات ، فإنه يحول وسط العصير الخلوي إلى </a:t>
            </a:r>
            <a:r>
              <a:rPr b="1" lang="ar-SA" sz="2800" spc="-1" strike="noStrike">
                <a:solidFill>
                  <a:srgbClr val="ff00ff"/>
                </a:solidFill>
                <a:latin typeface="Arial"/>
                <a:cs typeface="Times New Roman"/>
              </a:rPr>
              <a:t>وسط حمضي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وبالتالي يتأثر النشاط الإنزيمي فيها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Arial"/>
                <a:cs typeface="Times New Roman"/>
              </a:rPr>
              <a:t>يعتبر غاز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SO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 أكثر ضرراً على النباتات من غاز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00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00ff"/>
                </a:solidFill>
                <a:latin typeface="Arial"/>
                <a:ea typeface="Times New Roman"/>
              </a:rPr>
              <a:t> بسبب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أنه غاز لا يستهلك داخل أنسجة النبات مثل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كما أن غا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ذو قوة تدميرية أكثر من غا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بمقدار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0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م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40320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عراض المرضية لغا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2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على النب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يؤثر غا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على الحلقة الرباعية للبيرول المكونة لجزيئ الكلوروفيل ،فيعمل على فصل الروابط وينزع المغنيسيو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5071" r="0" b="3635"/>
          <a:stretch/>
        </p:blipFill>
        <p:spPr>
          <a:xfrm>
            <a:off x="1403280" y="2133720"/>
            <a:ext cx="6624720" cy="43909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"/>
          <p:cNvSpPr/>
          <p:nvPr/>
        </p:nvSpPr>
        <p:spPr>
          <a:xfrm>
            <a:off x="-16700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93080" y="1052640"/>
            <a:ext cx="250920" cy="215640"/>
          </a:xfrm>
          <a:prstGeom prst="star5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2-luvo-nox" descr=""/>
          <p:cNvPicPr/>
          <p:nvPr/>
        </p:nvPicPr>
        <p:blipFill>
          <a:blip r:embed="rId1"/>
          <a:stretch/>
        </p:blipFill>
        <p:spPr>
          <a:xfrm>
            <a:off x="0" y="3645000"/>
            <a:ext cx="2592360" cy="30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"/>
          <p:cNvSpPr/>
          <p:nvPr/>
        </p:nvSpPr>
        <p:spPr>
          <a:xfrm>
            <a:off x="-16700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778320"/>
            <a:ext cx="8964720" cy="60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يستحث فتح الثغور مما يسبب إجهاد مائي ثانوي للنبات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عندما يفقد النبات الماء عن طريق الثغور يقل المحتوى الرطوبي داخل النسيج مما يستحث عمل هرمون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A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لغلق الثغور لإقلال عمليات فقد الماء مما يترتب عليه حرمان النبات من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اللازم لعمليات البناء الضوئي ، والــ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اللازم لعملية التنف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تأثير غا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على عملية البناء الضوئي مباشرة عن طريق هدم الكلوروفيل مما يوقف عملية البناء اللاز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يؤثر على أغشية البلاستيدات الخضراء مسبباً تشوهات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3960" y="429192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تعرجات في غلاف البلاستيدات الخضرا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93080" y="333360"/>
            <a:ext cx="250920" cy="216000"/>
          </a:xfrm>
          <a:prstGeom prst="star5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604520" y="281160"/>
            <a:ext cx="1244844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له تأثير على أغشية الميتوكندريا وبالتالي تأثيرة الضار على أيض الت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Arial"/>
                <a:cs typeface="Times New Roman"/>
              </a:rPr>
              <a:t>هناك عوامل تزيد من إستجابة النبات للتلوث بـــ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Times New Roman"/>
              </a:rPr>
              <a:t>SO</a:t>
            </a:r>
            <a:r>
              <a:rPr b="1" lang="en-US" sz="2400" spc="-1" strike="noStrike" baseline="-30000">
                <a:solidFill>
                  <a:srgbClr val="cc0066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cc0066"/>
                </a:solidFill>
                <a:latin typeface="Arial"/>
                <a:ea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إرتفاع درجات الحرارة تزيد من الضر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1414800"/>
            <a:ext cx="46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زيادة الشدة الضوئية تزيد من الضر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418400" y="2318400"/>
            <a:ext cx="1213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أعراض تلوث النبات بغا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2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ظهور بقع داكنة اللون في مكان الإص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رهل في النب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جفاف الأورا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تحول لون الأوراق إلى اللون الأصفر الباهت يتبعه موت النب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59640" y="1844640"/>
            <a:ext cx="250920" cy="216000"/>
          </a:xfrm>
          <a:prstGeom prst="star5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48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75020347 copy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951280" cy="4514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40360" y="299160"/>
            <a:ext cx="57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66"/>
                </a:solidFill>
                <a:latin typeface="Arial"/>
                <a:cs typeface="Times New Roman"/>
              </a:rPr>
              <a:t>تجربة تأثير التلوث بغاز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Times New Roman"/>
              </a:rPr>
              <a:t>SO</a:t>
            </a:r>
            <a:r>
              <a:rPr b="1" lang="en-US" sz="2400" spc="-1" strike="noStrike" baseline="-30000">
                <a:solidFill>
                  <a:srgbClr val="cc0066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cc0066"/>
                </a:solidFill>
                <a:latin typeface="Arial"/>
                <a:ea typeface="Times New Roman"/>
              </a:rPr>
              <a:t> على الن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2240" y="746280"/>
            <a:ext cx="568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imes New Roman"/>
              </a:rPr>
              <a:t>الأدو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أصص مزروعة بنباتات فلقة / فلقت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كأس يحتوى على الكبري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حمض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Cl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مرك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bigstockphoto_Oh_No__230864[1]" descr=""/>
          <p:cNvPicPr/>
          <p:nvPr/>
        </p:nvPicPr>
        <p:blipFill>
          <a:blip r:embed="rId2"/>
          <a:srcRect l="23527" t="0" r="21566" b="0"/>
          <a:stretch/>
        </p:blipFill>
        <p:spPr>
          <a:xfrm>
            <a:off x="3276720" y="2060640"/>
            <a:ext cx="971280" cy="1619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14280" y="2439360"/>
            <a:ext cx="81064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imes New Roman"/>
              </a:rPr>
              <a:t>طريقة العمل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نضع الأصيص المحتوي على النباتات داخل الناقو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يوضع الكأس المحتوي على الكبريت مع الإصي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يضاف محلول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Cl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المركز بحرص شديد على الكبري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يعطى النبات والكأس في الناقوس ، وتترك لمدة (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) دقيق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99c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ملاحظة الأعراض وتسجيل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n" descr=""/>
          <p:cNvPicPr/>
          <p:nvPr/>
        </p:nvPicPr>
        <p:blipFill>
          <a:blip r:embed="rId3"/>
          <a:srcRect l="0" t="9082" r="0" b="0"/>
          <a:stretch/>
        </p:blipFill>
        <p:spPr>
          <a:xfrm>
            <a:off x="1692360" y="5300640"/>
            <a:ext cx="7127640" cy="139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0" y="36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624720" cy="4970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14480" y="5896080"/>
            <a:ext cx="90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صوره توضح الاعراض التي تسببها اكاسيد الكبريت على الن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2:47:48Z</dcterms:created>
  <dc:creator>HELP</dc:creator>
  <dc:description/>
  <dc:language>en-US</dc:language>
  <cp:lastModifiedBy>Maha Ananmi</cp:lastModifiedBy>
  <dcterms:modified xsi:type="dcterms:W3CDTF">2009-12-07T15:18:07Z</dcterms:modified>
  <cp:revision>1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53552022653FE48B8D1623A866C89FF</vt:lpwstr>
  </property>
  <property fmtid="{D5CDD505-2E9C-101B-9397-08002B2CF9AE}" pid="3" name="Order">
    <vt:lpwstr>40300.000000000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_SharedFileIndex">
    <vt:lpwstr/>
  </property>
  <property fmtid="{D5CDD505-2E9C-101B-9397-08002B2CF9AE}" pid="8" name="_SourceUrl">
    <vt:lpwstr/>
  </property>
  <property fmtid="{D5CDD505-2E9C-101B-9397-08002B2CF9AE}" pid="9" name="xd_ProgID">
    <vt:lpwstr/>
  </property>
  <property fmtid="{D5CDD505-2E9C-101B-9397-08002B2CF9AE}" pid="10" name="xd_Signature">
    <vt:lpwstr/>
  </property>
</Properties>
</file>