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0B9B-33E0-49BC-BF00-8592FD87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1EB4-B200-499D-BE4E-34778FA4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2B08-25C8-4E0A-BD7F-F23EFD69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EC0-7112-473A-A823-E84116FB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DF08-67AB-49FB-BA1A-D639730C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9B82-E9E7-494C-9A06-88BF26B3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3006-C2F5-4F1C-ACFB-3800E4F6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F6F7-0455-446F-8D55-7CF36373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40D5-039E-40A9-B7BE-3810B354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E837-9776-448F-9651-0B972B07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2530-C993-459C-8C2F-85601451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8AC5-82C1-417B-8D3A-E1788FF6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A268-7106-4265-96DB-E2CD8BDA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A61E-219B-46DD-BFB3-322B6B7E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EC91-2E40-4EFA-AE90-11492109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EFC5-D8B1-4F23-804F-236D9C3D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466A-FF3E-4D46-84C3-577646A3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D568-86F4-4452-8FBB-E4C68041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93B-9C91-4510-B3C2-1CC16C2F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0F0-BF24-41C8-8075-9F37CCBC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EE0C-557A-4BB7-A43C-252EB00A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005-27D8-44BF-A694-D8C8B8D4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01CA-3A7E-459A-8504-97EFB315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012-92FF-4FCD-B584-562E238F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7F38-6D2D-48F0-8268-E3CD26A905C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708E-2EAE-4D9B-9623-E4B00CA7B7D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94160" y="264240"/>
            <a:ext cx="398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</a:rPr>
              <a:t>إجهاد التلو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llution str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660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و الضرر الدي يصيب النبات نتيجة تواجد مادة </a:t>
            </a:r>
            <a:r>
              <a:rPr b="1" lang="ar-SA" sz="2400" spc="-1" strike="noStrike">
                <a:solidFill>
                  <a:srgbClr val="99ff33"/>
                </a:solidFill>
                <a:latin typeface="Arial"/>
              </a:rPr>
              <a:t>غازية أو سائلة أو صلب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كميات تسبب الضرر للنب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3080" y="24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30002524" descr=""/>
          <p:cNvPicPr/>
          <p:nvPr/>
        </p:nvPicPr>
        <p:blipFill>
          <a:blip r:embed="rId1"/>
          <a:stretch/>
        </p:blipFill>
        <p:spPr>
          <a:xfrm>
            <a:off x="826920" y="2163600"/>
            <a:ext cx="3384720" cy="2276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987640" y="250560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cc"/>
                </a:solidFill>
                <a:latin typeface="Arial"/>
                <a:cs typeface="Times New Roman"/>
              </a:rPr>
              <a:t>مصادر التلوث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imes New Roman"/>
              </a:rPr>
              <a:t>ملوثات غازي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99ff33"/>
                </a:solidFill>
                <a:latin typeface="Arial"/>
              </a:rPr>
              <a:t>من الصناعات والمصان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cow" descr=""/>
          <p:cNvPicPr/>
          <p:nvPr/>
        </p:nvPicPr>
        <p:blipFill>
          <a:blip r:embed="rId2"/>
          <a:srcRect l="0" t="11514" r="0" b="0"/>
          <a:stretch/>
        </p:blipFill>
        <p:spPr>
          <a:xfrm>
            <a:off x="1763640" y="5924520"/>
            <a:ext cx="5545080" cy="933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978520" y="3849840"/>
            <a:ext cx="378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اولا: أكاسيد الكربون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062960"/>
            <a:ext cx="9144000" cy="26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مثل غاز </a:t>
            </a:r>
            <a:r>
              <a:rPr b="1" lang="en-US" sz="2400" spc="-1" strike="noStrike">
                <a:solidFill>
                  <a:srgbClr val="99ff33"/>
                </a:solidFill>
                <a:latin typeface="Arial"/>
                <a:ea typeface="Times New Roman"/>
              </a:rPr>
              <a:t>CO</a:t>
            </a:r>
            <a:r>
              <a:rPr b="1" lang="en-US" sz="2400" spc="-1" strike="noStrike" baseline="-30000">
                <a:solidFill>
                  <a:srgbClr val="99ff33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فزيادته عن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0.0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% في الغلاف الجوي قد يسبب الضرر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وأول اكسيد الكربون </a:t>
            </a:r>
            <a:r>
              <a:rPr b="1" lang="en-US" sz="2400" spc="-1" strike="noStrike">
                <a:solidFill>
                  <a:srgbClr val="99ff33"/>
                </a:solidFill>
                <a:latin typeface="Arial"/>
                <a:ea typeface="Times New Roman"/>
              </a:rPr>
              <a:t>CO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مصدره الإحتراق ، والصورة الثابتة لمركبات الكربون هو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CO</a:t>
            </a:r>
            <a:r>
              <a:rPr b="1" lang="en-US" sz="3200" spc="-1" strike="noStrike" baseline="-30000">
                <a:solidFill>
                  <a:srgbClr val="ff00ff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حيث يتأكسد </a:t>
            </a:r>
            <a:r>
              <a:rPr b="1" lang="en-US" sz="2400" spc="-1" strike="noStrike">
                <a:solidFill>
                  <a:srgbClr val="99ff33"/>
                </a:solidFill>
                <a:latin typeface="Arial"/>
                <a:ea typeface="Times New Roman"/>
              </a:rPr>
              <a:t>CO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إلى </a:t>
            </a:r>
            <a:r>
              <a:rPr b="1" lang="en-US" sz="2400" spc="-1" strike="noStrike">
                <a:solidFill>
                  <a:srgbClr val="99ff33"/>
                </a:solidFill>
                <a:latin typeface="Arial"/>
                <a:ea typeface="Times New Roman"/>
              </a:rPr>
              <a:t>CO</a:t>
            </a:r>
            <a:r>
              <a:rPr b="1" lang="en-US" sz="2400" spc="-1" strike="noStrike" baseline="-30000">
                <a:solidFill>
                  <a:srgbClr val="99ff33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في وجود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لذا يعتبر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مصدراً لــــ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459080" y="35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70920"/>
            <a:ext cx="8820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وقد يكون مصدر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  <a:ea typeface="Times New Roman"/>
              </a:rPr>
              <a:t>CO</a:t>
            </a:r>
            <a:r>
              <a:rPr b="1" lang="en-US" sz="2800" spc="-1" strike="noStrike" baseline="-30000">
                <a:solidFill>
                  <a:srgbClr val="99ff33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هو تنفس الكائنات الحية جميعها إلا أن النباتات تقلل من تركيزه باستهلاكه ( اختزاله ) في عملية البناء الضوئي ، ويعتبر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أكثر ضرراً من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99ff33"/>
                </a:solidFill>
                <a:latin typeface="Arial"/>
                <a:cs typeface="Times New Roman"/>
              </a:rPr>
              <a:t>والسبب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أن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يستهلك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ليتحول إلى الصورة الثابتة </a:t>
            </a:r>
            <a:r>
              <a:rPr b="1" lang="en-US" sz="3200" spc="-1" strike="noStrike">
                <a:solidFill>
                  <a:srgbClr val="99ff33"/>
                </a:solidFill>
                <a:latin typeface="Arial"/>
                <a:ea typeface="Times New Roman"/>
              </a:rPr>
              <a:t>CO</a:t>
            </a:r>
            <a:r>
              <a:rPr b="1" lang="en-US" sz="3200" spc="-1" strike="noStrike" baseline="-30000">
                <a:solidFill>
                  <a:srgbClr val="99ff33"/>
                </a:solidFill>
                <a:latin typeface="Arial"/>
                <a:ea typeface="Times New Roman"/>
              </a:rPr>
              <a:t>2</a:t>
            </a:r>
            <a:r>
              <a:rPr b="1" lang="ar-SA" sz="3200" spc="-1" strike="noStrike">
                <a:solidFill>
                  <a:srgbClr val="99ff3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h" descr=""/>
          <p:cNvPicPr/>
          <p:nvPr/>
        </p:nvPicPr>
        <p:blipFill>
          <a:blip r:embed="rId1"/>
          <a:srcRect l="0" t="19008" r="0" b="18823"/>
          <a:stretch/>
        </p:blipFill>
        <p:spPr>
          <a:xfrm>
            <a:off x="1332000" y="3141720"/>
            <a:ext cx="6464160" cy="1287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2100240"/>
            <a:ext cx="8964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Times New Roman"/>
              </a:rPr>
              <a:t>عند تحوله إلى الصورة الثابتة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قد يذوب في الماء ليتحول إلى حامض الكربوني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sow" descr=""/>
          <p:cNvPicPr/>
          <p:nvPr/>
        </p:nvPicPr>
        <p:blipFill>
          <a:blip r:embed="rId1"/>
          <a:srcRect l="0" t="15202" r="0" b="19505"/>
          <a:stretch/>
        </p:blipFill>
        <p:spPr>
          <a:xfrm>
            <a:off x="1619280" y="2682720"/>
            <a:ext cx="6553080" cy="1487520"/>
          </a:xfrm>
          <a:prstGeom prst="rect">
            <a:avLst/>
          </a:prstGeom>
          <a:ln w="0">
            <a:noFill/>
          </a:ln>
        </p:spPr>
      </p:pic>
      <p:pic>
        <p:nvPicPr>
          <p:cNvPr id="110" name="s" descr=""/>
          <p:cNvPicPr/>
          <p:nvPr/>
        </p:nvPicPr>
        <p:blipFill>
          <a:blip r:embed="rId2"/>
          <a:stretch/>
        </p:blipFill>
        <p:spPr>
          <a:xfrm>
            <a:off x="1908000" y="4476600"/>
            <a:ext cx="6048720" cy="1241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199400" y="548640"/>
            <a:ext cx="556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ff00"/>
                </a:solidFill>
                <a:uFillTx/>
                <a:latin typeface="Arial"/>
                <a:cs typeface="Times New Roman"/>
              </a:rPr>
              <a:t>ثانيا : أكاسيد الكبريت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1680" y="1292760"/>
            <a:ext cx="85723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أهمها غا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 الكبريتات ) ، يشكل خطراً حقيقياً على النبات لأنه يعمل على نزع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من أنسجتها ليتحول إلى الصورة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 الكبريتيد ) وهي الصورة الثابتة للكبري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364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144000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resize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3816360" cy="2952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5280" y="-338760"/>
            <a:ext cx="874872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عند تلوث النبات بذلك الغاز فانه يحرم من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أولاً ثم يتشكل حامض الكبريتيك الحارق الذي من شأنه بالإضافة إلى الاضرار الكبيرة التي يسببها للنبات ، فإنه يحول وسط العصير الخلوي إلى </a:t>
            </a:r>
            <a:r>
              <a:rPr b="1" lang="ar-SA" sz="2800" spc="-1" strike="noStrike">
                <a:solidFill>
                  <a:srgbClr val="ff00ff"/>
                </a:solidFill>
                <a:latin typeface="Arial"/>
                <a:cs typeface="Times New Roman"/>
              </a:rPr>
              <a:t>وسط حمضي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وبالتالي يتأثر النشاط الإنزيمي فيها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ff"/>
                </a:solidFill>
                <a:latin typeface="Arial"/>
                <a:cs typeface="Times New Roman"/>
              </a:rPr>
              <a:t>يعتبر غاز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Times New Roman"/>
              </a:rPr>
              <a:t>SO</a:t>
            </a:r>
            <a:r>
              <a:rPr b="1" lang="en-US" sz="2800" spc="-1" strike="noStrike" baseline="-30000">
                <a:solidFill>
                  <a:srgbClr val="ff00ff"/>
                </a:solidFill>
                <a:latin typeface="Arial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ff00ff"/>
                </a:solidFill>
                <a:latin typeface="Arial"/>
                <a:ea typeface="Times New Roman"/>
              </a:rPr>
              <a:t> أكثر ضرراً على النباتات من غاز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Times New Roman"/>
              </a:rPr>
              <a:t>CO</a:t>
            </a:r>
            <a:r>
              <a:rPr b="1" lang="en-US" sz="2800" spc="-1" strike="noStrike" baseline="-30000">
                <a:solidFill>
                  <a:srgbClr val="ff00ff"/>
                </a:solidFill>
                <a:latin typeface="Arial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ff00ff"/>
                </a:solidFill>
                <a:latin typeface="Arial"/>
                <a:ea typeface="Times New Roman"/>
              </a:rPr>
              <a:t> بسبب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أنه غاز لا يستهلك داخل أنسجة النبات مثل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كما أن غا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ذو قوة تدميرية أكثر من غا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بمقدار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0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م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40320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أعراض المرضية لغاز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2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على النبات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 يؤثر غا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على الحلقة الرباعية للبيرول المكونة لجزيئ الكلوروفيل ،فيعمل على فصل الروابط وينزع المغنيسيو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5071" r="0" b="3635"/>
          <a:stretch/>
        </p:blipFill>
        <p:spPr>
          <a:xfrm>
            <a:off x="1403280" y="2133720"/>
            <a:ext cx="6624720" cy="43909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9" name=""/>
          <p:cNvSpPr/>
          <p:nvPr/>
        </p:nvSpPr>
        <p:spPr>
          <a:xfrm>
            <a:off x="-167004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893080" y="1052640"/>
            <a:ext cx="250920" cy="215640"/>
          </a:xfrm>
          <a:prstGeom prst="star5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co2-luvo-nox" descr=""/>
          <p:cNvPicPr/>
          <p:nvPr/>
        </p:nvPicPr>
        <p:blipFill>
          <a:blip r:embed="rId1"/>
          <a:stretch/>
        </p:blipFill>
        <p:spPr>
          <a:xfrm>
            <a:off x="0" y="3645000"/>
            <a:ext cx="2592360" cy="3024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2" name=""/>
          <p:cNvSpPr/>
          <p:nvPr/>
        </p:nvSpPr>
        <p:spPr>
          <a:xfrm>
            <a:off x="-167004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-778320"/>
            <a:ext cx="8964720" cy="60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يستحث فتح الثغور مما يسبب إجهاد مائي ثانوي للنبات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عندما يفقد النبات الماء عن طريق الثغور يقل المحتوى الرطوبي داخل النسيج مما يستحث عمل هرمون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A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لغلق الثغور لإقلال عمليات فقد الماء مما يترتب عليه حرمان النبات من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اللازم لعمليات البناء الضوئي ، والـــ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اللازم لعملية التنف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تأثير غا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على عملية البناء الضوئي مباشرة عن طريق هدم الكلوروفيل مما يوقف عملية البناء اللاز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يؤثر على أغشية البلاستيدات الخضراء مسبباً تشوهات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3960" y="4291920"/>
            <a:ext cx="71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تعرجات في غلاف البلاستيدات الخضرا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893080" y="333360"/>
            <a:ext cx="250920" cy="216000"/>
          </a:xfrm>
          <a:prstGeom prst="star5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1604520" y="281160"/>
            <a:ext cx="1244844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له تأثير على أغشية الميتوكندريا وبالتالي تأثيرة الضار على أيض التنف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Arial"/>
                <a:cs typeface="Times New Roman"/>
              </a:rPr>
              <a:t>هناك عوامل تزيد من إستجابة النبات للتلوث بـــ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  <a:ea typeface="Times New Roman"/>
              </a:rPr>
              <a:t>SO</a:t>
            </a:r>
            <a:r>
              <a:rPr b="1" lang="en-US" sz="2400" spc="-1" strike="noStrike" baseline="-30000">
                <a:solidFill>
                  <a:srgbClr val="cc0066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cc0066"/>
                </a:solidFill>
                <a:latin typeface="Arial"/>
                <a:ea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إرتفاع درجات الحرارة تزيد من الضر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67280" y="1414800"/>
            <a:ext cx="462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زيادة الشدة الضوئية تزيد من الضر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1418400" y="2318400"/>
            <a:ext cx="12138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أعراض تلوث النبات بغاز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2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ظهور بقع داكنة اللون في مكان الإصا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ترهل في النب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جفاف الأورا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تحول لون الأوراق إلى اللون الأصفر الباهت يتبعه موت النب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59640" y="1844640"/>
            <a:ext cx="250920" cy="216000"/>
          </a:xfrm>
          <a:prstGeom prst="star5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8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8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480" y="18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75020347 copy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951280" cy="4514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40360" y="299160"/>
            <a:ext cx="57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Arial"/>
                <a:cs typeface="Times New Roman"/>
              </a:rPr>
              <a:t>تجربة تأثير التلوث بغاز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  <a:ea typeface="Times New Roman"/>
              </a:rPr>
              <a:t>SO</a:t>
            </a:r>
            <a:r>
              <a:rPr b="1" lang="en-US" sz="2400" spc="-1" strike="noStrike" baseline="-30000">
                <a:solidFill>
                  <a:srgbClr val="cc0066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cc0066"/>
                </a:solidFill>
                <a:latin typeface="Arial"/>
                <a:ea typeface="Times New Roman"/>
              </a:rPr>
              <a:t> على النب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62240" y="746280"/>
            <a:ext cx="5681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Arial"/>
                <a:cs typeface="Times New Roman"/>
              </a:rPr>
              <a:t>الأدوات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أصص مزروعة بنباتات فلقة / فلقت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كأس يحتوى على الكبري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حمض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Cl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مرك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bigstockphoto_Oh_No__230864[1]" descr=""/>
          <p:cNvPicPr/>
          <p:nvPr/>
        </p:nvPicPr>
        <p:blipFill>
          <a:blip r:embed="rId2"/>
          <a:srcRect l="23527" t="0" r="21566" b="0"/>
          <a:stretch/>
        </p:blipFill>
        <p:spPr>
          <a:xfrm>
            <a:off x="3276720" y="2060640"/>
            <a:ext cx="971280" cy="1619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114280" y="2439360"/>
            <a:ext cx="81064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cc"/>
                </a:solidFill>
                <a:latin typeface="Arial"/>
                <a:cs typeface="Times New Roman"/>
              </a:rPr>
              <a:t>طريقة العمل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نضع الأصيص المحتوي على النباتات داخل الناقو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يوضع الكأس المحتوي على الكبريت مع الإصي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يضاف محلول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Cl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المركز بحرص شديد على الكبري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يعطى النبات والكأس في الناقوس ، وتترك لمدة (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30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0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) دقيق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ملاحظة الأعراض وتسجيله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n" descr=""/>
          <p:cNvPicPr/>
          <p:nvPr/>
        </p:nvPicPr>
        <p:blipFill>
          <a:blip r:embed="rId3"/>
          <a:srcRect l="0" t="9082" r="0" b="0"/>
          <a:stretch/>
        </p:blipFill>
        <p:spPr>
          <a:xfrm>
            <a:off x="1692360" y="5300640"/>
            <a:ext cx="7127640" cy="1398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0" y="36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8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8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8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8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8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6624720" cy="4970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-114480" y="5896080"/>
            <a:ext cx="90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صوره توضح الاعراض التي تسببها اكاسيد الكبريت على النب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2:47:48Z</dcterms:created>
  <dc:creator>HELP</dc:creator>
  <dc:description/>
  <dc:language>en-US</dc:language>
  <cp:lastModifiedBy>Maha Ananmi</cp:lastModifiedBy>
  <dcterms:modified xsi:type="dcterms:W3CDTF">2009-12-07T15:18:07Z</dcterms:modified>
  <cp:revision>17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53552022653FE48B8D1623A866C89FF</vt:lpwstr>
  </property>
  <property fmtid="{D5CDD505-2E9C-101B-9397-08002B2CF9AE}" pid="3" name="Order">
    <vt:lpwstr>40300.000000000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TemplateUrl">
    <vt:lpwstr/>
  </property>
  <property fmtid="{D5CDD505-2E9C-101B-9397-08002B2CF9AE}" pid="7" name="_SharedFileIndex">
    <vt:lpwstr/>
  </property>
  <property fmtid="{D5CDD505-2E9C-101B-9397-08002B2CF9AE}" pid="8" name="_SourceUrl">
    <vt:lpwstr/>
  </property>
  <property fmtid="{D5CDD505-2E9C-101B-9397-08002B2CF9AE}" pid="9" name="xd_ProgID">
    <vt:lpwstr/>
  </property>
  <property fmtid="{D5CDD505-2E9C-101B-9397-08002B2CF9AE}" pid="10" name="xd_Signature">
    <vt:lpwstr/>
  </property>
</Properties>
</file>