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6A6-C07F-49D2-9458-F0E7DC70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F60-1ED9-4EF6-AD05-8F0EE745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394-B314-4C6C-AB59-BF0CEBF3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5E1-9D8C-4C74-8C03-683759E7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E1B1-EC1A-420A-9325-77199CCB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46E8-2E01-461A-B7DE-DAB5AA09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13DF-EE1A-49B8-A90C-2DC5F1BF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D60F-9EE7-496F-883F-BDC123DA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9F7A-0E20-497A-9269-FEFBCE06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28B4-F097-4323-805B-511FA308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1963-C683-4FC1-ADE4-D74D85F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4FC-C8E3-4371-A717-53D38F4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379F-227D-4F0B-8858-C91799C6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C465-54D1-4026-A131-43646023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1BC4-855A-4A09-90E0-7F4AF217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BD21-DBC7-4F3D-B76D-3EA97FD6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EFE8-969B-4323-A45F-7E140884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E0C-8EBD-4767-B431-E8165829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F4C-17C1-41EC-BD15-03D67C6E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BC4-FAEC-4126-9CCE-90E95396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7B6-B3DC-4AE1-A29F-BB01B983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976-7F92-4E9E-9BE4-445E7B6D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02B-64B6-4BD1-BBE6-31999F0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30A-CD8A-41CF-8F92-3FD215E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cce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C958-BB14-426E-8FFF-55B4E76C07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33cc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cce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8375-7A35-459B-9437-B1090B0C1189}" type="slidenum">
              <a:rPr b="0" lang="en-US" sz="1400" spc="-1" strike="noStrike">
                <a:solidFill>
                  <a:srgbClr val="0000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1850" TargetMode="External"/><Relationship Id="rId2" Type="http://schemas.openxmlformats.org/officeDocument/2006/relationships/hyperlink" Target="http://en.wikipedia.org/wiki/Charles_&#201;douard_Brown-Sequard" TargetMode="External"/><Relationship Id="rId3" Type="http://schemas.openxmlformats.org/officeDocument/2006/relationships/hyperlink" Target="http://en.wikipedia.org/wiki/Charles_&#201;douard_Brown-Sequard" TargetMode="External"/><Relationship Id="rId4" Type="http://schemas.openxmlformats.org/officeDocument/2006/relationships/hyperlink" Target="http://en.wikipedia.org/wiki/Charles_&#201;douard_Brown-Sequard" TargetMode="External"/><Relationship Id="rId5" Type="http://schemas.openxmlformats.org/officeDocument/2006/relationships/hyperlink" Target="http://en.wikipedia.org/wiki/Charles_&#201;douard_Brown-Sequard" TargetMode="External"/><Relationship Id="rId6" Type="http://schemas.openxmlformats.org/officeDocument/2006/relationships/hyperlink" Target="http://en.wikipedia.org/wiki/Paralysis" TargetMode="External"/><Relationship Id="rId7" Type="http://schemas.openxmlformats.org/officeDocument/2006/relationships/hyperlink" Target="http://en.wikipedia.org/wiki/Ataxia" TargetMode="External"/><Relationship Id="rId8" Type="http://schemas.openxmlformats.org/officeDocument/2006/relationships/hyperlink" Target="http://en.wikipedia.org/wiki/Spinal_cord" TargetMode="External"/><Relationship Id="rId9" Type="http://schemas.openxmlformats.org/officeDocument/2006/relationships/hyperlink" Target="http://en.wikipedia.org/wiki/Proprioception" TargetMode="Externa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kin" TargetMode="External"/><Relationship Id="rId2" Type="http://schemas.openxmlformats.org/officeDocument/2006/relationships/hyperlink" Target="http://en.wikipedia.org/wiki/Dorsal_root" TargetMode="External"/><Relationship Id="rId3" Type="http://schemas.openxmlformats.org/officeDocument/2006/relationships/hyperlink" Target="http://en.wikipedia.org/wiki/Spinal_nerve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Perception" TargetMode="External"/><Relationship Id="rId3" Type="http://schemas.openxmlformats.org/officeDocument/2006/relationships/hyperlink" Target="http://en.wikipedia.org/wiki/Motoneuron" TargetMode="External"/><Relationship Id="rId4" Type="http://schemas.openxmlformats.org/officeDocument/2006/relationships/hyperlink" Target="http://en.wikipedia.org/wiki/Neural_pathway" TargetMode="External"/><Relationship Id="rId5" Type="http://schemas.openxmlformats.org/officeDocument/2006/relationships/hyperlink" Target="http://en.wikipedia.org/wiki/Motor_cortex" TargetMode="External"/><Relationship Id="rId6" Type="http://schemas.openxmlformats.org/officeDocument/2006/relationships/hyperlink" Target="http://en.wikipedia.org/wiki/Muscle" TargetMode="External"/><Relationship Id="rId7" Type="http://schemas.openxmlformats.org/officeDocument/2006/relationships/hyperlink" Target="http://en.wikipedia.org/wiki/Spinocerebellar_tract" TargetMode="External"/><Relationship Id="rId8" Type="http://schemas.openxmlformats.org/officeDocument/2006/relationships/hyperlink" Target="http://en.wikipedia.org/wiki/Spinocerebellar_tract" TargetMode="External"/><Relationship Id="rId9" Type="http://schemas.openxmlformats.org/officeDocument/2006/relationships/hyperlink" Target="http://en.wikipedia.org/wiki/Proprioception" TargetMode="External"/><Relationship Id="rId10" Type="http://schemas.openxmlformats.org/officeDocument/2006/relationships/hyperlink" Target="http://en.wikipedia.org/wiki/Language_processing" TargetMode="External"/><Relationship Id="rId11" Type="http://schemas.openxmlformats.org/officeDocument/2006/relationships/hyperlink" Target="http://en.wikipedia.org/wiki/Selective_attention" TargetMode="Externa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ay_matter" TargetMode="External"/><Relationship Id="rId2" Type="http://schemas.openxmlformats.org/officeDocument/2006/relationships/hyperlink" Target="http://en.wikipedia.org/wiki/Cerebrum" TargetMode="External"/><Relationship Id="rId3" Type="http://schemas.openxmlformats.org/officeDocument/2006/relationships/hyperlink" Target="http://en.wikipedia.org/wiki/Arbor_vitae" TargetMode="External"/><Relationship Id="rId4" Type="http://schemas.openxmlformats.org/officeDocument/2006/relationships/hyperlink" Target="http://en.wikipedia.org/wiki/Tree_of_Life" TargetMode="External"/><Relationship Id="rId5" Type="http://schemas.openxmlformats.org/officeDocument/2006/relationships/hyperlink" Target="http://en.wikipedia.org/wiki/Hemisphere" TargetMode="External"/><Relationship Id="rId6" Type="http://schemas.openxmlformats.org/officeDocument/2006/relationships/hyperlink" Target="http://en.wikipedia.org/wiki/Telencephalon" TargetMode="External"/><Relationship Id="rId7" Type="http://schemas.openxmlformats.org/officeDocument/2006/relationships/hyperlink" Target="http://en.wikipedia.org/wiki/Cerebellar_vermis" TargetMode="External"/><Relationship Id="rId8" Type="http://schemas.openxmlformats.org/officeDocument/2006/relationships/hyperlink" Target="http://en.wikipedia.org/wiki/Cerebellar_vermis" TargetMode="External"/><Relationship Id="rId9" Type="http://schemas.openxmlformats.org/officeDocument/2006/relationships/hyperlink" Target="http://en.wikipedia.org/wiki/Cerebellar_vermis" TargetMode="External"/><Relationship Id="rId10" Type="http://schemas.openxmlformats.org/officeDocument/2006/relationships/hyperlink" Target="http://en.wikipedia.org/wiki/Worm" TargetMode="External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estibular_system" TargetMode="External"/><Relationship Id="rId2" Type="http://schemas.openxmlformats.org/officeDocument/2006/relationships/hyperlink" Target="http://en.wikipedia.org/wiki/Eye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pinocerebellar_tract" TargetMode="External"/><Relationship Id="rId2" Type="http://schemas.openxmlformats.org/officeDocument/2006/relationships/hyperlink" Target="http://en.wikipedia.org/wiki/Spinocerebellar_tract" TargetMode="External"/><Relationship Id="rId3" Type="http://schemas.openxmlformats.org/officeDocument/2006/relationships/hyperlink" Target="http://en.wikipedia.org/wiki/Muscle_tone" TargetMode="External"/><Relationship Id="rId4" Type="http://schemas.openxmlformats.org/officeDocument/2006/relationships/hyperlink" Target="http://en.wikipedia.org/wiki/Posture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otor_cortex" TargetMode="External"/><Relationship Id="rId2" Type="http://schemas.openxmlformats.org/officeDocument/2006/relationships/hyperlink" Target="http://en.wikipedia.org/wiki/Parietal_lobe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nhibitory_postsynaptic_potential" TargetMode="External"/><Relationship Id="rId2" Type="http://schemas.openxmlformats.org/officeDocument/2006/relationships/hyperlink" Target="http://en.wikipedia.org/wiki/GABA" TargetMode="External"/><Relationship Id="rId3" Type="http://schemas.openxmlformats.org/officeDocument/2006/relationships/hyperlink" Target="http://en.wikipedia.org/wiki/Excitatory_postsynaptic_potential" TargetMode="External"/><Relationship Id="rId4" Type="http://schemas.openxmlformats.org/officeDocument/2006/relationships/hyperlink" Target="http://en.wikipedia.org/wiki/Glutamate" TargetMode="External"/><Relationship Id="rId5" Type="http://schemas.openxmlformats.org/officeDocument/2006/relationships/hyperlink" Target="http://en.wikipedia.org/wiki/Mossy_fiber" TargetMode="External"/><Relationship Id="rId6" Type="http://schemas.openxmlformats.org/officeDocument/2006/relationships/hyperlink" Target="http://en.wikipedia.org/wiki/Mossy_fiber" TargetMode="External"/><Relationship Id="rId7" Type="http://schemas.openxmlformats.org/officeDocument/2006/relationships/hyperlink" Target="http://en.wikipedia.org/wiki/Mossy_fiber" TargetMode="External"/><Relationship Id="rId8" Type="http://schemas.openxmlformats.org/officeDocument/2006/relationships/hyperlink" Target="http://en.wikipedia.org/wiki/Vestibular_nuclei" TargetMode="External"/><Relationship Id="rId9" Type="http://schemas.openxmlformats.org/officeDocument/2006/relationships/hyperlink" Target="http://en.wikipedia.org/wiki/Vestibular_nuclei" TargetMode="External"/><Relationship Id="rId10" Type="http://schemas.openxmlformats.org/officeDocument/2006/relationships/hyperlink" Target="http://en.wikipedia.org/wiki/Vestibular_nuclei" TargetMode="External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nemonic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ntal_illness" TargetMode="External"/><Relationship Id="rId2" Type="http://schemas.openxmlformats.org/officeDocument/2006/relationships/hyperlink" Target="http://en.wikipedia.org/wiki/Mental_illness" TargetMode="External"/><Relationship Id="rId3" Type="http://schemas.openxmlformats.org/officeDocument/2006/relationships/hyperlink" Target="http://en.wikipedia.org/wiki/Dyslexia" TargetMode="External"/><Relationship Id="rId4" Type="http://schemas.openxmlformats.org/officeDocument/2006/relationships/hyperlink" Target="http://en.wikipedia.org/wiki/Schizophrenia" TargetMode="External"/><Relationship Id="rId5" Type="http://schemas.openxmlformats.org/officeDocument/2006/relationships/hyperlink" Target="http://en.wikipedia.org/wiki/Autism" TargetMode="External"/><Relationship Id="rId6" Type="http://schemas.openxmlformats.org/officeDocument/2006/relationships/hyperlink" Target="http://en.wikipedia.org/wiki/Lesion" TargetMode="External"/><Relationship Id="rId7" Type="http://schemas.openxmlformats.org/officeDocument/2006/relationships/hyperlink" Target="http://en.wikipedia.org/wiki/Dysmetria" TargetMode="External"/><Relationship Id="rId8" Type="http://schemas.openxmlformats.org/officeDocument/2006/relationships/hyperlink" Target="http://en.wikipedia.org/wiki/Intoxication" TargetMode="External"/><Relationship Id="rId9" Type="http://schemas.openxmlformats.org/officeDocument/2006/relationships/hyperlink" Target="http://en.wikipedia.org/wiki/Alcohol_abuse" TargetMode="External"/><Relationship Id="rId10" Type="http://schemas.openxmlformats.org/officeDocument/2006/relationships/hyperlink" Target="http://en.wikipedia.org/wiki/Thiamine" TargetMode="External"/><Relationship Id="rId11" Type="http://schemas.openxmlformats.org/officeDocument/2006/relationships/hyperlink" Target="http://en.wikipedia.org/wiki/Nystagmus" TargetMode="External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in" TargetMode="External"/><Relationship Id="rId2" Type="http://schemas.openxmlformats.org/officeDocument/2006/relationships/hyperlink" Target="http://en.wikipedia.org/wiki/Spinal_cord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ostral" TargetMode="External"/><Relationship Id="rId2" Type="http://schemas.openxmlformats.org/officeDocument/2006/relationships/hyperlink" Target="http://en.wikipedia.org/wiki/Medulla_oblongata" TargetMode="External"/><Relationship Id="rId3" Type="http://schemas.openxmlformats.org/officeDocument/2006/relationships/hyperlink" Target="http://en.wikipedia.org/wiki/Caudal" TargetMode="External"/><Relationship Id="rId4" Type="http://schemas.openxmlformats.org/officeDocument/2006/relationships/hyperlink" Target="http://en.wikipedia.org/wiki/Midbrain" TargetMode="External"/><Relationship Id="rId5" Type="http://schemas.openxmlformats.org/officeDocument/2006/relationships/hyperlink" Target="http://en.wikipedia.org/wiki/Ventral" TargetMode="External"/><Relationship Id="rId6" Type="http://schemas.openxmlformats.org/officeDocument/2006/relationships/hyperlink" Target="http://en.wikipedia.org/wiki/Cerebellum" TargetMode="External"/><Relationship Id="rId7" Type="http://schemas.openxmlformats.org/officeDocument/2006/relationships/hyperlink" Target="http://en.wikipedia.org/wiki/Relay" TargetMode="External"/><Relationship Id="rId8" Type="http://schemas.openxmlformats.org/officeDocument/2006/relationships/hyperlink" Target="http://en.wikipedia.org/wiki/Sense" TargetMode="External"/><Relationship Id="rId9" Type="http://schemas.openxmlformats.org/officeDocument/2006/relationships/hyperlink" Target="http://en.wikipedia.org/wiki/Information" TargetMode="External"/><Relationship Id="rId10" Type="http://schemas.openxmlformats.org/officeDocument/2006/relationships/hyperlink" Target="http://en.wikipedia.org/wiki/Cerebellum" TargetMode="External"/><Relationship Id="rId11" Type="http://schemas.openxmlformats.org/officeDocument/2006/relationships/hyperlink" Target="http://en.wikipedia.org/wiki/Telencephalon" TargetMode="External"/><Relationship Id="rId12" Type="http://schemas.openxmlformats.org/officeDocument/2006/relationships/hyperlink" Target="http://en.wikipedia.org/wiki/Dream" TargetMode="External"/><Relationship Id="rId13" Type="http://schemas.openxmlformats.org/officeDocument/2006/relationships/hyperlink" Target="http://en.wikipedia.org/wiki/Control_of_respiration" TargetMode="External"/><Relationship Id="rId14" Type="http://schemas.openxmlformats.org/officeDocument/2006/relationships/hyperlink" Target="http://en.wikipedia.org/wiki/Apneustic_center" TargetMode="External"/><Relationship Id="rId15" Type="http://schemas.openxmlformats.org/officeDocument/2006/relationships/hyperlink" Target="http://en.wikipedia.org/wiki/Apneustic_center" TargetMode="External"/><Relationship Id="rId16" Type="http://schemas.openxmlformats.org/officeDocument/2006/relationships/hyperlink" Target="http://en.wikipedia.org/wiki/Pneumotaxic_center" TargetMode="External"/><Relationship Id="rId17" Type="http://schemas.openxmlformats.org/officeDocument/2006/relationships/hyperlink" Target="http://en.wikipedia.org/wiki/Pneumotaxic_center" TargetMode="External"/><Relationship Id="rId18" Type="http://schemas.openxmlformats.org/officeDocument/2006/relationships/hyperlink" Target="http://en.wikipedia.org/wiki/Cranial_nerve" TargetMode="External"/><Relationship Id="rId19" Type="http://schemas.openxmlformats.org/officeDocument/2006/relationships/hyperlink" Target="http://en.wikipedia.org/wiki/Trigeminal_nerve" TargetMode="External"/><Relationship Id="rId20" Type="http://schemas.openxmlformats.org/officeDocument/2006/relationships/hyperlink" Target="http://en.wikipedia.org/wiki/Abducens_nucleus" TargetMode="External"/><Relationship Id="rId21" Type="http://schemas.openxmlformats.org/officeDocument/2006/relationships/hyperlink" Target="http://en.wikipedia.org/wiki/Abducens_nucleus" TargetMode="External"/><Relationship Id="rId22" Type="http://schemas.openxmlformats.org/officeDocument/2006/relationships/hyperlink" Target="http://en.wikipedia.org/wiki/Vestibulocochlear_nerve" TargetMode="External"/><Relationship Id="rId23" Type="http://schemas.openxmlformats.org/officeDocument/2006/relationships/hyperlink" Target="http://en.wikipedia.org/wiki/Facial_nerve_nucleus" TargetMode="External"/><Relationship Id="rId2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pinal_cord" TargetMode="External"/><Relationship Id="rId2" Type="http://schemas.openxmlformats.org/officeDocument/2006/relationships/hyperlink" Target="http://en.wikipedia.org/wiki/Pons" TargetMode="External"/><Relationship Id="rId3" Type="http://schemas.openxmlformats.org/officeDocument/2006/relationships/hyperlink" Target="http://en.wikipedia.org/wiki/Cerebellum" TargetMode="External"/><Relationship Id="rId4" Type="http://schemas.openxmlformats.org/officeDocument/2006/relationships/hyperlink" Target="http://en.wikipedia.org/wiki/Autonomic_nervous_system" TargetMode="External"/><Relationship Id="rId5" Type="http://schemas.openxmlformats.org/officeDocument/2006/relationships/hyperlink" Target="http://en.wikipedia.org/wiki/Respiration_%28physiology%29" TargetMode="External"/><Relationship Id="rId6" Type="http://schemas.openxmlformats.org/officeDocument/2006/relationships/hyperlink" Target="http://en.wikipedia.org/wiki/Blood_pressure" TargetMode="External"/><Relationship Id="rId7" Type="http://schemas.openxmlformats.org/officeDocument/2006/relationships/hyperlink" Target="http://en.wikipedia.org/wiki/Heart_rate" TargetMode="External"/><Relationship Id="rId8" Type="http://schemas.openxmlformats.org/officeDocument/2006/relationships/hyperlink" Target="http://en.wikipedia.org/wiki/Reflex_arcs" TargetMode="External"/><Relationship Id="rId9" Type="http://schemas.openxmlformats.org/officeDocument/2006/relationships/hyperlink" Target="http://en.wikipedia.org/wiki/Vomiting" TargetMode="External"/><Relationship Id="rId10" Type="http://schemas.openxmlformats.org/officeDocument/2006/relationships/hyperlink" Target="http://en.wikipedia.org/wiki/Brain" TargetMode="External"/><Relationship Id="rId11" Type="http://schemas.openxmlformats.org/officeDocument/2006/relationships/hyperlink" Target="http://en.wikipedia.org/wiki/Spinal_cord" TargetMode="External"/><Relationship Id="rId12" Type="http://schemas.openxmlformats.org/officeDocument/2006/relationships/hyperlink" Target="http://en.wikipedia.org/wiki/Hypoglossal_nerve" TargetMode="External"/><Relationship Id="rId13" Type="http://schemas.openxmlformats.org/officeDocument/2006/relationships/hyperlink" Target="http://en.wikipedia.org/wiki/Glossopharyngeal_nerve" TargetMode="External"/><Relationship Id="rId14" Type="http://schemas.openxmlformats.org/officeDocument/2006/relationships/hyperlink" Target="http://en.wikipedia.org/wiki/Vagus_nerve" TargetMode="External"/><Relationship Id="rId15" Type="http://schemas.openxmlformats.org/officeDocument/2006/relationships/hyperlink" Target="http://en.wikipedia.org/wiki/Vagus_nerve" TargetMode="External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lking" TargetMode="External"/><Relationship Id="rId2" Type="http://schemas.openxmlformats.org/officeDocument/2006/relationships/hyperlink" Target="http://en.wikipedia.org/wiki/Sleeping" TargetMode="External"/><Relationship Id="rId3" Type="http://schemas.openxmlformats.org/officeDocument/2006/relationships/hyperlink" Target="http://en.wikipedia.org/wiki/Phylogenetically" TargetMode="External"/><Relationship Id="rId4" Type="http://schemas.openxmlformats.org/officeDocument/2006/relationships/hyperlink" Target="http://en.wikipedia.org/wiki/Brain_stem" TargetMode="External"/><Relationship Id="rId5" Type="http://schemas.openxmlformats.org/officeDocument/2006/relationships/hyperlink" Target="http://en.wikipedia.org/wiki/Brain_stem" TargetMode="External"/><Relationship Id="rId6" Type="http://schemas.openxmlformats.org/officeDocument/2006/relationships/hyperlink" Target="http://en.wikipedia.org/wiki/Pons" TargetMode="External"/><Relationship Id="rId7" Type="http://schemas.openxmlformats.org/officeDocument/2006/relationships/hyperlink" Target="http://en.wikipedia.org/wiki/Reticular_activating_system" TargetMode="External"/><Relationship Id="rId8" Type="http://schemas.openxmlformats.org/officeDocument/2006/relationships/hyperlink" Target="http://en.wikipedia.org/wiki/Reticular_activating_system" TargetMode="External"/><Relationship Id="rId9" Type="http://schemas.openxmlformats.org/officeDocument/2006/relationships/hyperlink" Target="http://en.wikipedia.org/wiki/Reticular_activating_system" TargetMode="External"/><Relationship Id="rId10" Type="http://schemas.openxmlformats.org/officeDocument/2006/relationships/hyperlink" Target="http://en.wikipedia.org/wiki/Reticular_activating_system" TargetMode="External"/><Relationship Id="rId11" Type="http://schemas.openxmlformats.org/officeDocument/2006/relationships/hyperlink" Target="http://en.wikipedia.org/wiki/Reticular_activating_system" TargetMode="External"/><Relationship Id="rId12" Type="http://schemas.openxmlformats.org/officeDocument/2006/relationships/hyperlink" Target="http://en.wikipedia.org/wiki/Thalamus" TargetMode="External"/><Relationship Id="rId13" Type="http://schemas.openxmlformats.org/officeDocument/2006/relationships/hyperlink" Target="http://en.wikipedia.org/wiki/Hypothalamus" TargetMode="External"/><Relationship Id="rId14" Type="http://schemas.openxmlformats.org/officeDocument/2006/relationships/hyperlink" Target="http://en.wikipedia.org/wiki/Cortex" TargetMode="External"/><Relationship Id="rId15" Type="http://schemas.openxmlformats.org/officeDocument/2006/relationships/hyperlink" Target="http://en.wikipedia.org/wiki/Cerebellum" TargetMode="External"/><Relationship Id="rId16" Type="http://schemas.openxmlformats.org/officeDocument/2006/relationships/hyperlink" Target="http://en.wikipedia.org/wiki/Sensory_nerve" TargetMode="External"/><Relationship Id="rId17" Type="http://schemas.openxmlformats.org/officeDocument/2006/relationships/hyperlink" Target="http://en.wikipedia.org/wiki/Sensory_nerve" TargetMode="External"/><Relationship Id="rId18" Type="http://schemas.openxmlformats.org/officeDocument/2006/relationships/hyperlink" Target="http://en.wikipedia.org/wiki/Sensory_nerve" TargetMode="External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pine_%28anatomy%29" TargetMode="External"/><Relationship Id="rId2" Type="http://schemas.openxmlformats.org/officeDocument/2006/relationships/hyperlink" Target="http://en.wikipedia.org/wiki/Fourth_ventricle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leep" TargetMode="External"/><Relationship Id="rId2" Type="http://schemas.openxmlformats.org/officeDocument/2006/relationships/hyperlink" Target="http://en.wikipedia.org/wiki/Sleeping" TargetMode="External"/><Relationship Id="rId3" Type="http://schemas.openxmlformats.org/officeDocument/2006/relationships/hyperlink" Target="http://en.wikipedia.org/wiki/Walking" TargetMode="External"/><Relationship Id="rId4" Type="http://schemas.openxmlformats.org/officeDocument/2006/relationships/hyperlink" Target="http://en.wikipedia.org/wiki/Eating" TargetMode="External"/><Relationship Id="rId5" Type="http://schemas.openxmlformats.org/officeDocument/2006/relationships/hyperlink" Target="http://en.wikipedia.org/wiki/Urination" TargetMode="External"/><Relationship Id="rId6" Type="http://schemas.openxmlformats.org/officeDocument/2006/relationships/hyperlink" Target="http://en.wikipedia.org/wiki/Defecation" TargetMode="External"/><Relationship Id="rId7" Type="http://schemas.openxmlformats.org/officeDocument/2006/relationships/hyperlink" Target="http://en.wikipedia.org/wiki/Sexual_activity" TargetMode="External"/><Relationship Id="rId8" Type="http://schemas.openxmlformats.org/officeDocument/2006/relationships/hyperlink" Target="http://en.wikipedia.org/wiki/Introversion_and_extroversion" TargetMode="External"/><Relationship Id="rId9" Type="http://schemas.openxmlformats.org/officeDocument/2006/relationships/hyperlink" Target="http://en.wikipedia.org/wiki/Introversion_and_extroversion" TargetMode="External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erebrospinal_fluid" TargetMode="External"/><Relationship Id="rId2" Type="http://schemas.openxmlformats.org/officeDocument/2006/relationships/hyperlink" Target="http://en.wikipedia.org/wiki/Subarachnoid_space" TargetMode="External"/><Relationship Id="rId3" Type="http://schemas.openxmlformats.org/officeDocument/2006/relationships/hyperlink" Target="http://en.wikipedia.org/wiki/Subarachnoid_space" TargetMode="External"/><Relationship Id="rId4" Type="http://schemas.openxmlformats.org/officeDocument/2006/relationships/hyperlink" Target="http://en.wikipedia.org/wiki/Spinal_nerve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ertebra" TargetMode="External"/><Relationship Id="rId2" Type="http://schemas.openxmlformats.org/officeDocument/2006/relationships/hyperlink" Target="http://en.wikipedia.org/wiki/Conus_medullaris" TargetMode="External"/><Relationship Id="rId3" Type="http://schemas.openxmlformats.org/officeDocument/2006/relationships/hyperlink" Target="http://en.wikipedia.org/wiki/Conus_medullaris" TargetMode="External"/><Relationship Id="rId4" Type="http://schemas.openxmlformats.org/officeDocument/2006/relationships/hyperlink" Target="http://en.wikipedia.org/wiki/Conus_medullaris" TargetMode="External"/><Relationship Id="rId5" Type="http://schemas.openxmlformats.org/officeDocument/2006/relationships/hyperlink" Target="http://en.wikipedia.org/wiki/Cauda_equina" TargetMode="External"/><Relationship Id="rId6" Type="http://schemas.openxmlformats.org/officeDocument/2006/relationships/hyperlink" Target="http://en.wikipedia.org/wiki/Cauda_equina" TargetMode="External"/><Relationship Id="rId7" Type="http://schemas.openxmlformats.org/officeDocument/2006/relationships/hyperlink" Target="http://en.wikipedia.org/wiki/Cauda_equina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pine_%28anatomy%29" TargetMode="External"/><Relationship Id="rId2" Type="http://schemas.openxmlformats.org/officeDocument/2006/relationships/hyperlink" Target="http://en.wikipedia.org/wiki/Horse" TargetMode="External"/><Relationship Id="rId3" Type="http://schemas.openxmlformats.org/officeDocument/2006/relationships/hyperlink" Target="http://en.wikipedia.org/wiki/Cerebral_spinal_fluid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xon" TargetMode="External"/><Relationship Id="rId2" Type="http://schemas.openxmlformats.org/officeDocument/2006/relationships/hyperlink" Target="http://en.wikipedia.org/wiki/Cerebral_cortex" TargetMode="External"/><Relationship Id="rId3" Type="http://schemas.openxmlformats.org/officeDocument/2006/relationships/hyperlink" Target="http://en.wikipedia.org/wiki/Brain" TargetMode="External"/><Relationship Id="rId4" Type="http://schemas.openxmlformats.org/officeDocument/2006/relationships/hyperlink" Target="http://en.wikipedia.org/wiki/Spinal_cord" TargetMode="External"/><Relationship Id="rId5" Type="http://schemas.openxmlformats.org/officeDocument/2006/relationships/hyperlink" Target="http://en.wikipedia.org/wiki/Axon" TargetMode="External"/><Relationship Id="rId6" Type="http://schemas.openxmlformats.org/officeDocument/2006/relationships/hyperlink" Target="http://en.wikipedia.org/wiki/Lateral_corticospinal_tract" TargetMode="External"/><Relationship Id="rId7" Type="http://schemas.openxmlformats.org/officeDocument/2006/relationships/hyperlink" Target="http://en.wikipedia.org/wiki/Lateral_corticospinal_tract" TargetMode="External"/><Relationship Id="rId8" Type="http://schemas.openxmlformats.org/officeDocument/2006/relationships/hyperlink" Target="http://en.wikipedia.org/wiki/Lateral_corticospinal_tract" TargetMode="External"/><Relationship Id="rId9" Type="http://schemas.openxmlformats.org/officeDocument/2006/relationships/hyperlink" Target="http://en.wikipedia.org/wiki/Medial_corticospinal_tract" TargetMode="External"/><Relationship Id="rId10" Type="http://schemas.openxmlformats.org/officeDocument/2006/relationships/hyperlink" Target="http://en.wikipedia.org/wiki/Medial_corticospinal_tract" TargetMode="External"/><Relationship Id="rId11" Type="http://schemas.openxmlformats.org/officeDocument/2006/relationships/hyperlink" Target="http://en.wikipedia.org/wiki/Medial_corticospinal_tract" TargetMode="External"/><Relationship Id="rId12" Type="http://schemas.openxmlformats.org/officeDocument/2006/relationships/hyperlink" Target="http://en.wikipedia.org/wiki/Medial_corticospinal_tract" TargetMode="External"/><Relationship Id="rId13" Type="http://schemas.openxmlformats.org/officeDocument/2006/relationships/hyperlink" Target="http://en.wikipedia.org/wiki/Medial_corticospinal_tract" TargetMode="External"/><Relationship Id="rId14" Type="http://schemas.openxmlformats.org/officeDocument/2006/relationships/hyperlink" Target="http://en.wikipedia.org/wiki/Medial_corticospinal_tract" TargetMode="External"/><Relationship Id="rId15" Type="http://schemas.openxmlformats.org/officeDocument/2006/relationships/hyperlink" Target="http://en.wikipedia.org/wiki/Motor_cortex" TargetMode="External"/><Relationship Id="rId16" Type="http://schemas.openxmlformats.org/officeDocument/2006/relationships/hyperlink" Target="http://en.wikipedia.org/wiki/Lateral_corticospinal_tract" TargetMode="External"/><Relationship Id="rId17" Type="http://schemas.openxmlformats.org/officeDocument/2006/relationships/hyperlink" Target="http://en.wikipedia.org/wiki/Lateral_corticospinal_tract" TargetMode="External"/><Relationship Id="rId18" Type="http://schemas.openxmlformats.org/officeDocument/2006/relationships/hyperlink" Target="http://en.wikipedia.org/wiki/Lateral_corticospinal_tract" TargetMode="External"/><Relationship Id="rId19" Type="http://schemas.openxmlformats.org/officeDocument/2006/relationships/hyperlink" Target="http://en.wikipedia.org/wiki/Medulla_oblongata" TargetMode="External"/><Relationship Id="rId20" Type="http://schemas.openxmlformats.org/officeDocument/2006/relationships/hyperlink" Target="http://en.wikipedia.org/wiki/Pyramidal_decussation" TargetMode="External"/><Relationship Id="rId21" Type="http://schemas.openxmlformats.org/officeDocument/2006/relationships/hyperlink" Target="http://en.wikipedia.org/wiki/Pyramidal_decussation" TargetMode="External"/><Relationship Id="rId22" Type="http://schemas.openxmlformats.org/officeDocument/2006/relationships/hyperlink" Target="http://en.wikipedia.org/wiki/Medial_corticospinal_tract" TargetMode="External"/><Relationship Id="rId23" Type="http://schemas.openxmlformats.org/officeDocument/2006/relationships/hyperlink" Target="http://en.wikipedia.org/wiki/Spinal_cord" TargetMode="External"/><Relationship Id="rId24" Type="http://schemas.openxmlformats.org/officeDocument/2006/relationships/hyperlink" Target="http://en.wikipedia.org/wiki/Synapse" TargetMode="External"/><Relationship Id="rId25" Type="http://schemas.openxmlformats.org/officeDocument/2006/relationships/hyperlink" Target="http://en.wikipedia.org/wiki/Ventral_horn" TargetMode="External"/><Relationship Id="rId26" Type="http://schemas.openxmlformats.org/officeDocument/2006/relationships/hyperlink" Target="http://en.wikipedia.org/wiki/Ventral_horn" TargetMode="External"/><Relationship Id="rId27" Type="http://schemas.openxmlformats.org/officeDocument/2006/relationships/hyperlink" Target="http://en.wikipedia.org/wiki/Ventral_horn" TargetMode="External"/><Relationship Id="rId2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eural_network" TargetMode="External"/><Relationship Id="rId2" Type="http://schemas.openxmlformats.org/officeDocument/2006/relationships/hyperlink" Target="http://en.wikipedia.org/wiki/Human_brain" TargetMode="External"/><Relationship Id="rId3" Type="http://schemas.openxmlformats.org/officeDocument/2006/relationships/hyperlink" Target="http://en.wikipedia.org/wiki/Motor_syste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820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Tahoma"/>
              </a:rPr>
              <a:t>Function of the spinal cord, cerebellum and brainstem</a:t>
            </a:r>
            <a:endParaRPr b="0" lang="en-US" sz="40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Romana Šlamberová, MD Ph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Department of Normal, Pathological and Clinical Phys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Spinal shock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phenomena surrounding transection of the spinal cord that leads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loss or depression of all or most spinal reflex a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w the level of a spinal les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lesion abov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3-C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no bree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riod of spinal shock can last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from hours to 6 wee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e acute st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will be hypotone paralysis, areflexia, loss of sensory function and dysautonomia. Patient shows retention of the bladder due to the imparied reflex of emptying the bladd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post acute st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first autonomic reflexes come to normal. Patient shows autonomic dysreflexia if the lesion level is above T6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the chronic st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will be hypertone paralysis, hyper-reflexia, spastic-reflex bladde. Patient at this stage shows incontinen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Brown-Sequard syndrome</a:t>
            </a:r>
            <a:r>
              <a:rPr b="0" lang="cs-CZ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was first described in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185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the British neurologist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Charles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Édouard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 Brown-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Sequa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817-1896), who studied the anatomy and physiology of the spinal co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oss of mo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or abilit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para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atax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nd sensation caused by the lateral hemisection of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spinal c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hemisection of the cord results in a lesion of each of the three main neural system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rticospinal lesion produces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ipsilateral spastic paraly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esion to fasciculus gracilis or fasciculus cuneus results in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ipsilateral loss of vibration and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proprio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position sense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oss of the spinothalamic tract leads to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pain and temperature sens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eing lost from the </a:t>
            </a:r>
            <a:r>
              <a:rPr b="0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contralateral side beginning one or two segments belo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lesio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Tactile sens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t affected much (both crossed and uncrossed pathway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ve the level of lesion –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hyperesthesi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creased sensation) – irritation of dorsal hor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Dermatomic area (dermatome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n area of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k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is supplied by a single pair of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dorsal roo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dy can be divided into regions that are mainly supplied by a single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spinal ner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8 cervic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one for the head, and one for each cervical vertebra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2 thorac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5 lumb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5 sacr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pinal nerv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nervates the body in a patterned form. Along the thorax and abdomen it is simply like a stack of discs forming a human, each supplied by a different spinal ner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ong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</a:rPr>
              <a:t>the arms and the leg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pattern is different: the dermatomes run longitudinally along the limb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</a:rPr>
              <a:t>Clinical significanc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rmatomes are useful in neurology for finding the site of damage to the spin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rpes zoster infections (shingles) can reveal dermatomic area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Dermatom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6012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um (1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rebell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Lat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"little brain") plays an important role in the integration of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ensory per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mo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utpu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neural path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 the cerebellum with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motor cort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which sends information to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musc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using them to move—and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spinocerebellar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which provides feedback on the position of the body in space (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proprio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erebellum integrates these pathways, using the constant feedback on body position to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fine-tune motor mov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, recent brain imaging studies using functional magnetic resonance imaging (fMRI) show that the cerebellum is important for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language process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selective atten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um (2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rebellum contains similar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tter divisions as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cerebr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 white matter is known as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arbor vita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Tree of Lif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due to its branc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rebellum is divided into two larg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hemisphe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much like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cerebr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contain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t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maller lobu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three phylogenetic divisions within the cerebellum: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archicerebell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the flocculonodular lobe)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paleocerebell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nterior lobe)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neocerebell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posterior lobe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rebellum can also be divided by function: The midline division is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cerebellar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verm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wo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)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lateral hemisphe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um (3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35640" y="2349360"/>
            <a:ext cx="35193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: Midb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: P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: Medu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: Spinal 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: Fourth ventri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bor vit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chicerebel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leocerebel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ocerebell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Archicerebellum (Vestibulocerebellum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ociated with the flocculonodular lo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ly involved in balance (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vestibul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a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ey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vem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input from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inferior and medial vestibular nucl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s fibers back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vestibular nucle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creating a feedback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stant maintenance of bal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Paleocerebellum (Spinocerebellum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ociated with the anterior lo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its inputs from the dorsal and ventral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pinocerebellar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 tra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which carry information about the position and forces acting on the l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s axonal projections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deep cerebellar nucl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trols proprioception related to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muscle to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maintenance of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pos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Neocerebellum (Cerebrocerebellum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ociated with the posterior lo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s input from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pontocerebellar 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s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deep cerebellar nucl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o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coordin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fine finger movements (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fine move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correction of motor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s in conjunction with the cortical motor centres to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plan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834372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ides from the le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t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g 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pyright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 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was not possible to publish pictures showed at the lecture at our web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Romana Slamberova, MD P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Tahoma"/>
              </a:rPr>
              <a:t>The functional organization (1)</a:t>
            </a:r>
            <a:r>
              <a:rPr b="0" lang="cs-CZ" sz="40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The functional organization (2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m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s its inputs mainly from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spinocerebellar trac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trunk of the bod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on the position and bal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s projections to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the fastigial nucle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erebellum, which then sends output to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vestibular nucle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mediate zone (paravermis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s input from the corticopontocerebellar fibers that originate from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motor cort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receives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sensory feedback from the musc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Control of mus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ateral z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s input from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parietal cort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ia pontocerebellar mossy fi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regarding the location of the body in the worl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rge numbers of feedback circuits allow for the integration of this body position information with indications of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</a:rPr>
              <a:t>muscle position, strength, and spe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ar nuclei (1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</a:rPr>
              <a:t>4 deep cerebellar nuclei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are in the center of the cerebellum, embedded in 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</a:rPr>
              <a:t>white matter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ecei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inhibitor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GABAergic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 inputs from Purkinje cells in the cerebellar corte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excitator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glutamatergic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 inputs from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mossy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fiber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path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ost output fibers of the cerebellum originate from these nucle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ne exception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is that fibers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</a:rPr>
              <a:t>from the flocculonodular lob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synapse directly on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vestibular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nucle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without first passing through the deep cerebellar nucle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ar nuclei (2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erebellar nuclei (3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om lateral to med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four deep cerebellar nuclei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Den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Embolifor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Glob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</a:rPr>
              <a:t>Fastigi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mnem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vice: 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'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od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Dent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uclei are deep within the lateral hemispheres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Embolifo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Glob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uclei are located in the paravermal (intermediate) zone, and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Fastigi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clei are in the verm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l, each pair of deep nuclei is associated with a corresponding region of cerebellar surface anatomy.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Dysfunction of the cerebellum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roblems in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walking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balanc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accurate hand and arm movemen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(ataxia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Neuropsychiatric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 disorder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such as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dyslexia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schizophrenia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autism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ppear to be associated with a deficiency in the cerebellum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tients with cerebellar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lesion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(injuries) typically exhibit "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intention tremor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"—a tremor occurring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during movemen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rather than at rest (as seen in Parkinson's disease)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tients may also show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dysmetria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i.e., an overestimation or underestimation of force, resulting in overshoot or undershoot when reaching for a target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ability to perform rapid alternating movement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 case of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intoxication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: uncoordinated movements, swaying, unstable walking, and a wide gait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hronic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lcohol abus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is also a common cause of cerebellar lesions. Alcohol abuse can lead to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thiamine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deficiency, which in the cerebellum will cause degeneration of the anterior lobe. This degeneration leads to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a wide, staggering gai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but does not affect arm movement or speech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tients with a cerebellar lesion may have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nystagmus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with the fast stroke pointing towards the </a:t>
            </a:r>
            <a:r>
              <a:rPr b="0" lang="en-US" sz="1900" spc="-1" strike="noStrike" u="sng">
                <a:solidFill>
                  <a:srgbClr val="cc0000"/>
                </a:solidFill>
                <a:uFillTx/>
                <a:latin typeface="Tahoma"/>
              </a:rPr>
              <a:t>side of the lesion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Brain stem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4067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ain 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lower part of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djoining and structurally continuous with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pinal c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s of brain stem: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p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medulla oblong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sometim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mid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Pons Varolii</a:t>
            </a:r>
            <a:r>
              <a:rPr b="0" lang="cs-CZ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rost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medulla oblong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caud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mid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vent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cerebell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rel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sens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cerebell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cerebr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theories posit that it has a role in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2"/>
              </a:rPr>
              <a:t>drea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3"/>
              </a:rPr>
              <a:t>Control of respi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4"/>
              </a:rPr>
              <a:t>apneustic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5"/>
              </a:rPr>
              <a:t> cen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lower p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6"/>
              </a:rPr>
              <a:t>pneumotaxic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7"/>
              </a:rPr>
              <a:t> cen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upper p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umber of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8"/>
              </a:rPr>
              <a:t>cranial ner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clei are present in the pons (from top to bottom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19"/>
              </a:rPr>
              <a:t>trigeminal ner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0"/>
              </a:rPr>
              <a:t>abducens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1"/>
              </a:rPr>
              <a:t> nucle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2"/>
              </a:rPr>
              <a:t>vestibulococh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uclei, 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3"/>
              </a:rPr>
              <a:t>facial nerve nucle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4384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Medulla oblongata</a:t>
            </a:r>
            <a:r>
              <a:rPr b="0" lang="cs-CZ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ed in rostral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pinal co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caudal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p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ventral to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cerebell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autonom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nctions: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respi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blood press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heart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reflex ar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vomi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s nerve signals between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spinal 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nial nerve nuclei: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2"/>
              </a:rPr>
              <a:t>hypoglossal ner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3"/>
              </a:rPr>
              <a:t>glossopharyng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4"/>
              </a:rPr>
              <a:t>vagus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5"/>
              </a:rPr>
              <a:t> ner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Reticular form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t is absolutely essential for the basic functions of life (stereotypical actions, such as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walking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leeping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and lying down) and is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phylogenetically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one of the oldest portions of the brai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t is a poorly-differentiated area of 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brain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 stem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, centered roughly in 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pons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Par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he ascending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reticular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activating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system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connects to areas in the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2"/>
              </a:rPr>
              <a:t>thalamus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3"/>
              </a:rPr>
              <a:t>hypothalamus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4"/>
              </a:rPr>
              <a:t>cortex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he descending reticular activating system connects to the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5"/>
              </a:rPr>
              <a:t>cerebellum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6"/>
              </a:rPr>
              <a:t>sensory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7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8"/>
              </a:rPr>
              <a:t>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Spinal cord (1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inal c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xtension of the </a:t>
            </a:r>
            <a:r>
              <a:rPr b="0" lang="cs-CZ" sz="2800" spc="-1" strike="noStrike" u="sng">
                <a:solidFill>
                  <a:srgbClr val="cc0000"/>
                </a:solidFill>
                <a:uFillTx/>
                <a:latin typeface="Tahoma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is enclosed in and protected by the bo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vertebral colum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n 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transmission of neural inputs between the periphery and the brai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peripheral reg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pin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d contains neurona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tter tracts containing sensory and motor neur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central reg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tter that contains nerve cell bod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ntral canal is an anatomic extension of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fourth ventri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Function of the Reticular form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F appears to not only control physical behaviors such a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lee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but also has been shown to play a major role in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alertn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fatig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moti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perform various activit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researchers have speculated that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ticular 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rols approximately 25 specific and mutually-exclusive behaviors, including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leep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wal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urin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defe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sexual activ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ticular formation has also been traced as one of the sources for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introver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easily stimulated RF) an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extrover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less easily stimulated RF) character trai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Spinal reflexes (1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Spinal reflexes (2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Spinal reflexes (3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500364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C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erebrospinal flu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in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subarachnoid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al roots – motor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rsal roots – sensory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entral and dorsal roots later join to form pair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spinal ner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ne on each side of the spinal 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Spinal cord (</a:t>
            </a: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6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meninges cover the spinal cord - the outer dura mater, the arachnoid membrane, and the innermost pia mater (continuation of the brain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Spinal cord (</a:t>
            </a: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3</a:t>
            </a: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pinal cord is divided into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</a:rPr>
              <a:t>31 different segm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cervical seg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 thoracic seg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lumbar seg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sacral seg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coccygeal seg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the vertebral column grows longer than the spinal cord, spinal cord segments become higher than the corresponding </a:t>
            </a:r>
            <a:r>
              <a:rPr b="0" lang="en-US" sz="2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vertebr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specially in the lower spinal cord segments in adult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a fet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vertebral levels originally correspond with the spinal cord segmen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the adu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rd ends around the L1/L2 vertebral level at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conus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medullar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all of the spinal cord segments located superiorly to thi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eg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ss the end of the spinal cord, they are considered to be part of the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cauda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equin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auda equina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615636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da equin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structure within the lower end of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spinal colum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hat consists of nerve roots and rootlets from abo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inds 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ho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's tai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nical relevanc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ssible to inject or colect th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cerebral spinal flui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out a dang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Connections between brain and spinal cord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Pyramidal trac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ticospi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yramid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massive collection of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ax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ravel between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cerebral cort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4"/>
              </a:rPr>
              <a:t>spinal co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ly contains motor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5"/>
              </a:rPr>
              <a:t>ax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two separate tracts in the spinal cord: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6"/>
              </a:rPr>
              <a:t>lateral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7"/>
              </a:rPr>
              <a:t>corticospinal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8"/>
              </a:rPr>
              <a:t>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9"/>
              </a:rPr>
              <a:t>medial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0"/>
              </a:rPr>
              <a:t>(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1"/>
              </a:rPr>
              <a:t>anterior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12"/>
              </a:rPr>
              <a:t>)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3"/>
              </a:rPr>
              <a:t>corticospinal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4"/>
              </a:rPr>
              <a:t>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ig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cells in layer V of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5"/>
              </a:rPr>
              <a:t>motor cort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6"/>
              </a:rPr>
              <a:t>lateral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7"/>
              </a:rPr>
              <a:t>corticospinal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8"/>
              </a:rPr>
              <a:t>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st of the cortico-spinal fibers (about 85%) cross over to the contralateral side in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19"/>
              </a:rPr>
              <a:t>medulla oblong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0"/>
              </a:rPr>
              <a:t>pyramidal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1"/>
              </a:rPr>
              <a:t>decuss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2"/>
              </a:rPr>
              <a:t>medial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(anterior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ticospinal tract: The remainder of them (15%) cross over at the level that they exit the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ahoma"/>
                <a:hlinkClick r:id="rId23"/>
              </a:rPr>
              <a:t>spinal co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as a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4"/>
              </a:rPr>
              <a:t>synaps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with another neuron in the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5"/>
              </a:rPr>
              <a:t>ventral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6"/>
              </a:rPr>
              <a:t> </a:t>
            </a:r>
            <a:r>
              <a:rPr b="0" lang="cs-CZ" sz="2400" spc="-1" strike="noStrike" u="sng">
                <a:solidFill>
                  <a:srgbClr val="cc0000"/>
                </a:solidFill>
                <a:uFillTx/>
                <a:latin typeface="Tahoma"/>
                <a:hlinkClick r:id="rId27"/>
              </a:rPr>
              <a:t>horn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9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Tahoma"/>
              </a:rPr>
              <a:t>Extrapyramidal motor pathways</a:t>
            </a:r>
            <a:r>
              <a:rPr b="0" lang="cs-CZ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trapyramidal sy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1"/>
              </a:rPr>
              <a:t>neural networ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cated in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2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is part of th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Tahoma"/>
                <a:hlinkClick r:id="rId3"/>
              </a:rPr>
              <a:t>motor sy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volved in the coordination of movem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s of extrapyramidal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icul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oprioception, voluntary movements, autonomic fun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stibul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osture in space, righting reflexes, voluntary and unvoluntary mov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t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head movements based of the eye and ear inpu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liv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rom cerebellum, striatum and cortex. Coordination of mov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brospinal 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rom cerebellum and motor cort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0:52:20Z</dcterms:created>
  <dc:creator>Romana Šlamberová</dc:creator>
  <dc:description/>
  <dc:language>en-US</dc:language>
  <cp:lastModifiedBy>Ahmad Alghadir</cp:lastModifiedBy>
  <dcterms:modified xsi:type="dcterms:W3CDTF">2008-06-02T13:06:49Z</dcterms:modified>
  <cp:revision>87</cp:revision>
  <dc:subject/>
  <dc:title>Synaptic receptors, neurotransmitters and brain modulators, energetical brain metabolism, barrier CNS mechanisms</dc:title>
</cp:coreProperties>
</file>