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A81-0E24-48DE-9FA5-32ABFA42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0F1-31A2-4FC9-8A86-0C3DCCA0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E8F-9667-49A8-AB04-C2DC46FE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578-9201-4117-B72F-4B3A993E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FF6-3887-416D-A5A2-ACD104AF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81D-4ECA-48BF-8FF5-7E32725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B457-A5D4-40F0-BE67-FB71759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1529-A538-41A1-95C7-EBE9C6FC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E458-9BBA-441A-A94D-F10101C6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32AC-3346-4DA8-AA98-7AE66AD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DBF6-CE6D-4E37-85E4-8667B21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3EA-C747-4187-BBDD-75A3E5B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2A90-A8FA-4EF7-BD30-0A4D837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2EE-15C7-4447-91F8-CC060F2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E53D-6737-4B6F-800F-3EE5C0A3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BAF1-8956-4C9C-B446-7130CA54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5EB-6449-4F74-811E-5A5AB059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FA2-3A6D-4F07-B126-0342D61F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41F-A8C7-4068-B331-D93E112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8DC-9E16-40A7-AE2A-F79C2C38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D7C-CBD4-4A85-AE37-C5B1DEF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D0C-4B52-4A44-824B-CF3F20D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CE9-4B17-473D-90D9-BE90C39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278-8C38-430B-97ED-2CF56DF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cce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0CE-4D0A-4C60-9DC5-26CDD23D90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33cc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cce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DAC-B302-49C4-A0CF-285352157EFE}" type="slidenum">
              <a:rPr b="0" lang="en-US" sz="1400" spc="-1" strike="noStrike">
                <a:solidFill>
                  <a:srgbClr val="0000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1850" TargetMode="External"/><Relationship Id="rId2" Type="http://schemas.openxmlformats.org/officeDocument/2006/relationships/hyperlink" Target="http://en.wikipedia.org/wiki/Charles_&#201;douard_Brown-Sequard" TargetMode="External"/><Relationship Id="rId3" Type="http://schemas.openxmlformats.org/officeDocument/2006/relationships/hyperlink" Target="http://en.wikipedia.org/wiki/Charles_&#201;douard_Brown-Sequard" TargetMode="External"/><Relationship Id="rId4" Type="http://schemas.openxmlformats.org/officeDocument/2006/relationships/hyperlink" Target="http://en.wikipedia.org/wiki/Charles_&#201;douard_Brown-Sequard" TargetMode="External"/><Relationship Id="rId5" Type="http://schemas.openxmlformats.org/officeDocument/2006/relationships/hyperlink" Target="http://en.wikipedia.org/wiki/Charles_&#201;douard_Brown-Sequard" TargetMode="External"/><Relationship Id="rId6" Type="http://schemas.openxmlformats.org/officeDocument/2006/relationships/hyperlink" Target="http://en.wikipedia.org/wiki/Paralysis" TargetMode="External"/><Relationship Id="rId7" Type="http://schemas.openxmlformats.org/officeDocument/2006/relationships/hyperlink" Target="http://en.wikipedia.org/wiki/Ataxia" TargetMode="External"/><Relationship Id="rId8" Type="http://schemas.openxmlformats.org/officeDocument/2006/relationships/hyperlink" Target="http://en.wikipedia.org/wiki/Spinal_cord" TargetMode="External"/><Relationship Id="rId9" Type="http://schemas.openxmlformats.org/officeDocument/2006/relationships/hyperlink" Target="http://en.wikipedia.org/wiki/Proprioception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kin" TargetMode="External"/><Relationship Id="rId2" Type="http://schemas.openxmlformats.org/officeDocument/2006/relationships/hyperlink" Target="http://en.wikipedia.org/wiki/Dorsal_root" TargetMode="External"/><Relationship Id="rId3" Type="http://schemas.openxmlformats.org/officeDocument/2006/relationships/hyperlink" Target="http://en.wikipedia.org/wiki/Spinal_nerve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Perception" TargetMode="External"/><Relationship Id="rId3" Type="http://schemas.openxmlformats.org/officeDocument/2006/relationships/hyperlink" Target="http://en.wikipedia.org/wiki/Motoneuron" TargetMode="External"/><Relationship Id="rId4" Type="http://schemas.openxmlformats.org/officeDocument/2006/relationships/hyperlink" Target="http://en.wikipedia.org/wiki/Neural_pathway" TargetMode="External"/><Relationship Id="rId5" Type="http://schemas.openxmlformats.org/officeDocument/2006/relationships/hyperlink" Target="http://en.wikipedia.org/wiki/Motor_cortex" TargetMode="External"/><Relationship Id="rId6" Type="http://schemas.openxmlformats.org/officeDocument/2006/relationships/hyperlink" Target="http://en.wikipedia.org/wiki/Muscle" TargetMode="External"/><Relationship Id="rId7" Type="http://schemas.openxmlformats.org/officeDocument/2006/relationships/hyperlink" Target="http://en.wikipedia.org/wiki/Spinocerebellar_tract" TargetMode="External"/><Relationship Id="rId8" Type="http://schemas.openxmlformats.org/officeDocument/2006/relationships/hyperlink" Target="http://en.wikipedia.org/wiki/Spinocerebellar_tract" TargetMode="External"/><Relationship Id="rId9" Type="http://schemas.openxmlformats.org/officeDocument/2006/relationships/hyperlink" Target="http://en.wikipedia.org/wiki/Proprioception" TargetMode="External"/><Relationship Id="rId10" Type="http://schemas.openxmlformats.org/officeDocument/2006/relationships/hyperlink" Target="http://en.wikipedia.org/wiki/Language_processing" TargetMode="External"/><Relationship Id="rId11" Type="http://schemas.openxmlformats.org/officeDocument/2006/relationships/hyperlink" Target="http://en.wikipedia.org/wiki/Selective_attention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ay_matter" TargetMode="External"/><Relationship Id="rId2" Type="http://schemas.openxmlformats.org/officeDocument/2006/relationships/hyperlink" Target="http://en.wikipedia.org/wiki/Cerebrum" TargetMode="External"/><Relationship Id="rId3" Type="http://schemas.openxmlformats.org/officeDocument/2006/relationships/hyperlink" Target="http://en.wikipedia.org/wiki/Arbor_vitae" TargetMode="External"/><Relationship Id="rId4" Type="http://schemas.openxmlformats.org/officeDocument/2006/relationships/hyperlink" Target="http://en.wikipedia.org/wiki/Tree_of_Life" TargetMode="External"/><Relationship Id="rId5" Type="http://schemas.openxmlformats.org/officeDocument/2006/relationships/hyperlink" Target="http://en.wikipedia.org/wiki/Hemisphere" TargetMode="External"/><Relationship Id="rId6" Type="http://schemas.openxmlformats.org/officeDocument/2006/relationships/hyperlink" Target="http://en.wikipedia.org/wiki/Telencephalon" TargetMode="External"/><Relationship Id="rId7" Type="http://schemas.openxmlformats.org/officeDocument/2006/relationships/hyperlink" Target="http://en.wikipedia.org/wiki/Cerebellar_vermis" TargetMode="External"/><Relationship Id="rId8" Type="http://schemas.openxmlformats.org/officeDocument/2006/relationships/hyperlink" Target="http://en.wikipedia.org/wiki/Cerebellar_vermis" TargetMode="External"/><Relationship Id="rId9" Type="http://schemas.openxmlformats.org/officeDocument/2006/relationships/hyperlink" Target="http://en.wikipedia.org/wiki/Cerebellar_vermis" TargetMode="External"/><Relationship Id="rId10" Type="http://schemas.openxmlformats.org/officeDocument/2006/relationships/hyperlink" Target="http://en.wikipedia.org/wiki/Worm" TargetMode="Externa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estibular_system" TargetMode="External"/><Relationship Id="rId2" Type="http://schemas.openxmlformats.org/officeDocument/2006/relationships/hyperlink" Target="http://en.wikipedia.org/wiki/Eye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ocerebellar_tract" TargetMode="External"/><Relationship Id="rId2" Type="http://schemas.openxmlformats.org/officeDocument/2006/relationships/hyperlink" Target="http://en.wikipedia.org/wiki/Spinocerebellar_tract" TargetMode="External"/><Relationship Id="rId3" Type="http://schemas.openxmlformats.org/officeDocument/2006/relationships/hyperlink" Target="http://en.wikipedia.org/wiki/Muscle_tone" TargetMode="External"/><Relationship Id="rId4" Type="http://schemas.openxmlformats.org/officeDocument/2006/relationships/hyperlink" Target="http://en.wikipedia.org/wiki/Posture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tor_cortex" TargetMode="External"/><Relationship Id="rId2" Type="http://schemas.openxmlformats.org/officeDocument/2006/relationships/hyperlink" Target="http://en.wikipedia.org/wiki/Parietal_lobe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hibitory_postsynaptic_potential" TargetMode="External"/><Relationship Id="rId2" Type="http://schemas.openxmlformats.org/officeDocument/2006/relationships/hyperlink" Target="http://en.wikipedia.org/wiki/GABA" TargetMode="External"/><Relationship Id="rId3" Type="http://schemas.openxmlformats.org/officeDocument/2006/relationships/hyperlink" Target="http://en.wikipedia.org/wiki/Excitatory_postsynaptic_potential" TargetMode="External"/><Relationship Id="rId4" Type="http://schemas.openxmlformats.org/officeDocument/2006/relationships/hyperlink" Target="http://en.wikipedia.org/wiki/Glutamate" TargetMode="External"/><Relationship Id="rId5" Type="http://schemas.openxmlformats.org/officeDocument/2006/relationships/hyperlink" Target="http://en.wikipedia.org/wiki/Mossy_fiber" TargetMode="External"/><Relationship Id="rId6" Type="http://schemas.openxmlformats.org/officeDocument/2006/relationships/hyperlink" Target="http://en.wikipedia.org/wiki/Mossy_fiber" TargetMode="External"/><Relationship Id="rId7" Type="http://schemas.openxmlformats.org/officeDocument/2006/relationships/hyperlink" Target="http://en.wikipedia.org/wiki/Mossy_fiber" TargetMode="External"/><Relationship Id="rId8" Type="http://schemas.openxmlformats.org/officeDocument/2006/relationships/hyperlink" Target="http://en.wikipedia.org/wiki/Vestibular_nuclei" TargetMode="External"/><Relationship Id="rId9" Type="http://schemas.openxmlformats.org/officeDocument/2006/relationships/hyperlink" Target="http://en.wikipedia.org/wiki/Vestibular_nuclei" TargetMode="External"/><Relationship Id="rId10" Type="http://schemas.openxmlformats.org/officeDocument/2006/relationships/hyperlink" Target="http://en.wikipedia.org/wiki/Vestibular_nuclei" TargetMode="External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nemonic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ntal_illness" TargetMode="External"/><Relationship Id="rId2" Type="http://schemas.openxmlformats.org/officeDocument/2006/relationships/hyperlink" Target="http://en.wikipedia.org/wiki/Mental_illness" TargetMode="External"/><Relationship Id="rId3" Type="http://schemas.openxmlformats.org/officeDocument/2006/relationships/hyperlink" Target="http://en.wikipedia.org/wiki/Dyslexia" TargetMode="External"/><Relationship Id="rId4" Type="http://schemas.openxmlformats.org/officeDocument/2006/relationships/hyperlink" Target="http://en.wikipedia.org/wiki/Schizophrenia" TargetMode="External"/><Relationship Id="rId5" Type="http://schemas.openxmlformats.org/officeDocument/2006/relationships/hyperlink" Target="http://en.wikipedia.org/wiki/Autism" TargetMode="External"/><Relationship Id="rId6" Type="http://schemas.openxmlformats.org/officeDocument/2006/relationships/hyperlink" Target="http://en.wikipedia.org/wiki/Lesion" TargetMode="External"/><Relationship Id="rId7" Type="http://schemas.openxmlformats.org/officeDocument/2006/relationships/hyperlink" Target="http://en.wikipedia.org/wiki/Dysmetria" TargetMode="External"/><Relationship Id="rId8" Type="http://schemas.openxmlformats.org/officeDocument/2006/relationships/hyperlink" Target="http://en.wikipedia.org/wiki/Intoxication" TargetMode="External"/><Relationship Id="rId9" Type="http://schemas.openxmlformats.org/officeDocument/2006/relationships/hyperlink" Target="http://en.wikipedia.org/wiki/Alcohol_abuse" TargetMode="External"/><Relationship Id="rId10" Type="http://schemas.openxmlformats.org/officeDocument/2006/relationships/hyperlink" Target="http://en.wikipedia.org/wiki/Thiamine" TargetMode="External"/><Relationship Id="rId11" Type="http://schemas.openxmlformats.org/officeDocument/2006/relationships/hyperlink" Target="http://en.wikipedia.org/wiki/Nystagmus" TargetMode="External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in" TargetMode="External"/><Relationship Id="rId2" Type="http://schemas.openxmlformats.org/officeDocument/2006/relationships/hyperlink" Target="http://en.wikipedia.org/wiki/Spinal_cord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stral" TargetMode="External"/><Relationship Id="rId2" Type="http://schemas.openxmlformats.org/officeDocument/2006/relationships/hyperlink" Target="http://en.wikipedia.org/wiki/Medulla_oblongata" TargetMode="External"/><Relationship Id="rId3" Type="http://schemas.openxmlformats.org/officeDocument/2006/relationships/hyperlink" Target="http://en.wikipedia.org/wiki/Caudal" TargetMode="External"/><Relationship Id="rId4" Type="http://schemas.openxmlformats.org/officeDocument/2006/relationships/hyperlink" Target="http://en.wikipedia.org/wiki/Midbrain" TargetMode="External"/><Relationship Id="rId5" Type="http://schemas.openxmlformats.org/officeDocument/2006/relationships/hyperlink" Target="http://en.wikipedia.org/wiki/Ventral" TargetMode="External"/><Relationship Id="rId6" Type="http://schemas.openxmlformats.org/officeDocument/2006/relationships/hyperlink" Target="http://en.wikipedia.org/wiki/Cerebellum" TargetMode="External"/><Relationship Id="rId7" Type="http://schemas.openxmlformats.org/officeDocument/2006/relationships/hyperlink" Target="http://en.wikipedia.org/wiki/Relay" TargetMode="External"/><Relationship Id="rId8" Type="http://schemas.openxmlformats.org/officeDocument/2006/relationships/hyperlink" Target="http://en.wikipedia.org/wiki/Sense" TargetMode="External"/><Relationship Id="rId9" Type="http://schemas.openxmlformats.org/officeDocument/2006/relationships/hyperlink" Target="http://en.wikipedia.org/wiki/Information" TargetMode="External"/><Relationship Id="rId10" Type="http://schemas.openxmlformats.org/officeDocument/2006/relationships/hyperlink" Target="http://en.wikipedia.org/wiki/Cerebellum" TargetMode="External"/><Relationship Id="rId11" Type="http://schemas.openxmlformats.org/officeDocument/2006/relationships/hyperlink" Target="http://en.wikipedia.org/wiki/Telencephalon" TargetMode="External"/><Relationship Id="rId12" Type="http://schemas.openxmlformats.org/officeDocument/2006/relationships/hyperlink" Target="http://en.wikipedia.org/wiki/Dream" TargetMode="External"/><Relationship Id="rId13" Type="http://schemas.openxmlformats.org/officeDocument/2006/relationships/hyperlink" Target="http://en.wikipedia.org/wiki/Control_of_respiration" TargetMode="External"/><Relationship Id="rId14" Type="http://schemas.openxmlformats.org/officeDocument/2006/relationships/hyperlink" Target="http://en.wikipedia.org/wiki/Apneustic_center" TargetMode="External"/><Relationship Id="rId15" Type="http://schemas.openxmlformats.org/officeDocument/2006/relationships/hyperlink" Target="http://en.wikipedia.org/wiki/Apneustic_center" TargetMode="External"/><Relationship Id="rId16" Type="http://schemas.openxmlformats.org/officeDocument/2006/relationships/hyperlink" Target="http://en.wikipedia.org/wiki/Pneumotaxic_center" TargetMode="External"/><Relationship Id="rId17" Type="http://schemas.openxmlformats.org/officeDocument/2006/relationships/hyperlink" Target="http://en.wikipedia.org/wiki/Pneumotaxic_center" TargetMode="External"/><Relationship Id="rId18" Type="http://schemas.openxmlformats.org/officeDocument/2006/relationships/hyperlink" Target="http://en.wikipedia.org/wiki/Cranial_nerve" TargetMode="External"/><Relationship Id="rId19" Type="http://schemas.openxmlformats.org/officeDocument/2006/relationships/hyperlink" Target="http://en.wikipedia.org/wiki/Trigeminal_nerve" TargetMode="External"/><Relationship Id="rId20" Type="http://schemas.openxmlformats.org/officeDocument/2006/relationships/hyperlink" Target="http://en.wikipedia.org/wiki/Abducens_nucleus" TargetMode="External"/><Relationship Id="rId21" Type="http://schemas.openxmlformats.org/officeDocument/2006/relationships/hyperlink" Target="http://en.wikipedia.org/wiki/Abducens_nucleus" TargetMode="External"/><Relationship Id="rId22" Type="http://schemas.openxmlformats.org/officeDocument/2006/relationships/hyperlink" Target="http://en.wikipedia.org/wiki/Vestibulocochlear_nerve" TargetMode="External"/><Relationship Id="rId23" Type="http://schemas.openxmlformats.org/officeDocument/2006/relationships/hyperlink" Target="http://en.wikipedia.org/wiki/Facial_nerve_nucleus" TargetMode="External"/><Relationship Id="rId2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al_cord" TargetMode="External"/><Relationship Id="rId2" Type="http://schemas.openxmlformats.org/officeDocument/2006/relationships/hyperlink" Target="http://en.wikipedia.org/wiki/Pons" TargetMode="External"/><Relationship Id="rId3" Type="http://schemas.openxmlformats.org/officeDocument/2006/relationships/hyperlink" Target="http://en.wikipedia.org/wiki/Cerebellum" TargetMode="External"/><Relationship Id="rId4" Type="http://schemas.openxmlformats.org/officeDocument/2006/relationships/hyperlink" Target="http://en.wikipedia.org/wiki/Autonomic_nervous_system" TargetMode="External"/><Relationship Id="rId5" Type="http://schemas.openxmlformats.org/officeDocument/2006/relationships/hyperlink" Target="http://en.wikipedia.org/wiki/Respiration_%28physiology%29" TargetMode="External"/><Relationship Id="rId6" Type="http://schemas.openxmlformats.org/officeDocument/2006/relationships/hyperlink" Target="http://en.wikipedia.org/wiki/Blood_pressure" TargetMode="External"/><Relationship Id="rId7" Type="http://schemas.openxmlformats.org/officeDocument/2006/relationships/hyperlink" Target="http://en.wikipedia.org/wiki/Heart_rate" TargetMode="External"/><Relationship Id="rId8" Type="http://schemas.openxmlformats.org/officeDocument/2006/relationships/hyperlink" Target="http://en.wikipedia.org/wiki/Reflex_arcs" TargetMode="External"/><Relationship Id="rId9" Type="http://schemas.openxmlformats.org/officeDocument/2006/relationships/hyperlink" Target="http://en.wikipedia.org/wiki/Vomiting" TargetMode="External"/><Relationship Id="rId10" Type="http://schemas.openxmlformats.org/officeDocument/2006/relationships/hyperlink" Target="http://en.wikipedia.org/wiki/Brain" TargetMode="External"/><Relationship Id="rId11" Type="http://schemas.openxmlformats.org/officeDocument/2006/relationships/hyperlink" Target="http://en.wikipedia.org/wiki/Spinal_cord" TargetMode="External"/><Relationship Id="rId12" Type="http://schemas.openxmlformats.org/officeDocument/2006/relationships/hyperlink" Target="http://en.wikipedia.org/wiki/Hypoglossal_nerve" TargetMode="External"/><Relationship Id="rId13" Type="http://schemas.openxmlformats.org/officeDocument/2006/relationships/hyperlink" Target="http://en.wikipedia.org/wiki/Glossopharyngeal_nerve" TargetMode="External"/><Relationship Id="rId14" Type="http://schemas.openxmlformats.org/officeDocument/2006/relationships/hyperlink" Target="http://en.wikipedia.org/wiki/Vagus_nerve" TargetMode="External"/><Relationship Id="rId15" Type="http://schemas.openxmlformats.org/officeDocument/2006/relationships/hyperlink" Target="http://en.wikipedia.org/wiki/Vagus_nerve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lking" TargetMode="External"/><Relationship Id="rId2" Type="http://schemas.openxmlformats.org/officeDocument/2006/relationships/hyperlink" Target="http://en.wikipedia.org/wiki/Sleeping" TargetMode="External"/><Relationship Id="rId3" Type="http://schemas.openxmlformats.org/officeDocument/2006/relationships/hyperlink" Target="http://en.wikipedia.org/wiki/Phylogenetically" TargetMode="External"/><Relationship Id="rId4" Type="http://schemas.openxmlformats.org/officeDocument/2006/relationships/hyperlink" Target="http://en.wikipedia.org/wiki/Brain_stem" TargetMode="External"/><Relationship Id="rId5" Type="http://schemas.openxmlformats.org/officeDocument/2006/relationships/hyperlink" Target="http://en.wikipedia.org/wiki/Brain_stem" TargetMode="External"/><Relationship Id="rId6" Type="http://schemas.openxmlformats.org/officeDocument/2006/relationships/hyperlink" Target="http://en.wikipedia.org/wiki/Pons" TargetMode="External"/><Relationship Id="rId7" Type="http://schemas.openxmlformats.org/officeDocument/2006/relationships/hyperlink" Target="http://en.wikipedia.org/wiki/Reticular_activating_system" TargetMode="External"/><Relationship Id="rId8" Type="http://schemas.openxmlformats.org/officeDocument/2006/relationships/hyperlink" Target="http://en.wikipedia.org/wiki/Reticular_activating_system" TargetMode="External"/><Relationship Id="rId9" Type="http://schemas.openxmlformats.org/officeDocument/2006/relationships/hyperlink" Target="http://en.wikipedia.org/wiki/Reticular_activating_system" TargetMode="External"/><Relationship Id="rId10" Type="http://schemas.openxmlformats.org/officeDocument/2006/relationships/hyperlink" Target="http://en.wikipedia.org/wiki/Reticular_activating_system" TargetMode="External"/><Relationship Id="rId11" Type="http://schemas.openxmlformats.org/officeDocument/2006/relationships/hyperlink" Target="http://en.wikipedia.org/wiki/Reticular_activating_system" TargetMode="External"/><Relationship Id="rId12" Type="http://schemas.openxmlformats.org/officeDocument/2006/relationships/hyperlink" Target="http://en.wikipedia.org/wiki/Thalamus" TargetMode="External"/><Relationship Id="rId13" Type="http://schemas.openxmlformats.org/officeDocument/2006/relationships/hyperlink" Target="http://en.wikipedia.org/wiki/Hypothalamus" TargetMode="External"/><Relationship Id="rId14" Type="http://schemas.openxmlformats.org/officeDocument/2006/relationships/hyperlink" Target="http://en.wikipedia.org/wiki/Cortex" TargetMode="External"/><Relationship Id="rId15" Type="http://schemas.openxmlformats.org/officeDocument/2006/relationships/hyperlink" Target="http://en.wikipedia.org/wiki/Cerebellum" TargetMode="External"/><Relationship Id="rId16" Type="http://schemas.openxmlformats.org/officeDocument/2006/relationships/hyperlink" Target="http://en.wikipedia.org/wiki/Sensory_nerve" TargetMode="External"/><Relationship Id="rId17" Type="http://schemas.openxmlformats.org/officeDocument/2006/relationships/hyperlink" Target="http://en.wikipedia.org/wiki/Sensory_nerve" TargetMode="External"/><Relationship Id="rId18" Type="http://schemas.openxmlformats.org/officeDocument/2006/relationships/hyperlink" Target="http://en.wikipedia.org/wiki/Sensory_nerve" TargetMode="External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e_%28anatomy%29" TargetMode="External"/><Relationship Id="rId2" Type="http://schemas.openxmlformats.org/officeDocument/2006/relationships/hyperlink" Target="http://en.wikipedia.org/wiki/Fourth_ventricle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leep" TargetMode="External"/><Relationship Id="rId2" Type="http://schemas.openxmlformats.org/officeDocument/2006/relationships/hyperlink" Target="http://en.wikipedia.org/wiki/Sleeping" TargetMode="External"/><Relationship Id="rId3" Type="http://schemas.openxmlformats.org/officeDocument/2006/relationships/hyperlink" Target="http://en.wikipedia.org/wiki/Walking" TargetMode="External"/><Relationship Id="rId4" Type="http://schemas.openxmlformats.org/officeDocument/2006/relationships/hyperlink" Target="http://en.wikipedia.org/wiki/Eating" TargetMode="External"/><Relationship Id="rId5" Type="http://schemas.openxmlformats.org/officeDocument/2006/relationships/hyperlink" Target="http://en.wikipedia.org/wiki/Urination" TargetMode="External"/><Relationship Id="rId6" Type="http://schemas.openxmlformats.org/officeDocument/2006/relationships/hyperlink" Target="http://en.wikipedia.org/wiki/Defecation" TargetMode="External"/><Relationship Id="rId7" Type="http://schemas.openxmlformats.org/officeDocument/2006/relationships/hyperlink" Target="http://en.wikipedia.org/wiki/Sexual_activity" TargetMode="External"/><Relationship Id="rId8" Type="http://schemas.openxmlformats.org/officeDocument/2006/relationships/hyperlink" Target="http://en.wikipedia.org/wiki/Introversion_and_extroversion" TargetMode="External"/><Relationship Id="rId9" Type="http://schemas.openxmlformats.org/officeDocument/2006/relationships/hyperlink" Target="http://en.wikipedia.org/wiki/Introversion_and_extroversion" TargetMode="External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rebrospinal_fluid" TargetMode="External"/><Relationship Id="rId2" Type="http://schemas.openxmlformats.org/officeDocument/2006/relationships/hyperlink" Target="http://en.wikipedia.org/wiki/Subarachnoid_space" TargetMode="External"/><Relationship Id="rId3" Type="http://schemas.openxmlformats.org/officeDocument/2006/relationships/hyperlink" Target="http://en.wikipedia.org/wiki/Subarachnoid_space" TargetMode="External"/><Relationship Id="rId4" Type="http://schemas.openxmlformats.org/officeDocument/2006/relationships/hyperlink" Target="http://en.wikipedia.org/wiki/Spinal_nerve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ertebra" TargetMode="External"/><Relationship Id="rId2" Type="http://schemas.openxmlformats.org/officeDocument/2006/relationships/hyperlink" Target="http://en.wikipedia.org/wiki/Conus_medullaris" TargetMode="External"/><Relationship Id="rId3" Type="http://schemas.openxmlformats.org/officeDocument/2006/relationships/hyperlink" Target="http://en.wikipedia.org/wiki/Conus_medullaris" TargetMode="External"/><Relationship Id="rId4" Type="http://schemas.openxmlformats.org/officeDocument/2006/relationships/hyperlink" Target="http://en.wikipedia.org/wiki/Conus_medullaris" TargetMode="External"/><Relationship Id="rId5" Type="http://schemas.openxmlformats.org/officeDocument/2006/relationships/hyperlink" Target="http://en.wikipedia.org/wiki/Cauda_equina" TargetMode="External"/><Relationship Id="rId6" Type="http://schemas.openxmlformats.org/officeDocument/2006/relationships/hyperlink" Target="http://en.wikipedia.org/wiki/Cauda_equina" TargetMode="External"/><Relationship Id="rId7" Type="http://schemas.openxmlformats.org/officeDocument/2006/relationships/hyperlink" Target="http://en.wikipedia.org/wiki/Cauda_equina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e_%28anatomy%29" TargetMode="External"/><Relationship Id="rId2" Type="http://schemas.openxmlformats.org/officeDocument/2006/relationships/hyperlink" Target="http://en.wikipedia.org/wiki/Horse" TargetMode="External"/><Relationship Id="rId3" Type="http://schemas.openxmlformats.org/officeDocument/2006/relationships/hyperlink" Target="http://en.wikipedia.org/wiki/Cerebral_spinal_flui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xon" TargetMode="External"/><Relationship Id="rId2" Type="http://schemas.openxmlformats.org/officeDocument/2006/relationships/hyperlink" Target="http://en.wikipedia.org/wiki/Cerebral_cortex" TargetMode="External"/><Relationship Id="rId3" Type="http://schemas.openxmlformats.org/officeDocument/2006/relationships/hyperlink" Target="http://en.wikipedia.org/wiki/Brain" TargetMode="External"/><Relationship Id="rId4" Type="http://schemas.openxmlformats.org/officeDocument/2006/relationships/hyperlink" Target="http://en.wikipedia.org/wiki/Spinal_cord" TargetMode="External"/><Relationship Id="rId5" Type="http://schemas.openxmlformats.org/officeDocument/2006/relationships/hyperlink" Target="http://en.wikipedia.org/wiki/Axon" TargetMode="External"/><Relationship Id="rId6" Type="http://schemas.openxmlformats.org/officeDocument/2006/relationships/hyperlink" Target="http://en.wikipedia.org/wiki/Lateral_corticospinal_tract" TargetMode="External"/><Relationship Id="rId7" Type="http://schemas.openxmlformats.org/officeDocument/2006/relationships/hyperlink" Target="http://en.wikipedia.org/wiki/Lateral_corticospinal_tract" TargetMode="External"/><Relationship Id="rId8" Type="http://schemas.openxmlformats.org/officeDocument/2006/relationships/hyperlink" Target="http://en.wikipedia.org/wiki/Lateral_corticospinal_tract" TargetMode="External"/><Relationship Id="rId9" Type="http://schemas.openxmlformats.org/officeDocument/2006/relationships/hyperlink" Target="http://en.wikipedia.org/wiki/Medial_corticospinal_tract" TargetMode="External"/><Relationship Id="rId10" Type="http://schemas.openxmlformats.org/officeDocument/2006/relationships/hyperlink" Target="http://en.wikipedia.org/wiki/Medial_corticospinal_tract" TargetMode="External"/><Relationship Id="rId11" Type="http://schemas.openxmlformats.org/officeDocument/2006/relationships/hyperlink" Target="http://en.wikipedia.org/wiki/Medial_corticospinal_tract" TargetMode="External"/><Relationship Id="rId12" Type="http://schemas.openxmlformats.org/officeDocument/2006/relationships/hyperlink" Target="http://en.wikipedia.org/wiki/Medial_corticospinal_tract" TargetMode="External"/><Relationship Id="rId13" Type="http://schemas.openxmlformats.org/officeDocument/2006/relationships/hyperlink" Target="http://en.wikipedia.org/wiki/Medial_corticospinal_tract" TargetMode="External"/><Relationship Id="rId14" Type="http://schemas.openxmlformats.org/officeDocument/2006/relationships/hyperlink" Target="http://en.wikipedia.org/wiki/Medial_corticospinal_tract" TargetMode="External"/><Relationship Id="rId15" Type="http://schemas.openxmlformats.org/officeDocument/2006/relationships/hyperlink" Target="http://en.wikipedia.org/wiki/Motor_cortex" TargetMode="External"/><Relationship Id="rId16" Type="http://schemas.openxmlformats.org/officeDocument/2006/relationships/hyperlink" Target="http://en.wikipedia.org/wiki/Lateral_corticospinal_tract" TargetMode="External"/><Relationship Id="rId17" Type="http://schemas.openxmlformats.org/officeDocument/2006/relationships/hyperlink" Target="http://en.wikipedia.org/wiki/Lateral_corticospinal_tract" TargetMode="External"/><Relationship Id="rId18" Type="http://schemas.openxmlformats.org/officeDocument/2006/relationships/hyperlink" Target="http://en.wikipedia.org/wiki/Lateral_corticospinal_tract" TargetMode="External"/><Relationship Id="rId19" Type="http://schemas.openxmlformats.org/officeDocument/2006/relationships/hyperlink" Target="http://en.wikipedia.org/wiki/Medulla_oblongata" TargetMode="External"/><Relationship Id="rId20" Type="http://schemas.openxmlformats.org/officeDocument/2006/relationships/hyperlink" Target="http://en.wikipedia.org/wiki/Pyramidal_decussation" TargetMode="External"/><Relationship Id="rId21" Type="http://schemas.openxmlformats.org/officeDocument/2006/relationships/hyperlink" Target="http://en.wikipedia.org/wiki/Pyramidal_decussation" TargetMode="External"/><Relationship Id="rId22" Type="http://schemas.openxmlformats.org/officeDocument/2006/relationships/hyperlink" Target="http://en.wikipedia.org/wiki/Medial_corticospinal_tract" TargetMode="External"/><Relationship Id="rId23" Type="http://schemas.openxmlformats.org/officeDocument/2006/relationships/hyperlink" Target="http://en.wikipedia.org/wiki/Spinal_cord" TargetMode="External"/><Relationship Id="rId24" Type="http://schemas.openxmlformats.org/officeDocument/2006/relationships/hyperlink" Target="http://en.wikipedia.org/wiki/Synapse" TargetMode="External"/><Relationship Id="rId25" Type="http://schemas.openxmlformats.org/officeDocument/2006/relationships/hyperlink" Target="http://en.wikipedia.org/wiki/Ventral_horn" TargetMode="External"/><Relationship Id="rId26" Type="http://schemas.openxmlformats.org/officeDocument/2006/relationships/hyperlink" Target="http://en.wikipedia.org/wiki/Ventral_horn" TargetMode="External"/><Relationship Id="rId27" Type="http://schemas.openxmlformats.org/officeDocument/2006/relationships/hyperlink" Target="http://en.wikipedia.org/wiki/Ventral_horn" TargetMode="External"/><Relationship Id="rId2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eural_network" TargetMode="External"/><Relationship Id="rId2" Type="http://schemas.openxmlformats.org/officeDocument/2006/relationships/hyperlink" Target="http://en.wikipedia.org/wiki/Human_brain" TargetMode="External"/><Relationship Id="rId3" Type="http://schemas.openxmlformats.org/officeDocument/2006/relationships/hyperlink" Target="http://en.wikipedia.org/wiki/Motor_syste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ahoma"/>
              </a:rPr>
              <a:t>Function of the spinal cord, cerebellum and brainstem</a:t>
            </a:r>
            <a:endParaRPr b="0" lang="en-US" sz="40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omana Šlamberová, MD P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Department of Normal, Pathological and Clinical Phys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shock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phenomena surrounding transection of the spinal cord that leads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loss or depression of all or most spinal reflex a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w the level of a spinal les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lesion abov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3-C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no bree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iod of spinal shock can las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rom hours to 6 wee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e acute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will be hypotone paralysis, areflexia, loss of sensory function and dysautonomia. Patient shows retention of the bladder due to the imparied reflex of emptying the blad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post acute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first autonomic reflexes come to normal. Patient shows autonomic dysreflexia if the lesion level is above T6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e chronic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will be hypertone paralysis, hyper-reflexia, spastic-reflex bladde. Patient at this stage shows incontin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Brown-Sequard syndrome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was first described in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185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the British neurologist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harles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Édouard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 Brown-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Sequ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817-1896), who studied the anatomy and physiology of the spinal co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ss of mo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r abilit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para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atax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nd sensation caused by the lateral hemisection of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spinal 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misection of the cord results in a lesion of each of the three main neural sys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ticospinal lesion produces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ipsilateral spastic paraly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esion to fasciculus gracilis or fasciculus cuneus results in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ipsilateral loss of vibration and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proprio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position sens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oss of the spinothalamic tract leads to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pain and temperature sens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eing lost from the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contralateral side beginning one or two segments bel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les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Tactile sens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t affected much (both crossed and uncrossed pathway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ve the level of lesion –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hyperesthesi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creased sensation) – irritation of dorsal hor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ermatomic area (dermatome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n area of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k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is supplied by a single pair of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dorsal roo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dy can be divided into regions that are mainly supplied by a single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spinal ner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8 cervic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one for the head, and one for each cervical vertebra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2 thorac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5 lumb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5 sac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inal nerv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nervates the body in a patterned form. Along the thorax and abdomen it is simply like a stack of discs forming a human, each supplied by a different spinal ner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ong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the arms and the leg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pattern is different: the dermatomes run longitudinally along the limb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Clinical significanc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rmatomes are useful in neurology for finding the site of damage to the spin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pes zoster infections (shingles) can reveal dermatomic area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ermatom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6012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"little brain") plays an important role in the integration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ensory per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o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utpu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neural path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 the cerebellum with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motor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which sends information to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musc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using them to move—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spinocerebellar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which provides feedback on the position of the body in space 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proprio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erebellum integrates these pathways, using the constant feedback on body position to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ine-tune motor mov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recent brain imaging studies using functional magnetic resonance imaging (fMRI) show that the cerebellum is important for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language process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elective att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contains simila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divisions a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white matter is known a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arbor vita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Tree of Lif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due to its branc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is divided into two larg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hemisphe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uch lik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contain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t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er lobu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hree phylogenetic divisions within the cerebellum: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archi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the flocculonodular lobe)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aleo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nterior lobe)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neo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osterior lobe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can also be divided by function: The midline division i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cerebellar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verm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w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)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lateral hemisphe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5640" y="2349360"/>
            <a:ext cx="3519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: Midb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: P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: Medu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: Spinal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: Fourth ventr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bor vit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chi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leo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o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Archicerebellum (Vestibul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flocculonodula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ly involved in balance (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stibul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a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ey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vem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inferior and medial vestibu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s fibers back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vestibular nucle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creating a feedback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ant maintenance of bal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aleocerebellum (Spin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anterio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ts inputs from the dorsal and ventral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ocerebellar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 tra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hich carry information about the position and forces acting on the l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s axonal projections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deep cerebel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rols proprioception related 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uscle t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aintenance of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pos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Neocerebellum (Cerebr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posterio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pontocerebellar 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s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deep cerebel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oordin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fine finger movements (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ine move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orrection of motor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conjunction with the cortical motor centres 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lan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834372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ides from the l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g 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pyrigh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was not possible to publish pictures showed at the lecture at our web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omana Slamberova, MD P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ahoma"/>
              </a:rPr>
              <a:t>The functional organization (1)</a:t>
            </a:r>
            <a:r>
              <a:rPr b="0" lang="cs-CZ" sz="40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The functional organization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m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ts inputs mainly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spinocerebellar trac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trunk of the bod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on the position and bal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rojections to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the fastigial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erebellum, which then sends output to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vestibular nucle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mediate zone (paravermis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nput from the corticopontocerebellar fibers that originate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motor cort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receives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sensory feedback from the musc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Control of mus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ateral z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parietal cort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ia pontocerebellar mossy fi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regarding the location of the body in the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rge numbers of feedback circuits allow for the integration of this body position information with indications of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muscle position, strength, and spe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4 deep cerebellar nuclei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re in the center of the cerebellum, embedded in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white matte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ce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inhibitor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GABAergic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 inputs from Purkinje cells in the cerebellar cort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excitator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glutamatergic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 inputs from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mossy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fiber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path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ost output fibers of the cerebellum originate from these nucle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ne exceptio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is that fibers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</a:rPr>
              <a:t>from the flocculonodular lob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synapse directly on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vestibula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nucle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without first passing through the deep cerebellar nucle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 lateral to med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four deep cerebellar nuclei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Den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Embolifo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Glob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astig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mnem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vice: 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'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od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Den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clei are deep within the lateral hemispheres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Emboli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Glob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clei are located in the paravermal (intermediate) zone, an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astigi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clei are in the verm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, each pair of deep nuclei is associated with a corresponding region of cerebellar surface anatomy.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ysfunction of the cerebellum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blems in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walking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balanc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ccurate hand and arm movemen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(ataxia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Neuropsychiatric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 disorder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such as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dyslex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chizophren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autis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ppear to be associated with a deficiency in the cerebellum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with cerebellar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lesion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(injuries) typically exhibit "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intention tremor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—a tremor occurring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during movemen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rather than at rest (as seen in Parkinson's disease)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may also show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dysmetr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i.e., an overestimation or underestimation of force, resulting in overshoot or undershoot when reaching for a targe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ability to perform rapid alternating movement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 case of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intoxication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: uncoordinated movements, swaying, unstable walking, and a wide gai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hronic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lcohol abus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is also a common cause of cerebellar lesions. Alcohol abuse can lead to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thiamin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deficiency, which in the cerebellum will cause degeneration of the anterior lobe. This degeneration leads to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 wide, staggering gai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ut does not affect arm movement or speech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with a cerebellar lesion may have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nystagmu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with the fast stroke pointing towards the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side of the lesion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Brain stem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067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in 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lower part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djoining and structurally continuous with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pinal 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s of brain stem: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sometim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id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ons Varolii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rost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aud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mid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vent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rel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sens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cerebr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heories posit that it has a role i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drea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Control of respi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apneustic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 cen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lower p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pneumotaxic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 cen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pper p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umber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cranial ner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clei are present in the pons (from top to bottom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9"/>
              </a:rPr>
              <a:t>trigeminal ner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0"/>
              </a:rPr>
              <a:t>abducens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1"/>
              </a:rPr>
              <a:t>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2"/>
              </a:rPr>
              <a:t>vestibulococh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uclei, 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3"/>
              </a:rPr>
              <a:t>facial nerve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438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Medulla oblongata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d in rostr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al co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caud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p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ventr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erebell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autonom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s: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respi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blood press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heart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reflex ar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vomi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s nerve signals betwee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nial nerve nuclei: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hypoglossal ner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glossopharyng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vagus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 ner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Reticular 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t is absolutely essential for the basic functions of life (stereotypical actions, such as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walking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leeping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and lying down) and is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phylogenetical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one of the oldest portions of the bra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t is a poorly-differentiated area of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brain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 ste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centered roughly in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pon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ar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he ascending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reticula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activating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ystem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connects to areas in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thalamus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hypothalamus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cortex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he descending reticular activating system connects to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cerebellum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sensory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inal 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tension of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is enclosed in and protected by the bo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rtebral colum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ransmission of neural inputs between the periphery and the bra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eripheral reg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pin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d contains neuron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tracts containing sensory and motor neur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entral reg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that contains nerve cell bo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nal is an anatomic extension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fourth ventri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Function of the Reticular 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F appears to not only control physical behaviors such a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lee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ut also has been shown to play a major role i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alert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erform various activit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researchers have speculated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ticular 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rols approximately 25 specific and mutually-exclusive behaviors, including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wal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urin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defe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sexual activ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ticular formation has also been traced as one of the sources 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introver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asily stimulated RF)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extrover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ess easily stimulated RF) character tra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500364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erebrospinal flu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i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ubarachnoid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al roots – motor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rsal roots – sensory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ntral and dorsal roots later join to form pair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pinal ner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ne on each side of the spinal 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</a:t>
            </a: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meninges cover the spinal cord - the outer dura mater, the arachnoid membrane, and the innermost pia mater (continuation of the brain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</a:t>
            </a: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3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pinal cord is divided into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31 different segm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cervical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 thoracic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lumbar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sacral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ccygeal seg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the vertebral column grows longer than the spinal cord, spinal cord segments become higher than the corresponding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rtebr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pecially in the lower spinal cord segments in adult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a fet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vertebral levels originally correspond with the spinal cord segme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the adu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rd ends around the L1/L2 vertebral level at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onus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medullar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all of the spinal cord segments located superiorly to thi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g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e end of the spinal cord, they are considered to be part of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cauda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equi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auda equina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6156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da equin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structure within the lower end of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al colum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at consists of nerve roots and rootlets from abo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s 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ho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's tai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nical relevanc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sible to inject or colect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erebral spinal flu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out a dang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onnections between brain and spinal cord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yramidal trac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ticosp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yramid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massive collection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ravel betwee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erebral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pinal co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ly contains motor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two separate tracts in the spinal cord: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later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medial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anterio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)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ig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cells in layer V of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motor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later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st of the cortico-spinal fibers (about 85%) cross over to the contralateral side i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9"/>
              </a:rPr>
              <a:t>medulla oblong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0"/>
              </a:rPr>
              <a:t>pyramid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1"/>
              </a:rPr>
              <a:t>decuss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2"/>
              </a:rPr>
              <a:t>medial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anterior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ticospinal tract: The remainder of them (15%) cross over at the level that they exit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3"/>
              </a:rPr>
              <a:t>spinal co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s a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4"/>
              </a:rPr>
              <a:t>synaps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with another neuron in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5"/>
              </a:rPr>
              <a:t>ventral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6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7"/>
              </a:rPr>
              <a:t>hor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Extrapyramidal motor pathways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trapyramidal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neural net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cated i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is part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otor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d in the coordination of move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s of extrapyramidal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icul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oprioception, voluntary movements, autonomic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stibul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osture in space, righting reflexes, voluntary and unvoluntary mov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t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head movements based of the eye and ear in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iv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rom cerebellum, striatum and cortex. Coordination of mov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br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rom cerebellum and motor cor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52:20Z</dcterms:created>
  <dc:creator>Romana Šlamberová</dc:creator>
  <dc:description/>
  <dc:language>en-US</dc:language>
  <cp:lastModifiedBy>Ahmad Alghadir</cp:lastModifiedBy>
  <dcterms:modified xsi:type="dcterms:W3CDTF">2008-06-02T13:06:49Z</dcterms:modified>
  <cp:revision>87</cp:revision>
  <dc:subject/>
  <dc:title>Synaptic receptors, neurotransmitters and brain modulators, energetical brain metabolism, barrier CNS mechanisms</dc:title>
</cp:coreProperties>
</file>