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C031-AD2C-41B7-AC28-C3B55CC2C814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A9FB-F687-430B-9E33-1021CACBE84B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0C75-83A1-43CB-9F93-9B9F08348CE9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EB5E-2CBA-49EF-A136-41CA01D17671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6505-5054-42E3-B695-3B6E40C452FA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92F8-7C69-42AC-AE1D-3D89DDF42578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0006-B19C-47EA-8DFF-C3EBF264D24A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1F46-18BE-4F4E-9C29-DA661B89609B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0998-59A5-4450-A638-6D2F400D0A51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F1A3-E24C-43D1-BC23-2A2B18CE5FEB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EC1D-9189-410D-80A6-BFFD294B6A4E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5A10-A715-4DB8-B301-37DC9517D465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C980-AB64-4207-875A-39F530B730A2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3B72-877F-4FB5-A1B5-C12A360D3DA3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12D3-8B84-4E10-AE4F-3DF7DF5F7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6D82-EB33-4DB0-B8AF-BEA57C88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F3B6-3640-421A-8A25-85D83624E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14F8-26BE-47B5-A665-278EDABFF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4D43-8A8B-44D5-8285-7DF1D83D0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3CA1-74A1-4199-82AE-C499788B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4F56-942B-4400-AE70-AC8CCA42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4A2D-4CEB-46A6-AB6C-B9D48AD2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2F35-4DF9-456C-AD3C-768A0245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8295-0BFE-42B3-88A8-82AE4EA2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E428B-EA39-461F-984F-EC18EE9F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3206-3890-4346-A210-BB95BFEC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EBF7-F6B4-4223-84C7-AF05F85A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B315-A7F3-4028-BA8F-75972C07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D172-CB0B-49B2-A497-2ED70584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7CE4-1A11-4032-A92C-E53C69E7F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E0339-5528-44EF-B681-3A9A2322B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A5DD-1FA6-46F9-AAB8-86C77415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AF4E-ABD3-4DC4-AD9C-743D1A18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3887-00DE-4EAE-AD22-A19C2CFF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61F9-084B-4BB6-844F-F1E6296E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AFF6-5706-486A-A8AF-2573565B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93C7-BF89-4C58-9B2D-78157561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C15E-BE53-401C-9CD6-2DB81DDF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1027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3C32-0F64-4472-89DF-F5D6E0D6E3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F7CD-6B62-4F21-AFAB-5B4CF0A37A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760" y="609480"/>
            <a:ext cx="8029440" cy="181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00"/>
                </a:solidFill>
                <a:latin typeface="Arial"/>
              </a:rPr>
              <a:t>اساسيات علم الفطريات</a:t>
            </a:r>
            <a:br>
              <a:rPr sz="5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undamentals of Mycolo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209680" y="4724280"/>
            <a:ext cx="4496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bdullah Naser Al-Rahmah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f. of  Mycolog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WordArt 4"/>
          <p:cNvSpPr txBox="1"/>
          <p:nvPr/>
        </p:nvSpPr>
        <p:spPr>
          <a:xfrm>
            <a:off x="8763120" y="228600"/>
            <a:ext cx="237960" cy="33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+mn-cs"/>
              </a:rPr>
              <a:t> 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+mn-cs"/>
              <a:ea typeface="+mn-c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142920" y="214200"/>
            <a:ext cx="8858160" cy="9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</a:rPr>
              <a:t>ب- السيتوبلازم (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Cytoplasm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</a:rPr>
              <a:t>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وهو سائل شفاف قليل اللزوجة تسبح فيه مكونات الخلية ، </a:t>
            </a:r>
            <a:r>
              <a:rPr b="0" lang="ar-SA" sz="2400" spc="-1" strike="noStrike" u="sng">
                <a:solidFill>
                  <a:srgbClr val="ffff00"/>
                </a:solidFill>
                <a:uFillTx/>
                <a:latin typeface="Times New Roman"/>
              </a:rPr>
              <a:t>ولذلك فهو يحتوي على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- النواة 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uclus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)  :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وهي المسؤولة عن جميع الأنشطة الحيوية للخلية 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- سيتوزومات 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ytosomes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) :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وهي جسيمات دقيقة تكون مصاحبة للشبكة  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                           الاندوبلازمية ولها دور هام في تخزين البروتين والأنزيمات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- لوماسومات 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omasomes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):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وهي جسيمات دقيقة توجد بين الجدار الخلوي والغشاء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                              البلازمي ولها دور هام في تكوين الجدار الخلوي 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- رايبوسومات 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ibosomes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) :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جسيمات دقيقة توجد بالقرب من الفجوة العصارية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cuo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                               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" ولها دور في تخليق البروتين وانتاج الأنزيمات 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- الميتوكندريا 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itochondria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):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عضيات عصوية أو كروية لها دور هام في تنظيم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                                   عمليات التنفس وأكسدة الغذاء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- جهاز جولجي 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olgi apparatus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: يتكون من اجسام شبكية تسمي ديكتيوسومات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               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ctyosome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) وهو موجود في بعض الفطريات كالفطريات البيضيية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             والفطريات الزيجويه وغير موجود في باقي الانواع من الفطريات ولا تعرف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             له وظيفه محددة حتي الان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214200" y="642960"/>
            <a:ext cx="8572680" cy="63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00"/>
                </a:solidFill>
                <a:uFillTx/>
                <a:latin typeface="Times New Roman"/>
              </a:rPr>
              <a:t>ملاحظات هامة 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تخلو الفطريات من البلاستيدات 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الخضراء والانثوسيانين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thocyani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ولكن لونها تسببه بعض الأصباغ ذات الطبيعة الكيميائية ، وليس لها أي دور وظيفي أو فسيولوجي في حياة الخلية الفطرية ولكنها تمثل فقط احدى النواتج الأيضية 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** 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الجليكوجين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lycogen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 (النشا الحيواني):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وهو مركب عديد السكريات ، يوجد على هيئة حبيبات منتشرة في السيتوبلازم ولا يوجد في الفطريات "نشا" على الاطلاق وإنما تختزن السكريات على هيئة نشا حيواني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lycoge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لحين احتياج الخلية اليها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***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الفوليوتين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: 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olutin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يحتوي السيتوبلازم على حبيبات صغيرة تعرف باسم الفوليوتين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luti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وهي مركبة من أحماض أمينية متحدة مع فوسفات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ospho-amino aci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ومخزنة لحين احتياج الخلية لها 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WINDOWS\Desktop\living_room.jpg"/>
          <p:cNvPicPr/>
          <p:nvPr/>
        </p:nvPicPr>
        <p:blipFill>
          <a:blip r:embed="rId1"/>
          <a:stretch/>
        </p:blipFill>
        <p:spPr>
          <a:xfrm>
            <a:off x="76320" y="685800"/>
            <a:ext cx="906768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457200" y="1600200"/>
            <a:ext cx="5791320" cy="211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66"/>
                </a:solidFill>
                <a:latin typeface="Times New Roman"/>
              </a:rPr>
              <a:t>Thank You!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1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</a:rPr>
              <a:t>علم الفطريات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000"/>
            </a:br>
            <a:r>
              <a:rPr b="0" lang="ar-SA" sz="3600" spc="-1" strike="noStrike">
                <a:solidFill>
                  <a:srgbClr val="ffcc66"/>
                </a:solidFill>
                <a:latin typeface="Arial"/>
              </a:rPr>
              <a:t>هو العلم الذي يختص بدراسة تركيب وتصنيف وطرق تكاثر الأنواع المختلفة من الفطريات والأهمية  الاقتصادية لها </a:t>
            </a:r>
            <a:r>
              <a:rPr b="0" lang="ar-SA" sz="20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428760" y="3143160"/>
            <a:ext cx="835812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وتفرع هذا العلم وتطور للعديد من العلوم </a:t>
            </a:r>
            <a:r>
              <a:rPr b="0" lang="ar-SA" sz="3600" spc="-1" strike="noStrike">
                <a:solidFill>
                  <a:srgbClr val="ffff00"/>
                </a:solidFill>
                <a:latin typeface="Times New Roman"/>
              </a:rPr>
              <a:t>الرئيسية . أهمها :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علم بيئة الفطريات</a:t>
            </a: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Fungal Ecology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  علم فسيولوجيا الفطريات                   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Fungal Physiology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علم وراثة الفطريات</a:t>
            </a: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Fungal Genetics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     علم أمراض النبات الفطرية</a:t>
            </a: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Fungal Diseases of Plant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 علم الفطريات الطبية</a:t>
            </a: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Medical Mycology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             علم الفطريات الصناعية</a:t>
            </a: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Industrial Mycology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8358480" cy="628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cc66"/>
                </a:solidFill>
                <a:latin typeface="Arial"/>
              </a:rPr>
              <a:t>وتقع الفطريات ضمن مجموعة الكائنات حقيقية </a:t>
            </a:r>
            <a:r>
              <a:rPr b="0" lang="ar-SA" sz="2000" spc="-1" strike="noStrike">
                <a:solidFill>
                  <a:srgbClr val="ffcc66"/>
                </a:solidFill>
                <a:latin typeface="Arial"/>
              </a:rPr>
              <a:t>النواة</a:t>
            </a:r>
            <a:r>
              <a:rPr b="0" lang="ar-SA" sz="2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''Eukaryota''</a:t>
            </a:r>
            <a:r>
              <a:rPr b="0" lang="ar-SA" sz="2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cc66"/>
                </a:solidFill>
                <a:latin typeface="Arial"/>
              </a:rPr>
              <a:t>وتتبع مملكة خاصة بها يطلق عليها "مملكة الفطريات</a:t>
            </a:r>
            <a:r>
              <a:rPr b="0" lang="ar-SA" sz="2000" spc="-1" strike="noStrike">
                <a:solidFill>
                  <a:srgbClr val="ffcc66"/>
                </a:solidFill>
                <a:latin typeface="Arial"/>
              </a:rPr>
              <a:t>"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1" name="Picture 3" descr="taxonimay.bmp"/>
          <p:cNvPicPr/>
          <p:nvPr/>
        </p:nvPicPr>
        <p:blipFill>
          <a:blip r:embed="rId1"/>
          <a:stretch/>
        </p:blipFill>
        <p:spPr>
          <a:xfrm>
            <a:off x="428760" y="1428840"/>
            <a:ext cx="785808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15200" cy="30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ungi</a:t>
            </a:r>
            <a:br>
              <a:rPr sz="3600"/>
            </a:br>
            <a:br>
              <a:rPr sz="1800"/>
            </a:br>
            <a:r>
              <a:rPr b="0" lang="ar-SA" sz="2200" spc="-1" strike="noStrike">
                <a:solidFill>
                  <a:srgbClr val="ffcc66"/>
                </a:solidFill>
                <a:latin typeface="Arial"/>
              </a:rPr>
              <a:t>تقع ضمن مجموعة الكائنات حقيقية النواة (ُ</a:t>
            </a: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Eukaryota</a:t>
            </a:r>
            <a:r>
              <a:rPr b="0" lang="ar-SA" sz="2200" spc="-1" strike="noStrike">
                <a:solidFill>
                  <a:srgbClr val="ffcc66"/>
                </a:solidFill>
                <a:latin typeface="Arial"/>
              </a:rPr>
              <a:t>)  وهي كائنات حية غير ذاتية التغذية (</a:t>
            </a: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Heterotrophs</a:t>
            </a:r>
            <a:r>
              <a:rPr b="0" lang="ar-SA" sz="2200" spc="-1" strike="noStrike">
                <a:solidFill>
                  <a:srgbClr val="ffcc66"/>
                </a:solidFill>
                <a:latin typeface="Arial"/>
              </a:rPr>
              <a:t>) تتكون إما من أجسام وحيدة الخلية كالخمائر أو تتكون من خيوط دقيقة مجهرية الحجم تعرف بـ</a:t>
            </a: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[</a:t>
            </a: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Hyphae</a:t>
            </a: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]</a:t>
            </a:r>
            <a:r>
              <a:rPr b="0" lang="ar-SA" sz="2200" spc="-1" strike="noStrike">
                <a:solidFill>
                  <a:srgbClr val="ffcc66"/>
                </a:solidFill>
                <a:latin typeface="Arial"/>
              </a:rPr>
              <a:t> أو الميسيليوم </a:t>
            </a: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 [</a:t>
            </a: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Mycelium</a:t>
            </a: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] </a:t>
            </a:r>
            <a:r>
              <a:rPr b="0" lang="ar-SA" sz="2200" spc="-1" strike="noStrike">
                <a:solidFill>
                  <a:srgbClr val="ffcc66"/>
                </a:solidFill>
                <a:latin typeface="Arial"/>
              </a:rPr>
              <a:t>وهذا الغزل الفطري قد يكون مقسماً إلى خلايا </a:t>
            </a: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[</a:t>
            </a: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Septated</a:t>
            </a: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]</a:t>
            </a:r>
            <a:r>
              <a:rPr b="0" lang="ar-SA" sz="2200" spc="-1" strike="noStrike">
                <a:solidFill>
                  <a:srgbClr val="ffcc66"/>
                </a:solidFill>
                <a:latin typeface="Arial"/>
              </a:rPr>
              <a:t> بجدر عرضية أو يكون غير مقسم مكوناً ما يعرف بالمدمج الخلوي (</a:t>
            </a:r>
            <a:r>
              <a:rPr b="0" i="1" lang="en-US" sz="2200" spc="-1" strike="noStrike">
                <a:solidFill>
                  <a:srgbClr val="ffcc66"/>
                </a:solidFill>
                <a:latin typeface="Arial"/>
              </a:rPr>
              <a:t>Coenocytic</a:t>
            </a:r>
            <a:r>
              <a:rPr b="0" lang="ar-SA" sz="2200" spc="-1" strike="noStrike">
                <a:solidFill>
                  <a:srgbClr val="ffcc66"/>
                </a:solidFill>
                <a:latin typeface="Arial"/>
              </a:rPr>
              <a:t>) والممكن أن تتحول بعض اجزاء الغزل الفطري إلى ممصات </a:t>
            </a: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[</a:t>
            </a: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Haustoria</a:t>
            </a: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]</a:t>
            </a:r>
            <a:r>
              <a:rPr b="0" lang="ar-SA" sz="2200" spc="-1" strike="noStrike">
                <a:solidFill>
                  <a:srgbClr val="ffcc66"/>
                </a:solidFill>
                <a:latin typeface="Arial"/>
              </a:rPr>
              <a:t> لامتصاص الغذاء كما في الفطريات المتطفلة.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3" name="Picture 3" descr="C:\WINDOWS\Desktop\1-15.jpg"/>
          <p:cNvPicPr/>
          <p:nvPr/>
        </p:nvPicPr>
        <p:blipFill>
          <a:blip r:embed="rId1"/>
          <a:stretch/>
        </p:blipFill>
        <p:spPr>
          <a:xfrm>
            <a:off x="3214800" y="3571920"/>
            <a:ext cx="2714400" cy="2643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vack-up\unfiled\minew\backup\book_program_pictures\pic2\c1\1-7.jpg"/>
          <p:cNvPicPr/>
          <p:nvPr/>
        </p:nvPicPr>
        <p:blipFill>
          <a:blip r:embed="rId2"/>
          <a:stretch/>
        </p:blipFill>
        <p:spPr>
          <a:xfrm>
            <a:off x="6000840" y="3571920"/>
            <a:ext cx="2643120" cy="2643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vack-up\unfiled\minew\backup\book_program_pictures\pic2\c1\1-13.jpg"/>
          <p:cNvPicPr/>
          <p:nvPr/>
        </p:nvPicPr>
        <p:blipFill>
          <a:blip r:embed="rId3"/>
          <a:stretch/>
        </p:blipFill>
        <p:spPr>
          <a:xfrm>
            <a:off x="285840" y="3571920"/>
            <a:ext cx="285732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42920" y="500040"/>
            <a:ext cx="8786880" cy="81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(Fungal nutrition)  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</a:rPr>
              <a:t>طرق التغذية في الفطريات</a:t>
            </a:r>
            <a:r>
              <a:rPr b="1" lang="ar-SA" sz="44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تعد الفطريات من الكائنات غير ذاتية التغذية 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eterotrophic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وتلجأ إلى طرق مختلفة خلال دورة حياتها للحصول على الغذاء وتقسم تبعاً لطريقة تغذيتها إلى خمسة أنواع وهي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00"/>
                </a:solidFill>
                <a:uFillTx/>
                <a:latin typeface="Times New Roman"/>
              </a:rPr>
              <a:t>1</a:t>
            </a:r>
            <a:r>
              <a:rPr b="0" lang="ar-SA" sz="3200" spc="-1" strike="noStrike" u="sng">
                <a:solidFill>
                  <a:srgbClr val="ffff00"/>
                </a:solidFill>
                <a:uFillTx/>
                <a:latin typeface="Times New Roman"/>
              </a:rPr>
              <a:t>- فطريات إجبارية التطفل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[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Obligate Parasitic  Fungi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]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وهي الفطريات التي تعيش متطفلة على عوائل خاصة تلائمها وتسبب لها الأمراض مثل فطر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lasmopara viticola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، الذي يسبب مرض البياض الزغبي للعنب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00"/>
                </a:solidFill>
                <a:uFillTx/>
                <a:latin typeface="Times New Roman"/>
              </a:rPr>
              <a:t>2</a:t>
            </a:r>
            <a:r>
              <a:rPr b="0" lang="ar-SA" sz="3200" spc="-1" strike="noStrike" u="sng">
                <a:solidFill>
                  <a:srgbClr val="ffff00"/>
                </a:solidFill>
                <a:uFillTx/>
                <a:latin typeface="Times New Roman"/>
              </a:rPr>
              <a:t>- فطريات اختيارية التطفل 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[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Facultative Parasitic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]</a:t>
            </a:r>
            <a:r>
              <a:rPr b="0" lang="ar-SA" sz="3200" spc="-1" strike="noStrike" u="sng">
                <a:solidFill>
                  <a:srgbClr val="ffff00"/>
                </a:solidFill>
                <a:uFillTx/>
                <a:latin typeface="Times New Roman"/>
              </a:rPr>
              <a:t> 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وهي الفطريات التي تعيش مترممة في الظروف الطبيعية على البقايا النباتية والحيوانية ، إلا أنها تستطيع التطفل إذا وجدت العائل المناسب ولم تتوفر في البيئة المحيطة بها المواد التي تترمم عليها مثل فطر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usarium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الذي يسبب مرض دبول القطن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0" y="571680"/>
            <a:ext cx="9001080" cy="78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00"/>
                </a:solidFill>
                <a:uFillTx/>
                <a:latin typeface="Times New Roman"/>
              </a:rPr>
              <a:t>3</a:t>
            </a:r>
            <a:r>
              <a:rPr b="0" lang="ar-SA" sz="3200" spc="-1" strike="noStrike" u="sng">
                <a:solidFill>
                  <a:srgbClr val="ffff00"/>
                </a:solidFill>
                <a:uFillTx/>
                <a:latin typeface="Times New Roman"/>
              </a:rPr>
              <a:t>- فطريات إجبارية الترمم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[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Obligate Saprophytic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]</a:t>
            </a:r>
            <a:r>
              <a:rPr b="0" lang="ar-SA" sz="2400" spc="-1" strike="noStrike" u="sng">
                <a:solidFill>
                  <a:srgbClr val="ffff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وهي الفطريات التي لا تستطيع أن تتطفل على كائنات حية أخرى بل تعيش مترممة على المواد العضوية من بقايا نباتية أو حيوانية ، مثل فطر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enicillium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و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spergillu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وأغلب هذه الفطريات المترممة لها قدرة إنزيمية عالية في تحليل بقايا النبات والحيوان ولذلك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تستغل صناعياً في انتاج العديد من المركبات الكيميائية من المخلفات النباتية والحيوانيه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00"/>
                </a:solidFill>
                <a:uFillTx/>
                <a:latin typeface="Times New Roman"/>
              </a:rPr>
              <a:t>4</a:t>
            </a:r>
            <a:r>
              <a:rPr b="0" lang="ar-SA" sz="3200" spc="-1" strike="noStrike" u="sng">
                <a:solidFill>
                  <a:srgbClr val="ffff00"/>
                </a:solidFill>
                <a:uFillTx/>
                <a:latin typeface="Times New Roman"/>
              </a:rPr>
              <a:t>- فطريات اختيارية الترمم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[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Facultative Saprophytic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]</a:t>
            </a:r>
            <a:r>
              <a:rPr b="0" lang="ar-SA" sz="3200" spc="-1" strike="noStrike" u="sng">
                <a:solidFill>
                  <a:srgbClr val="ffff00"/>
                </a:solidFill>
                <a:uFillTx/>
                <a:latin typeface="Times New Roman"/>
              </a:rPr>
              <a:t> 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وهي الفطريات التي تعيش عادة متطفلة ، ولكنها إذا لم تجد العائل المناسب لها فإنها تلجأ إلى الترمم على البقايا العضوية في البيئة المحيطة ، ولذلك يمكن زراعتها في المختبر ، مثل فطريات التفحم المتطفلة على الحبوب ، مثل فطر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stilago Mydis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الذي يسبب مرض التفحم المغطي للذرة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357120" y="642960"/>
            <a:ext cx="842976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00"/>
                </a:solidFill>
                <a:uFillTx/>
                <a:latin typeface="Times New Roman"/>
              </a:rPr>
              <a:t>5</a:t>
            </a:r>
            <a:r>
              <a:rPr b="0" lang="ar-SA" sz="3200" spc="-1" strike="noStrike" u="sng">
                <a:solidFill>
                  <a:srgbClr val="ffff00"/>
                </a:solidFill>
                <a:uFillTx/>
                <a:latin typeface="Times New Roman"/>
              </a:rPr>
              <a:t>- فطريات متكافلة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[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Symbiotic Fungi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] </a:t>
            </a:r>
            <a:r>
              <a:rPr b="0" lang="ar-SA" sz="3200" spc="-1" strike="noStrike" u="sng">
                <a:solidFill>
                  <a:srgbClr val="ffff00"/>
                </a:solidFill>
                <a:uFillTx/>
                <a:latin typeface="Times New Roman"/>
              </a:rPr>
              <a:t> 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وهي الفطريات التي تعيش بطريقة التكافل : أي تبادل المنفعة مع كائنات حية أخرى ، كبعض الطحالب مكونة ما يعرف بالاشن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che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أو كعلاقة بين الفطريات وجذور بعض النباتات الراقية والتي تعرف بـ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ycorrhiz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، وهي نوعين: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أ- (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Ectomycorrhiza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)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حيث  ينمو الفطر علي شكل غلاف فطري يحيط بجذر النبات من الخارج .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ب- (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Endomycorrhiza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حيث ينمو الفطر داخل خلايا القشرة في جذر النبات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357120" y="642960"/>
            <a:ext cx="8429760" cy="68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00"/>
                </a:solidFill>
                <a:uFillTx/>
                <a:latin typeface="Times New Roman"/>
              </a:rPr>
              <a:t>التركيب الداخلي للخلية الفطرية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تتركب خلية الفطر من جزئين رئيسيين هما البروتوبلاست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toplast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والجدار الخلوي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ll Wall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00"/>
                </a:solidFill>
                <a:uFillTx/>
                <a:latin typeface="Times New Roman"/>
              </a:rPr>
              <a:t>أ-</a:t>
            </a:r>
            <a:r>
              <a:rPr b="0" lang="ar-SA" sz="32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</a:rPr>
              <a:t>الجدار الخلوي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Cell Wal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*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يحدد شكل الخلية الفطرية ويحيط بها ، ويحمي محتوياتها الداخلية من بروتوبلاست وعضيات خلوية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**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يتكون الجدار الخلوي للفطريات من كيتين وجلوكان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tin-Gluca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بالإضافة إلى عدد من السكريات تصل إلى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نوع أهمها الجلوكوز ، المانوز ،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etyl Glucose Amine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. وهذا الحال في جميع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الفطريات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ما عدا الفطريات الأسكية والبيضية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scomycete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omycete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 حيث يتكون الجدار الخلوي  فيهما من سيليلوز وجلوكان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2643120" y="285840"/>
            <a:ext cx="485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00"/>
                </a:solidFill>
                <a:uFillTx/>
                <a:latin typeface="Times New Roman"/>
              </a:rPr>
              <a:t>التركيب الداخلي للخلية الفطرية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1" name="Picture 3" descr="fungal cell _c_la_784 copy.jpg"/>
          <p:cNvPicPr/>
          <p:nvPr/>
        </p:nvPicPr>
        <p:blipFill>
          <a:blip r:embed="rId1"/>
          <a:stretch/>
        </p:blipFill>
        <p:spPr>
          <a:xfrm>
            <a:off x="142920" y="1071720"/>
            <a:ext cx="8715240" cy="53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05:15:45Z</dcterms:created>
  <dc:creator>joice</dc:creator>
  <dc:description/>
  <dc:language>en-US</dc:language>
  <cp:lastModifiedBy>user</cp:lastModifiedBy>
  <dcterms:modified xsi:type="dcterms:W3CDTF">2015-09-06T11:37:56Z</dcterms:modified>
  <cp:revision>73</cp:revision>
  <dc:subject/>
  <dc:title>Fungi and the Mycoses</dc:title>
</cp:coreProperties>
</file>