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8827-9211-4958-8A0B-37F90FF8D3D8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8663-AB08-4B59-9D55-54505B69D1B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C84-B2AB-4523-8BD2-7AC21F49A23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0659-3B2A-42A6-BA2E-E3DF87241B2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9FE8-A272-4E9C-BA85-0965ADA5EEF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4950-4338-4AB8-9E7B-3E7485E3FC2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7ADD-F7EC-4628-93D8-5CAD4E85FDF5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68BA-49A0-4C2C-9056-0389E2E77EB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0C1-9719-4803-87BC-F3B49A04BA7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8A1C-C165-4FD3-9BA0-85478F020D4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5D8-F25C-4C8B-8DE4-9050FD6AB31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80F6-2EB5-425E-A21F-BC638905413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C4C-11B4-48FF-9C09-40C52B9C965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02FE-79CE-4BEE-99B8-7EEE2E2397C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61A-E43D-4A14-8F53-8ABB3891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BD3-9BFA-421C-9971-C5FE70F4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340-17AE-4D45-8630-2CF742A1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D03-F2D0-4C87-A750-746DE0D7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5D08-B37B-4C37-B9BF-06CE2727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E145-DA16-4466-BD3E-3F02A349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213-49C0-4315-B6BB-4A13BEA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5930-0E6A-42BA-AE74-1CA71C96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D59-14B3-495E-AF44-3A998C9E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C52B-3E8C-4949-9C53-ECF397B2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E13-1FCC-4951-9E2E-353ED856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A32-68D7-41D4-90CF-0924C36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A63-BE97-4DCC-B286-04B2004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A38-FF63-4E90-ACEA-2107CBC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AE16-3573-41DF-A0E1-F8CFE286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1C22-B0EA-4C01-B7BD-B5EE1882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52AD-3162-479A-93EF-7EF829DF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E5E-FE66-4C83-BB1C-99259D3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DF0-48D7-4899-A882-4BA4642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D9-FD18-4353-B477-4A1062E3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D38-97F6-4092-82AF-22338D1D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34D-D604-4747-8619-BD98B0AB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4DE-2C9C-4CB4-B8AC-CB63270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903-4D70-4F59-A90A-441EC77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766-7577-47E6-8A01-D37B2FC52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C7F-5227-4D96-8A22-80F742394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09480"/>
            <a:ext cx="8029440" cy="18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</a:rPr>
              <a:t>اساسيات علم الفطريات</a:t>
            </a:r>
            <a:br>
              <a:rPr sz="5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damentals of Myc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09680" y="4724280"/>
            <a:ext cx="449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dullah Naser Al-Rahma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. of  Mycolog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42920" y="214200"/>
            <a:ext cx="8858160" cy="9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ب- السيتوبلازم (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ytoplasm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سائل شفاف قليل اللزوجة تسبح فيه مكونات الخلية ،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ولذلك فهو يحتوي عل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نواة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clu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مسؤولة عن جميع الأنشطة الحيوية للخل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سيتوز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to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سيمات دقيقة تكون مصاحبة للشبكة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الاندوبلازمية ولها دور هام في تخزين البروتين والأنزيمات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لوماس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ma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سيمات دقيقة توجد بين الجدار الخلوي والغشاء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   البلازمي ولها دور هام في تكوين الجدار الخلوي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رايبوسومات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ibosome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جسيمات دقيقة توجد بالقرب من الفجوة العصار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cu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" ولها دور في تخليق البروتين وانتاج الأنزيم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ميتوكندريا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itochondri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عضيات عصوية أو كروية لها دور هام في تنظيم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                   عمليات التنفس وأكسدة الغذاء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جهاز جولجي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lgi apparatu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يتكون من اجسام شبكية تسمي ديكتيوسومات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  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tyosom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 وهو موجود في بعض الفطريات كالفطريات البيضيية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والفطريات الزيجويه وغير موجود في باقي الانواع من الفطريات ولا تعرف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           له وظيفه محددة حتي الان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14200" y="642960"/>
            <a:ext cx="85726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Times New Roman"/>
              </a:rPr>
              <a:t>ملاحظات هامة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تخلو الفطريات من البلاستيدات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خضراء والانثوسيان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hocyan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لكن لونها تسببه بعض الأصباغ ذات الطبيعة الكيميائية ، وليس لها أي دور وظيفي أو فسيولوجي في حياة الخلية الفطرية ولكنها تمثل فقط احدى النواتج الأيضية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**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ليكوجين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(النشا الحيواني)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و مركب عديد السكريات ، يوجد على هيئة حبيبات منتشرة في السيتوبلازم ولا يوجد في الفطريات "نشا" على الاطلاق وإنما تختزن السكريات على هيئة نشا حيوان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لحين احتياج الخلية اليها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**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فوليوتين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: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lut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حتوي السيتوبلازم على حبيبات صغيرة تعرف باسم الفوليوت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t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هي مركبة من أحماض أمينية متحدة مع فوسف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spho-amino ac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مخزنة لحين احتياج الخلية لها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WINDOWS\Desktop\living_room.jpg"/>
          <p:cNvPicPr/>
          <p:nvPr/>
        </p:nvPicPr>
        <p:blipFill>
          <a:blip r:embed="rId1"/>
          <a:stretch/>
        </p:blipFill>
        <p:spPr>
          <a:xfrm>
            <a:off x="76320" y="685800"/>
            <a:ext cx="906768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1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علم الفطريات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000"/>
            </a:br>
            <a:r>
              <a:rPr b="0" lang="ar-SA" sz="3600" spc="-1" strike="noStrike">
                <a:solidFill>
                  <a:srgbClr val="ffcc66"/>
                </a:solidFill>
                <a:latin typeface="Arial"/>
              </a:rPr>
              <a:t>هو العلم الذي يختص بدراسة تركيب وتصنيف وطرق تكاثر الأنواع المختلفة من الفطريات والأهمية  الاقتصادية لها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28760" y="3143160"/>
            <a:ext cx="83581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تفرع هذا العلم وتطور للعديد من العلوم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الرئيسية . أهمها 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علم بيئة الفطريات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Ecology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علم فسيولوجيا الفطريات                  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Physiology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علم وراثة الفطريات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Genetic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علم أمراض النبات الفطر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ungal Diseases of Plant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علم الفطريات الطب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Medical Mycolog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             علم الفطريات الصناعية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Industrial Mycolog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358480" cy="62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c66"/>
                </a:solidFill>
                <a:latin typeface="Arial"/>
              </a:rPr>
              <a:t>وتقع الفطريات ضمن مجموعة الكائنات حقيقية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النواة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''Eukaryota''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وتتبع مملكة خاصة بها يطلق عليها "مملكة الفطريات</a:t>
            </a:r>
            <a:r>
              <a:rPr b="0" lang="ar-SA" sz="2000" spc="-1" strike="noStrike">
                <a:solidFill>
                  <a:srgbClr val="ffcc66"/>
                </a:solidFill>
                <a:latin typeface="Arial"/>
              </a:rPr>
              <a:t>"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Picture 3" descr="taxonimay.bmp"/>
          <p:cNvPicPr/>
          <p:nvPr/>
        </p:nvPicPr>
        <p:blipFill>
          <a:blip r:embed="rId1"/>
          <a:stretch/>
        </p:blipFill>
        <p:spPr>
          <a:xfrm>
            <a:off x="428760" y="1428840"/>
            <a:ext cx="78580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15200" cy="30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ngi</a:t>
            </a:r>
            <a:br>
              <a:rPr sz="3600"/>
            </a:br>
            <a:br>
              <a:rPr sz="1800"/>
            </a:b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تقع ضمن مجموعة الكائنات حقيقية النواة (ُ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Eukaryota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 وهي كائنات حية غير ذاتية التغذية (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eterotrophs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تتكون إما من أجسام وحيدة الخلية كالخمائر أو تتكون من خيوط دقيقة مجهرية الحجم تعرف بـ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yphae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أو الميسيليوم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Mycelium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 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وهذا الغزل الفطري قد يكون مقسماً إلى خلايا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Septated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بجدر عرضية أو يكون غير مقسم مكوناً ما يعرف بالمدمج الخلوي (</a:t>
            </a:r>
            <a:r>
              <a:rPr b="0" i="1" lang="en-US" sz="2200" spc="-1" strike="noStrike">
                <a:solidFill>
                  <a:srgbClr val="ffcc66"/>
                </a:solidFill>
                <a:latin typeface="Arial"/>
              </a:rPr>
              <a:t>Coenocytic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) والممكن أن تتحول بعض اجزاء الغزل الفطري إلى ممصات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Haustoria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200" spc="-1" strike="noStrike">
                <a:solidFill>
                  <a:srgbClr val="ffcc66"/>
                </a:solidFill>
                <a:latin typeface="Arial"/>
              </a:rPr>
              <a:t> لامتصاص الغذاء كما في الفطريات المتطفلة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C:\WINDOWS\Desktop\1-15.jpg"/>
          <p:cNvPicPr/>
          <p:nvPr/>
        </p:nvPicPr>
        <p:blipFill>
          <a:blip r:embed="rId1"/>
          <a:stretch/>
        </p:blipFill>
        <p:spPr>
          <a:xfrm>
            <a:off x="3214800" y="3571920"/>
            <a:ext cx="271440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vack-up\unfiled\minew\backup\book_program_pictures\pic2\c1\1-7.jpg"/>
          <p:cNvPicPr/>
          <p:nvPr/>
        </p:nvPicPr>
        <p:blipFill>
          <a:blip r:embed="rId2"/>
          <a:stretch/>
        </p:blipFill>
        <p:spPr>
          <a:xfrm>
            <a:off x="6000840" y="35719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vack-up\unfiled\minew\backup\book_program_pictures\pic2\c1\1-13.jpg"/>
          <p:cNvPicPr/>
          <p:nvPr/>
        </p:nvPicPr>
        <p:blipFill>
          <a:blip r:embed="rId3"/>
          <a:stretch/>
        </p:blipFill>
        <p:spPr>
          <a:xfrm>
            <a:off x="285840" y="3571920"/>
            <a:ext cx="28573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2920" y="500040"/>
            <a:ext cx="8786880" cy="81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Fungal nutrition)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</a:rPr>
              <a:t>طرق التغذية في الفطريات</a:t>
            </a:r>
            <a:r>
              <a:rPr b="1" lang="ar-SA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تعد الفطريات من الكائنات غير ذاتية التغذية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terotrophic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تلجأ إلى طرق مختلفة خلال دورة حياتها للحصول على الغذاء وتقسم تبعاً لطريقة تغذيتها إلى خمسة أنواع وهي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1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إجبارية التطفل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bligate Parasitic 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متطفلة على عوائل خاصة تلائمها وتسبب لها الأمراض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lasmopara viticol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الذي يسبب مرض البياض الزغبي للعنب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2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اختيارية التطفل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acultative Parasi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مترممة في الظروف الطبيعية على البقايا النباتية والحيوانية ، إلا أنها تستطيع التطفل إذا وجدت العائل المناسب ولم تتوفر في البيئة المحيطة بها المواد التي تترمم عليها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sariu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ذي يسبب مرض دبول القطن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571680"/>
            <a:ext cx="9001080" cy="78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إجبارية الترمم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bligate Saprophy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لا تستطيع أن تتطفل على كائنات حية أخرى بل تعيش مترممة على المواد العضوية من بقايا نباتية أو حيوانية ،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أغلب هذه الفطريات المترممة لها قدرة إنزيمية عالية في تحليل بقايا النبات والحيوان ولذل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ستغل صناعياً في انتاج العديد من المركبات الكيميائية من المخلفات النباتية والحيوانيه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4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اختيارية الترمم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acultative Saprophyti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عادة متطفلة ، ولكنها إذا لم تجد العائل المناسب لها فإنها تلجأ إلى الترمم على البقايا العضوية في البيئة المحيطة ، ولذلك يمكن زراعتها في المختبر ، مثل فطريات التفحم المتطفلة على الحبوب ، مثل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stilago Mydi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الذي يسبب مرض التفحم المغطي للذر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357120" y="642960"/>
            <a:ext cx="8429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5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- فطريات متكافلة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ymbiotic Fungi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] 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فطريات التي تعيش بطريقة التكافل : أي تبادل المنفعة مع كائنات حية أخرى ، كبعض الطحالب مكونة ما يعرف بالاش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كعلاقة بين الفطريات وجذور بعض النباتات الراقية والتي تعرف بـ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corrhi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وهي نوعين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أ-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ctomycorrhiz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يث  ينمو الفطر علي شكل غلاف فطري يحيط بجذر النبات من الخارج 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ب-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ndomycorrhiza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حيث ينمو الفطر داخل خلايا القشرة في جذر النب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57120" y="642960"/>
            <a:ext cx="842976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التركيب الداخلي للخلية الفطري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تركب خلية الفطر من جزئين رئيسيين هما البروتوبلاس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plas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الجدار الخلو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أ-</a:t>
            </a: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الجدار الخلوي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يحدد شكل الخلية الفطرية ويحيط بها ، ويحمي محتوياتها الداخلية من بروتوبلاست وعضيات خلو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**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تكون الجدار الخلوي للفطريات من كيتين وجلوكا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tin-Gluc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بالإضافة إلى عدد من السكريات تصل إلى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نوع أهمها الجلوكوز ، المانوز 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tyl Glucose Am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. وهذا الحال في جميع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فطريات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ما عدا الفطريات الأسكية والبيضية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comycet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omycet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حيث يتكون الجدار الخلوي  فيهما من سيليلوز وجلوكان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643120" y="28584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00"/>
                </a:solidFill>
                <a:uFillTx/>
                <a:latin typeface="Times New Roman"/>
              </a:rPr>
              <a:t>التركيب الداخلي للخلية الفطرية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fungal cell _c_la_784 copy.jpg"/>
          <p:cNvPicPr/>
          <p:nvPr/>
        </p:nvPicPr>
        <p:blipFill>
          <a:blip r:embed="rId1"/>
          <a:stretch/>
        </p:blipFill>
        <p:spPr>
          <a:xfrm>
            <a:off x="142920" y="1071720"/>
            <a:ext cx="8715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9-06T11:37:56Z</dcterms:modified>
  <cp:revision>73</cp:revision>
  <dc:subject/>
  <dc:title>Fungi and the Mycoses</dc:title>
</cp:coreProperties>
</file>