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F29D-6983-4796-8E21-E14365CC0A2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4F76-D203-49FD-B1EC-6A97423509BF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389D-C3C3-4DED-803F-7C5F8C25D9D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32BE-75C4-4F1E-888E-ACF146C8830C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7318-E5A5-498E-8CD9-B6419EC715A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9962-20DE-4D40-971B-13F1A8B48C9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702A-F477-4CD2-A9D4-716C80939F5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D76-BF00-4134-B47D-A3D01450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7CA-C01F-47B2-A955-803DA7F5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6F4-286C-46BC-83AA-3C0CA6F3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724-61E8-4E70-911E-A1003619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5E59-AEBB-4115-86B7-B5730C15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7624-BE1B-4B28-A261-5ECA152D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4993-EC06-4C01-BE1C-D99AEFCA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FCCB-B142-4DCC-A3EE-FAAE9064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A183-20D3-4B53-B2F6-8B27DF33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0AC8-930B-4041-BB00-C310F732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50AD-DB4A-4BC9-89AA-9FF92293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81E-420B-4231-9322-41A0F289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2038-A570-44EE-85D4-DF21049A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CB01-9763-4B08-B1E2-521A1112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1D0C-1BF7-4915-A64F-B07175F5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6428-A29A-4A4D-BC16-FE66825F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9F0D-F3B0-4B05-A2A4-F5F5ECE4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B78-A5F0-4068-BC13-89B38BB3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9F2-9872-4451-907A-16F4BB09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3CA-D30E-4AEC-A72C-925880C8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01F-8044-4548-9DD8-0EB73AEF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5B2-558D-483B-B666-C418DC96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4DD-C045-41CF-82B9-6ECD39D1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2098-5B5F-4B6B-A780-A7CD3ADD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FC62-E175-4830-A048-7437F0A3C5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F4A2-D5A8-47FA-9438-A44441F96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142920" y="92160"/>
            <a:ext cx="9001080" cy="68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mycetes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زقية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class:    </a:t>
            </a:r>
            <a:r>
              <a:rPr b="0" i="1" lang="en-US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Hymenoascomycetidae  </a:t>
            </a:r>
            <a:r>
              <a:rPr b="0" i="1" lang="ar-SA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(</a:t>
            </a:r>
            <a:r>
              <a:rPr b="1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الأكياس الزقية تنتظم داخل ثمار زقية - شكل الثمار الزقية اما قرصية (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Apothecia</a:t>
            </a:r>
            <a:r>
              <a:rPr b="1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) او قاروية (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Perithecia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143240" y="1928880"/>
            <a:ext cx="4857840" cy="39952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ffffff"/>
                </a:solidFill>
                <a:latin typeface="Times New Roman"/>
              </a:rPr>
              <a:t>مجموعة الفطريات القارورية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ries: Pyrenomyce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تكون ثمار زقية قارورية الشكل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ithecium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الثمار الزقية من الممكن ان تنتظم داخل حشوة ثمرية (ٍ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orma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ولذلك تقسم الي عدة رتب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der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 اهمها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rysiphales (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لا تكون حشوة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vicipitales (Storma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42920" y="1928880"/>
            <a:ext cx="3929040" cy="5274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ffffff"/>
                </a:solidFill>
                <a:latin typeface="Times New Roman"/>
              </a:rPr>
              <a:t>مجموعة الفطريات الكأســية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ries: Di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تكون ثمار زقية كأسية الشكل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othecium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الثمار الزقية اما ان تكون تحت سطح التربة او فوق سطح التربة ولذلك تقسم الي عدد من الرتب طبقا لهذة الظاهرة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00"/>
                </a:solidFill>
                <a:uFillTx/>
                <a:latin typeface="Times New Roman"/>
              </a:rPr>
              <a:t>مجموعة الفطريات الزقية النامية فوق سطح التربة وتشمل رتبتان</a:t>
            </a:r>
            <a:r>
              <a:rPr b="0" i="1" lang="ar-SA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pigean Di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ziz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rchell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 u="sng">
                <a:solidFill>
                  <a:srgbClr val="ffff00"/>
                </a:solidFill>
                <a:uFillTx/>
                <a:latin typeface="Times New Roman"/>
              </a:rPr>
              <a:t>مجموعة الفطريات النامية تحت سطح التربة وتشمل رتبتان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ypogean Di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uber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erfezi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 flipH="1">
            <a:off x="3857400" y="1143000"/>
            <a:ext cx="714960" cy="1000800"/>
          </a:xfrm>
          <a:prstGeom prst="straightConnector1">
            <a:avLst/>
          </a:prstGeom>
          <a:ln w="9360">
            <a:solidFill>
              <a:srgbClr val="99ffff"/>
            </a:solidFill>
            <a:miter/>
            <a:tailEnd len="med" type="arrow" w="med"/>
          </a:ln>
        </p:spPr>
      </p:cxnSp>
      <p:cxnSp>
        <p:nvCxnSpPr>
          <p:cNvPr id="100" name="Straight Arrow Connector 4"/>
          <p:cNvCxnSpPr/>
          <p:nvPr/>
        </p:nvCxnSpPr>
        <p:spPr>
          <a:xfrm>
            <a:off x="4643280" y="1143000"/>
            <a:ext cx="858240" cy="1000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14200" y="64296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214200" y="142920"/>
            <a:ext cx="8643960" cy="81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:  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class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Hymenoascomycetid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ies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Pyren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Erysiphales 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: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  Erysiphaceae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تمتاز فطريات هذة العائلة بان ثمارها كروية مغلقة ولا توجد داخل حشوة ثمرية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فرادها اجبارية التطفل علي النباتات مسببة مرض البياض الدقيقي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wdery mildew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تنمو سطحيا علي النبات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ctophytic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 مرسلة ممصات من خلال الثغور الموجودة بالاوراق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تصنف افراد هذة العائلة تبعا لعدد الاكياس الزقية والزوائد الموجودة علي الجدار الخارجي للثمرة الزقية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أطراف زوائد الثمرة الزقية ثنائية التفرع 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حتوت على عدد من الأكياس الزقية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icrosphaer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حتوت على كيس زقي واحد "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dosphaer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p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أطراف زوائد الثمرة الزقية مستقيمة 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حتوت على عدد من الأكياس الزقية ”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rysiphe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حتوت على كيس زقي واحد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phaerotheca s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الزوائد منتفخة ذات قواعد بصيلية :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لذلك تعرف علي انها فطر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hyllactinia s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ar-SA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الزوائد حول الثمرة الزقية خطافية ملتفة :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لذلك تعرف علي انها فطر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nicinula s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14200" y="64296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321120" y="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Powdery mildew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9" descr="http://www.apsnet.org/publications/imageresources/PublishingImages/2010/IW000124.jpg"/>
          <p:cNvPicPr/>
          <p:nvPr/>
        </p:nvPicPr>
        <p:blipFill>
          <a:blip r:embed="rId1"/>
          <a:stretch/>
        </p:blipFill>
        <p:spPr>
          <a:xfrm>
            <a:off x="214200" y="571680"/>
            <a:ext cx="4429080" cy="6105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9"/>
          <p:cNvSpPr/>
          <p:nvPr/>
        </p:nvSpPr>
        <p:spPr>
          <a:xfrm>
            <a:off x="4825080" y="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Microsphera or Podospher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Picture 13" descr="http://uqu.edu.sa/files2/tiny_mce/plugins/filemanager/files/3930100/5)%20Podosphaera.jpg"/>
          <p:cNvPicPr/>
          <p:nvPr/>
        </p:nvPicPr>
        <p:blipFill>
          <a:blip r:embed="rId2"/>
          <a:stretch/>
        </p:blipFill>
        <p:spPr>
          <a:xfrm>
            <a:off x="4786200" y="571680"/>
            <a:ext cx="4214880" cy="307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http://www.cals.ncsu.edu/course/pp318/profiles_mirror/fdh/00100101.jpg"/>
          <p:cNvPicPr/>
          <p:nvPr/>
        </p:nvPicPr>
        <p:blipFill>
          <a:blip r:embed="rId3"/>
          <a:stretch/>
        </p:blipFill>
        <p:spPr>
          <a:xfrm>
            <a:off x="4786200" y="4143240"/>
            <a:ext cx="207180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http://old.botany.upol.cz/atlasy/system/images/ascomycetes/erysiphales/Podosphaera_xanthii-Senecio_nemorensis.jpg"/>
          <p:cNvPicPr/>
          <p:nvPr/>
        </p:nvPicPr>
        <p:blipFill>
          <a:blip r:embed="rId4"/>
          <a:stretch/>
        </p:blipFill>
        <p:spPr>
          <a:xfrm>
            <a:off x="7000920" y="4143240"/>
            <a:ext cx="1976400" cy="2500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4"/>
          <p:cNvSpPr/>
          <p:nvPr/>
        </p:nvSpPr>
        <p:spPr>
          <a:xfrm>
            <a:off x="4848840" y="36432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Microspher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6985800" y="364320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odospher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6000840" y="11440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rysiphe sp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6" descr="http://botany.upol.cz/atlasy/system/images/ascomycetes/erysiphales/erysiphe-vrecko.jpg"/>
          <p:cNvPicPr/>
          <p:nvPr/>
        </p:nvPicPr>
        <p:blipFill>
          <a:blip r:embed="rId1"/>
          <a:stretch/>
        </p:blipFill>
        <p:spPr>
          <a:xfrm>
            <a:off x="142920" y="1928880"/>
            <a:ext cx="4429080" cy="3286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ttp://www.niaes.affrc.go.jp/inventory/microorg/mokuroku/Erysiphe%20kusanoi.jpg"/>
          <p:cNvPicPr/>
          <p:nvPr/>
        </p:nvPicPr>
        <p:blipFill>
          <a:blip r:embed="rId2"/>
          <a:stretch/>
        </p:blipFill>
        <p:spPr>
          <a:xfrm>
            <a:off x="4643280" y="1928880"/>
            <a:ext cx="4376880" cy="3286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064880" y="114300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phaerothec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Picture 6" descr="https://encrypted-tbn0.gstatic.com/images?q=tbn:ANd9GcTx4dnNIUvdkBX0JbSbvklgzKvfTZkb4hgmmtaoE1F-AF8qhWhq"/>
          <p:cNvPicPr/>
          <p:nvPr/>
        </p:nvPicPr>
        <p:blipFill>
          <a:blip r:embed="rId1"/>
          <a:stretch/>
        </p:blipFill>
        <p:spPr>
          <a:xfrm>
            <a:off x="214200" y="1571760"/>
            <a:ext cx="4357800" cy="3857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http://www.uoguelph.ca/~gbarron/MISCELLANEOUS/uncinu2.jpg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37861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710280" y="857160"/>
            <a:ext cx="250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hyllactinia sp.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429160" y="85716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ncinula sp.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42920" y="1600200"/>
            <a:ext cx="8786880" cy="34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85840" y="428760"/>
            <a:ext cx="864396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:  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class: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Hymenoascomycetid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ies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Pyren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Clavicipitales 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: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  Clavicipitace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ثمارها الزقية قارورية تنتظم داخل حشوة ثمرية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rma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إجبارية التطفل على النجيليات خاصة القمح والشعير مسببة مرض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got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أشهر أفرادها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avicipes purpure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ذي يسبب مرض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got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للقمح والشعير وهو يكون أجسام حجر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lerot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أهمية الدوائية للأرجوت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rgo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يحتوي على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aloid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يحتوي على ماد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got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يدخل في سلسلة من التحولات لإنتاج الكورتوزون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ezo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s://atrium.lib.uoguelph.ca/xmlui/bitstream/handle/10214/5725/Claviceps_purpurea_cause_of_Ergot_of_Rye.jpg?sequence=1"/>
          <p:cNvPicPr/>
          <p:nvPr/>
        </p:nvPicPr>
        <p:blipFill>
          <a:blip r:embed="rId1"/>
          <a:stretch/>
        </p:blipFill>
        <p:spPr>
          <a:xfrm>
            <a:off x="285840" y="1357200"/>
            <a:ext cx="4214880" cy="457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www.sciencephoto.com/image/128799/350wm/C0065685-Ergot_Claviceps_purpurea_on_wheat-SPL.jpg"/>
          <p:cNvPicPr/>
          <p:nvPr/>
        </p:nvPicPr>
        <p:blipFill>
          <a:blip r:embed="rId2"/>
          <a:stretch/>
        </p:blipFill>
        <p:spPr>
          <a:xfrm>
            <a:off x="4643280" y="1357200"/>
            <a:ext cx="414360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730080" y="857160"/>
            <a:ext cx="37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rgot disease of Wheat .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237240" y="3929040"/>
            <a:ext cx="36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lerotia of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avicipes.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4" name="Picture 2" descr="https://encrypted-tbn1.gstatic.com/images?q=tbn:ANd9GcQRPA2e1nz0kOIhPmXxYXViZObGLevHLKNzLvKt5HKsLqu6t6Qg"/>
          <p:cNvPicPr/>
          <p:nvPr/>
        </p:nvPicPr>
        <p:blipFill>
          <a:blip r:embed="rId1"/>
          <a:stretch/>
        </p:blipFill>
        <p:spPr>
          <a:xfrm>
            <a:off x="214200" y="4429080"/>
            <a:ext cx="428652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www.pilzepilze.de/galerie/d/2017-2/5"/>
          <p:cNvPicPr/>
          <p:nvPr/>
        </p:nvPicPr>
        <p:blipFill>
          <a:blip r:embed="rId2"/>
          <a:stretch/>
        </p:blipFill>
        <p:spPr>
          <a:xfrm>
            <a:off x="5214960" y="4357800"/>
            <a:ext cx="2857320" cy="2286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857840" y="385776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ination of Sclerotia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Picture 8" descr="http://www.corbisimages.com/images/Corbis-42-26621146.jpg?size=67&amp;uid=8588f5a3-8103-4cce-99d4-f8b77ce5da5d"/>
          <p:cNvPicPr/>
          <p:nvPr/>
        </p:nvPicPr>
        <p:blipFill>
          <a:blip r:embed="rId3"/>
          <a:stretch/>
        </p:blipFill>
        <p:spPr>
          <a:xfrm>
            <a:off x="4786200" y="428760"/>
            <a:ext cx="400068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https://c2.staticflickr.com/6/5298/5513978746_2316ab6dd8.jpg"/>
          <p:cNvPicPr/>
          <p:nvPr/>
        </p:nvPicPr>
        <p:blipFill>
          <a:blip r:embed="rId4"/>
          <a:stretch/>
        </p:blipFill>
        <p:spPr>
          <a:xfrm>
            <a:off x="142920" y="428760"/>
            <a:ext cx="4572000" cy="3481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15840" y="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ma of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avicip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1785960" y="385776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5-04-14T08:43:59Z</dcterms:modified>
  <cp:revision>295</cp:revision>
  <dc:subject/>
  <dc:title>Fungi and the Mycoses</dc:title>
</cp:coreProperties>
</file>