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A42F-986E-4677-8DB2-BDD64593DCE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D12B-8916-46BF-BE4B-D9F80F52F9C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D023-7506-4BA7-95D6-5353FA56AAA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7DE4-D016-4FA1-94B3-4603FDD1E28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2F64-A2E7-44E6-8926-48186A9CD19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ADA6-0BC2-4A06-8475-FFEFE8560E9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2556-12DA-421E-8BF0-ACFEBFE85BB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C79-AAD7-4450-A665-5FB9EB16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815-4FC4-4345-BE91-54B09D05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DEC-4335-42C9-8976-FDC51AE8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E7B-36AF-482D-91A7-622D14DB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2583-BBC5-4E71-810F-4A5F0F72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EE0E-ADE8-43E6-BD78-E46253DA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B541-80C0-4EAF-B763-D8309A3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7261-0822-42C3-8CAD-0A5E5A92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4FB8-5215-43CF-97E7-F79794CD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918E-ACB7-4FB5-BDD6-9CAC2A1A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6085-7F19-4E8D-ACB1-77116199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C33-F777-4606-B599-E05D2A16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B746-8765-4F82-94C3-45DABB70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1509-A24B-4DCB-A8F4-C468FA72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9D0F-1C31-4908-A521-192840A7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7291-267E-4997-B464-C9422C65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9265-B392-4ED4-8647-18497347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FE0-9EDE-48AB-860F-CB804C5F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B6C-41EF-4532-B03F-CD0CDEEF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DEC-D65C-4777-BDB7-40AF0085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737-E9CF-4434-9305-83544C15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F59-9D05-46B0-B768-4A10B8B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553-B901-41CF-B949-447379F8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3C6-4396-40E4-B1C5-AEC5BE88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76A2-9618-41EB-B8D1-0568C11E7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481E-E8D3-417A-9AB9-93BC4393C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42920" y="92160"/>
            <a:ext cx="9001080" cy="68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Hymenoascomycetidae  </a:t>
            </a:r>
            <a:r>
              <a:rPr b="0" i="1" lang="ar-SA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الأكياس الزقية تنتظم داخل ثمار زقية - شكل الثمار الزقية اما قرصية (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Apothecia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 او قاروية (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Perithecia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143240" y="1928880"/>
            <a:ext cx="4857840" cy="3995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قارور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ries: Pyren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كون ثمار زقية قارورية الشكل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ithecium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ثمار الزقية من الممكن ان تنتظم داخل حشوة ثمرية (ٍ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ma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ولذلك تقسم الي عدة رتب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der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 اهمها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rysiphales (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لا تكون حشو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vicipitales (Storma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42920" y="1928880"/>
            <a:ext cx="3929040" cy="52743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ffff"/>
                </a:solidFill>
                <a:latin typeface="Times New Roman"/>
              </a:rPr>
              <a:t>مجموعة الفطريات الكأســية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ries: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كون ثمار زقية كأسية الشكل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othecium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ثمار الزقية اما ان تكون تحت سطح التربة او فوق سطح التربة ولذلك تقسم الي عدد من الرتب طبقا لهذة الظاهرة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00"/>
                </a:solidFill>
                <a:uFillTx/>
                <a:latin typeface="Times New Roman"/>
              </a:rPr>
              <a:t>مجموعة الفطريات الزقية النامية فوق سطح التربة وتشمل رتبتان</a:t>
            </a:r>
            <a:r>
              <a:rPr b="0" i="1" lang="ar-SA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pigean Di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ziz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rchell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 u="sng">
                <a:solidFill>
                  <a:srgbClr val="ffff00"/>
                </a:solidFill>
                <a:uFillTx/>
                <a:latin typeface="Times New Roman"/>
              </a:rPr>
              <a:t>مجموعة الفطريات النامية تحت سطح التربة وتشمل رتبتان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ypogean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uber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rfezi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 flipH="1">
            <a:off x="3857400" y="1143000"/>
            <a:ext cx="714960" cy="1000800"/>
          </a:xfrm>
          <a:prstGeom prst="straightConnector1">
            <a:avLst/>
          </a:prstGeom>
          <a:ln w="9360">
            <a:solidFill>
              <a:srgbClr val="99ffff"/>
            </a:solidFill>
            <a:miter/>
            <a:tailEnd len="med" type="arrow" w="med"/>
          </a:ln>
        </p:spPr>
      </p:cxnSp>
      <p:cxnSp>
        <p:nvCxnSpPr>
          <p:cNvPr id="100" name="Straight Arrow Connector 4"/>
          <p:cNvCxnSpPr/>
          <p:nvPr/>
        </p:nvCxnSpPr>
        <p:spPr>
          <a:xfrm>
            <a:off x="4643280" y="1143000"/>
            <a:ext cx="858240" cy="1000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14200" y="142920"/>
            <a:ext cx="8643960" cy="81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Pyren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Erysiphales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Erysiphaceae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متاز فطريات هذة العائلة بان ثمارها كروية مغلقة ولا توجد داخل حشوة ثمر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فرادها اجبارية التطفل علي النباتات مسببة مرض البياض الدقيقي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wdery mildew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نمو سطحيا علي النبات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tophytic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مرسلة ممصات من خلال الثغور الموجودة بالاوراق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تصنف افراد هذة العائلة تبعا لعدد الاكياس الزقية والزوائد الموجودة علي الجدار الخارجي للثمرة الزقية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أطراف زوائد الثمرة الزقية ثنائية التفرع 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حتوت على عدد من الأكياس الزقي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icrosphaer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حتوت على كيس زقي واحد "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dosphaer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أطراف زوائد الثمرة الزقية مستقيمة 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حتوت على عدد من الأكياس الزقية ”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rysiphe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حتوت على كيس زقي واحد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phaerotheca s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الزوائد منتفخة ذات قواعد بصيلية :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لذلك تعرف علي انها فطر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hyllactinia s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الزوائد حول الثمرة الزقية خطافية ملتفة :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لذلك تعرف علي انها فطر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nicinula s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21120" y="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owdery milde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9" descr="http://www.apsnet.org/publications/imageresources/PublishingImages/2010/IW000124.jpg"/>
          <p:cNvPicPr/>
          <p:nvPr/>
        </p:nvPicPr>
        <p:blipFill>
          <a:blip r:embed="rId1"/>
          <a:stretch/>
        </p:blipFill>
        <p:spPr>
          <a:xfrm>
            <a:off x="214200" y="571680"/>
            <a:ext cx="4429080" cy="6105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4825080" y="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icrosphera or Podospher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13" descr="http://uqu.edu.sa/files2/tiny_mce/plugins/filemanager/files/3930100/5)%20Podosphaera.jpg"/>
          <p:cNvPicPr/>
          <p:nvPr/>
        </p:nvPicPr>
        <p:blipFill>
          <a:blip r:embed="rId2"/>
          <a:stretch/>
        </p:blipFill>
        <p:spPr>
          <a:xfrm>
            <a:off x="4786200" y="571680"/>
            <a:ext cx="4214880" cy="307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http://www.cals.ncsu.edu/course/pp318/profiles_mirror/fdh/00100101.jpg"/>
          <p:cNvPicPr/>
          <p:nvPr/>
        </p:nvPicPr>
        <p:blipFill>
          <a:blip r:embed="rId3"/>
          <a:stretch/>
        </p:blipFill>
        <p:spPr>
          <a:xfrm>
            <a:off x="4786200" y="4143240"/>
            <a:ext cx="207180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http://old.botany.upol.cz/atlasy/system/images/ascomycetes/erysiphales/Podosphaera_xanthii-Senecio_nemorensis.jpg"/>
          <p:cNvPicPr/>
          <p:nvPr/>
        </p:nvPicPr>
        <p:blipFill>
          <a:blip r:embed="rId4"/>
          <a:stretch/>
        </p:blipFill>
        <p:spPr>
          <a:xfrm>
            <a:off x="7000920" y="4143240"/>
            <a:ext cx="1976400" cy="2500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4848840" y="3643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icrosphe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6985800" y="36432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odospher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6000840" y="11440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rysiphe sp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6" descr="http://botany.upol.cz/atlasy/system/images/ascomycetes/erysiphales/erysiphe-vrecko.jpg"/>
          <p:cNvPicPr/>
          <p:nvPr/>
        </p:nvPicPr>
        <p:blipFill>
          <a:blip r:embed="rId1"/>
          <a:stretch/>
        </p:blipFill>
        <p:spPr>
          <a:xfrm>
            <a:off x="142920" y="1928880"/>
            <a:ext cx="4429080" cy="328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www.niaes.affrc.go.jp/inventory/microorg/mokuroku/Erysiphe%20kusanoi.jpg"/>
          <p:cNvPicPr/>
          <p:nvPr/>
        </p:nvPicPr>
        <p:blipFill>
          <a:blip r:embed="rId2"/>
          <a:stretch/>
        </p:blipFill>
        <p:spPr>
          <a:xfrm>
            <a:off x="4643280" y="1928880"/>
            <a:ext cx="4376880" cy="3286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64880" y="11430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phaerothec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6" descr="https://encrypted-tbn0.gstatic.com/images?q=tbn:ANd9GcTx4dnNIUvdkBX0JbSbvklgzKvfTZkb4hgmmtaoE1F-AF8qhWhq"/>
          <p:cNvPicPr/>
          <p:nvPr/>
        </p:nvPicPr>
        <p:blipFill>
          <a:blip r:embed="rId1"/>
          <a:stretch/>
        </p:blipFill>
        <p:spPr>
          <a:xfrm>
            <a:off x="214200" y="1571760"/>
            <a:ext cx="4357800" cy="385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http://www.uoguelph.ca/~gbarron/MISCELLANEOUS/uncinu2.jpg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3786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710280" y="857160"/>
            <a:ext cx="25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hyllactinia sp.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429160" y="85716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ncinula sp.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5840" y="428760"/>
            <a:ext cx="864396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Pyren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Clavicipitales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Clavicipitac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مارها الزقية قارورية تنتظم داخل حشوة ثمري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rm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إجبارية التطفل على النجيليات خاصة القمح والشعير مسببة مرض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أشهر أفراده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vicipes purpure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ذي يسبب مرض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لقمح والشعير وهو يكون أجسام حجر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lerot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أهمية الدوائية للأرجوت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rgo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حتوي على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aloid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حتوي على ماد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دخل في سلسلة من التحولات لإنتاج الكورتوزو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ezo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s://atrium.lib.uoguelph.ca/xmlui/bitstream/handle/10214/5725/Claviceps_purpurea_cause_of_Ergot_of_Rye.jpg?sequence=1"/>
          <p:cNvPicPr/>
          <p:nvPr/>
        </p:nvPicPr>
        <p:blipFill>
          <a:blip r:embed="rId1"/>
          <a:stretch/>
        </p:blipFill>
        <p:spPr>
          <a:xfrm>
            <a:off x="285840" y="1357200"/>
            <a:ext cx="4214880" cy="457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www.sciencephoto.com/image/128799/350wm/C0065685-Ergot_Claviceps_purpurea_on_wheat-SPL.jpg"/>
          <p:cNvPicPr/>
          <p:nvPr/>
        </p:nvPicPr>
        <p:blipFill>
          <a:blip r:embed="rId2"/>
          <a:stretch/>
        </p:blipFill>
        <p:spPr>
          <a:xfrm>
            <a:off x="4643280" y="1357200"/>
            <a:ext cx="41436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730080" y="857160"/>
            <a:ext cx="37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rgot disease of Wheat .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237240" y="3929040"/>
            <a:ext cx="36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lerotia of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avicipes.</a:t>
            </a:r>
            <a:r>
              <a:rPr b="0" i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Picture 2" descr="https://encrypted-tbn1.gstatic.com/images?q=tbn:ANd9GcQRPA2e1nz0kOIhPmXxYXViZObGLevHLKNzLvKt5HKsLqu6t6Qg"/>
          <p:cNvPicPr/>
          <p:nvPr/>
        </p:nvPicPr>
        <p:blipFill>
          <a:blip r:embed="rId1"/>
          <a:stretch/>
        </p:blipFill>
        <p:spPr>
          <a:xfrm>
            <a:off x="214200" y="4429080"/>
            <a:ext cx="428652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pilzepilze.de/galerie/d/2017-2/5"/>
          <p:cNvPicPr/>
          <p:nvPr/>
        </p:nvPicPr>
        <p:blipFill>
          <a:blip r:embed="rId2"/>
          <a:stretch/>
        </p:blipFill>
        <p:spPr>
          <a:xfrm>
            <a:off x="5214960" y="4357800"/>
            <a:ext cx="2857320" cy="2286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857840" y="38577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ination of Scleroti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8" descr="http://www.corbisimages.com/images/Corbis-42-26621146.jpg?size=67&amp;uid=8588f5a3-8103-4cce-99d4-f8b77ce5da5d"/>
          <p:cNvPicPr/>
          <p:nvPr/>
        </p:nvPicPr>
        <p:blipFill>
          <a:blip r:embed="rId3"/>
          <a:stretch/>
        </p:blipFill>
        <p:spPr>
          <a:xfrm>
            <a:off x="4786200" y="428760"/>
            <a:ext cx="400068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ttps://c2.staticflickr.com/6/5298/5513978746_2316ab6dd8.jpg"/>
          <p:cNvPicPr/>
          <p:nvPr/>
        </p:nvPicPr>
        <p:blipFill>
          <a:blip r:embed="rId4"/>
          <a:stretch/>
        </p:blipFill>
        <p:spPr>
          <a:xfrm>
            <a:off x="142920" y="428760"/>
            <a:ext cx="4572000" cy="3481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15840" y="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ma of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avicip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1785960" y="3857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4-14T08:43:59Z</dcterms:modified>
  <cp:revision>295</cp:revision>
  <dc:subject/>
  <dc:title>Fungi and the Mycoses</dc:title>
</cp:coreProperties>
</file>