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7D7C-4AF3-49FF-B487-A4DB3E9B064D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34C3-A927-4983-B4F0-086EA614A992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5A2B-7147-4DE5-A09A-9926C131600D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FBAF-DABE-4132-948C-98CE1E42EEC6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66E7-6186-457C-AD6C-23223C436AD1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D330-5298-46C7-97F9-4AB48201428A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746E-F382-4E67-A209-41CEFB1ECB8C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41FF-4DA6-43BA-AA78-94A021C0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DD83-4613-46C7-B654-8FCC6433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FD37-6063-4D26-AF7C-164F961F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99D8-43EB-47C3-8775-8F844AC6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6382-CD0C-4FEB-8100-6C0DE1861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A538-CB43-465B-9D1B-F8F36B33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8D62-9DCC-4568-AD64-2CC8A6C8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9981-F98D-4434-AE98-9AECCCC2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ECC1-1120-475B-A421-9E1953F2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5219-2327-4B23-B208-A480437F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4DA8-3408-4615-87E0-D20E6065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CA6F-6C47-4F42-8916-A43E3F12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236E-A598-4EB9-84FE-EA9D83B4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B3C8-7C40-4589-B6C5-8BF56F26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2AF7-0F2D-4E29-98D3-D0138444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A78A-A133-4934-B140-935AE3FA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D2C9-D8C5-4AAB-BA96-12B93243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0172-CD06-4C52-A715-4C571EA3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69B9-BBB4-4C45-9FF5-39A84E35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DF84-6CF2-4947-906F-043DFF1F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C58D-EEBE-434A-A22E-783AB2CA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89E9-1446-4A0B-A037-0C809293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2583-AA51-4868-9F42-2418E2D7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63F6-A3B0-4E11-9A5E-EA4ADAE3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2D41-51F8-4B26-ADD5-5E276AC571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5BA4-9877-4F94-8A7A-8A0B07C91D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142920" y="92160"/>
            <a:ext cx="9001080" cy="68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comycetes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فطريات الزقية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class:    </a:t>
            </a:r>
            <a:r>
              <a:rPr b="0" i="1" lang="en-US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Hymenoascomycetidae  </a:t>
            </a:r>
            <a:r>
              <a:rPr b="0" i="1" lang="ar-SA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(</a:t>
            </a:r>
            <a:r>
              <a:rPr b="1" lang="ar-SA" sz="1800" spc="-1" strike="noStrike" u="sng">
                <a:solidFill>
                  <a:srgbClr val="ffff00"/>
                </a:solidFill>
                <a:uFillTx/>
                <a:latin typeface="Times New Roman"/>
              </a:rPr>
              <a:t>الأكياس الزقية تنتظم داخل ثمار زقية - شكل الثمار الزقية اما قرصية (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Apothecia</a:t>
            </a:r>
            <a:r>
              <a:rPr b="1" lang="ar-SA" sz="1800" spc="-1" strike="noStrike" u="sng">
                <a:solidFill>
                  <a:srgbClr val="ffff00"/>
                </a:solidFill>
                <a:uFillTx/>
                <a:latin typeface="Times New Roman"/>
              </a:rPr>
              <a:t>) او قاروية (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Preithecia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4143240" y="1928880"/>
            <a:ext cx="4857840" cy="39952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ffffff"/>
                </a:solidFill>
                <a:latin typeface="Times New Roman"/>
              </a:rPr>
              <a:t>مجموعة الفطريات القارورية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eries: Pyrenomycet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تكون ثمار زقية قارورية الشكل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rithecium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الثمار الزقية من الممكن ان تنتظم داخل حشوة ثمرية (ٍ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orma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ولذلك تقسم الي عدة رتب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rder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) اهمها: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rysiphales (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لا تكون حشوة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lavicipitales (Storma)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42920" y="1928880"/>
            <a:ext cx="3929040" cy="5427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ffffff"/>
                </a:solidFill>
                <a:latin typeface="Times New Roman"/>
              </a:rPr>
              <a:t>مجموعة الفطريات الكأســية (القرصية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eries: Discomyce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تكون ثمار زقية كأسية الشكل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othecium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الثمار الزقية اما ان تكون تحت سطح التربة او فوق سطح التربة ولذلك تقسم الي عدد من الرتب طبقا لهذة الظاهرة</a:t>
            </a:r>
            <a:r>
              <a:rPr b="0" i="1" lang="ar-SA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00"/>
                </a:solidFill>
                <a:uFillTx/>
                <a:latin typeface="Times New Roman"/>
              </a:rPr>
              <a:t>مجموعة الفطريات الزقية النامية فوق سطح التربة وتشمل رتبتان</a:t>
            </a:r>
            <a:r>
              <a:rPr b="0" i="1" lang="ar-SA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Epigean Dicomycet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eziza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rchella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 u="sng">
                <a:solidFill>
                  <a:srgbClr val="ffff00"/>
                </a:solidFill>
                <a:uFillTx/>
                <a:latin typeface="Times New Roman"/>
              </a:rPr>
              <a:t>مجموعة الفطريات النامية تحت سطح التربة وتشمل رتبتان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Hypogean Discomycetes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ubera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erfezia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99" name="Straight Arrow Connector 8"/>
          <p:cNvCxnSpPr/>
          <p:nvPr/>
        </p:nvCxnSpPr>
        <p:spPr>
          <a:xfrm flipH="1">
            <a:off x="3857400" y="1143000"/>
            <a:ext cx="714960" cy="1000800"/>
          </a:xfrm>
          <a:prstGeom prst="straightConnector1">
            <a:avLst/>
          </a:prstGeom>
          <a:ln w="9360">
            <a:solidFill>
              <a:srgbClr val="99ffff"/>
            </a:solidFill>
            <a:miter/>
            <a:tailEnd len="med" type="arrow" w="med"/>
          </a:ln>
        </p:spPr>
      </p:cxnSp>
      <p:cxnSp>
        <p:nvCxnSpPr>
          <p:cNvPr id="100" name="Straight Arrow Connector 4"/>
          <p:cNvCxnSpPr/>
          <p:nvPr/>
        </p:nvCxnSpPr>
        <p:spPr>
          <a:xfrm>
            <a:off x="4643280" y="1143000"/>
            <a:ext cx="858240" cy="10008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Rectangle 25"/>
          <p:cNvSpPr/>
          <p:nvPr/>
        </p:nvSpPr>
        <p:spPr>
          <a:xfrm>
            <a:off x="142920" y="-39600"/>
            <a:ext cx="9001080" cy="82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comycetes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فطريات الزقية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class:    </a:t>
            </a:r>
            <a:r>
              <a:rPr b="0" i="1" lang="en-US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Hymenoascomycetidae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Series:</a:t>
            </a:r>
            <a:r>
              <a:rPr b="0" i="1" lang="en-US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 Discomycetes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مجموعة الفطريات الكأســية (القرصية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     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(الأكياس الزقية تنتظم داخل ثمار زقية – قرصية اوكأسية الشكل (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Apothecia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 </a:t>
            </a:r>
            <a:r>
              <a:rPr b="0" i="1" lang="ar-SA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4143240" y="2571840"/>
            <a:ext cx="4857840" cy="3508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مجموعة الفطريات القرصية الفوق ارضية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pigean Dicomycet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مجموعة الفطريات الزقية النامية فوق سطح التربة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وتشمل رتبتان</a:t>
            </a:r>
            <a:r>
              <a:rPr b="0" i="1" lang="ar-S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eziza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rchella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142920" y="2571840"/>
            <a:ext cx="3929040" cy="39956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مجموعة الفطريات (القرصية) التحت ارضية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Hypogean Discomycet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مجموعة الفطريات النامية تحت سطح التربة وتشمل رتبتان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ubera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erfezia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105" name="Straight Arrow Connector 8"/>
          <p:cNvCxnSpPr/>
          <p:nvPr/>
        </p:nvCxnSpPr>
        <p:spPr>
          <a:xfrm flipH="1">
            <a:off x="3357360" y="1643040"/>
            <a:ext cx="1000800" cy="929520"/>
          </a:xfrm>
          <a:prstGeom prst="straightConnector1">
            <a:avLst/>
          </a:prstGeom>
          <a:ln w="9360">
            <a:solidFill>
              <a:srgbClr val="99ffff"/>
            </a:solidFill>
            <a:miter/>
            <a:tailEnd len="med" type="arrow" w="med"/>
          </a:ln>
        </p:spPr>
      </p:cxnSp>
      <p:cxnSp>
        <p:nvCxnSpPr>
          <p:cNvPr id="106" name="Straight Arrow Connector 4"/>
          <p:cNvCxnSpPr/>
          <p:nvPr/>
        </p:nvCxnSpPr>
        <p:spPr>
          <a:xfrm>
            <a:off x="4428000" y="1571760"/>
            <a:ext cx="857880" cy="10008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14200" y="642960"/>
            <a:ext cx="87868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14200" y="142920"/>
            <a:ext cx="8643960" cy="66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ass:    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scomyce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class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Hymenoascomycetid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ries: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Discomyce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Pezizales  </a:t>
            </a: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mily: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   Pezizaceae (Peziz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ينتمي فطر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Peziza sp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الي مجموعة الزقيات القرصية النامية فوق سطح الأرض (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Epigean Discomycetes</a:t>
            </a: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مترممة على الدبال وبقايا الأخشاب وثمارها الزقية صالحة للاكل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تتكاثر لاجنسياً بواسطة الكونيدات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تتكاثر جنسياً ولكن دون وجود أعضاء تكاثر مميزة ، كالأنثريدة والأوجونة </a:t>
            </a: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5" descr="https://encrypted-tbn1.gstatic.com/images?q=tbn:ANd9GcS0AYGdIR_PA-gwWIZUSrowQPAiZuqPCgkr12Q5rmekXaUnBIuO"/>
          <p:cNvPicPr/>
          <p:nvPr/>
        </p:nvPicPr>
        <p:blipFill>
          <a:blip r:embed="rId1"/>
          <a:stretch/>
        </p:blipFill>
        <p:spPr>
          <a:xfrm>
            <a:off x="214200" y="4071960"/>
            <a:ext cx="2500560" cy="2428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http://photos.rnr.id.au/2010/09/22/Peziza_repanda_Taradale100922-2990.jpg"/>
          <p:cNvPicPr/>
          <p:nvPr/>
        </p:nvPicPr>
        <p:blipFill>
          <a:blip r:embed="rId2"/>
          <a:stretch/>
        </p:blipFill>
        <p:spPr>
          <a:xfrm>
            <a:off x="2786040" y="4071960"/>
            <a:ext cx="2143080" cy="2428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ttp://userwww.sfsu.edu/biol240/labs/lab_08fungi/media/peziza2.jpg"/>
          <p:cNvPicPr/>
          <p:nvPr/>
        </p:nvPicPr>
        <p:blipFill>
          <a:blip r:embed="rId3"/>
          <a:stretch/>
        </p:blipFill>
        <p:spPr>
          <a:xfrm>
            <a:off x="5029200" y="4071960"/>
            <a:ext cx="3828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14200" y="642960"/>
            <a:ext cx="87868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214200" y="142920"/>
            <a:ext cx="8715600" cy="66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ass:    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scomyce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class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Hymenoascomycetid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ries: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Discomyce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Morchellales  </a:t>
            </a: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mily: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   Morchellaceae (Morchell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ينتمي فطر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Morchella sp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لمجموعة الفطريات القرصية النامية فوق سطح الأرض (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Epigean Discomycetes</a:t>
            </a: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مترممة على الدبال وبقايا الأخشاب وثمارها الزقية صالحة للاكل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</a:rPr>
              <a:t>لا تتكاثر لاجنسياً (لا يوجد بها تكاثر لاجنسي في دورة حياتها)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تتكاثر جنسياً ولكن دون وجود أعضاء تكاثر مميزة ، كالأنثريدة والأوجونة </a:t>
            </a: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2" descr="http://ohapbio12.pbworks.com/f/1332394874/morchella.jpg"/>
          <p:cNvPicPr/>
          <p:nvPr/>
        </p:nvPicPr>
        <p:blipFill>
          <a:blip r:embed="rId1"/>
          <a:stretch/>
        </p:blipFill>
        <p:spPr>
          <a:xfrm>
            <a:off x="357120" y="3857760"/>
            <a:ext cx="4071960" cy="2719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://plantphys.info/organismal/labaids/fungi/Morchella.jpg"/>
          <p:cNvPicPr/>
          <p:nvPr/>
        </p:nvPicPr>
        <p:blipFill>
          <a:blip r:embed="rId2"/>
          <a:stretch/>
        </p:blipFill>
        <p:spPr>
          <a:xfrm>
            <a:off x="4572000" y="3857760"/>
            <a:ext cx="43578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14200" y="642960"/>
            <a:ext cx="87868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142920" y="142920"/>
            <a:ext cx="8786880" cy="68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ass:    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scomyce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class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Hymenoascomycetid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ries: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Discomyce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Tuberales     </a:t>
            </a: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mily: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   Tuberaceae (Tuber melanosporum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ينتمي فطر </a:t>
            </a: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Tuber melanosporum</a:t>
            </a: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لمجموعة الفطريات القرصية التحت ارضية (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Hypogean Discomycetes</a:t>
            </a: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مترممة على الدبال وبقايا الأخشاب وثمارها الزقية صالحة للاكل وتعرف باسم </a:t>
            </a:r>
            <a:r>
              <a:rPr b="1" lang="ar-SA" sz="1800" spc="-1" strike="noStrike">
                <a:solidFill>
                  <a:srgbClr val="ffff00"/>
                </a:solidFill>
                <a:latin typeface="Times New Roman"/>
              </a:rPr>
              <a:t>الكمأة الاوروبية او الكمأ الاسود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uropean truffels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lackTruffle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</a:rPr>
              <a:t>تكون علاقة جذر فطرية (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ycorrhizal relationship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</a:rPr>
              <a:t>) مع النباتات الراقية كاشجار البلوط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2" descr="http://masdelgrevol.files.wordpress.com/2012/07/trufa-tuber_aestivum.jpg"/>
          <p:cNvPicPr/>
          <p:nvPr/>
        </p:nvPicPr>
        <p:blipFill>
          <a:blip r:embed="rId1"/>
          <a:stretch/>
        </p:blipFill>
        <p:spPr>
          <a:xfrm>
            <a:off x="285840" y="3786120"/>
            <a:ext cx="4214880" cy="2928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https://encrypted-tbn2.gstatic.com/images?q=tbn:ANd9GcQcIV-14lJoI2_xUGB5aV-YhsylfZUGYuV39br0Is2Qa_XIxFr7"/>
          <p:cNvPicPr/>
          <p:nvPr/>
        </p:nvPicPr>
        <p:blipFill>
          <a:blip r:embed="rId2"/>
          <a:stretch/>
        </p:blipFill>
        <p:spPr>
          <a:xfrm>
            <a:off x="4572000" y="3857760"/>
            <a:ext cx="4286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14200" y="642960"/>
            <a:ext cx="87868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142920" y="142920"/>
            <a:ext cx="8786880" cy="74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ass:    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scomyce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class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Hymenoascomycetid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ries: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Discomyce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Terfeziales     </a:t>
            </a: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mily: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   Terfeziaceae (Terfezi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.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)   </a:t>
            </a: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ينتمي فطر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Terfezia sp</a:t>
            </a: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لمجموعة الفطريات القرصية التحت ارضية (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Hypogean Discomycetes</a:t>
            </a: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مترممة على الدبال وبقايا الأخشاب وثمارها الزقية صالحة للاكل وتعرف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باسم </a:t>
            </a:r>
            <a:r>
              <a:rPr b="1" lang="ar-SA" sz="1800" spc="-1" strike="noStrike">
                <a:solidFill>
                  <a:srgbClr val="ffff00"/>
                </a:solidFill>
                <a:latin typeface="Times New Roman"/>
              </a:rPr>
              <a:t>الكمأة العربية او الكمأ الابيض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rabian truffles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hite truffle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</a:rPr>
              <a:t>تكون علاقة جذر فطرية (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ycorrhizal relationship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</a:rPr>
              <a:t>) مع النباتات الراقية كاشجار الرقروق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يوجد انواع مثل الكمأة الزبيدي (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T. leonis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) والكمأة الابيض (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T. nivea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2" name="Picture 2" descr="http://www.trufamania.com/terfezias/Terfezia%20arenaria.jpg"/>
          <p:cNvPicPr/>
          <p:nvPr/>
        </p:nvPicPr>
        <p:blipFill>
          <a:blip r:embed="rId1"/>
          <a:stretch/>
        </p:blipFill>
        <p:spPr>
          <a:xfrm>
            <a:off x="142920" y="3857760"/>
            <a:ext cx="4143240" cy="285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http://lzqlqw.bay.livefilestore.com/y1pggVPhxs7JeF9rbAxckVueeRnp18kxloOCfayW7A3h2qBp4MJex-3soMeg36fQz0gSKDMF2_Bflqt2lpZilpt8Q/59789823.jpg"/>
          <p:cNvPicPr/>
          <p:nvPr/>
        </p:nvPicPr>
        <p:blipFill>
          <a:blip r:embed="rId2"/>
          <a:stretch/>
        </p:blipFill>
        <p:spPr>
          <a:xfrm>
            <a:off x="4500720" y="3857760"/>
            <a:ext cx="42386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857840" y="535788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ank You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5" name="Picture 6" descr="Terfezia olbiensis spores"/>
          <p:cNvPicPr/>
          <p:nvPr/>
        </p:nvPicPr>
        <p:blipFill>
          <a:blip r:embed="rId1"/>
          <a:stretch/>
        </p:blipFill>
        <p:spPr>
          <a:xfrm>
            <a:off x="4786200" y="1785960"/>
            <a:ext cx="3714840" cy="3000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http://www.uppercrustindia.com/dynamic/uploads/image/UC_55_/Foods%20&amp;%20Wine/Know%20More%20About%20-%20Desert%20Truffles/REU-IRAQ_.jpg"/>
          <p:cNvPicPr/>
          <p:nvPr/>
        </p:nvPicPr>
        <p:blipFill>
          <a:blip r:embed="rId2"/>
          <a:stretch/>
        </p:blipFill>
        <p:spPr>
          <a:xfrm>
            <a:off x="357120" y="1785960"/>
            <a:ext cx="4219560" cy="30002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1241280" y="857160"/>
            <a:ext cx="61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Slide of  Terfezi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Or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T. melanosporu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5:15:45Z</dcterms:created>
  <dc:creator>joice</dc:creator>
  <dc:description/>
  <dc:language>en-US</dc:language>
  <cp:lastModifiedBy>user</cp:lastModifiedBy>
  <dcterms:modified xsi:type="dcterms:W3CDTF">2014-12-11T11:25:01Z</dcterms:modified>
  <cp:revision>322</cp:revision>
  <dc:subject/>
  <dc:title>Fungi and the Mycoses</dc:title>
</cp:coreProperties>
</file>