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C16F-D22C-4FA3-B78E-ECC4D791E2F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B798-649D-4E28-8FEC-F3238DD2BCC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BFCC-89B4-4769-BA33-ADE3C89E335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1B80-4A95-4BB4-A93F-5BD1407693F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C4E2-63CF-4499-A5C5-8A33B50DF29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5F87-F4F2-4808-8014-A287F9E6815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00A0-1044-4993-98ED-ACDA562F3DC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679-9310-45F9-8A47-8D2FCF90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361-E215-4496-A477-91AEDC3D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86E-874E-404F-B650-6AFFD711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C8F-9727-4A8D-AC4D-C26CE1AE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D307-B001-427E-A84B-F9BE8948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1E4E-A7ED-4145-81DC-27EBABE4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FBA-2436-40BB-A2E1-820E1A75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3658-49A3-4BCD-BC50-0CF3F35D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CFEB-8916-483B-9854-A1346B44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0A4F-9CFD-410A-BFE7-494856B8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ACBD-0FCE-42FE-9AA7-A13A259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CF8-6B62-423A-8B79-799ED218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7287-9E71-4F70-995D-32C98DE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0F42-966C-4DCD-AA12-0D5D397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D7F2-F490-4AB0-B388-E7DFCF88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1F33-72F4-462B-9CDC-9DDC69DC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9844-34F1-4A55-A2FB-58BF380A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F2F-F509-4112-B5D4-F4D4206A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F40-D81F-49DF-84E3-AEC5F271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DF3-30C3-43AA-97BA-BD599072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5A3-3FBB-487C-8B49-3A17882B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002-7B26-411F-A5A6-7E64881E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ABC-3EF5-4164-8B45-5EBA0C4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13E-CBD0-49E2-AA39-A3B959F7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A08C-01DD-4084-8592-A69B03E70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D3C4-73BD-4371-AA3B-7DB4C7A81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42920" y="92160"/>
            <a:ext cx="9001080" cy="68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Hymenoascomycetidae  </a:t>
            </a:r>
            <a:r>
              <a:rPr b="0" i="1" lang="ar-SA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الأكياس الزقية تنتظم داخل ثمار زقية - شكل الثمار الزقية اما قرصية (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Apothecia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 او قاروية (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Preithecia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143240" y="1928880"/>
            <a:ext cx="4857840" cy="3995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قارور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eries: Pyren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كون ثمار زقية قارورية الشكل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ithecium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ثمار الزقية من الممكن ان تنتظم داخل حشوة ثمرية (ٍ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ma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ولذلك تقسم الي عدة رتب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der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 اهمها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rysiphales (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لا تكون حشو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vicipitales (Storma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42920" y="1928880"/>
            <a:ext cx="3929040" cy="5427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ffff"/>
                </a:solidFill>
                <a:latin typeface="Times New Roman"/>
              </a:rPr>
              <a:t>مجموعة الفطريات الكأســية (القرصية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ries: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كون ثمار زقية كأسية الشكل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othecium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ثمار الزقية اما ان تكون تحت سطح التربة او فوق سطح التربة ولذلك تقسم الي عدد من الرتب طبقا لهذة الظاهرة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مجموعة الفطريات الزقية النامية فوق سطح التربة وتشمل رتبتان</a:t>
            </a:r>
            <a:r>
              <a:rPr b="0" i="1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pigean Dicomycet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ziz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rchell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 u="sng">
                <a:solidFill>
                  <a:srgbClr val="ffff00"/>
                </a:solidFill>
                <a:uFillTx/>
                <a:latin typeface="Times New Roman"/>
              </a:rPr>
              <a:t>مجموعة الفطريات النامية تحت سطح التربة وتشمل رتبتان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Hypogean Discomycete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uber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rfezi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 flipH="1">
            <a:off x="3857400" y="1143000"/>
            <a:ext cx="714960" cy="1000800"/>
          </a:xfrm>
          <a:prstGeom prst="straightConnector1">
            <a:avLst/>
          </a:prstGeom>
          <a:ln w="9360">
            <a:solidFill>
              <a:srgbClr val="99ffff"/>
            </a:solidFill>
            <a:miter/>
            <a:tailEnd len="med" type="arrow" w="med"/>
          </a:ln>
        </p:spPr>
      </p:cxnSp>
      <p:cxnSp>
        <p:nvCxnSpPr>
          <p:cNvPr id="100" name="Straight Arrow Connector 4"/>
          <p:cNvCxnSpPr/>
          <p:nvPr/>
        </p:nvCxnSpPr>
        <p:spPr>
          <a:xfrm>
            <a:off x="4643280" y="1143000"/>
            <a:ext cx="858240" cy="1000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142920" y="-39600"/>
            <a:ext cx="9001080" cy="82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comycetes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زقية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ss:    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Hymenoascomycetida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raditional Arabic"/>
                <a:ea typeface="Traditional Arabic"/>
              </a:rPr>
              <a:t>Series:</a:t>
            </a: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Discomycetes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مجموعة الفطريات الكأســية (القرصية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   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(الأكياس الزقية تنتظم داخل ثمار زقية – قرصية اوكأسية الشكل (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pothecia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 </a:t>
            </a:r>
            <a:r>
              <a:rPr b="0" i="1" lang="ar-SA" sz="3200" spc="-1" strike="noStrike">
                <a:solidFill>
                  <a:srgbClr val="ffffff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143240" y="2571840"/>
            <a:ext cx="4857840" cy="35082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قرصية الفوق ارض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pigean Dic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زقية النامية فوق سطح التربة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وتشمل رتبتان</a:t>
            </a:r>
            <a:r>
              <a:rPr b="0" i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ziz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rchell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42920" y="2571840"/>
            <a:ext cx="3929040" cy="399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(القرصية) التحت ارضية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ypogean Discomyce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جموعة الفطريات النامية تحت سطح التربة وتشمل رتبتان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uber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rfezi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H="1">
            <a:off x="3357360" y="1643040"/>
            <a:ext cx="1000800" cy="929520"/>
          </a:xfrm>
          <a:prstGeom prst="straightConnector1">
            <a:avLst/>
          </a:prstGeom>
          <a:ln w="9360">
            <a:solidFill>
              <a:srgbClr val="99ffff"/>
            </a:solidFill>
            <a:miter/>
            <a:tailEnd len="med" type="arrow" w="med"/>
          </a:ln>
        </p:spPr>
      </p:cxnSp>
      <p:cxnSp>
        <p:nvCxnSpPr>
          <p:cNvPr id="106" name="Straight Arrow Connector 4"/>
          <p:cNvCxnSpPr/>
          <p:nvPr/>
        </p:nvCxnSpPr>
        <p:spPr>
          <a:xfrm>
            <a:off x="4428000" y="1571760"/>
            <a:ext cx="857880" cy="1000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14200" y="142920"/>
            <a:ext cx="864396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Pezizales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Pezizaceae (Peziz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ينتمي فطر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eziza sp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الي مجموعة الزقيات القرصية النامية فوق سطح الأرض 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Epigean Discomycetes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ترممة على الدبال وبقايا الأخشاب وثمارها الزقية صالحة للاكل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تتكاثر لاجنسياً بواسطة الكونيدات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تكاثر جنسياً ولكن دون وجود أعضاء تكاثر مميزة ، كالأنثريدة والأوجونة 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https://encrypted-tbn1.gstatic.com/images?q=tbn:ANd9GcS0AYGdIR_PA-gwWIZUSrowQPAiZuqPCgkr12Q5rmekXaUnBIuO"/>
          <p:cNvPicPr/>
          <p:nvPr/>
        </p:nvPicPr>
        <p:blipFill>
          <a:blip r:embed="rId1"/>
          <a:stretch/>
        </p:blipFill>
        <p:spPr>
          <a:xfrm>
            <a:off x="214200" y="407196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photos.rnr.id.au/2010/09/22/Peziza_repanda_Taradale100922-2990.jpg"/>
          <p:cNvPicPr/>
          <p:nvPr/>
        </p:nvPicPr>
        <p:blipFill>
          <a:blip r:embed="rId2"/>
          <a:stretch/>
        </p:blipFill>
        <p:spPr>
          <a:xfrm>
            <a:off x="2786040" y="407196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userwww.sfsu.edu/biol240/labs/lab_08fungi/media/peziza2.jpg"/>
          <p:cNvPicPr/>
          <p:nvPr/>
        </p:nvPicPr>
        <p:blipFill>
          <a:blip r:embed="rId3"/>
          <a:stretch/>
        </p:blipFill>
        <p:spPr>
          <a:xfrm>
            <a:off x="5029200" y="4071960"/>
            <a:ext cx="3828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14200" y="142920"/>
            <a:ext cx="871560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Morchellales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Morchellaceae (Morchell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ينتمي فطر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orchella sp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لمجموعة الفطريات القرصية النامية فوق سطح الأرض 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Epigean Discomycetes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مترممة على الدبال وبقايا الأخشاب وثمارها الزقية صالحة للاكل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لا تتكاثر لاجنسياً (لا يوجد بها تكاثر لاجنسي في دورة حياتها)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تتكاثر جنسياً ولكن دون وجود أعضاء تكاثر مميزة ، كالأنثريدة والأوجونة 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2" descr="http://ohapbio12.pbworks.com/f/1332394874/morchella.jpg"/>
          <p:cNvPicPr/>
          <p:nvPr/>
        </p:nvPicPr>
        <p:blipFill>
          <a:blip r:embed="rId1"/>
          <a:stretch/>
        </p:blipFill>
        <p:spPr>
          <a:xfrm>
            <a:off x="357120" y="3857760"/>
            <a:ext cx="4071960" cy="271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plantphys.info/organismal/labaids/fungi/Morchella.jpg"/>
          <p:cNvPicPr/>
          <p:nvPr/>
        </p:nvPicPr>
        <p:blipFill>
          <a:blip r:embed="rId2"/>
          <a:stretch/>
        </p:blipFill>
        <p:spPr>
          <a:xfrm>
            <a:off x="4572000" y="3857760"/>
            <a:ext cx="43578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142920" y="142920"/>
            <a:ext cx="8786880" cy="68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Tuberales   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Tuberaceae (Tuber melanosporum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ينتمي فطر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Tuber melanosporum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لمجموعة الفطريات القرصية التحت ارضية 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ypogean Discomycetes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مترممة على الدبال وبقايا الأخشاب وثمارها الزقية صالحة للاكل وتعرف باسم </a:t>
            </a:r>
            <a:r>
              <a:rPr b="1" lang="ar-SA" sz="1800" spc="-1" strike="noStrike">
                <a:solidFill>
                  <a:srgbClr val="ffff00"/>
                </a:solidFill>
                <a:latin typeface="Times New Roman"/>
              </a:rPr>
              <a:t>الكمأة الاوروبية او الكمأ الاسود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uropean truffels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ackTruffl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كون علاقة جذر فطرية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ycorrhizal relationship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) مع النباتات الراقية كاشجار البلوط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2" descr="http://masdelgrevol.files.wordpress.com/2012/07/trufa-tuber_aestivum.jpg"/>
          <p:cNvPicPr/>
          <p:nvPr/>
        </p:nvPicPr>
        <p:blipFill>
          <a:blip r:embed="rId1"/>
          <a:stretch/>
        </p:blipFill>
        <p:spPr>
          <a:xfrm>
            <a:off x="285840" y="378612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s://encrypted-tbn2.gstatic.com/images?q=tbn:ANd9GcQcIV-14lJoI2_xUGB5aV-YhsylfZUGYuV39br0Is2Qa_XIxFr7"/>
          <p:cNvPicPr/>
          <p:nvPr/>
        </p:nvPicPr>
        <p:blipFill>
          <a:blip r:embed="rId2"/>
          <a:stretch/>
        </p:blipFill>
        <p:spPr>
          <a:xfrm>
            <a:off x="4572000" y="385776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4200" y="64296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2920" y="142920"/>
            <a:ext cx="8786880" cy="74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: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class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Hymenoascomycetid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ries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Discomyce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: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Terfeziales   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: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  Terfeziaceae (Terfezi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.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)   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ينتمي فطر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Terfezia sp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لمجموعة الفطريات القرصية التحت ارضية 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Hypogean Discomycetes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مترممة على الدبال وبقايا الأخشاب وثمارها الزقية صالحة للاكل وتعرف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باسم </a:t>
            </a:r>
            <a:r>
              <a:rPr b="1" lang="ar-SA" sz="1800" spc="-1" strike="noStrike">
                <a:solidFill>
                  <a:srgbClr val="ffff00"/>
                </a:solidFill>
                <a:latin typeface="Times New Roman"/>
              </a:rPr>
              <a:t>الكمأة العربية او الكمأ الابيض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rabian truffles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hite truffl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كون علاقة جذر فطرية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ycorrhizal relationship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) مع النباتات الراقية كاشجار الرقروق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يوجد انواع مثل الكمأة الزبيدي (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. leoni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والكمأة الابيض (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. nivea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2" descr="http://www.trufamania.com/terfezias/Terfezia%20arenaria.jpg"/>
          <p:cNvPicPr/>
          <p:nvPr/>
        </p:nvPicPr>
        <p:blipFill>
          <a:blip r:embed="rId1"/>
          <a:stretch/>
        </p:blipFill>
        <p:spPr>
          <a:xfrm>
            <a:off x="142920" y="3857760"/>
            <a:ext cx="414324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lzqlqw.bay.livefilestore.com/y1pggVPhxs7JeF9rbAxckVueeRnp18kxloOCfayW7A3h2qBp4MJex-3soMeg36fQz0gSKDMF2_Bflqt2lpZilpt8Q/59789823.jpg"/>
          <p:cNvPicPr/>
          <p:nvPr/>
        </p:nvPicPr>
        <p:blipFill>
          <a:blip r:embed="rId2"/>
          <a:stretch/>
        </p:blipFill>
        <p:spPr>
          <a:xfrm>
            <a:off x="4500720" y="3857760"/>
            <a:ext cx="4238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857840" y="5357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6" descr="Terfezia olbiensis spores"/>
          <p:cNvPicPr/>
          <p:nvPr/>
        </p:nvPicPr>
        <p:blipFill>
          <a:blip r:embed="rId1"/>
          <a:stretch/>
        </p:blipFill>
        <p:spPr>
          <a:xfrm>
            <a:off x="4786200" y="1785960"/>
            <a:ext cx="3714840" cy="300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http://www.uppercrustindia.com/dynamic/uploads/image/UC_55_/Foods%20&amp;%20Wine/Know%20More%20About%20-%20Desert%20Truffles/REU-IRAQ_.jpg"/>
          <p:cNvPicPr/>
          <p:nvPr/>
        </p:nvPicPr>
        <p:blipFill>
          <a:blip r:embed="rId2"/>
          <a:stretch/>
        </p:blipFill>
        <p:spPr>
          <a:xfrm>
            <a:off x="357120" y="1785960"/>
            <a:ext cx="421956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241280" y="85716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lide of  Terfezi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. melanosporu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2-11T11:25:01Z</dcterms:modified>
  <cp:revision>322</cp:revision>
  <dc:subject/>
  <dc:title>Fungi and the Mycoses</dc:title>
</cp:coreProperties>
</file>