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E778-FCEB-426F-9474-CE12CC76F8D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0AE8-F96B-4B30-8E8D-B879F947EF9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D386-51FA-4950-BFB8-694CD12164D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144-9C56-47AC-8087-2AD92B5AA02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4834-7932-4EF9-8063-4CA4C3FF7B2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1F03-28B7-49B9-9819-8B6A6B91FCC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D77-CD0D-4DD0-880E-1623A3854D4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0ED-CB39-4338-A91C-227A009DA12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4D0-0BF3-4ED3-994E-DBDEEB47235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814-278D-4D09-8D6D-470E92CF5A0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181-5BC0-4A43-B8E8-D26C1F26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7BF-5575-4E12-B801-FF36498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450-AF21-420B-AB89-F7FC8DAC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175-FB9F-4A15-A7AA-8D8E6625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8EB-2885-4B67-8868-99E0B547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5B0-FCF1-4556-8F50-B0153CE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5353-264B-4601-A603-15E8914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DE10-5A98-43B9-863C-DA6BCDD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615-CD72-4831-9014-97A034FB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14D8-4880-42A9-8732-68690561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4B2-77F4-4E90-982B-8A8DD28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E49-E4E2-40EC-BC22-407F05E0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D48-AA42-4AE7-B1A9-051F9D0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D11-654A-4A8C-96EA-DB21174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6CE3-A5F2-44A2-8726-815DBA6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8AD-9BA7-4CD5-9DDF-149E7C52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095-8BE0-43AA-985A-20A128B2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F42-EB5A-4DA7-B959-B070E1D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470-1EC9-4277-8EDA-C67D96B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1B0-1BC3-47A9-9D4E-179FCF9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CC4-2A55-4FA1-869E-2134A6D6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622-9430-430F-956D-E502BCA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F94-C93A-48FE-A4A1-C371F0E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06C-9C6E-4A8F-9555-0E4D252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F94-0178-434C-903A-CE1D2606B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988B-C88C-4944-92C8-ADF9451BA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-482040"/>
            <a:ext cx="885816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Basidi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كون ابواغ بازيدي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هي تشمل سته رتب أهمها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garical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ymenogastral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der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redin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عرف فطريات هذه الرتبة بفطريات الصدأ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ust Fungi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أن معظهما يكون على النبات في موضع الأجزاء المصابة كتلاً وتبقعات بوغية بنية مصفرة تشبه صدأ الحدي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وهي لا تكون ثمار بازيدية </a:t>
            </a: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واجبارية التطفل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مسببة الأمراض للنبات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مثل 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uccina graminis</a:t>
            </a: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ساق للقمح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و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Uromyces fabae</a:t>
            </a: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فول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و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rosae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hragmedium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توت والورد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ff0000"/>
                </a:solidFill>
                <a:uFillTx/>
                <a:latin typeface="Times New Roman"/>
              </a:rPr>
              <a:t>وتمتاز هذه الفطريات بوجود ظاهرتين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التخصص الفسيولوجي (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Physiological specialism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ي أن كل فطر يختص بإصابة أصناف معينة دون غيرها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تعدد الأطوار البوغية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olymorphism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: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حيث يوجد في دورة حياة هذه الفطريات خمسة أطوار بوغ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8" descr="http://2.bp.blogspot.com/-tJa5VxOsUc8/TfSC4NoCp7I/AAAAAAAACXI/WPKp646AL9I/s400/Phragmidium+rosae-pimpinellifoliae+11jun11+%25281a%2529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2896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Stem rust close up.jpg"/>
          <p:cNvPicPr/>
          <p:nvPr/>
        </p:nvPicPr>
        <p:blipFill>
          <a:blip r:embed="rId2"/>
          <a:stretch/>
        </p:blipFill>
        <p:spPr>
          <a:xfrm>
            <a:off x="214200" y="1928880"/>
            <a:ext cx="2643480" cy="414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topveg.com/wp-content/uploads/2009/04/chocolate-spot-on-beans-300x257.jpg"/>
          <p:cNvPicPr/>
          <p:nvPr/>
        </p:nvPicPr>
        <p:blipFill>
          <a:blip r:embed="rId3"/>
          <a:stretch/>
        </p:blipFill>
        <p:spPr>
          <a:xfrm>
            <a:off x="3000240" y="192888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42920" y="1285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uccina graminis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086280" y="1285920"/>
            <a:ext cx="22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romyces fabae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143760" y="13572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hragmedium ros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42920" y="-396720"/>
            <a:ext cx="8786880" cy="74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 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(تعدد الاطوار البوغية في فطريات الصدأ)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Polymorphism in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Uredin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1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بكنيدي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Pycinal stage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وعاء بكنيدي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Pycnidium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على السطح العلوي للورقة يحتوي بداخله على جراثيم بكنية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Pycniospores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2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أس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Aecial stage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ا يكون الفطر تراكيب كأسية على السطح السفلي للورقة ويحتوي بداخله على جراثيم أسيدية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Aecidospores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3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يور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Ured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بثرات يوريدية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Uredosori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تحتوي بداخلها علي الابواغ اليوريدية (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Uredospores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هي ابواغ احادية الخلية ذات نواتين ومعنقة وتعتبر من اخطر هذة الاطوار في احداث العدوي والاصاب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4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تيليت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el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بثرات تيليتية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Teletosori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تحتوي بداخلها علي الابواغ التيلتية (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Teliospores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أبواغ ثنائية الخلية ، معنقة أي تتكون من خليتان بكل خلية نواة واحدة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بازيدي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Basid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هي تمثل الأبواغ الجنسية "البازيدية”(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Basidiospores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التي تتكون من إنبات الأبواغ التيليتية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57720" y="15001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14200" y="14292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olymorphism in 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12" descr="http://www3.botany.ubc.ca/bakkeren/rustresearch_files/image002.jpg"/>
          <p:cNvPicPr/>
          <p:nvPr/>
        </p:nvPicPr>
        <p:blipFill>
          <a:blip r:embed="rId1"/>
          <a:stretch/>
        </p:blipFill>
        <p:spPr>
          <a:xfrm>
            <a:off x="285840" y="571680"/>
            <a:ext cx="8715240" cy="4643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85840" y="5143680"/>
            <a:ext cx="871524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teroecious fung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فطريات ثنائية العائل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حيث يكمل فطر (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Times New Roman"/>
              </a:rPr>
              <a:t>Puccina graminis</a:t>
            </a: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) دورة حياته علي عائلين نباتين مختلفين هما نبات القمح او الشعير(العائل الابتدائي) ويتكون علية الابواغ اليوريدية والتليتية والبازيدية ونبات الباربري (العائل الثانوي) ويتكون علية الابواغ البكنية والاسيد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ملحوظة</a:t>
            </a: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 :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تعرف الفطريات التي تصيب عائل واحد في دورة حياتها باسم (فطريات احادية العائل) </a:t>
            </a: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utoecious fungi</a:t>
            </a: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)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357720" y="15001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51280" y="21420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morphism 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2" descr="http://facultyweb.berry.edu/mcipollini/bio311/files/rust1.jpg"/>
          <p:cNvPicPr/>
          <p:nvPr/>
        </p:nvPicPr>
        <p:blipFill>
          <a:blip r:embed="rId1"/>
          <a:stretch/>
        </p:blipFill>
        <p:spPr>
          <a:xfrm>
            <a:off x="142920" y="2071800"/>
            <a:ext cx="2857320" cy="37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dipbot.unict.it/sistematica/Immagini/16005.JPG"/>
          <p:cNvPicPr/>
          <p:nvPr/>
        </p:nvPicPr>
        <p:blipFill>
          <a:blip r:embed="rId2"/>
          <a:stretch/>
        </p:blipFill>
        <p:spPr>
          <a:xfrm>
            <a:off x="6143760" y="2071800"/>
            <a:ext cx="2857320" cy="36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uqu.edu.sa/files2/tiny_mce/plugins/filemanager/files/3930100/basido/2)%20Uredospores.jpg"/>
          <p:cNvPicPr/>
          <p:nvPr/>
        </p:nvPicPr>
        <p:blipFill>
          <a:blip r:embed="rId3"/>
          <a:stretch/>
        </p:blipFill>
        <p:spPr>
          <a:xfrm>
            <a:off x="2928960" y="2071800"/>
            <a:ext cx="314316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42920" y="71424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Pycinal and Aecial stag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raditional Arabic"/>
                <a:ea typeface="Arial"/>
              </a:rPr>
              <a:t>Pycniospores &amp; Aecid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429000" y="1071720"/>
            <a:ext cx="2243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Uredial sta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Uredi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572160" y="928800"/>
            <a:ext cx="1976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elial sta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Teli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42920" y="-361080"/>
            <a:ext cx="8858160" cy="74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diomycetes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Ustilaginales 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 تعرف فطريات هذه الرتبة بفطريات التفحم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"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mut Fun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لا تكون ثمار بازيد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عرفت باسم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فطريات التفحم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لأن معظهما يكون على النبات في موضع الأجزاء المصابة كتلاً بوغية سوداء تشبه الأجسام المتفحم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*اختيارية التطفل أي أنها قادرة على الترمم إذا لم تجد العائل المناسب (يمكن زراعتها بالمعمل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cultative Parasitic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ن أمثلتها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فطر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tritici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- الذي يسبب مرض التفحم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قمح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فطر 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maydis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 الذي يسبب مرض التفحم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ذرة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وفطر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nuda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- الذي يسبب مرض التفحم 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شعير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42920" y="1285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maydis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60360" y="128592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triti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286680" y="1214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nu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2" descr="http://www.virtualmuseum.ca/sgc-cms/expositions-exhibitions/champignons-mushrooms/Images/Fungus/Species/Ustilago_md.jpg"/>
          <p:cNvPicPr/>
          <p:nvPr/>
        </p:nvPicPr>
        <p:blipFill>
          <a:blip r:embed="rId1"/>
          <a:stretch/>
        </p:blipFill>
        <p:spPr>
          <a:xfrm>
            <a:off x="214200" y="1714680"/>
            <a:ext cx="2571840" cy="464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archive.agric.wa.gov.au/objtwr/imported_images/fn_455_figure4.jpg"/>
          <p:cNvPicPr/>
          <p:nvPr/>
        </p:nvPicPr>
        <p:blipFill>
          <a:blip r:embed="rId2"/>
          <a:stretch/>
        </p:blipFill>
        <p:spPr>
          <a:xfrm>
            <a:off x="2857680" y="1714680"/>
            <a:ext cx="29286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s://www.agric.wa.gov.au/sites/gateway/files/styles/original/public/covered_smut_barley1_heads.jpg?itok=ybwvr9cA"/>
          <p:cNvPicPr/>
          <p:nvPr/>
        </p:nvPicPr>
        <p:blipFill>
          <a:blip r:embed="rId3"/>
          <a:stretch/>
        </p:blipFill>
        <p:spPr>
          <a:xfrm>
            <a:off x="5857920" y="1714680"/>
            <a:ext cx="30002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14200" y="214200"/>
            <a:ext cx="87156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دورة حياة هذه الفطريات بها بوغين طوريين فقط وهم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طور التيليت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lial stage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هو يمثل الابواغ التيلتية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liospor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غير معنق ويتكون من خلية واحدة ، تحتوي على نواتين (يشبه الطور اليوريدي في فطريات الصدأ) ويعتبر الطور المعدي في فطريات التفحم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طور الباز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asidial stag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هي تمثل الأبواغ الجنسية "البازيدية"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asidiospor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تي تتكون من إنبات الجراثيم التيليت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7120" y="185724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5-25T08:02:20Z</dcterms:modified>
  <cp:revision>301</cp:revision>
  <dc:subject/>
  <dc:title>Fungi and the Mycoses</dc:title>
</cp:coreProperties>
</file>