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FE53-C8F7-46DD-9A3F-98CE22B6070F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7412-7133-436A-B513-E139B6FABCA4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8D0F-0AC2-4F70-9557-736552991F6D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9307-2DD9-4CB7-892E-A8D1E0104185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1BE9-87FF-4A5A-895A-E91B51D1AFD3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B12F-BC10-412D-8496-FB789CFEC169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671C-2A81-4F3B-A3E5-8B37E49F77D2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9B21-75A0-4E5D-B3FC-8E8A6F8A90CB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448E-C95A-473F-A078-127993F2DF99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D259-42E4-4868-A3E8-3BC4C60ED0A6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8D68-6458-4A69-9999-B91DE92E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924-D004-4232-839E-85D16409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8BD0-1DA3-4080-BB1E-5D8A7A24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F807-CB47-4909-9753-918B030C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828D-9D6E-4F8E-B5B2-7470232E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A97B-59CA-40C9-B21B-7F955FDD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C599-E81A-4E8A-AB0A-588624FA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527E-FD04-4722-BFD1-41E8C7EB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0C15-BDAC-4DBE-859A-A6288B8B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3BCB-2FBE-42F3-8320-91A69FD0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3BDD-2E99-4DE5-8A1F-38146001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4BD-C6E8-4F84-8D4F-886F2C14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7DD5-01A7-483D-B361-3C35BF31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D2EB-D93B-4B00-8F05-E9EE9031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1FEB-6BAA-4B1E-9476-97D1FF57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4763-23D6-4F16-AFED-A073696B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4B74-9A20-43C2-B8EA-A38AD566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8A1F-9E6B-4ED7-8BEC-61E7F052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158-9769-49BB-B39F-558FD85E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42A4-0A38-4DE3-8768-4576DF17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6CF9-0494-45B1-B693-4EDAAC42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7FF7-A459-421B-9D57-34115CDE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7172-3E51-43BA-83BF-C31DA20A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80F5-DF7B-4808-9DE0-AC89F5B4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8D17-A9B2-4640-93AD-233720C79C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A861-A619-4568-B0A1-39ABE7ED7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142920" y="-482040"/>
            <a:ext cx="8858160" cy="77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vision:</a:t>
            </a:r>
            <a:r>
              <a:rPr b="0" lang="en-US" sz="3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stigomycot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طريات اللاسوطية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lass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Basidiomycete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كون ابواغ بازيدي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:</a:t>
            </a:r>
            <a:r>
              <a:rPr b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وهي تشمل سته رتب أهمها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garicale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√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Hymenogastrale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√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rder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Uredin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تعرف فطريات هذه الرتبة بفطريات الصدأ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Rust Fungi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لأن معظهما يكون على النبات في موضع الأجزاء المصابة كتلاً وتبقعات بوغية بنية مصفرة تشبه صدأ الحديد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وهي لا تكون ثمار بازيدية </a:t>
            </a:r>
            <a:r>
              <a:rPr b="0" lang="ar-SA" sz="2200" spc="-1" strike="noStrike" u="sng">
                <a:solidFill>
                  <a:srgbClr val="ffff00"/>
                </a:solidFill>
                <a:uFillTx/>
                <a:latin typeface="Times New Roman"/>
              </a:rPr>
              <a:t>واجبارية التطفل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 مسببة الأمراض للنبات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مثل :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                            فطر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Puccina graminis</a:t>
            </a:r>
            <a:r>
              <a:rPr b="0" lang="ar-SA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الذي يسبب مرض صدأ الساق للقمح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                            وفطر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Uromyces fabae</a:t>
            </a:r>
            <a:r>
              <a:rPr b="0" lang="ar-SA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الذي يسبب مرض صدأ الفول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                            وفطر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rosae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Phragmedium</a:t>
            </a:r>
            <a:r>
              <a:rPr b="0" i="1" lang="ar-SA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الذي يسبب مرض صدأ التوت والورد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ff0000"/>
                </a:solidFill>
                <a:uFillTx/>
                <a:latin typeface="Times New Roman"/>
              </a:rPr>
              <a:t>وتمتاز هذه الفطريات بوجود ظاهرتين 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ظاهرة التخصص الفسيولوجي (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Physiological specialism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)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أي أن كل فطر يختص بإصابة أصناف معينة دون غيرها 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00"/>
                </a:solidFill>
                <a:uFillTx/>
                <a:latin typeface="Times New Roman"/>
              </a:rPr>
              <a:t>ظاهرة تعدد الأطوار البوغية(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Polymorphism</a:t>
            </a:r>
            <a:r>
              <a:rPr b="1" lang="ar-SA" sz="1800" spc="-1" strike="noStrike" u="sng">
                <a:solidFill>
                  <a:srgbClr val="ffff00"/>
                </a:solidFill>
                <a:uFillTx/>
                <a:latin typeface="Times New Roman"/>
              </a:rPr>
              <a:t>):</a:t>
            </a:r>
            <a:r>
              <a:rPr b="1" lang="ar-SA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حيث يوجد في دورة حياة هذه الفطريات خمسة أطوار بوغية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8" name="Picture 8" descr="http://2.bp.blogspot.com/-tJa5VxOsUc8/TfSC4NoCp7I/AAAAAAAACXI/WPKp646AL9I/s400/Phragmidium+rosae-pimpinellifoliae+11jun11+%25281a%2529.jpg"/>
          <p:cNvPicPr/>
          <p:nvPr/>
        </p:nvPicPr>
        <p:blipFill>
          <a:blip r:embed="rId1"/>
          <a:stretch/>
        </p:blipFill>
        <p:spPr>
          <a:xfrm>
            <a:off x="6000840" y="1928880"/>
            <a:ext cx="292896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Stem rust close up.jpg"/>
          <p:cNvPicPr/>
          <p:nvPr/>
        </p:nvPicPr>
        <p:blipFill>
          <a:blip r:embed="rId2"/>
          <a:stretch/>
        </p:blipFill>
        <p:spPr>
          <a:xfrm>
            <a:off x="214200" y="1928880"/>
            <a:ext cx="2643480" cy="4143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http://topveg.com/wp-content/uploads/2009/04/chocolate-spot-on-beans-300x257.jpg"/>
          <p:cNvPicPr/>
          <p:nvPr/>
        </p:nvPicPr>
        <p:blipFill>
          <a:blip r:embed="rId3"/>
          <a:stretch/>
        </p:blipFill>
        <p:spPr>
          <a:xfrm>
            <a:off x="3000240" y="1928880"/>
            <a:ext cx="2857680" cy="41432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142920" y="12859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uccina graminis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3086280" y="1285920"/>
            <a:ext cx="22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Uromyces fabae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6143760" y="135720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hragmedium ros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142920" y="-396720"/>
            <a:ext cx="8786880" cy="74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raditional Arabic"/>
                <a:ea typeface="Arial"/>
              </a:rPr>
              <a:t> 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Traditional Arabic"/>
                <a:ea typeface="Arial"/>
              </a:rPr>
              <a:t> 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Traditional Arabic"/>
                <a:ea typeface="Arial"/>
              </a:rPr>
              <a:t>(تعدد الاطوار البوغية في فطريات الصدأ)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raditional Arabic"/>
                <a:ea typeface="Arial"/>
              </a:rPr>
              <a:t>Polymorphism in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raditional Arabic"/>
                <a:ea typeface="Arial"/>
              </a:rPr>
              <a:t>Uredin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1</a:t>
            </a:r>
            <a:r>
              <a:rPr b="0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- الطور البكنيدي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Pycinal stage</a:t>
            </a: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ea typeface="Arial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cs typeface="Arial"/>
              </a:rPr>
              <a:t>وفيه يكون الفطر وعاء بكنيدي (</a:t>
            </a:r>
            <a:r>
              <a:rPr b="0" lang="en-US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Pycnidium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) على السطح العلوي للورقة يحتوي بداخله على جراثيم بكنية </a:t>
            </a:r>
            <a:r>
              <a:rPr b="1" i="1" lang="en-US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Pycniospores</a:t>
            </a: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ea typeface="Arial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2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- الطور الأسيدي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Aecial stage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: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cs typeface="Arial"/>
              </a:rPr>
              <a:t>وفيها يكون الفطر تراكيب كأسية على السطح السفلي للورقة ويحتوي بداخله على جراثيم أسيدية </a:t>
            </a:r>
            <a:r>
              <a:rPr b="1" i="1" lang="en-US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Aecidospores</a:t>
            </a: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ea typeface="Arial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3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- الطور اليوريدي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Uredial stage</a:t>
            </a:r>
            <a:r>
              <a:rPr b="0" lang="ar-SA" sz="2400" spc="-1" strike="noStrike">
                <a:solidFill>
                  <a:srgbClr val="ff0000"/>
                </a:solidFill>
                <a:latin typeface="Traditional Arabic"/>
                <a:ea typeface="Arial"/>
              </a:rPr>
              <a:t>:</a:t>
            </a:r>
            <a:r>
              <a:rPr b="0" lang="ar-SA" sz="2400" spc="-1" strike="noStrike">
                <a:solidFill>
                  <a:srgbClr val="ffffff"/>
                </a:solidFill>
                <a:latin typeface="Traditional Arabic"/>
                <a:ea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cs typeface="Arial"/>
              </a:rPr>
              <a:t>وفيه يكون الفطر بثرات يوريدية (</a:t>
            </a:r>
            <a:r>
              <a:rPr b="0" lang="en-US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Uredosori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) تحتوي بداخلها علي الابواغ اليوريدية (</a:t>
            </a:r>
            <a:r>
              <a:rPr b="1" i="1" lang="en-US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Uredospores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) وهي ابواغ احادية الخلية ذات نواتين ومعنقة وتعتبر من اخطر هذة الاطوار في احداث العدوي والاصابة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4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- الطور التيليتي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Telial stage</a:t>
            </a:r>
            <a:r>
              <a:rPr b="0" lang="ar-SA" sz="2400" spc="-1" strike="noStrike">
                <a:solidFill>
                  <a:srgbClr val="ff0000"/>
                </a:solidFill>
                <a:latin typeface="Traditional Arabic"/>
                <a:ea typeface="Arial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raditional Arabic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cs typeface="Arial"/>
              </a:rPr>
              <a:t>وفيه يكون الفطر بثرات تيليتية</a:t>
            </a:r>
            <a:r>
              <a:rPr b="0" lang="en-US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Teletosori</a:t>
            </a:r>
            <a:r>
              <a:rPr b="0" lang="en-US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cs typeface="Arial"/>
              </a:rPr>
              <a:t>وتحتوي بداخلها علي الابواغ التيلتية ( </a:t>
            </a:r>
            <a:r>
              <a:rPr b="1" i="1" lang="en-US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Teliospores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) أبواغ ثنائية الخلية ، معنقة أي تتكون من خليتان بكل خلية نواة واحدة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5</a:t>
            </a:r>
            <a:r>
              <a:rPr b="0" lang="ar-SA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- الطور البازيدي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Basidial stage</a:t>
            </a:r>
            <a:r>
              <a:rPr b="0" lang="ar-SA" sz="2400" spc="-1" strike="noStrike">
                <a:solidFill>
                  <a:srgbClr val="ff0000"/>
                </a:solidFill>
                <a:latin typeface="Traditional Arabic"/>
                <a:ea typeface="Arial"/>
              </a:rPr>
              <a:t>:</a:t>
            </a: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ea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cs typeface="Arial"/>
              </a:rPr>
              <a:t>وهي تمثل الأبواغ الجنسية "البازيدية”(</a:t>
            </a:r>
            <a:r>
              <a:rPr b="1" i="1" lang="en-US" sz="2000" spc="-1" strike="noStrike">
                <a:solidFill>
                  <a:srgbClr val="ffff00"/>
                </a:solidFill>
                <a:latin typeface="Traditional Arabic"/>
                <a:ea typeface="Arial"/>
              </a:rPr>
              <a:t>Basidiospores</a:t>
            </a:r>
            <a:r>
              <a:rPr b="0" lang="en-US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raditional Arabic"/>
                <a:ea typeface="Arial"/>
              </a:rPr>
              <a:t>) والتي تتكون من إنبات الأبواغ التيليتية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14200" y="357120"/>
            <a:ext cx="87868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357720" y="15001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14200" y="142920"/>
            <a:ext cx="48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Polymorphism in Puccina gramin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12" descr="http://www3.botany.ubc.ca/bakkeren/rustresearch_files/image002.jpg"/>
          <p:cNvPicPr/>
          <p:nvPr/>
        </p:nvPicPr>
        <p:blipFill>
          <a:blip r:embed="rId1"/>
          <a:stretch/>
        </p:blipFill>
        <p:spPr>
          <a:xfrm>
            <a:off x="285840" y="571680"/>
            <a:ext cx="8715240" cy="4643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285840" y="5143680"/>
            <a:ext cx="871524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Heteroecious fung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(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فطريات ثنائية العائل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00"/>
                </a:solidFill>
                <a:uFillTx/>
                <a:latin typeface="Times New Roman"/>
              </a:rPr>
              <a:t>حيث يكمل فطر (</a:t>
            </a:r>
            <a:r>
              <a:rPr b="1" i="1" lang="en-US" sz="1600" spc="-1" strike="noStrike" u="sng">
                <a:solidFill>
                  <a:srgbClr val="ffff00"/>
                </a:solidFill>
                <a:uFillTx/>
                <a:latin typeface="Times New Roman"/>
              </a:rPr>
              <a:t>Puccina graminis</a:t>
            </a:r>
            <a:r>
              <a:rPr b="1" lang="ar-SA" sz="1600" spc="-1" strike="noStrike" u="sng">
                <a:solidFill>
                  <a:srgbClr val="ffff00"/>
                </a:solidFill>
                <a:uFillTx/>
                <a:latin typeface="Times New Roman"/>
              </a:rPr>
              <a:t>) دورة حياته علي عائلين نباتين مختلفين هما نبات القمح او الشعير(العائل الابتدائي) ويتكون علية الابواغ اليوريدية والتليتية والبازيدية ونبات الباربري (العائل الثانوي) ويتكون علية الابواغ البكنية والاسيدية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0000"/>
                </a:solidFill>
                <a:uFillTx/>
                <a:latin typeface="Times New Roman"/>
              </a:rPr>
              <a:t>ملحوظة</a:t>
            </a:r>
            <a:r>
              <a:rPr b="1" lang="ar-SA" sz="1600" spc="-1" strike="noStrike" u="sng">
                <a:solidFill>
                  <a:srgbClr val="ffff00"/>
                </a:solidFill>
                <a:uFillTx/>
                <a:latin typeface="Times New Roman"/>
              </a:rPr>
              <a:t> : </a:t>
            </a: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تعرف الفطريات التي تصيب عائل واحد في دورة حياتها باسم (فطريات احادية العائل) </a:t>
            </a:r>
            <a:r>
              <a:rPr b="1" lang="ar-SA" sz="1600" spc="-1" strike="noStrike" u="sng">
                <a:solidFill>
                  <a:srgbClr val="ff0000"/>
                </a:solidFill>
                <a:uFillTx/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utoecious fungi</a:t>
            </a:r>
            <a:r>
              <a:rPr b="1" lang="ar-SA" sz="1600" spc="-1" strike="noStrike" u="sng">
                <a:solidFill>
                  <a:srgbClr val="ff0000"/>
                </a:solidFill>
                <a:uFillTx/>
                <a:latin typeface="Times New Roman"/>
              </a:rPr>
              <a:t>)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14200" y="357120"/>
            <a:ext cx="87868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357720" y="15001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51280" y="214200"/>
            <a:ext cx="47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lymorphism in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uccina gramin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2" descr="http://facultyweb.berry.edu/mcipollini/bio311/files/rust1.jpg"/>
          <p:cNvPicPr/>
          <p:nvPr/>
        </p:nvPicPr>
        <p:blipFill>
          <a:blip r:embed="rId1"/>
          <a:stretch/>
        </p:blipFill>
        <p:spPr>
          <a:xfrm>
            <a:off x="142920" y="2071800"/>
            <a:ext cx="2857320" cy="3714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www.dipbot.unict.it/sistematica/Immagini/16005.JPG"/>
          <p:cNvPicPr/>
          <p:nvPr/>
        </p:nvPicPr>
        <p:blipFill>
          <a:blip r:embed="rId2"/>
          <a:stretch/>
        </p:blipFill>
        <p:spPr>
          <a:xfrm>
            <a:off x="6143760" y="2071800"/>
            <a:ext cx="2857320" cy="3643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http://uqu.edu.sa/files2/tiny_mce/plugins/filemanager/files/3930100/basido/2)%20Uredospores.jpg"/>
          <p:cNvPicPr/>
          <p:nvPr/>
        </p:nvPicPr>
        <p:blipFill>
          <a:blip r:embed="rId3"/>
          <a:stretch/>
        </p:blipFill>
        <p:spPr>
          <a:xfrm>
            <a:off x="2928960" y="2071800"/>
            <a:ext cx="3143160" cy="36432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142920" y="714240"/>
            <a:ext cx="3000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Pycinal and Aecial stag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raditional Arabic"/>
                <a:ea typeface="Arial"/>
              </a:rPr>
              <a:t>Pycniospores &amp; Aecidospor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3429000" y="1071720"/>
            <a:ext cx="2243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Uredial stag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Urediospor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6572160" y="928800"/>
            <a:ext cx="1976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raditional Arabic"/>
                <a:ea typeface="Arial"/>
              </a:rPr>
              <a:t>Telial stag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Teliospor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142920" y="-361080"/>
            <a:ext cx="8858160" cy="74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idiomycetes  </a:t>
            </a:r>
            <a:r>
              <a:rPr b="1" i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der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Ustilaginales   </a:t>
            </a:r>
            <a:r>
              <a:rPr b="1" i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 تعرف فطريات هذه الرتبة بفطريات التفحم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"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mut Fung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لا تكون ثمار بازيدية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عرفت باسم </a:t>
            </a: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فطريات التفحم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لأن معظهما يكون على النبات في موضع الأجزاء المصابة كتلاً بوغية سوداء تشبه الأجسام المتفحمة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***اختيارية التطفل أي أنها قادرة على الترمم إذا لم تجد العائل المناسب (يمكن زراعتها بالمعمل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cultative Parasitic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Times New Roman"/>
              </a:rPr>
              <a:t>من أمثلتها: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فطر (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Ustilago tritici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) ----- الذي يسبب مرض التفحم السائب (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Loose smut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) للقمح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فطر  (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Ustilago maydis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) ---- الذي يسبب مرض التفحم السائب (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Loose smut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) للذرة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وفطر (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Ustilago nuda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) ----- الذي يسبب مرض التفحم  السائب (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Loose smut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) للشعير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142920" y="12859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Ustilago maydis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3060360" y="1285920"/>
            <a:ext cx="19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Ustilago triti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6286680" y="121428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Ustilago nu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7" name="Picture 2" descr="http://www.virtualmuseum.ca/sgc-cms/expositions-exhibitions/champignons-mushrooms/Images/Fungus/Species/Ustilago_md.jpg"/>
          <p:cNvPicPr/>
          <p:nvPr/>
        </p:nvPicPr>
        <p:blipFill>
          <a:blip r:embed="rId1"/>
          <a:stretch/>
        </p:blipFill>
        <p:spPr>
          <a:xfrm>
            <a:off x="214200" y="1714680"/>
            <a:ext cx="2571840" cy="4643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http://archive.agric.wa.gov.au/objtwr/imported_images/fn_455_figure4.jpg"/>
          <p:cNvPicPr/>
          <p:nvPr/>
        </p:nvPicPr>
        <p:blipFill>
          <a:blip r:embed="rId2"/>
          <a:stretch/>
        </p:blipFill>
        <p:spPr>
          <a:xfrm>
            <a:off x="2857680" y="1714680"/>
            <a:ext cx="2928600" cy="457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https://www.agric.wa.gov.au/sites/gateway/files/styles/original/public/covered_smut_barley1_heads.jpg?itok=ybwvr9cA"/>
          <p:cNvPicPr/>
          <p:nvPr/>
        </p:nvPicPr>
        <p:blipFill>
          <a:blip r:embed="rId3"/>
          <a:stretch/>
        </p:blipFill>
        <p:spPr>
          <a:xfrm>
            <a:off x="5857920" y="1714680"/>
            <a:ext cx="300024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42920" y="1600200"/>
            <a:ext cx="8786880" cy="347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AutoShape 15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214200" y="214200"/>
            <a:ext cx="871560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دورة حياة هذه الفطريات بها بوغين طوريين فقط وهما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طور التيليتي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elial stage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وهو يمثل الابواغ التيلتية (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eliospores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) غير معنق ويتكون من خلية واحدة ، تحتوي على نواتين (يشبه الطور اليوريدي في فطريات الصدأ) ويعتبر الطور المعدي في فطريات التفحم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طور البازيدي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asidial stag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: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وهي تمثل الأبواغ الجنسية "البازيدية" (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Basidiospores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) والتي تتكون من إنبات الجراثيم التيليتية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142920" y="1600200"/>
            <a:ext cx="8786880" cy="347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AutoShape 13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357120" y="1857240"/>
            <a:ext cx="52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Thank You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5:15:45Z</dcterms:created>
  <dc:creator>joice</dc:creator>
  <dc:description/>
  <dc:language>en-US</dc:language>
  <cp:lastModifiedBy>user</cp:lastModifiedBy>
  <dcterms:modified xsi:type="dcterms:W3CDTF">2015-05-25T08:02:20Z</dcterms:modified>
  <cp:revision>301</cp:revision>
  <dc:subject/>
  <dc:title>Fungi and the Mycoses</dc:title>
</cp:coreProperties>
</file>