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00BF-2C6B-4100-A09F-58C6A695030A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8DB4-549B-4E5E-B699-C3D6739B7A6C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932E-D229-4AEA-ABE0-E6A144D933EC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7840-9E30-47E4-97F6-803F954CCE53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858F-83AA-4165-90C4-934D40E71367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0333-759B-4C6F-8631-51E5297E1E58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9546-FD18-4878-AA23-0E4B70B00C83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7E19-D046-46CB-AFCE-D20B549A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5692-4A30-4458-B53D-17FD3761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B0C-7FAB-4AFB-B689-66BF7883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56A6-6AB0-4DA2-9200-120578EA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16A9-D80B-4091-878C-B5A2BEBE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C498-B79C-45B9-AC8F-0956066F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674C-7F3F-42AB-B263-355081E5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9763-7F2B-46AF-B2A2-46F6F1C1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890B-E8FA-4889-8A1B-3F34468E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D96F-7503-4AD4-B10C-AEAA7C42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E3E1-CFCC-42EE-A223-B7BEC3BA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13D8-79AF-4A27-A40C-B97FBA76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B5BC-3099-4B91-9670-68C21C65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0761-070A-44A5-AEAE-85635A2F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9139-D3CA-4031-B4A2-7D66AA01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7D2E-697A-49F8-B01F-0D6641FB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F2CB-0129-4660-83D3-7268121B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96E-5FC9-4A72-8FCD-1EA49D95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9EE5-BCBA-4290-BD14-7CD9AE31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53E8-84F7-42DC-9A0A-0ED6C063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591-D45B-48F5-B003-354CDB7C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889-E1E1-4706-88C7-CB99F376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022-631E-4E58-A9FF-D80B0C4D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156-0B78-475E-B73C-33B594B7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09E7-83AC-4E57-9A5D-DD58BD0F08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D048-98BE-44D6-AABA-5CFEBF8EC6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142920" y="-986040"/>
            <a:ext cx="8858160" cy="86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vision: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stigomycota (</a:t>
            </a:r>
            <a:r>
              <a:rPr b="1" i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فطريات اللاسوطية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eutromycete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لاتكون ابواغ جنسية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ليس لها القدرة على التكاثر الجنسي لذلك يطلق عليها الفطريات الناقصة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erfect fung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تتكاثر لا جنسياً من خلال تكوين الجراثيم الكلاميدية والكونيدية "الكونيدات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لذلك يعتبر شكل الكونيدات هي أساس التعرف عليها ، بحيث :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فلو أن الكونيدات تكونت على هيئة سلاسل محمولة على ذنيبات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"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hialide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"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 لعرف علي انه  فطر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Penicillium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ولو أن الكونيدات تكونت على هيئة سلاسل محمولة على حويصلة "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sicle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" وذنيبات لعرف علي انه فطر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spergillus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أما لو كانت الكونيدات على الغزل الفطري مباشرة وكانت مغزلية الشكل ومقسمة عرضياً لعرف علي انه فطر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Fusarium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أما لو كانت الكونيدات صولجانية الشكل مقسمة بحواجز طولية وعرضية وذلك كما في فطر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lternari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i="1" lang="ar-SA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Helmanthosporum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p 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ولو كانت الكونيدات صولجانية الشكل ومقسمة عرضياً فقط لعرف علي انه فطر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14200" y="35712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50840" y="1500120"/>
            <a:ext cx="20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Penicillium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sp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" name="Picture 24" descr="http://farm9.staticflickr.com/8469/8390974097_fc4a848bf0_z.jpg"/>
          <p:cNvPicPr/>
          <p:nvPr/>
        </p:nvPicPr>
        <p:blipFill>
          <a:blip r:embed="rId1"/>
          <a:stretch/>
        </p:blipFill>
        <p:spPr>
          <a:xfrm>
            <a:off x="214200" y="3500280"/>
            <a:ext cx="4357800" cy="3214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6" descr="http://losporquesdelanaturaleza.com/wp-content/uploads/2014/06/1-Pie-de-foto-Hongo-Penicillium.jpg"/>
          <p:cNvPicPr/>
          <p:nvPr/>
        </p:nvPicPr>
        <p:blipFill>
          <a:blip r:embed="rId2"/>
          <a:stretch/>
        </p:blipFill>
        <p:spPr>
          <a:xfrm>
            <a:off x="5072040" y="214200"/>
            <a:ext cx="3000240" cy="307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8" descr="http://esmisab.univ-brest.fr/digitalAssetsUBO/8/8861_Pen-terverticille3a.gif"/>
          <p:cNvPicPr/>
          <p:nvPr/>
        </p:nvPicPr>
        <p:blipFill>
          <a:blip r:embed="rId3"/>
          <a:stretch/>
        </p:blipFill>
        <p:spPr>
          <a:xfrm>
            <a:off x="2286000" y="214200"/>
            <a:ext cx="2657520" cy="314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0" descr="http://photos.imageevent.com/bobmetcalf/bio139labpractical1/websize/Penicillium%20sp%201.jpg"/>
          <p:cNvPicPr/>
          <p:nvPr/>
        </p:nvPicPr>
        <p:blipFill>
          <a:blip r:embed="rId4"/>
          <a:stretch/>
        </p:blipFill>
        <p:spPr>
          <a:xfrm>
            <a:off x="4643280" y="3500280"/>
            <a:ext cx="43578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0" y="142920"/>
            <a:ext cx="9144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02760" y="14292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spergillu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10" descr="http://pictures.life.ku.dk/atlas/microatlas/food/fungus/Aspergillus_flavus/aspergillusflavus.jpg"/>
          <p:cNvPicPr/>
          <p:nvPr/>
        </p:nvPicPr>
        <p:blipFill>
          <a:blip r:embed="rId1"/>
          <a:stretch/>
        </p:blipFill>
        <p:spPr>
          <a:xfrm>
            <a:off x="3143160" y="642960"/>
            <a:ext cx="2786040" cy="2857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https://encrypted-tbn3.gstatic.com/images?q=tbn:ANd9GcRODFPMFNmqUFnPznECgbDHw1uqbQ1U3CrqdWMVWlR6SeFeOr_a"/>
          <p:cNvPicPr/>
          <p:nvPr/>
        </p:nvPicPr>
        <p:blipFill>
          <a:blip r:embed="rId2"/>
          <a:stretch/>
        </p:blipFill>
        <p:spPr>
          <a:xfrm>
            <a:off x="6072120" y="714240"/>
            <a:ext cx="285768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https://encrypted-tbn2.gstatic.com/images?q=tbn:ANd9GcS7GYXPQeW1T3ebGlv5_d8yyQ_N7ZwZQmSDEgAXISWMTvfH5IdUhg"/>
          <p:cNvPicPr/>
          <p:nvPr/>
        </p:nvPicPr>
        <p:blipFill>
          <a:blip r:embed="rId3"/>
          <a:stretch/>
        </p:blipFill>
        <p:spPr>
          <a:xfrm>
            <a:off x="285840" y="642960"/>
            <a:ext cx="2714400" cy="2786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img.medscape.com/pi/emed/ckb/pediatrics_general/1331341-1331360-887374-887561tn.jpg"/>
          <p:cNvPicPr/>
          <p:nvPr/>
        </p:nvPicPr>
        <p:blipFill>
          <a:blip r:embed="rId4"/>
          <a:stretch/>
        </p:blipFill>
        <p:spPr>
          <a:xfrm>
            <a:off x="6072120" y="3571920"/>
            <a:ext cx="2928960" cy="31431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6858000" y="142920"/>
            <a:ext cx="136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. nig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714840" y="14292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. flavu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14" descr="http://www.doctorfungus.org/imageban/images/SArduin_07Jan/Aflavus1.jpg"/>
          <p:cNvPicPr/>
          <p:nvPr/>
        </p:nvPicPr>
        <p:blipFill>
          <a:blip r:embed="rId5"/>
          <a:stretch/>
        </p:blipFill>
        <p:spPr>
          <a:xfrm>
            <a:off x="3071880" y="3571920"/>
            <a:ext cx="2857320" cy="3143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http://www.vdi.de/typo3temp/pics/122194c19d.jpg"/>
          <p:cNvPicPr/>
          <p:nvPr/>
        </p:nvPicPr>
        <p:blipFill>
          <a:blip r:embed="rId6"/>
          <a:stretch/>
        </p:blipFill>
        <p:spPr>
          <a:xfrm>
            <a:off x="214200" y="3571920"/>
            <a:ext cx="27860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233640" y="28584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Fusarium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sp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Picture 16" descr="http://dermatology.wustl.edu/dermsub/caseofmonth/PageMill_Images/6-2004-Fusarium4.jpg"/>
          <p:cNvPicPr/>
          <p:nvPr/>
        </p:nvPicPr>
        <p:blipFill>
          <a:blip r:embed="rId1"/>
          <a:stretch/>
        </p:blipFill>
        <p:spPr>
          <a:xfrm>
            <a:off x="6072120" y="857160"/>
            <a:ext cx="2928960" cy="2786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http://www.doctorfungus.org/imageban/images/init_images/241MIKE.JPG"/>
          <p:cNvPicPr/>
          <p:nvPr/>
        </p:nvPicPr>
        <p:blipFill>
          <a:blip r:embed="rId2"/>
          <a:stretch/>
        </p:blipFill>
        <p:spPr>
          <a:xfrm>
            <a:off x="142920" y="8571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http://www.mycology.adelaide.edu.au/images/cylindro1.gif"/>
          <p:cNvPicPr/>
          <p:nvPr/>
        </p:nvPicPr>
        <p:blipFill>
          <a:blip r:embed="rId3"/>
          <a:stretch/>
        </p:blipFill>
        <p:spPr>
          <a:xfrm>
            <a:off x="3000240" y="857160"/>
            <a:ext cx="3000600" cy="2786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2" descr="http://trinity.blog.bai.ne.jp/images/fusarium.jpg"/>
          <p:cNvPicPr/>
          <p:nvPr/>
        </p:nvPicPr>
        <p:blipFill>
          <a:blip r:embed="rId4"/>
          <a:stretch/>
        </p:blipFill>
        <p:spPr>
          <a:xfrm>
            <a:off x="3000240" y="3786120"/>
            <a:ext cx="6029640" cy="2933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4415400" y="214200"/>
            <a:ext cx="31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Fusarium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oxysporium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44520" y="3714840"/>
            <a:ext cx="24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Fusarium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olani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4" descr="https://encrypted-tbn0.gstatic.com/images?q=tbn:ANd9GcT1AZ8ts3aHOTL1SM_FhcEBWla_MHfnSp6ulljVStyr0DMq6tmlmlaMKQ"/>
          <p:cNvPicPr/>
          <p:nvPr/>
        </p:nvPicPr>
        <p:blipFill>
          <a:blip r:embed="rId1"/>
          <a:stretch/>
        </p:blipFill>
        <p:spPr>
          <a:xfrm>
            <a:off x="214200" y="2071800"/>
            <a:ext cx="4143600" cy="3643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https://encrypted-tbn2.gstatic.com/images?q=tbn:ANd9GcTbXZs_1G1GjcnRWySDIXVBNsdnBoM_shDaF2hvm01ZUB2lwja6"/>
          <p:cNvPicPr/>
          <p:nvPr/>
        </p:nvPicPr>
        <p:blipFill>
          <a:blip r:embed="rId2"/>
          <a:stretch/>
        </p:blipFill>
        <p:spPr>
          <a:xfrm>
            <a:off x="4500720" y="2071800"/>
            <a:ext cx="4357440" cy="36432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329400" y="285840"/>
            <a:ext cx="40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hlamydosproes of Fusarium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576320" y="1571760"/>
            <a:ext cx="35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Terminal Chlamydospro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239760" y="157176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Intercalary Chlamydospro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8858160" cy="650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42920" y="14292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lternaria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p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14" descr="http://www.inspq.qc.ca/moisissures/photos/Alternaria_alternata-5%20copie.jpg"/>
          <p:cNvPicPr/>
          <p:nvPr/>
        </p:nvPicPr>
        <p:blipFill>
          <a:blip r:embed="rId1"/>
          <a:stretch/>
        </p:blipFill>
        <p:spPr>
          <a:xfrm>
            <a:off x="214200" y="785880"/>
            <a:ext cx="4143600" cy="5857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http://media-2.web.britannica.com/eb-media/88/148188-004-43F33082.jpg"/>
          <p:cNvPicPr/>
          <p:nvPr/>
        </p:nvPicPr>
        <p:blipFill>
          <a:blip r:embed="rId2"/>
          <a:stretch/>
        </p:blipFill>
        <p:spPr>
          <a:xfrm>
            <a:off x="4500720" y="3714840"/>
            <a:ext cx="4286160" cy="3000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8" descr="http://www.mykotech.com/photos/Bahusandhika%20sp..jpg"/>
          <p:cNvPicPr/>
          <p:nvPr/>
        </p:nvPicPr>
        <p:blipFill>
          <a:blip r:embed="rId3"/>
          <a:stretch/>
        </p:blipFill>
        <p:spPr>
          <a:xfrm>
            <a:off x="4500720" y="785880"/>
            <a:ext cx="4286160" cy="28573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1"/>
          <p:cNvSpPr/>
          <p:nvPr/>
        </p:nvSpPr>
        <p:spPr>
          <a:xfrm>
            <a:off x="4643280" y="14292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Helmanthosporium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p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8858160" cy="650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AutoShape 11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1357200" y="4000680"/>
            <a:ext cx="378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Thank you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4-11-19T13:01:36Z</dcterms:modified>
  <cp:revision>254</cp:revision>
  <dc:subject/>
  <dc:title>Fungi and the Mycoses</dc:title>
</cp:coreProperties>
</file>