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06F0-839C-47F3-94B5-609255A77F67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9C3D-AC0A-4CE6-B063-325D24CBA4F1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31E2-0F0D-44C1-A4CF-FB3A7B1A52CC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B700-965A-4FBB-99B1-A87065014C6B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3FAB-2E6A-4913-A447-002CA9463D09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A4FF-B161-4623-86BF-EF4A3AE28F16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7C3D-4E7F-45F9-A0E5-04F8A9AD26C2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59C9-7807-4068-8D80-8193C31A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B2D1-A21C-4601-8F85-0F5AD1EC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0AF0-A13C-4BB7-9BD1-6AAACA9C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7F1F-8FCA-48F8-9AB9-AFA1B5EF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65D2-5A8F-48C6-8C76-A6C03EEA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E515-0F1B-469D-BCDE-E87752CA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79A6-53CE-4D33-B7FD-CBC9129C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1AD2-6B20-4327-901F-72ACC82B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AA9B-9E6A-4EFE-A398-A6EC1D94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0FA8-F5B6-4499-99A6-3DC7D488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4BEA-E0DA-4021-8BEE-AF54D045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4810-EC64-43DC-8024-2090CD65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97AC-A86A-4CBD-8A45-F48783A9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C742-DE5A-443D-8994-1DC72B0A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B831-CCDE-425B-BDA2-3A2FAA31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4A55-2A23-4901-BD34-F13E79AD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7AA7-81BD-4784-9069-09BF6741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F12C-7A3B-404E-9720-F2AA1C34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F51E-A2EC-4CFD-9AB9-E3C1FF46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9649-5B93-4D71-9AD9-4A1B02A5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B717-2026-4D03-A43F-983AD09B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4700-219F-4B0F-B310-0C8EEF2E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1456-43ED-4164-B299-7A65FFE8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22F-678F-4500-B1CA-1F83DBE3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6C1F-4D7B-41FD-8CE1-CB0E69B1D2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5767-2D18-4BC8-8518-471A0973A3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142920" y="-986040"/>
            <a:ext cx="8858160" cy="86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vision:</a:t>
            </a:r>
            <a:r>
              <a:rPr b="0" lang="en-US" sz="3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stigomycota (</a:t>
            </a:r>
            <a:r>
              <a:rPr b="1" i="1" lang="ar-SA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فطريات اللاسوطية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eutromycete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لاتكون ابواغ جنسية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ليس لها القدرة على التكاثر الجنسي لذلك يطلق عليها الفطريات الناقصة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erfect fung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تتكاثر لا جنسياً من خلال تكوين الجراثيم الكلاميدية والكونيدية "الكونيدات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لذلك يعتبر شكل الكونيدات هي أساس التعرف عليها ، بحيث :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فلو أن الكونيدات تكونت على هيئة سلاسل محمولة على ذنيبات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"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hialide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"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 لعرف علي انه  فطر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Penicillium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p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ولو أن الكونيدات تكونت على هيئة سلاسل محمولة على حويصلة "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sicle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" وذنيبات لعرف علي انه فطر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spergillus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p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أما لو كانت الكونيدات على الغزل الفطري مباشرة وكانت مغزلية الشكل ومقسمة عرضياً لعرف علي انه فطر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Fusarium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أما لو كانت الكونيدات صولجانية الشكل مقسمة بحواجز طولية وعرضية وذلك كما في فطر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lternari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p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i="1" lang="ar-SA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Helmanthosporum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p 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ولو كانت الكونيدات صولجانية الشكل ومقسمة عرضياً فقط لعرف علي انه فطر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14200" y="357120"/>
            <a:ext cx="87868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50840" y="1500120"/>
            <a:ext cx="20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Penicillium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sp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9" name="Picture 24" descr="http://farm9.staticflickr.com/8469/8390974097_fc4a848bf0_z.jpg"/>
          <p:cNvPicPr/>
          <p:nvPr/>
        </p:nvPicPr>
        <p:blipFill>
          <a:blip r:embed="rId1"/>
          <a:stretch/>
        </p:blipFill>
        <p:spPr>
          <a:xfrm>
            <a:off x="214200" y="3500280"/>
            <a:ext cx="4357800" cy="3214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6" descr="http://losporquesdelanaturaleza.com/wp-content/uploads/2014/06/1-Pie-de-foto-Hongo-Penicillium.jpg"/>
          <p:cNvPicPr/>
          <p:nvPr/>
        </p:nvPicPr>
        <p:blipFill>
          <a:blip r:embed="rId2"/>
          <a:stretch/>
        </p:blipFill>
        <p:spPr>
          <a:xfrm>
            <a:off x="5072040" y="214200"/>
            <a:ext cx="3000240" cy="3071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8" descr="http://esmisab.univ-brest.fr/digitalAssetsUBO/8/8861_Pen-terverticille3a.gif"/>
          <p:cNvPicPr/>
          <p:nvPr/>
        </p:nvPicPr>
        <p:blipFill>
          <a:blip r:embed="rId3"/>
          <a:stretch/>
        </p:blipFill>
        <p:spPr>
          <a:xfrm>
            <a:off x="2286000" y="214200"/>
            <a:ext cx="2657520" cy="314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0" descr="http://photos.imageevent.com/bobmetcalf/bio139labpractical1/websize/Penicillium%20sp%201.jpg"/>
          <p:cNvPicPr/>
          <p:nvPr/>
        </p:nvPicPr>
        <p:blipFill>
          <a:blip r:embed="rId4"/>
          <a:stretch/>
        </p:blipFill>
        <p:spPr>
          <a:xfrm>
            <a:off x="4643280" y="3500280"/>
            <a:ext cx="43578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0" y="142920"/>
            <a:ext cx="9144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02760" y="14292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spergillu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10" descr="http://pictures.life.ku.dk/atlas/microatlas/food/fungus/Aspergillus_flavus/aspergillusflavus.jpg"/>
          <p:cNvPicPr/>
          <p:nvPr/>
        </p:nvPicPr>
        <p:blipFill>
          <a:blip r:embed="rId1"/>
          <a:stretch/>
        </p:blipFill>
        <p:spPr>
          <a:xfrm>
            <a:off x="3143160" y="642960"/>
            <a:ext cx="2786040" cy="2857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https://encrypted-tbn3.gstatic.com/images?q=tbn:ANd9GcRODFPMFNmqUFnPznECgbDHw1uqbQ1U3CrqdWMVWlR6SeFeOr_a"/>
          <p:cNvPicPr/>
          <p:nvPr/>
        </p:nvPicPr>
        <p:blipFill>
          <a:blip r:embed="rId2"/>
          <a:stretch/>
        </p:blipFill>
        <p:spPr>
          <a:xfrm>
            <a:off x="6072120" y="714240"/>
            <a:ext cx="285768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https://encrypted-tbn2.gstatic.com/images?q=tbn:ANd9GcS7GYXPQeW1T3ebGlv5_d8yyQ_N7ZwZQmSDEgAXISWMTvfH5IdUhg"/>
          <p:cNvPicPr/>
          <p:nvPr/>
        </p:nvPicPr>
        <p:blipFill>
          <a:blip r:embed="rId3"/>
          <a:stretch/>
        </p:blipFill>
        <p:spPr>
          <a:xfrm>
            <a:off x="285840" y="642960"/>
            <a:ext cx="2714400" cy="2786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://img.medscape.com/pi/emed/ckb/pediatrics_general/1331341-1331360-887374-887561tn.jpg"/>
          <p:cNvPicPr/>
          <p:nvPr/>
        </p:nvPicPr>
        <p:blipFill>
          <a:blip r:embed="rId4"/>
          <a:stretch/>
        </p:blipFill>
        <p:spPr>
          <a:xfrm>
            <a:off x="6072120" y="3571920"/>
            <a:ext cx="2928960" cy="31431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6858000" y="142920"/>
            <a:ext cx="136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. nig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714840" y="14292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. flavu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Picture 14" descr="http://www.doctorfungus.org/imageban/images/SArduin_07Jan/Aflavus1.jpg"/>
          <p:cNvPicPr/>
          <p:nvPr/>
        </p:nvPicPr>
        <p:blipFill>
          <a:blip r:embed="rId5"/>
          <a:stretch/>
        </p:blipFill>
        <p:spPr>
          <a:xfrm>
            <a:off x="3071880" y="3571920"/>
            <a:ext cx="2857320" cy="3143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http://www.vdi.de/typo3temp/pics/122194c19d.jpg"/>
          <p:cNvPicPr/>
          <p:nvPr/>
        </p:nvPicPr>
        <p:blipFill>
          <a:blip r:embed="rId6"/>
          <a:stretch/>
        </p:blipFill>
        <p:spPr>
          <a:xfrm>
            <a:off x="214200" y="3571920"/>
            <a:ext cx="27860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233640" y="28584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Fusarium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sp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Picture 16" descr="http://dermatology.wustl.edu/dermsub/caseofmonth/PageMill_Images/6-2004-Fusarium4.jpg"/>
          <p:cNvPicPr/>
          <p:nvPr/>
        </p:nvPicPr>
        <p:blipFill>
          <a:blip r:embed="rId1"/>
          <a:stretch/>
        </p:blipFill>
        <p:spPr>
          <a:xfrm>
            <a:off x="6072120" y="857160"/>
            <a:ext cx="2928960" cy="2786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http://www.doctorfungus.org/imageban/images/init_images/241MIKE.JPG"/>
          <p:cNvPicPr/>
          <p:nvPr/>
        </p:nvPicPr>
        <p:blipFill>
          <a:blip r:embed="rId2"/>
          <a:stretch/>
        </p:blipFill>
        <p:spPr>
          <a:xfrm>
            <a:off x="142920" y="8571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http://www.mycology.adelaide.edu.au/images/cylindro1.gif"/>
          <p:cNvPicPr/>
          <p:nvPr/>
        </p:nvPicPr>
        <p:blipFill>
          <a:blip r:embed="rId3"/>
          <a:stretch/>
        </p:blipFill>
        <p:spPr>
          <a:xfrm>
            <a:off x="3000240" y="857160"/>
            <a:ext cx="3000600" cy="2786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2" descr="http://trinity.blog.bai.ne.jp/images/fusarium.jpg"/>
          <p:cNvPicPr/>
          <p:nvPr/>
        </p:nvPicPr>
        <p:blipFill>
          <a:blip r:embed="rId4"/>
          <a:stretch/>
        </p:blipFill>
        <p:spPr>
          <a:xfrm>
            <a:off x="3000240" y="3786120"/>
            <a:ext cx="6029640" cy="2933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4415400" y="214200"/>
            <a:ext cx="31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Fusarium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oxysporium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44520" y="3714840"/>
            <a:ext cx="24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Fusarium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olani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4" descr="https://encrypted-tbn0.gstatic.com/images?q=tbn:ANd9GcT1AZ8ts3aHOTL1SM_FhcEBWla_MHfnSp6ulljVStyr0DMq6tmlmlaMKQ"/>
          <p:cNvPicPr/>
          <p:nvPr/>
        </p:nvPicPr>
        <p:blipFill>
          <a:blip r:embed="rId1"/>
          <a:stretch/>
        </p:blipFill>
        <p:spPr>
          <a:xfrm>
            <a:off x="214200" y="2071800"/>
            <a:ext cx="4143600" cy="3643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https://encrypted-tbn2.gstatic.com/images?q=tbn:ANd9GcTbXZs_1G1GjcnRWySDIXVBNsdnBoM_shDaF2hvm01ZUB2lwja6"/>
          <p:cNvPicPr/>
          <p:nvPr/>
        </p:nvPicPr>
        <p:blipFill>
          <a:blip r:embed="rId2"/>
          <a:stretch/>
        </p:blipFill>
        <p:spPr>
          <a:xfrm>
            <a:off x="4500720" y="2071800"/>
            <a:ext cx="4357440" cy="36432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329400" y="285840"/>
            <a:ext cx="40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hlamydosproes of Fusarium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4576320" y="1571760"/>
            <a:ext cx="35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Terminal Chlamydospro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239760" y="157176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Intercalary Chlamydospro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8858160" cy="650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42920" y="14292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lternaria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p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14" descr="http://www.inspq.qc.ca/moisissures/photos/Alternaria_alternata-5%20copie.jpg"/>
          <p:cNvPicPr/>
          <p:nvPr/>
        </p:nvPicPr>
        <p:blipFill>
          <a:blip r:embed="rId1"/>
          <a:stretch/>
        </p:blipFill>
        <p:spPr>
          <a:xfrm>
            <a:off x="214200" y="785880"/>
            <a:ext cx="4143600" cy="5857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6" descr="http://media-2.web.britannica.com/eb-media/88/148188-004-43F33082.jpg"/>
          <p:cNvPicPr/>
          <p:nvPr/>
        </p:nvPicPr>
        <p:blipFill>
          <a:blip r:embed="rId2"/>
          <a:stretch/>
        </p:blipFill>
        <p:spPr>
          <a:xfrm>
            <a:off x="4500720" y="3714840"/>
            <a:ext cx="4286160" cy="3000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8" descr="http://www.mykotech.com/photos/Bahusandhika%20sp..jpg"/>
          <p:cNvPicPr/>
          <p:nvPr/>
        </p:nvPicPr>
        <p:blipFill>
          <a:blip r:embed="rId3"/>
          <a:stretch/>
        </p:blipFill>
        <p:spPr>
          <a:xfrm>
            <a:off x="4500720" y="785880"/>
            <a:ext cx="4286160" cy="28573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1"/>
          <p:cNvSpPr/>
          <p:nvPr/>
        </p:nvSpPr>
        <p:spPr>
          <a:xfrm>
            <a:off x="4643280" y="14292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Helmanthosporium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p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8858160" cy="650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AutoShape 11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1357200" y="4000680"/>
            <a:ext cx="378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Thank you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5:15:45Z</dcterms:created>
  <dc:creator>joice</dc:creator>
  <dc:description/>
  <dc:language>en-US</dc:language>
  <cp:lastModifiedBy>user</cp:lastModifiedBy>
  <dcterms:modified xsi:type="dcterms:W3CDTF">2014-11-19T13:01:36Z</dcterms:modified>
  <cp:revision>254</cp:revision>
  <dc:subject/>
  <dc:title>Fungi and the Mycoses</dc:title>
</cp:coreProperties>
</file>